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6A1D75C-30F5-4A32-96E1-4E20B4385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E4C754B-1BFC-4D4D-9690-CFC483753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0403B71-B930-481D-9B9E-EC8784AD62C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9FD7257-64F8-462A-8792-39591DD7923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BF9D1-0D2F-473E-B9CD-6007F4839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5EC5A-44C3-4386-B07D-B1D760A2E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C2185-56DB-4205-8A28-C4B7E4FB7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01B98-9452-491A-A83C-1FE9E1416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2BC9D-142B-4229-971A-F11A57BAE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8DF61-684D-47EB-A41C-2328FA1FC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2EC0B-66D4-45BD-BB41-1E6B2DE04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4CC2B5C-E34A-4B0E-9459-2CCA2E34F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7248-A2D8-46C0-845E-CCE2843DB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AF808-7E82-4487-B7F2-33D561D19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79788-3438-4DC9-BC02-D8CB4128C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2195ED-6351-4622-962D-358BCBE4C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9DED2E-1CB4-4370-928E-5FDFB2652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D7CF986-7D12-43CB-83A6-E65DCE7C4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3AF3E06-FA3A-416A-85DD-C77B411C4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26D6F26-727F-47EE-89DB-0B182A8A8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181B50C-A6F8-4677-B0A2-B84FCAAF1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9222D53-5B6A-407E-BA09-62694CB6BA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A136A30-5B85-46AF-875C-46B32E791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354389C-7575-4566-917E-ACDA4FD2B0A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53AD-0D20-46C7-98F1-5379F7FEB2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F1DA-53A5-44AE-BD56-DE60E481FC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hyperlink" Target="mailto:Abraesen@bruke.de"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fdef6"/>
                </a:solidFill>
                <a:latin typeface="Arial"/>
              </a:rPr>
              <a:t>Applikationsentwicklung </a:t>
            </a:r>
            <a:br>
              <a:rPr sz="5400"/>
            </a:br>
            <a:r>
              <a:rPr b="0" lang="de-DE" sz="5400" spc="-1" strike="noStrike">
                <a:solidFill>
                  <a:srgbClr val="dfdef6"/>
                </a:solidFill>
                <a:latin typeface="Arial"/>
              </a:rPr>
              <a:t>mit dem Microkernel</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von Andreas Bräse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NET User Group Karlsruh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23-Feb-2006</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Die Anforderungen...</a:t>
            </a: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muß austauschbar sei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3" name=""/>
          <p:cNvSpPr/>
          <p:nvPr/>
        </p:nvSpPr>
        <p:spPr>
          <a:xfrm>
            <a:off x="612720" y="1684440"/>
            <a:ext cx="260280" cy="804600"/>
          </a:xfrm>
          <a:custGeom>
            <a:avLst/>
            <a:gdLst/>
            <a:ahLst/>
            <a:rect l="l" t="t" r="r" b="b"/>
            <a:pathLst>
              <a:path w="722" h="2238">
                <a:moveTo>
                  <a:pt x="1739" y="5060"/>
                </a:moveTo>
                <a:cubicBezTo>
                  <a:pt x="1739" y="5063"/>
                  <a:pt x="1725" y="5047"/>
                  <a:pt x="1739" y="5079"/>
                </a:cubicBezTo>
                <a:cubicBezTo>
                  <a:pt x="1753" y="5113"/>
                  <a:pt x="1764" y="5148"/>
                  <a:pt x="1773" y="5185"/>
                </a:cubicBezTo>
                <a:cubicBezTo>
                  <a:pt x="1795" y="5269"/>
                  <a:pt x="1803" y="5367"/>
                  <a:pt x="1834" y="5448"/>
                </a:cubicBezTo>
                <a:cubicBezTo>
                  <a:pt x="1846" y="5479"/>
                  <a:pt x="1853" y="5516"/>
                  <a:pt x="1868" y="5546"/>
                </a:cubicBezTo>
                <a:cubicBezTo>
                  <a:pt x="1877" y="5564"/>
                  <a:pt x="1896" y="5578"/>
                  <a:pt x="1910" y="5592"/>
                </a:cubicBezTo>
                <a:cubicBezTo>
                  <a:pt x="1912" y="5592"/>
                  <a:pt x="1913" y="5592"/>
                  <a:pt x="1915" y="5592"/>
                </a:cubicBezTo>
                <a:cubicBezTo>
                  <a:pt x="1923" y="5582"/>
                  <a:pt x="1943" y="5563"/>
                  <a:pt x="1953" y="5546"/>
                </a:cubicBezTo>
                <a:cubicBezTo>
                  <a:pt x="1986" y="5492"/>
                  <a:pt x="2014" y="5436"/>
                  <a:pt x="2043" y="5379"/>
                </a:cubicBezTo>
                <a:cubicBezTo>
                  <a:pt x="2102" y="5263"/>
                  <a:pt x="2155" y="5144"/>
                  <a:pt x="2214" y="5028"/>
                </a:cubicBezTo>
                <a:cubicBezTo>
                  <a:pt x="2266" y="4926"/>
                  <a:pt x="2321" y="4821"/>
                  <a:pt x="2385" y="4727"/>
                </a:cubicBezTo>
                <a:cubicBezTo>
                  <a:pt x="2398" y="4710"/>
                  <a:pt x="2410" y="4694"/>
                  <a:pt x="2423" y="4677"/>
                </a:cubicBezTo>
              </a:path>
              <a:path w="722" h="2238">
                <a:moveTo>
                  <a:pt x="1792" y="6530"/>
                </a:moveTo>
                <a:cubicBezTo>
                  <a:pt x="1783" y="6511"/>
                  <a:pt x="1772" y="6491"/>
                  <a:pt x="1763" y="6470"/>
                </a:cubicBezTo>
                <a:cubicBezTo>
                  <a:pt x="1748" y="6434"/>
                  <a:pt x="1728" y="6411"/>
                  <a:pt x="1706" y="6382"/>
                </a:cubicBezTo>
                <a:cubicBezTo>
                  <a:pt x="1703" y="6378"/>
                  <a:pt x="1701" y="6377"/>
                  <a:pt x="1702" y="6373"/>
                </a:cubicBezTo>
                <a:cubicBezTo>
                  <a:pt x="1702" y="6466"/>
                  <a:pt x="1711" y="6551"/>
                  <a:pt x="1735" y="6641"/>
                </a:cubicBezTo>
                <a:cubicBezTo>
                  <a:pt x="1753" y="6708"/>
                  <a:pt x="1774" y="6780"/>
                  <a:pt x="1801" y="6844"/>
                </a:cubicBezTo>
                <a:cubicBezTo>
                  <a:pt x="1812" y="6870"/>
                  <a:pt x="1833" y="6905"/>
                  <a:pt x="1863" y="6914"/>
                </a:cubicBezTo>
                <a:cubicBezTo>
                  <a:pt x="1895" y="6924"/>
                  <a:pt x="1919" y="6898"/>
                  <a:pt x="1939" y="6877"/>
                </a:cubicBezTo>
                <a:cubicBezTo>
                  <a:pt x="2001" y="6812"/>
                  <a:pt x="2038" y="6733"/>
                  <a:pt x="2081" y="6655"/>
                </a:cubicBezTo>
                <a:cubicBezTo>
                  <a:pt x="2142" y="6543"/>
                  <a:pt x="2189" y="6425"/>
                  <a:pt x="2257" y="6317"/>
                </a:cubicBezTo>
                <a:cubicBezTo>
                  <a:pt x="2302" y="6251"/>
                  <a:pt x="2316" y="6230"/>
                  <a:pt x="2347" y="6188"/>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596880" y="2855880"/>
            <a:ext cx="291960" cy="693720"/>
          </a:xfrm>
          <a:custGeom>
            <a:avLst/>
            <a:gdLst/>
            <a:ahLst/>
            <a:rect l="l" t="t" r="r" b="b"/>
            <a:pathLst>
              <a:path w="812" h="1924">
                <a:moveTo>
                  <a:pt x="1659" y="8074"/>
                </a:moveTo>
                <a:cubicBezTo>
                  <a:pt x="1664" y="8062"/>
                  <a:pt x="1680" y="8044"/>
                  <a:pt x="1683" y="8032"/>
                </a:cubicBezTo>
                <a:cubicBezTo>
                  <a:pt x="1689" y="8006"/>
                  <a:pt x="1684" y="8006"/>
                  <a:pt x="1697" y="7986"/>
                </a:cubicBezTo>
                <a:cubicBezTo>
                  <a:pt x="1699" y="7986"/>
                  <a:pt x="1700" y="7986"/>
                  <a:pt x="1702" y="7986"/>
                </a:cubicBezTo>
                <a:cubicBezTo>
                  <a:pt x="1708" y="7997"/>
                  <a:pt x="1720" y="8014"/>
                  <a:pt x="1725" y="8032"/>
                </a:cubicBezTo>
                <a:cubicBezTo>
                  <a:pt x="1737" y="8077"/>
                  <a:pt x="1745" y="8125"/>
                  <a:pt x="1754" y="8171"/>
                </a:cubicBezTo>
                <a:cubicBezTo>
                  <a:pt x="1767" y="8240"/>
                  <a:pt x="1785" y="8312"/>
                  <a:pt x="1806" y="8379"/>
                </a:cubicBezTo>
                <a:cubicBezTo>
                  <a:pt x="1824" y="8434"/>
                  <a:pt x="1843" y="8495"/>
                  <a:pt x="1872" y="8545"/>
                </a:cubicBezTo>
                <a:cubicBezTo>
                  <a:pt x="1885" y="8568"/>
                  <a:pt x="1914" y="8601"/>
                  <a:pt x="1944" y="8592"/>
                </a:cubicBezTo>
                <a:cubicBezTo>
                  <a:pt x="2004" y="8575"/>
                  <a:pt x="2030" y="8508"/>
                  <a:pt x="2062" y="8462"/>
                </a:cubicBezTo>
                <a:cubicBezTo>
                  <a:pt x="2116" y="8385"/>
                  <a:pt x="2159" y="8302"/>
                  <a:pt x="2214" y="8226"/>
                </a:cubicBezTo>
                <a:cubicBezTo>
                  <a:pt x="2273" y="8145"/>
                  <a:pt x="2329" y="8058"/>
                  <a:pt x="2394" y="7981"/>
                </a:cubicBezTo>
                <a:cubicBezTo>
                  <a:pt x="2408" y="7966"/>
                  <a:pt x="2423" y="7950"/>
                  <a:pt x="2437" y="7935"/>
                </a:cubicBezTo>
              </a:path>
              <a:path w="812" h="1924">
                <a:moveTo>
                  <a:pt x="1744" y="9317"/>
                </a:moveTo>
                <a:cubicBezTo>
                  <a:pt x="1744" y="9299"/>
                  <a:pt x="1744" y="9280"/>
                  <a:pt x="1744" y="9262"/>
                </a:cubicBezTo>
                <a:cubicBezTo>
                  <a:pt x="1749" y="9285"/>
                  <a:pt x="1757" y="9308"/>
                  <a:pt x="1763" y="9331"/>
                </a:cubicBezTo>
                <a:cubicBezTo>
                  <a:pt x="1775" y="9375"/>
                  <a:pt x="1792" y="9414"/>
                  <a:pt x="1806" y="9456"/>
                </a:cubicBezTo>
                <a:cubicBezTo>
                  <a:pt x="1824" y="9509"/>
                  <a:pt x="1844" y="9561"/>
                  <a:pt x="1863" y="9613"/>
                </a:cubicBezTo>
                <a:cubicBezTo>
                  <a:pt x="1891" y="9689"/>
                  <a:pt x="1917" y="9754"/>
                  <a:pt x="1963" y="9821"/>
                </a:cubicBezTo>
                <a:cubicBezTo>
                  <a:pt x="1981" y="9847"/>
                  <a:pt x="1989" y="9858"/>
                  <a:pt x="2019" y="9853"/>
                </a:cubicBezTo>
                <a:cubicBezTo>
                  <a:pt x="2060" y="9846"/>
                  <a:pt x="2112" y="9735"/>
                  <a:pt x="2129" y="9705"/>
                </a:cubicBezTo>
                <a:cubicBezTo>
                  <a:pt x="2191" y="9595"/>
                  <a:pt x="2246" y="9484"/>
                  <a:pt x="2314" y="9377"/>
                </a:cubicBezTo>
                <a:cubicBezTo>
                  <a:pt x="2360" y="9304"/>
                  <a:pt x="2405" y="9258"/>
                  <a:pt x="2470" y="9202"/>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31800" y="5132520"/>
            <a:ext cx="282600" cy="792000"/>
          </a:xfrm>
          <a:custGeom>
            <a:avLst/>
            <a:gdLst/>
            <a:ahLst/>
            <a:rect l="l" t="t" r="r" b="b"/>
            <a:pathLst>
              <a:path w="784" h="2197">
                <a:moveTo>
                  <a:pt x="1773" y="14258"/>
                </a:moveTo>
                <a:cubicBezTo>
                  <a:pt x="1775" y="14283"/>
                  <a:pt x="1774" y="14304"/>
                  <a:pt x="1782" y="14328"/>
                </a:cubicBezTo>
                <a:cubicBezTo>
                  <a:pt x="1791" y="14356"/>
                  <a:pt x="1802" y="14383"/>
                  <a:pt x="1811" y="14411"/>
                </a:cubicBezTo>
                <a:cubicBezTo>
                  <a:pt x="1826" y="14457"/>
                  <a:pt x="1837" y="14504"/>
                  <a:pt x="1853" y="14549"/>
                </a:cubicBezTo>
                <a:cubicBezTo>
                  <a:pt x="1879" y="14620"/>
                  <a:pt x="1903" y="14691"/>
                  <a:pt x="1929" y="14762"/>
                </a:cubicBezTo>
                <a:cubicBezTo>
                  <a:pt x="1958" y="14841"/>
                  <a:pt x="1998" y="14915"/>
                  <a:pt x="2029" y="14993"/>
                </a:cubicBezTo>
                <a:cubicBezTo>
                  <a:pt x="2043" y="15029"/>
                  <a:pt x="2058" y="15065"/>
                  <a:pt x="2072" y="15100"/>
                </a:cubicBezTo>
                <a:cubicBezTo>
                  <a:pt x="2077" y="15112"/>
                  <a:pt x="2083" y="15120"/>
                  <a:pt x="2091" y="15127"/>
                </a:cubicBezTo>
                <a:cubicBezTo>
                  <a:pt x="2095" y="15127"/>
                  <a:pt x="2097" y="15127"/>
                  <a:pt x="2100" y="15127"/>
                </a:cubicBezTo>
                <a:cubicBezTo>
                  <a:pt x="2121" y="15102"/>
                  <a:pt x="2134" y="15080"/>
                  <a:pt x="2148" y="15049"/>
                </a:cubicBezTo>
                <a:cubicBezTo>
                  <a:pt x="2222" y="14889"/>
                  <a:pt x="2309" y="14734"/>
                  <a:pt x="2413" y="14591"/>
                </a:cubicBezTo>
                <a:cubicBezTo>
                  <a:pt x="2474" y="14514"/>
                  <a:pt x="2494" y="14489"/>
                  <a:pt x="2537" y="14439"/>
                </a:cubicBezTo>
              </a:path>
              <a:path w="784" h="2197">
                <a:moveTo>
                  <a:pt x="1754" y="15719"/>
                </a:moveTo>
                <a:cubicBezTo>
                  <a:pt x="1757" y="15726"/>
                  <a:pt x="1752" y="15707"/>
                  <a:pt x="1754" y="15714"/>
                </a:cubicBezTo>
                <a:cubicBezTo>
                  <a:pt x="1759" y="15732"/>
                  <a:pt x="1764" y="15751"/>
                  <a:pt x="1768" y="15770"/>
                </a:cubicBezTo>
                <a:cubicBezTo>
                  <a:pt x="1778" y="15815"/>
                  <a:pt x="1788" y="15860"/>
                  <a:pt x="1801" y="15904"/>
                </a:cubicBezTo>
                <a:cubicBezTo>
                  <a:pt x="1814" y="15950"/>
                  <a:pt x="1835" y="15989"/>
                  <a:pt x="1853" y="16033"/>
                </a:cubicBezTo>
                <a:cubicBezTo>
                  <a:pt x="1882" y="16104"/>
                  <a:pt x="1918" y="16174"/>
                  <a:pt x="1944" y="16246"/>
                </a:cubicBezTo>
                <a:cubicBezTo>
                  <a:pt x="1961" y="16293"/>
                  <a:pt x="1983" y="16339"/>
                  <a:pt x="2005" y="16385"/>
                </a:cubicBezTo>
                <a:cubicBezTo>
                  <a:pt x="2014" y="16404"/>
                  <a:pt x="2028" y="16418"/>
                  <a:pt x="2038" y="16435"/>
                </a:cubicBezTo>
                <a:cubicBezTo>
                  <a:pt x="2042" y="16447"/>
                  <a:pt x="2042" y="16449"/>
                  <a:pt x="2048" y="16454"/>
                </a:cubicBezTo>
                <a:cubicBezTo>
                  <a:pt x="2052" y="16449"/>
                  <a:pt x="2062" y="16444"/>
                  <a:pt x="2067" y="16431"/>
                </a:cubicBezTo>
                <a:cubicBezTo>
                  <a:pt x="2077" y="16407"/>
                  <a:pt x="2082" y="16381"/>
                  <a:pt x="2091" y="16357"/>
                </a:cubicBezTo>
                <a:cubicBezTo>
                  <a:pt x="2112" y="16304"/>
                  <a:pt x="2145" y="16251"/>
                  <a:pt x="2171" y="16200"/>
                </a:cubicBezTo>
                <a:cubicBezTo>
                  <a:pt x="2218" y="16107"/>
                  <a:pt x="2273" y="16012"/>
                  <a:pt x="2333" y="15927"/>
                </a:cubicBezTo>
                <a:cubicBezTo>
                  <a:pt x="2376" y="15866"/>
                  <a:pt x="2426" y="15811"/>
                  <a:pt x="2475" y="15756"/>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95120" y="3780000"/>
            <a:ext cx="695520" cy="814320"/>
          </a:xfrm>
          <a:custGeom>
            <a:avLst/>
            <a:gdLst/>
            <a:ahLst/>
            <a:rect l="l" t="t" r="r" b="b"/>
            <a:pathLst>
              <a:path w="1932" h="2262">
                <a:moveTo>
                  <a:pt x="2091" y="11365"/>
                </a:moveTo>
                <a:cubicBezTo>
                  <a:pt x="2020" y="11365"/>
                  <a:pt x="1954" y="11361"/>
                  <a:pt x="1887" y="11383"/>
                </a:cubicBezTo>
                <a:cubicBezTo>
                  <a:pt x="1864" y="11391"/>
                  <a:pt x="1841" y="11399"/>
                  <a:pt x="1820" y="11411"/>
                </a:cubicBezTo>
                <a:cubicBezTo>
                  <a:pt x="1786" y="11430"/>
                  <a:pt x="1758" y="11458"/>
                  <a:pt x="1730" y="11485"/>
                </a:cubicBezTo>
                <a:cubicBezTo>
                  <a:pt x="1688" y="11525"/>
                  <a:pt x="1643" y="11559"/>
                  <a:pt x="1602" y="11601"/>
                </a:cubicBezTo>
                <a:cubicBezTo>
                  <a:pt x="1562" y="11643"/>
                  <a:pt x="1523" y="11690"/>
                  <a:pt x="1493" y="11739"/>
                </a:cubicBezTo>
                <a:cubicBezTo>
                  <a:pt x="1459" y="11794"/>
                  <a:pt x="1433" y="11844"/>
                  <a:pt x="1412" y="11906"/>
                </a:cubicBezTo>
                <a:cubicBezTo>
                  <a:pt x="1393" y="11963"/>
                  <a:pt x="1375" y="12022"/>
                  <a:pt x="1365" y="12081"/>
                </a:cubicBezTo>
                <a:cubicBezTo>
                  <a:pt x="1357" y="12128"/>
                  <a:pt x="1349" y="12182"/>
                  <a:pt x="1346" y="12229"/>
                </a:cubicBezTo>
                <a:cubicBezTo>
                  <a:pt x="1343" y="12277"/>
                  <a:pt x="1344" y="12325"/>
                  <a:pt x="1355" y="12372"/>
                </a:cubicBezTo>
                <a:cubicBezTo>
                  <a:pt x="1371" y="12440"/>
                  <a:pt x="1409" y="12502"/>
                  <a:pt x="1455" y="12553"/>
                </a:cubicBezTo>
                <a:cubicBezTo>
                  <a:pt x="1497" y="12600"/>
                  <a:pt x="1558" y="12632"/>
                  <a:pt x="1611" y="12664"/>
                </a:cubicBezTo>
                <a:cubicBezTo>
                  <a:pt x="1655" y="12691"/>
                  <a:pt x="1705" y="12722"/>
                  <a:pt x="1754" y="12738"/>
                </a:cubicBezTo>
                <a:cubicBezTo>
                  <a:pt x="1787" y="12749"/>
                  <a:pt x="1833" y="12758"/>
                  <a:pt x="1868" y="12761"/>
                </a:cubicBezTo>
                <a:cubicBezTo>
                  <a:pt x="1957" y="12768"/>
                  <a:pt x="2083" y="12777"/>
                  <a:pt x="2167" y="12742"/>
                </a:cubicBezTo>
                <a:cubicBezTo>
                  <a:pt x="2201" y="12728"/>
                  <a:pt x="2243" y="12703"/>
                  <a:pt x="2271" y="12678"/>
                </a:cubicBezTo>
                <a:cubicBezTo>
                  <a:pt x="2301" y="12651"/>
                  <a:pt x="2331" y="12618"/>
                  <a:pt x="2356" y="12585"/>
                </a:cubicBezTo>
                <a:cubicBezTo>
                  <a:pt x="2381" y="12552"/>
                  <a:pt x="2397" y="12515"/>
                  <a:pt x="2418" y="12479"/>
                </a:cubicBezTo>
                <a:cubicBezTo>
                  <a:pt x="2441" y="12438"/>
                  <a:pt x="2451" y="12394"/>
                  <a:pt x="2461" y="12349"/>
                </a:cubicBezTo>
                <a:cubicBezTo>
                  <a:pt x="2475" y="12288"/>
                  <a:pt x="2475" y="12227"/>
                  <a:pt x="2475" y="12164"/>
                </a:cubicBezTo>
                <a:cubicBezTo>
                  <a:pt x="2475" y="12083"/>
                  <a:pt x="2477" y="11998"/>
                  <a:pt x="2461" y="11919"/>
                </a:cubicBezTo>
                <a:cubicBezTo>
                  <a:pt x="2443" y="11833"/>
                  <a:pt x="2418" y="11747"/>
                  <a:pt x="2399" y="11661"/>
                </a:cubicBezTo>
                <a:cubicBezTo>
                  <a:pt x="2380" y="11578"/>
                  <a:pt x="2366" y="11478"/>
                  <a:pt x="2295" y="11420"/>
                </a:cubicBezTo>
                <a:cubicBezTo>
                  <a:pt x="2259" y="11391"/>
                  <a:pt x="2219" y="11395"/>
                  <a:pt x="2176" y="11393"/>
                </a:cubicBezTo>
              </a:path>
              <a:path w="1932" h="2262">
                <a:moveTo>
                  <a:pt x="563" y="10708"/>
                </a:moveTo>
                <a:cubicBezTo>
                  <a:pt x="548" y="10686"/>
                  <a:pt x="546" y="10690"/>
                  <a:pt x="544" y="10662"/>
                </a:cubicBezTo>
                <a:cubicBezTo>
                  <a:pt x="540" y="10617"/>
                  <a:pt x="554" y="10604"/>
                  <a:pt x="582" y="10570"/>
                </a:cubicBezTo>
                <a:cubicBezTo>
                  <a:pt x="620" y="10524"/>
                  <a:pt x="670" y="10505"/>
                  <a:pt x="729" y="10500"/>
                </a:cubicBezTo>
                <a:cubicBezTo>
                  <a:pt x="788" y="10495"/>
                  <a:pt x="833" y="10502"/>
                  <a:pt x="871" y="10547"/>
                </a:cubicBezTo>
                <a:cubicBezTo>
                  <a:pt x="909" y="10592"/>
                  <a:pt x="896" y="10655"/>
                  <a:pt x="885" y="10708"/>
                </a:cubicBezTo>
                <a:cubicBezTo>
                  <a:pt x="869" y="10782"/>
                  <a:pt x="820" y="10856"/>
                  <a:pt x="781" y="10921"/>
                </a:cubicBezTo>
                <a:cubicBezTo>
                  <a:pt x="743" y="10983"/>
                  <a:pt x="691" y="11052"/>
                  <a:pt x="672" y="11124"/>
                </a:cubicBezTo>
                <a:cubicBezTo>
                  <a:pt x="664" y="11154"/>
                  <a:pt x="656" y="11227"/>
                  <a:pt x="677" y="11254"/>
                </a:cubicBezTo>
                <a:cubicBezTo>
                  <a:pt x="700" y="11284"/>
                  <a:pt x="751" y="11293"/>
                  <a:pt x="786" y="11300"/>
                </a:cubicBezTo>
                <a:cubicBezTo>
                  <a:pt x="822" y="11307"/>
                  <a:pt x="859" y="11314"/>
                  <a:pt x="895" y="11323"/>
                </a:cubicBezTo>
              </a:path>
              <a:path w="1932" h="2262">
                <a:moveTo>
                  <a:pt x="866" y="12054"/>
                </a:moveTo>
                <a:cubicBezTo>
                  <a:pt x="862" y="12057"/>
                  <a:pt x="857" y="12062"/>
                  <a:pt x="847" y="12058"/>
                </a:cubicBezTo>
                <a:cubicBezTo>
                  <a:pt x="829" y="12051"/>
                  <a:pt x="829" y="12044"/>
                  <a:pt x="805" y="12044"/>
                </a:cubicBezTo>
                <a:cubicBezTo>
                  <a:pt x="777" y="12044"/>
                  <a:pt x="758" y="12048"/>
                  <a:pt x="743" y="12072"/>
                </a:cubicBezTo>
                <a:cubicBezTo>
                  <a:pt x="726" y="12099"/>
                  <a:pt x="726" y="12138"/>
                  <a:pt x="729" y="12169"/>
                </a:cubicBezTo>
                <a:cubicBezTo>
                  <a:pt x="732" y="12196"/>
                  <a:pt x="748" y="12214"/>
                  <a:pt x="776" y="12211"/>
                </a:cubicBezTo>
                <a:cubicBezTo>
                  <a:pt x="811" y="12207"/>
                  <a:pt x="824" y="12173"/>
                  <a:pt x="833" y="12141"/>
                </a:cubicBezTo>
                <a:cubicBezTo>
                  <a:pt x="840" y="12115"/>
                  <a:pt x="846" y="12066"/>
                  <a:pt x="833" y="12040"/>
                </a:cubicBezTo>
                <a:cubicBezTo>
                  <a:pt x="824" y="12022"/>
                  <a:pt x="802" y="12005"/>
                  <a:pt x="781" y="12017"/>
                </a:cubicBezTo>
                <a:cubicBezTo>
                  <a:pt x="765" y="12026"/>
                  <a:pt x="768" y="12049"/>
                  <a:pt x="767" y="12063"/>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dfdef6"/>
                </a:solidFill>
                <a:latin typeface="Arial"/>
              </a:rPr>
              <a:t>Das Schichtenmodell – Die Fragen...</a:t>
            </a:r>
            <a:endParaRPr b="0" lang="en-US" sz="3600" spc="-1" strike="noStrike">
              <a:solidFill>
                <a:srgbClr val="dfdef6"/>
              </a:solidFill>
              <a:latin typeface="Arial"/>
            </a:endParaRPr>
          </a:p>
        </p:txBody>
      </p:sp>
      <p:sp>
        <p:nvSpPr>
          <p:cNvPr id="588"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8000"/>
          </a:bodyPr>
          <a:p>
            <a:pPr marL="301680" indent="-3016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instanziert wen ?</a:t>
            </a:r>
            <a:endParaRPr b="0" lang="en-US" sz="3200" spc="-1" strike="noStrike">
              <a:solidFill>
                <a:srgbClr val="ffffff"/>
              </a:solidFill>
              <a:latin typeface="Arial"/>
            </a:endParaRPr>
          </a:p>
          <a:p>
            <a:pPr marL="301680" indent="-3016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steckt das Ganze zusammen ?</a:t>
            </a:r>
            <a:endParaRPr b="0" lang="en-US" sz="3200" spc="-1" strike="noStrike">
              <a:solidFill>
                <a:srgbClr val="ffffff"/>
              </a:solidFill>
              <a:latin typeface="Arial"/>
            </a:endParaRPr>
          </a:p>
          <a:p>
            <a:pPr marL="301680" indent="-3016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uß ich die Interfaces durch Schichten durchreichen ?</a:t>
            </a:r>
            <a:endParaRPr b="0" lang="en-US" sz="3200" spc="-1" strike="noStrike">
              <a:solidFill>
                <a:srgbClr val="ffffff"/>
              </a:solidFill>
              <a:latin typeface="Arial"/>
            </a:endParaRPr>
          </a:p>
          <a:p>
            <a:pPr marL="301680" indent="-3016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tausche ich Schichten/Bestandteile aus, so daß ich das Ganze testen kann ?</a:t>
            </a:r>
            <a:endParaRPr b="0" lang="en-US" sz="3200" spc="-1" strike="noStrike">
              <a:solidFill>
                <a:srgbClr val="ffffff"/>
              </a:solidFill>
              <a:latin typeface="Arial"/>
            </a:endParaRPr>
          </a:p>
          <a:p>
            <a:pPr marL="301680" indent="-3016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entwickle ich parallel ?</a:t>
            </a:r>
            <a:endParaRPr b="0" lang="en-US" sz="3200" spc="-1" strike="noStrike">
              <a:solidFill>
                <a:srgbClr val="ffffff"/>
              </a:solidFill>
              <a:latin typeface="Arial"/>
            </a:endParaRPr>
          </a:p>
          <a:p>
            <a:pPr marL="301680" indent="-3016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ann definiere ich die Interfaces ?</a:t>
            </a:r>
            <a:endParaRPr b="0" lang="en-US" sz="3200" spc="-1" strike="noStrike">
              <a:solidFill>
                <a:srgbClr val="ffffff"/>
              </a:solidFill>
              <a:latin typeface="Arial"/>
            </a:endParaRPr>
          </a:p>
          <a:p>
            <a:pPr marL="301680" indent="-3016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kann ich Bestandteile einfach austausch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88">
                                            <p:txEl>
                                              <p:pRg st="0" end="0"/>
                                            </p:txEl>
                                          </p:spTgt>
                                        </p:tgtEl>
                                        <p:attrNameLst>
                                          <p:attrName>style.visibility</p:attrName>
                                        </p:attrNameLst>
                                      </p:cBhvr>
                                      <p:to>
                                        <p:strVal val="visible"/>
                                      </p:to>
                                    </p:set>
                                    <p:animEffect filter="checkerboard(across)" transition="in">
                                      <p:cBhvr additive="repl">
                                        <p:cTn id="80" dur="500"/>
                                        <p:tgtEl>
                                          <p:spTgt spid="58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88">
                                            <p:txEl>
                                              <p:pRg st="1" end="1"/>
                                            </p:txEl>
                                          </p:spTgt>
                                        </p:tgtEl>
                                        <p:attrNameLst>
                                          <p:attrName>style.visibility</p:attrName>
                                        </p:attrNameLst>
                                      </p:cBhvr>
                                      <p:to>
                                        <p:strVal val="visible"/>
                                      </p:to>
                                    </p:set>
                                    <p:animEffect filter="blinds(horizontal)" transition="in">
                                      <p:cBhvr additive="repl">
                                        <p:cTn id="85" dur="500"/>
                                        <p:tgtEl>
                                          <p:spTgt spid="588">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88">
                                            <p:txEl>
                                              <p:pRg st="2" end="2"/>
                                            </p:txEl>
                                          </p:spTgt>
                                        </p:tgtEl>
                                        <p:attrNameLst>
                                          <p:attrName>style.visibility</p:attrName>
                                        </p:attrNameLst>
                                      </p:cBhvr>
                                      <p:to>
                                        <p:strVal val="visible"/>
                                      </p:to>
                                    </p:set>
                                    <p:animEffect filter="blinds(horizontal)" transition="in">
                                      <p:cBhvr additive="repl">
                                        <p:cTn id="90" dur="500"/>
                                        <p:tgtEl>
                                          <p:spTgt spid="588">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88">
                                            <p:txEl>
                                              <p:pRg st="3" end="3"/>
                                            </p:txEl>
                                          </p:spTgt>
                                        </p:tgtEl>
                                        <p:attrNameLst>
                                          <p:attrName>style.visibility</p:attrName>
                                        </p:attrNameLst>
                                      </p:cBhvr>
                                      <p:to>
                                        <p:strVal val="visible"/>
                                      </p:to>
                                    </p:set>
                                    <p:animEffect filter="blinds(horizontal)" transition="in">
                                      <p:cBhvr additive="repl">
                                        <p:cTn id="95" dur="500"/>
                                        <p:tgtEl>
                                          <p:spTgt spid="588">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88">
                                            <p:txEl>
                                              <p:pRg st="4" end="4"/>
                                            </p:txEl>
                                          </p:spTgt>
                                        </p:tgtEl>
                                        <p:attrNameLst>
                                          <p:attrName>style.visibility</p:attrName>
                                        </p:attrNameLst>
                                      </p:cBhvr>
                                      <p:to>
                                        <p:strVal val="visible"/>
                                      </p:to>
                                    </p:set>
                                    <p:animEffect filter="blinds(horizontal)" transition="in">
                                      <p:cBhvr additive="repl">
                                        <p:cTn id="100" dur="500"/>
                                        <p:tgtEl>
                                          <p:spTgt spid="588">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88">
                                            <p:txEl>
                                              <p:pRg st="5" end="5"/>
                                            </p:txEl>
                                          </p:spTgt>
                                        </p:tgtEl>
                                        <p:attrNameLst>
                                          <p:attrName>style.visibility</p:attrName>
                                        </p:attrNameLst>
                                      </p:cBhvr>
                                      <p:to>
                                        <p:strVal val="visible"/>
                                      </p:to>
                                    </p:set>
                                    <p:animEffect filter="blinds(horizontal)" transition="in">
                                      <p:cBhvr additive="repl">
                                        <p:cTn id="105" dur="500"/>
                                        <p:tgtEl>
                                          <p:spTgt spid="588">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88">
                                            <p:txEl>
                                              <p:pRg st="6" end="6"/>
                                            </p:txEl>
                                          </p:spTgt>
                                        </p:tgtEl>
                                        <p:attrNameLst>
                                          <p:attrName>style.visibility</p:attrName>
                                        </p:attrNameLst>
                                      </p:cBhvr>
                                      <p:to>
                                        <p:strVal val="visible"/>
                                      </p:to>
                                    </p:set>
                                    <p:animEffect filter="blinds(horizontal)" transition="in">
                                      <p:cBhvr additive="repl">
                                        <p:cTn id="110" dur="500"/>
                                        <p:tgtEl>
                                          <p:spTgt spid="5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Basta September 2005</a:t>
            </a:r>
            <a:endParaRPr b="0" lang="en-US" sz="4400" spc="-1" strike="noStrike">
              <a:solidFill>
                <a:srgbClr val="dfdef6"/>
              </a:solidFill>
              <a:latin typeface="Arial"/>
            </a:endParaRPr>
          </a:p>
        </p:txBody>
      </p:sp>
      <p:sp>
        <p:nvSpPr>
          <p:cNvPr id="5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alf Westphal</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agmatische Anwendungsarchitektur</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Zellen statt Schichten</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ort erwähnte er den Microkernel</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in Microkernel lokalisiert und instanziert Komponenten.</a:t>
            </a:r>
            <a:endParaRPr b="0" lang="en-US" sz="24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seinem Vortrag sprach er von Zellen, die von einander nur die Schnittstellen kennen und die über einen Microkernel zusammengesteckt werden kön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90">
                                            <p:txEl>
                                              <p:pRg st="0" end="0"/>
                                            </p:txEl>
                                          </p:spTgt>
                                        </p:tgtEl>
                                        <p:attrNameLst>
                                          <p:attrName>style.visibility</p:attrName>
                                        </p:attrNameLst>
                                      </p:cBhvr>
                                      <p:to>
                                        <p:strVal val="visible"/>
                                      </p:to>
                                    </p:set>
                                    <p:animEffect filter="blinds(horizontal)" transition="in">
                                      <p:cBhvr additive="repl">
                                        <p:cTn id="117" dur="500"/>
                                        <p:tgtEl>
                                          <p:spTgt spid="59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90">
                                            <p:txEl>
                                              <p:pRg st="1" end="1"/>
                                            </p:txEl>
                                          </p:spTgt>
                                        </p:tgtEl>
                                        <p:attrNameLst>
                                          <p:attrName>style.visibility</p:attrName>
                                        </p:attrNameLst>
                                      </p:cBhvr>
                                      <p:to>
                                        <p:strVal val="visible"/>
                                      </p:to>
                                    </p:set>
                                    <p:animEffect filter="blinds(horizontal)" transition="in">
                                      <p:cBhvr additive="repl">
                                        <p:cTn id="122" dur="500"/>
                                        <p:tgtEl>
                                          <p:spTgt spid="590">
                                            <p:txEl>
                                              <p:pRg st="1" end="1"/>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590">
                                            <p:txEl>
                                              <p:pRg st="2" end="2"/>
                                            </p:txEl>
                                          </p:spTgt>
                                        </p:tgtEl>
                                        <p:attrNameLst>
                                          <p:attrName>style.visibility</p:attrName>
                                        </p:attrNameLst>
                                      </p:cBhvr>
                                      <p:to>
                                        <p:strVal val="visible"/>
                                      </p:to>
                                    </p:set>
                                    <p:animEffect filter="blinds(horizontal)" transition="in">
                                      <p:cBhvr additive="repl">
                                        <p:cTn id="125" dur="500"/>
                                        <p:tgtEl>
                                          <p:spTgt spid="590">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90">
                                            <p:txEl>
                                              <p:pRg st="3" end="3"/>
                                            </p:txEl>
                                          </p:spTgt>
                                        </p:tgtEl>
                                        <p:attrNameLst>
                                          <p:attrName>style.visibility</p:attrName>
                                        </p:attrNameLst>
                                      </p:cBhvr>
                                      <p:to>
                                        <p:strVal val="visible"/>
                                      </p:to>
                                    </p:set>
                                    <p:animEffect filter="blinds(horizontal)" transition="in">
                                      <p:cBhvr additive="repl">
                                        <p:cTn id="130" dur="500"/>
                                        <p:tgtEl>
                                          <p:spTgt spid="590">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590">
                                            <p:txEl>
                                              <p:pRg st="4" end="4"/>
                                            </p:txEl>
                                          </p:spTgt>
                                        </p:tgtEl>
                                        <p:attrNameLst>
                                          <p:attrName>style.visibility</p:attrName>
                                        </p:attrNameLst>
                                      </p:cBhvr>
                                      <p:to>
                                        <p:strVal val="visible"/>
                                      </p:to>
                                    </p:set>
                                    <p:animEffect filter="blinds(horizontal)" transition="in">
                                      <p:cBhvr additive="repl">
                                        <p:cTn id="133" dur="500"/>
                                        <p:tgtEl>
                                          <p:spTgt spid="590">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90">
                                            <p:txEl>
                                              <p:pRg st="5" end="5"/>
                                            </p:txEl>
                                          </p:spTgt>
                                        </p:tgtEl>
                                        <p:attrNameLst>
                                          <p:attrName>style.visibility</p:attrName>
                                        </p:attrNameLst>
                                      </p:cBhvr>
                                      <p:to>
                                        <p:strVal val="visible"/>
                                      </p:to>
                                    </p:set>
                                    <p:animEffect filter="blinds(horizontal)" transition="in">
                                      <p:cBhvr additive="repl">
                                        <p:cTn id="138" dur="500"/>
                                        <p:tgtEl>
                                          <p:spTgt spid="5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
          <p:cNvSpPr/>
          <p:nvPr/>
        </p:nvSpPr>
        <p:spPr>
          <a:xfrm>
            <a:off x="1332000" y="981000"/>
            <a:ext cx="6840360" cy="47530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ie sieht so eine Zelle aus ?</a:t>
            </a:r>
            <a:endParaRPr b="0" lang="en-US" sz="4400" spc="-1" strike="noStrike">
              <a:solidFill>
                <a:srgbClr val="dfdef6"/>
              </a:solidFill>
              <a:latin typeface="Arial"/>
            </a:endParaRPr>
          </a:p>
        </p:txBody>
      </p:sp>
      <p:sp>
        <p:nvSpPr>
          <p:cNvPr id="593" name=""/>
          <p:cNvSpPr/>
          <p:nvPr/>
        </p:nvSpPr>
        <p:spPr>
          <a:xfrm>
            <a:off x="4303800" y="3565440"/>
            <a:ext cx="620640" cy="598680"/>
          </a:xfrm>
          <a:custGeom>
            <a:avLst/>
            <a:gdLst/>
            <a:ahLst/>
            <a:rect l="l" t="t" r="r" b="b"/>
            <a:pathLst>
              <a:path w="1724" h="1661">
                <a:moveTo>
                  <a:pt x="12986" y="9964"/>
                </a:moveTo>
                <a:cubicBezTo>
                  <a:pt x="12983" y="9962"/>
                  <a:pt x="12979" y="9952"/>
                  <a:pt x="12976" y="9950"/>
                </a:cubicBezTo>
                <a:cubicBezTo>
                  <a:pt x="12968" y="9943"/>
                  <a:pt x="12960" y="9927"/>
                  <a:pt x="12953" y="9923"/>
                </a:cubicBezTo>
                <a:cubicBezTo>
                  <a:pt x="12940" y="9917"/>
                  <a:pt x="12924" y="9912"/>
                  <a:pt x="12910" y="9909"/>
                </a:cubicBezTo>
                <a:cubicBezTo>
                  <a:pt x="12820" y="9889"/>
                  <a:pt x="12690" y="9905"/>
                  <a:pt x="12602" y="9923"/>
                </a:cubicBezTo>
                <a:cubicBezTo>
                  <a:pt x="12508" y="9942"/>
                  <a:pt x="12415" y="9973"/>
                  <a:pt x="12336" y="10029"/>
                </a:cubicBezTo>
                <a:cubicBezTo>
                  <a:pt x="12289" y="10062"/>
                  <a:pt x="12253" y="10101"/>
                  <a:pt x="12217" y="10145"/>
                </a:cubicBezTo>
                <a:cubicBezTo>
                  <a:pt x="12187" y="10182"/>
                  <a:pt x="12151" y="10224"/>
                  <a:pt x="12127" y="10265"/>
                </a:cubicBezTo>
                <a:cubicBezTo>
                  <a:pt x="12101" y="10309"/>
                  <a:pt x="12079" y="10365"/>
                  <a:pt x="12061" y="10413"/>
                </a:cubicBezTo>
                <a:cubicBezTo>
                  <a:pt x="12038" y="10472"/>
                  <a:pt x="12023" y="10533"/>
                  <a:pt x="12004" y="10593"/>
                </a:cubicBezTo>
                <a:cubicBezTo>
                  <a:pt x="11986" y="10649"/>
                  <a:pt x="11969" y="10705"/>
                  <a:pt x="11961" y="10764"/>
                </a:cubicBezTo>
                <a:cubicBezTo>
                  <a:pt x="11950" y="10850"/>
                  <a:pt x="11943" y="10962"/>
                  <a:pt x="11966" y="11046"/>
                </a:cubicBezTo>
                <a:cubicBezTo>
                  <a:pt x="11982" y="11104"/>
                  <a:pt x="12011" y="11167"/>
                  <a:pt x="12042" y="11217"/>
                </a:cubicBezTo>
                <a:cubicBezTo>
                  <a:pt x="12072" y="11265"/>
                  <a:pt x="12107" y="11306"/>
                  <a:pt x="12146" y="11346"/>
                </a:cubicBezTo>
                <a:cubicBezTo>
                  <a:pt x="12190" y="11390"/>
                  <a:pt x="12236" y="11423"/>
                  <a:pt x="12288" y="11457"/>
                </a:cubicBezTo>
                <a:cubicBezTo>
                  <a:pt x="12347" y="11495"/>
                  <a:pt x="12405" y="11521"/>
                  <a:pt x="12473" y="11540"/>
                </a:cubicBezTo>
                <a:cubicBezTo>
                  <a:pt x="12546" y="11560"/>
                  <a:pt x="12631" y="11563"/>
                  <a:pt x="12706" y="11564"/>
                </a:cubicBezTo>
                <a:cubicBezTo>
                  <a:pt x="12780" y="11565"/>
                  <a:pt x="12847" y="11560"/>
                  <a:pt x="12919" y="11545"/>
                </a:cubicBezTo>
                <a:cubicBezTo>
                  <a:pt x="13033" y="11521"/>
                  <a:pt x="13145" y="11487"/>
                  <a:pt x="13242" y="11420"/>
                </a:cubicBezTo>
                <a:cubicBezTo>
                  <a:pt x="13284" y="11391"/>
                  <a:pt x="13322" y="11356"/>
                  <a:pt x="13361" y="11323"/>
                </a:cubicBezTo>
                <a:cubicBezTo>
                  <a:pt x="13440" y="11256"/>
                  <a:pt x="13506" y="11171"/>
                  <a:pt x="13560" y="11083"/>
                </a:cubicBezTo>
                <a:cubicBezTo>
                  <a:pt x="13600" y="11019"/>
                  <a:pt x="13637" y="10943"/>
                  <a:pt x="13655" y="10870"/>
                </a:cubicBezTo>
                <a:cubicBezTo>
                  <a:pt x="13682" y="10759"/>
                  <a:pt x="13675" y="10649"/>
                  <a:pt x="13674" y="10537"/>
                </a:cubicBezTo>
                <a:cubicBezTo>
                  <a:pt x="13673" y="10426"/>
                  <a:pt x="13675" y="10340"/>
                  <a:pt x="13617" y="10242"/>
                </a:cubicBezTo>
                <a:cubicBezTo>
                  <a:pt x="13555" y="10137"/>
                  <a:pt x="13457" y="10065"/>
                  <a:pt x="13361" y="9997"/>
                </a:cubicBezTo>
                <a:cubicBezTo>
                  <a:pt x="13320" y="9968"/>
                  <a:pt x="13285" y="9944"/>
                  <a:pt x="13237" y="9927"/>
                </a:cubicBezTo>
                <a:cubicBezTo>
                  <a:pt x="13129" y="9889"/>
                  <a:pt x="13007" y="9903"/>
                  <a:pt x="12896" y="9909"/>
                </a:cubicBezTo>
                <a:cubicBezTo>
                  <a:pt x="12829" y="9913"/>
                  <a:pt x="12758" y="9932"/>
                  <a:pt x="12696" y="9960"/>
                </a:cubicBezTo>
                <a:cubicBezTo>
                  <a:pt x="12634" y="9988"/>
                  <a:pt x="12577" y="10019"/>
                  <a:pt x="12521" y="10057"/>
                </a:cubicBezTo>
                <a:cubicBezTo>
                  <a:pt x="12468" y="10093"/>
                  <a:pt x="12423" y="10136"/>
                  <a:pt x="12378" y="10182"/>
                </a:cubicBezTo>
                <a:cubicBezTo>
                  <a:pt x="12339" y="10222"/>
                  <a:pt x="12300" y="10258"/>
                  <a:pt x="12269" y="10306"/>
                </a:cubicBezTo>
                <a:cubicBezTo>
                  <a:pt x="12237" y="10355"/>
                  <a:pt x="12216" y="10407"/>
                  <a:pt x="12198" y="10463"/>
                </a:cubicBezTo>
                <a:cubicBezTo>
                  <a:pt x="12178" y="10526"/>
                  <a:pt x="12172" y="10594"/>
                  <a:pt x="12160" y="10658"/>
                </a:cubicBezTo>
                <a:cubicBezTo>
                  <a:pt x="12148" y="10720"/>
                  <a:pt x="12131" y="10789"/>
                  <a:pt x="12127" y="10852"/>
                </a:cubicBezTo>
                <a:cubicBezTo>
                  <a:pt x="12124" y="10906"/>
                  <a:pt x="12126" y="10953"/>
                  <a:pt x="12141" y="11004"/>
                </a:cubicBezTo>
                <a:cubicBezTo>
                  <a:pt x="12153" y="11044"/>
                  <a:pt x="12174" y="11100"/>
                  <a:pt x="12208" y="11124"/>
                </a:cubicBezTo>
                <a:cubicBezTo>
                  <a:pt x="12228" y="11129"/>
                  <a:pt x="12236" y="11131"/>
                  <a:pt x="12250" y="11129"/>
                </a:cubicBezTo>
                <a:cubicBezTo>
                  <a:pt x="12325" y="11104"/>
                  <a:pt x="12386" y="11086"/>
                  <a:pt x="12450" y="11032"/>
                </a:cubicBezTo>
                <a:cubicBezTo>
                  <a:pt x="12548" y="10951"/>
                  <a:pt x="12602" y="10847"/>
                  <a:pt x="12658" y="10736"/>
                </a:cubicBezTo>
                <a:cubicBezTo>
                  <a:pt x="12728" y="10597"/>
                  <a:pt x="12809" y="10427"/>
                  <a:pt x="12815" y="10269"/>
                </a:cubicBezTo>
                <a:cubicBezTo>
                  <a:pt x="12818" y="10195"/>
                  <a:pt x="12799" y="10228"/>
                  <a:pt x="12782" y="10195"/>
                </a:cubicBezTo>
                <a:cubicBezTo>
                  <a:pt x="12725" y="10243"/>
                  <a:pt x="12682" y="10284"/>
                  <a:pt x="12639" y="10348"/>
                </a:cubicBezTo>
                <a:cubicBezTo>
                  <a:pt x="12566" y="10456"/>
                  <a:pt x="12511" y="10568"/>
                  <a:pt x="12454" y="10685"/>
                </a:cubicBezTo>
                <a:cubicBezTo>
                  <a:pt x="12395" y="10806"/>
                  <a:pt x="12312" y="10937"/>
                  <a:pt x="12293" y="11074"/>
                </a:cubicBezTo>
                <a:cubicBezTo>
                  <a:pt x="12293" y="11096"/>
                  <a:pt x="12291" y="11100"/>
                  <a:pt x="12298" y="11111"/>
                </a:cubicBezTo>
                <a:cubicBezTo>
                  <a:pt x="12331" y="11079"/>
                  <a:pt x="12362" y="11047"/>
                  <a:pt x="12393" y="11009"/>
                </a:cubicBezTo>
                <a:cubicBezTo>
                  <a:pt x="12479" y="10904"/>
                  <a:pt x="12536" y="10772"/>
                  <a:pt x="12592" y="10648"/>
                </a:cubicBezTo>
                <a:cubicBezTo>
                  <a:pt x="12645" y="10530"/>
                  <a:pt x="12742" y="10375"/>
                  <a:pt x="12749" y="10242"/>
                </a:cubicBezTo>
                <a:cubicBezTo>
                  <a:pt x="12751" y="10213"/>
                  <a:pt x="12755" y="10162"/>
                  <a:pt x="12711" y="10182"/>
                </a:cubicBezTo>
                <a:cubicBezTo>
                  <a:pt x="12642" y="10214"/>
                  <a:pt x="12599" y="10339"/>
                  <a:pt x="12568" y="10399"/>
                </a:cubicBezTo>
                <a:cubicBezTo>
                  <a:pt x="12494" y="10542"/>
                  <a:pt x="12420" y="10689"/>
                  <a:pt x="12360" y="10838"/>
                </a:cubicBezTo>
                <a:cubicBezTo>
                  <a:pt x="12338" y="10892"/>
                  <a:pt x="12330" y="10941"/>
                  <a:pt x="12317" y="10995"/>
                </a:cubicBezTo>
                <a:cubicBezTo>
                  <a:pt x="12346" y="10965"/>
                  <a:pt x="12370" y="10952"/>
                  <a:pt x="12393" y="10903"/>
                </a:cubicBezTo>
                <a:cubicBezTo>
                  <a:pt x="12444" y="10793"/>
                  <a:pt x="12478" y="10672"/>
                  <a:pt x="12511" y="10556"/>
                </a:cubicBezTo>
                <a:cubicBezTo>
                  <a:pt x="12542" y="10447"/>
                  <a:pt x="12586" y="10332"/>
                  <a:pt x="12597" y="10219"/>
                </a:cubicBezTo>
                <a:cubicBezTo>
                  <a:pt x="12600" y="10185"/>
                  <a:pt x="12605" y="10129"/>
                  <a:pt x="12564" y="10177"/>
                </a:cubicBezTo>
                <a:cubicBezTo>
                  <a:pt x="12507" y="10244"/>
                  <a:pt x="12490" y="10359"/>
                  <a:pt x="12464" y="10440"/>
                </a:cubicBezTo>
                <a:cubicBezTo>
                  <a:pt x="12418" y="10580"/>
                  <a:pt x="12360" y="10718"/>
                  <a:pt x="12298" y="10852"/>
                </a:cubicBezTo>
                <a:cubicBezTo>
                  <a:pt x="12289" y="10889"/>
                  <a:pt x="12260" y="10977"/>
                  <a:pt x="12279" y="10944"/>
                </a:cubicBezTo>
                <a:cubicBezTo>
                  <a:pt x="12316" y="10879"/>
                  <a:pt x="12332" y="10789"/>
                  <a:pt x="12355" y="10718"/>
                </a:cubicBezTo>
                <a:cubicBezTo>
                  <a:pt x="12390" y="10609"/>
                  <a:pt x="12429" y="10500"/>
                  <a:pt x="12459" y="10390"/>
                </a:cubicBezTo>
                <a:cubicBezTo>
                  <a:pt x="12470" y="10349"/>
                  <a:pt x="12496" y="10277"/>
                  <a:pt x="12483" y="10232"/>
                </a:cubicBezTo>
                <a:cubicBezTo>
                  <a:pt x="12475" y="10226"/>
                  <a:pt x="12471" y="10226"/>
                  <a:pt x="12464" y="10237"/>
                </a:cubicBezTo>
                <a:cubicBezTo>
                  <a:pt x="12425" y="10311"/>
                  <a:pt x="12401" y="10379"/>
                  <a:pt x="12374" y="10459"/>
                </a:cubicBezTo>
                <a:cubicBezTo>
                  <a:pt x="12342" y="10557"/>
                  <a:pt x="12315" y="10657"/>
                  <a:pt x="12284" y="10755"/>
                </a:cubicBezTo>
                <a:cubicBezTo>
                  <a:pt x="12272" y="10793"/>
                  <a:pt x="12247" y="10909"/>
                  <a:pt x="12255" y="10870"/>
                </a:cubicBezTo>
                <a:cubicBezTo>
                  <a:pt x="12264" y="10829"/>
                  <a:pt x="12276" y="10787"/>
                  <a:pt x="12284" y="10745"/>
                </a:cubicBezTo>
                <a:cubicBezTo>
                  <a:pt x="12301" y="10657"/>
                  <a:pt x="12317" y="10571"/>
                  <a:pt x="12322" y="10482"/>
                </a:cubicBezTo>
                <a:cubicBezTo>
                  <a:pt x="12306" y="10506"/>
                  <a:pt x="12282" y="10528"/>
                  <a:pt x="12269" y="10561"/>
                </a:cubicBezTo>
                <a:cubicBezTo>
                  <a:pt x="12238" y="10638"/>
                  <a:pt x="12225" y="10725"/>
                  <a:pt x="12208" y="10806"/>
                </a:cubicBezTo>
                <a:cubicBezTo>
                  <a:pt x="12191" y="10886"/>
                  <a:pt x="12174" y="10972"/>
                  <a:pt x="12184" y="11055"/>
                </a:cubicBezTo>
                <a:cubicBezTo>
                  <a:pt x="12189" y="11093"/>
                  <a:pt x="12189" y="11129"/>
                  <a:pt x="12227" y="11148"/>
                </a:cubicBezTo>
                <a:cubicBezTo>
                  <a:pt x="12259" y="11163"/>
                  <a:pt x="12304" y="11112"/>
                  <a:pt x="12331" y="11143"/>
                </a:cubicBezTo>
                <a:cubicBezTo>
                  <a:pt x="12356" y="11171"/>
                  <a:pt x="12349" y="11234"/>
                  <a:pt x="12374" y="11268"/>
                </a:cubicBezTo>
                <a:cubicBezTo>
                  <a:pt x="12392" y="11292"/>
                  <a:pt x="12421" y="11307"/>
                  <a:pt x="12445" y="11323"/>
                </a:cubicBezTo>
                <a:cubicBezTo>
                  <a:pt x="12485" y="11350"/>
                  <a:pt x="12521" y="11357"/>
                  <a:pt x="12568" y="11360"/>
                </a:cubicBezTo>
                <a:cubicBezTo>
                  <a:pt x="12624" y="11364"/>
                  <a:pt x="12663" y="11349"/>
                  <a:pt x="12715" y="11332"/>
                </a:cubicBezTo>
                <a:cubicBezTo>
                  <a:pt x="12777" y="11311"/>
                  <a:pt x="12832" y="11282"/>
                  <a:pt x="12891" y="11254"/>
                </a:cubicBezTo>
                <a:cubicBezTo>
                  <a:pt x="12948" y="11227"/>
                  <a:pt x="12996" y="11186"/>
                  <a:pt x="13043" y="11143"/>
                </a:cubicBezTo>
                <a:cubicBezTo>
                  <a:pt x="13081" y="11108"/>
                  <a:pt x="13122" y="11063"/>
                  <a:pt x="13147" y="11018"/>
                </a:cubicBezTo>
                <a:cubicBezTo>
                  <a:pt x="13179" y="10961"/>
                  <a:pt x="13199" y="10893"/>
                  <a:pt x="13214" y="10829"/>
                </a:cubicBezTo>
                <a:cubicBezTo>
                  <a:pt x="13231" y="10754"/>
                  <a:pt x="13230" y="10687"/>
                  <a:pt x="13228" y="10611"/>
                </a:cubicBezTo>
                <a:cubicBezTo>
                  <a:pt x="13226" y="10541"/>
                  <a:pt x="13227" y="10473"/>
                  <a:pt x="13218" y="10403"/>
                </a:cubicBezTo>
                <a:cubicBezTo>
                  <a:pt x="13207" y="10310"/>
                  <a:pt x="13196" y="10202"/>
                  <a:pt x="13128" y="10131"/>
                </a:cubicBezTo>
                <a:cubicBezTo>
                  <a:pt x="13105" y="10117"/>
                  <a:pt x="13097" y="10112"/>
                  <a:pt x="13086" y="10098"/>
                </a:cubicBezTo>
                <a:cubicBezTo>
                  <a:pt x="13035" y="10087"/>
                  <a:pt x="12992" y="10068"/>
                  <a:pt x="12938" y="10075"/>
                </a:cubicBezTo>
                <a:cubicBezTo>
                  <a:pt x="12679" y="10109"/>
                  <a:pt x="12498" y="10362"/>
                  <a:pt x="12431" y="10593"/>
                </a:cubicBezTo>
                <a:cubicBezTo>
                  <a:pt x="12404" y="10688"/>
                  <a:pt x="12382" y="10780"/>
                  <a:pt x="12378" y="10879"/>
                </a:cubicBezTo>
                <a:cubicBezTo>
                  <a:pt x="12372" y="11033"/>
                  <a:pt x="12391" y="11229"/>
                  <a:pt x="12530" y="11323"/>
                </a:cubicBezTo>
                <a:cubicBezTo>
                  <a:pt x="12548" y="11332"/>
                  <a:pt x="12565" y="11342"/>
                  <a:pt x="12583" y="11351"/>
                </a:cubicBezTo>
                <a:cubicBezTo>
                  <a:pt x="12680" y="11361"/>
                  <a:pt x="12757" y="11365"/>
                  <a:pt x="12844" y="11309"/>
                </a:cubicBezTo>
                <a:cubicBezTo>
                  <a:pt x="12940" y="11248"/>
                  <a:pt x="13032" y="11145"/>
                  <a:pt x="13086" y="11046"/>
                </a:cubicBezTo>
                <a:cubicBezTo>
                  <a:pt x="13180" y="10874"/>
                  <a:pt x="13216" y="10679"/>
                  <a:pt x="13242" y="10487"/>
                </a:cubicBezTo>
                <a:cubicBezTo>
                  <a:pt x="13254" y="10401"/>
                  <a:pt x="13250" y="10353"/>
                  <a:pt x="13228" y="10274"/>
                </a:cubicBezTo>
                <a:cubicBezTo>
                  <a:pt x="13189" y="10310"/>
                  <a:pt x="13159" y="10322"/>
                  <a:pt x="13128" y="10385"/>
                </a:cubicBezTo>
                <a:cubicBezTo>
                  <a:pt x="13067" y="10506"/>
                  <a:pt x="13010" y="10629"/>
                  <a:pt x="12948" y="10750"/>
                </a:cubicBezTo>
                <a:cubicBezTo>
                  <a:pt x="12892" y="10859"/>
                  <a:pt x="12819" y="10983"/>
                  <a:pt x="12801" y="11106"/>
                </a:cubicBezTo>
                <a:cubicBezTo>
                  <a:pt x="12794" y="11154"/>
                  <a:pt x="12797" y="11202"/>
                  <a:pt x="12853" y="11175"/>
                </a:cubicBezTo>
                <a:cubicBezTo>
                  <a:pt x="12915" y="11144"/>
                  <a:pt x="12969" y="11040"/>
                  <a:pt x="12995" y="10981"/>
                </a:cubicBezTo>
                <a:cubicBezTo>
                  <a:pt x="13056" y="10845"/>
                  <a:pt x="13086" y="10691"/>
                  <a:pt x="13124" y="10547"/>
                </a:cubicBezTo>
                <a:cubicBezTo>
                  <a:pt x="13144" y="10472"/>
                  <a:pt x="13165" y="10393"/>
                  <a:pt x="13171" y="10316"/>
                </a:cubicBezTo>
                <a:cubicBezTo>
                  <a:pt x="13169" y="10317"/>
                  <a:pt x="13168" y="10319"/>
                  <a:pt x="13166" y="10320"/>
                </a:cubicBezTo>
                <a:cubicBezTo>
                  <a:pt x="13134" y="10436"/>
                  <a:pt x="13106" y="10554"/>
                  <a:pt x="13076" y="10671"/>
                </a:cubicBezTo>
                <a:cubicBezTo>
                  <a:pt x="13045" y="10791"/>
                  <a:pt x="12993" y="10916"/>
                  <a:pt x="12986" y="11041"/>
                </a:cubicBezTo>
                <a:cubicBezTo>
                  <a:pt x="12988" y="11043"/>
                  <a:pt x="12989" y="11044"/>
                  <a:pt x="12991" y="11046"/>
                </a:cubicBezTo>
                <a:cubicBezTo>
                  <a:pt x="13017" y="11008"/>
                  <a:pt x="13045" y="10974"/>
                  <a:pt x="13067" y="10926"/>
                </a:cubicBezTo>
                <a:cubicBezTo>
                  <a:pt x="13119" y="10816"/>
                  <a:pt x="13149" y="10698"/>
                  <a:pt x="13190" y="10584"/>
                </a:cubicBezTo>
                <a:cubicBezTo>
                  <a:pt x="13192" y="10578"/>
                  <a:pt x="13236" y="10429"/>
                  <a:pt x="13266" y="10445"/>
                </a:cubicBezTo>
                <a:cubicBezTo>
                  <a:pt x="13291" y="10459"/>
                  <a:pt x="13250" y="10714"/>
                  <a:pt x="13247" y="10741"/>
                </a:cubicBezTo>
                <a:cubicBezTo>
                  <a:pt x="13241" y="10788"/>
                  <a:pt x="13164" y="11085"/>
                  <a:pt x="13218" y="11115"/>
                </a:cubicBezTo>
                <a:cubicBezTo>
                  <a:pt x="13260" y="11138"/>
                  <a:pt x="13286" y="11077"/>
                  <a:pt x="13309" y="11051"/>
                </a:cubicBezTo>
                <a:cubicBezTo>
                  <a:pt x="13380" y="10973"/>
                  <a:pt x="13416" y="10842"/>
                  <a:pt x="13451" y="10745"/>
                </a:cubicBezTo>
                <a:cubicBezTo>
                  <a:pt x="13478" y="10669"/>
                  <a:pt x="13503" y="10588"/>
                  <a:pt x="13532" y="10514"/>
                </a:cubicBezTo>
                <a:cubicBezTo>
                  <a:pt x="13533" y="10514"/>
                  <a:pt x="13535" y="10514"/>
                  <a:pt x="13536" y="10514"/>
                </a:cubicBezTo>
                <a:cubicBezTo>
                  <a:pt x="13524" y="10632"/>
                  <a:pt x="13491" y="10742"/>
                  <a:pt x="13460" y="10856"/>
                </a:cubicBezTo>
                <a:cubicBezTo>
                  <a:pt x="13435" y="10948"/>
                  <a:pt x="13336" y="11210"/>
                  <a:pt x="13394" y="11134"/>
                </a:cubicBezTo>
                <a:cubicBezTo>
                  <a:pt x="13425" y="11094"/>
                  <a:pt x="13437" y="11010"/>
                  <a:pt x="13456" y="10963"/>
                </a:cubicBezTo>
                <a:cubicBezTo>
                  <a:pt x="13482" y="10897"/>
                  <a:pt x="13511" y="10820"/>
                  <a:pt x="13546" y="10759"/>
                </a:cubicBezTo>
                <a:cubicBezTo>
                  <a:pt x="13556" y="10742"/>
                  <a:pt x="13565" y="10699"/>
                  <a:pt x="13565" y="10745"/>
                </a:cubicBezTo>
                <a:cubicBezTo>
                  <a:pt x="13565" y="10808"/>
                  <a:pt x="13531" y="10879"/>
                  <a:pt x="13517" y="10940"/>
                </a:cubicBezTo>
                <a:cubicBezTo>
                  <a:pt x="13503" y="11004"/>
                  <a:pt x="13494" y="11064"/>
                  <a:pt x="13489" y="11129"/>
                </a:cubicBezTo>
                <a:cubicBezTo>
                  <a:pt x="13489" y="11132"/>
                  <a:pt x="13489" y="11135"/>
                  <a:pt x="13489" y="11138"/>
                </a:cubicBezTo>
                <a:cubicBezTo>
                  <a:pt x="13501" y="11108"/>
                  <a:pt x="13509" y="11088"/>
                  <a:pt x="13517" y="11055"/>
                </a:cubicBezTo>
                <a:cubicBezTo>
                  <a:pt x="13550" y="10927"/>
                  <a:pt x="13563" y="10780"/>
                  <a:pt x="13541" y="10648"/>
                </a:cubicBezTo>
                <a:cubicBezTo>
                  <a:pt x="13527" y="10566"/>
                  <a:pt x="13499" y="10486"/>
                  <a:pt x="13470" y="10408"/>
                </a:cubicBezTo>
                <a:cubicBezTo>
                  <a:pt x="13456" y="10370"/>
                  <a:pt x="13439" y="10336"/>
                  <a:pt x="13418" y="10302"/>
                </a:cubicBezTo>
                <a:cubicBezTo>
                  <a:pt x="13394" y="10264"/>
                  <a:pt x="13364" y="10234"/>
                  <a:pt x="13337" y="10200"/>
                </a:cubicBezTo>
                <a:cubicBezTo>
                  <a:pt x="13317" y="10175"/>
                  <a:pt x="13301" y="10150"/>
                  <a:pt x="13280" y="10126"/>
                </a:cubicBezTo>
                <a:cubicBezTo>
                  <a:pt x="13261" y="10104"/>
                  <a:pt x="13241" y="10079"/>
                  <a:pt x="13218" y="10061"/>
                </a:cubicBezTo>
                <a:cubicBezTo>
                  <a:pt x="13193" y="10041"/>
                  <a:pt x="13179" y="10029"/>
                  <a:pt x="13147" y="10020"/>
                </a:cubicBezTo>
                <a:cubicBezTo>
                  <a:pt x="13095" y="10005"/>
                  <a:pt x="13042" y="10017"/>
                  <a:pt x="12995" y="10029"/>
                </a:cubicBezTo>
                <a:cubicBezTo>
                  <a:pt x="12968" y="10036"/>
                  <a:pt x="12941" y="10042"/>
                  <a:pt x="12915" y="10052"/>
                </a:cubicBezTo>
                <a:cubicBezTo>
                  <a:pt x="12884" y="10063"/>
                  <a:pt x="12867" y="10077"/>
                  <a:pt x="12839" y="10094"/>
                </a:cubicBezTo>
                <a:cubicBezTo>
                  <a:pt x="12807" y="10114"/>
                  <a:pt x="12776" y="10135"/>
                  <a:pt x="12749" y="10163"/>
                </a:cubicBezTo>
                <a:cubicBezTo>
                  <a:pt x="12702" y="10211"/>
                  <a:pt x="12671" y="10266"/>
                  <a:pt x="12639" y="10325"/>
                </a:cubicBezTo>
                <a:cubicBezTo>
                  <a:pt x="12610" y="10378"/>
                  <a:pt x="12594" y="10428"/>
                  <a:pt x="12578" y="10482"/>
                </a:cubicBezTo>
                <a:cubicBezTo>
                  <a:pt x="12576" y="10490"/>
                  <a:pt x="12575" y="10497"/>
                  <a:pt x="12573" y="10505"/>
                </a:cubicBezTo>
                <a:cubicBezTo>
                  <a:pt x="12583" y="10506"/>
                  <a:pt x="12573" y="10545"/>
                  <a:pt x="12621" y="10528"/>
                </a:cubicBezTo>
                <a:cubicBezTo>
                  <a:pt x="12692" y="10502"/>
                  <a:pt x="12761" y="10448"/>
                  <a:pt x="12825" y="10408"/>
                </a:cubicBezTo>
                <a:cubicBezTo>
                  <a:pt x="12892" y="10366"/>
                  <a:pt x="12961" y="10315"/>
                  <a:pt x="13038" y="10292"/>
                </a:cubicBezTo>
                <a:cubicBezTo>
                  <a:pt x="13094" y="10275"/>
                  <a:pt x="13120" y="10280"/>
                  <a:pt x="13152" y="10325"/>
                </a:cubicBezTo>
                <a:cubicBezTo>
                  <a:pt x="13203" y="10397"/>
                  <a:pt x="13146" y="10553"/>
                  <a:pt x="13124" y="10625"/>
                </a:cubicBezTo>
                <a:cubicBezTo>
                  <a:pt x="13107" y="10681"/>
                  <a:pt x="13085" y="10729"/>
                  <a:pt x="13062" y="10782"/>
                </a:cubicBezTo>
                <a:cubicBezTo>
                  <a:pt x="13051" y="10811"/>
                  <a:pt x="13040" y="10900"/>
                  <a:pt x="13029" y="10870"/>
                </a:cubicBezTo>
                <a:cubicBezTo>
                  <a:pt x="13027" y="10865"/>
                  <a:pt x="13055" y="10785"/>
                  <a:pt x="13057" y="10773"/>
                </a:cubicBezTo>
                <a:cubicBezTo>
                  <a:pt x="13076" y="10674"/>
                  <a:pt x="13093" y="10572"/>
                  <a:pt x="13105" y="10473"/>
                </a:cubicBezTo>
                <a:cubicBezTo>
                  <a:pt x="13105" y="10468"/>
                  <a:pt x="13105" y="10464"/>
                  <a:pt x="13105" y="10459"/>
                </a:cubicBezTo>
                <a:cubicBezTo>
                  <a:pt x="13090" y="10484"/>
                  <a:pt x="13076" y="10506"/>
                  <a:pt x="13062" y="10547"/>
                </a:cubicBezTo>
                <a:cubicBezTo>
                  <a:pt x="13021" y="10668"/>
                  <a:pt x="12981" y="10780"/>
                  <a:pt x="12915" y="10889"/>
                </a:cubicBezTo>
                <a:cubicBezTo>
                  <a:pt x="12859" y="10982"/>
                  <a:pt x="12803" y="11077"/>
                  <a:pt x="12734" y="11161"/>
                </a:cubicBezTo>
                <a:cubicBezTo>
                  <a:pt x="12704" y="11198"/>
                  <a:pt x="12693" y="11234"/>
                  <a:pt x="12682" y="11185"/>
                </a:cubicBezTo>
                <a:cubicBezTo>
                  <a:pt x="12668" y="11121"/>
                  <a:pt x="12709" y="11032"/>
                  <a:pt x="12725" y="10972"/>
                </a:cubicBezTo>
                <a:cubicBezTo>
                  <a:pt x="12755" y="10859"/>
                  <a:pt x="12792" y="10748"/>
                  <a:pt x="12820" y="10635"/>
                </a:cubicBezTo>
                <a:cubicBezTo>
                  <a:pt x="12828" y="10601"/>
                  <a:pt x="12833" y="10571"/>
                  <a:pt x="12839" y="10537"/>
                </a:cubicBezTo>
                <a:cubicBezTo>
                  <a:pt x="12821" y="10585"/>
                  <a:pt x="12802" y="10632"/>
                  <a:pt x="12787" y="10681"/>
                </a:cubicBezTo>
                <a:cubicBezTo>
                  <a:pt x="12757" y="10780"/>
                  <a:pt x="12727" y="10879"/>
                  <a:pt x="12696" y="10977"/>
                </a:cubicBezTo>
                <a:cubicBezTo>
                  <a:pt x="12676" y="11039"/>
                  <a:pt x="12614" y="11217"/>
                  <a:pt x="12654" y="11166"/>
                </a:cubicBezTo>
                <a:cubicBezTo>
                  <a:pt x="12678" y="11135"/>
                  <a:pt x="12667" y="11094"/>
                  <a:pt x="12668" y="11060"/>
                </a:cubicBezTo>
                <a:cubicBezTo>
                  <a:pt x="12669" y="11010"/>
                  <a:pt x="12665" y="10941"/>
                  <a:pt x="12635" y="10898"/>
                </a:cubicBezTo>
                <a:cubicBezTo>
                  <a:pt x="12607" y="10858"/>
                  <a:pt x="12602" y="10857"/>
                  <a:pt x="12559" y="10875"/>
                </a:cubicBezTo>
                <a:cubicBezTo>
                  <a:pt x="12483" y="10908"/>
                  <a:pt x="12442" y="11049"/>
                  <a:pt x="12426" y="11120"/>
                </a:cubicBezTo>
                <a:cubicBezTo>
                  <a:pt x="12419" y="11151"/>
                  <a:pt x="12437" y="11223"/>
                  <a:pt x="12412" y="11203"/>
                </a:cubicBezTo>
                <a:cubicBezTo>
                  <a:pt x="12410" y="11202"/>
                  <a:pt x="12400" y="11108"/>
                  <a:pt x="12397" y="11097"/>
                </a:cubicBezTo>
                <a:cubicBezTo>
                  <a:pt x="12384" y="11054"/>
                  <a:pt x="12373" y="11017"/>
                  <a:pt x="12331" y="10990"/>
                </a:cubicBezTo>
                <a:cubicBezTo>
                  <a:pt x="12308" y="10975"/>
                  <a:pt x="12275" y="10956"/>
                  <a:pt x="12246" y="10967"/>
                </a:cubicBezTo>
                <a:cubicBezTo>
                  <a:pt x="12210" y="10981"/>
                  <a:pt x="12204" y="11006"/>
                  <a:pt x="12198" y="11041"/>
                </a:cubicBezTo>
                <a:cubicBezTo>
                  <a:pt x="12198" y="11080"/>
                  <a:pt x="12198" y="11090"/>
                  <a:pt x="12198" y="11115"/>
                </a:cubicBezTo>
                <a:cubicBezTo>
                  <a:pt x="12206" y="11167"/>
                  <a:pt x="12210" y="11218"/>
                  <a:pt x="12227" y="11268"/>
                </a:cubicBezTo>
                <a:cubicBezTo>
                  <a:pt x="12242" y="11313"/>
                  <a:pt x="12268" y="11351"/>
                  <a:pt x="12303" y="11383"/>
                </a:cubicBezTo>
                <a:cubicBezTo>
                  <a:pt x="12384" y="11455"/>
                  <a:pt x="12520" y="11486"/>
                  <a:pt x="12625" y="11494"/>
                </a:cubicBezTo>
                <a:cubicBezTo>
                  <a:pt x="12750" y="11504"/>
                  <a:pt x="12965" y="11532"/>
                  <a:pt x="13086" y="11499"/>
                </a:cubicBezTo>
                <a:cubicBezTo>
                  <a:pt x="13128" y="11487"/>
                  <a:pt x="13161" y="11450"/>
                  <a:pt x="13190" y="11420"/>
                </a:cubicBezTo>
                <a:cubicBezTo>
                  <a:pt x="13235" y="11374"/>
                  <a:pt x="13277" y="11322"/>
                  <a:pt x="13313" y="11268"/>
                </a:cubicBezTo>
                <a:cubicBezTo>
                  <a:pt x="13334" y="11236"/>
                  <a:pt x="13355" y="11204"/>
                  <a:pt x="13375" y="11171"/>
                </a:cubicBezTo>
                <a:cubicBezTo>
                  <a:pt x="13401" y="11127"/>
                  <a:pt x="13427" y="11079"/>
                  <a:pt x="13446" y="11032"/>
                </a:cubicBezTo>
                <a:cubicBezTo>
                  <a:pt x="13458" y="11002"/>
                  <a:pt x="13478" y="10962"/>
                  <a:pt x="13479" y="10930"/>
                </a:cubicBezTo>
                <a:cubicBezTo>
                  <a:pt x="13479" y="10924"/>
                  <a:pt x="13484" y="10887"/>
                  <a:pt x="13475" y="10884"/>
                </a:cubicBezTo>
                <a:cubicBezTo>
                  <a:pt x="13457" y="10877"/>
                  <a:pt x="13451" y="10897"/>
                  <a:pt x="13441" y="10907"/>
                </a:cubicBezTo>
                <a:cubicBezTo>
                  <a:pt x="13420" y="10928"/>
                  <a:pt x="13404" y="10969"/>
                  <a:pt x="13389" y="10995"/>
                </a:cubicBezTo>
                <a:cubicBezTo>
                  <a:pt x="13362" y="11042"/>
                  <a:pt x="13332" y="11082"/>
                  <a:pt x="13299" y="11124"/>
                </a:cubicBezTo>
                <a:cubicBezTo>
                  <a:pt x="13249" y="11188"/>
                  <a:pt x="13227" y="11191"/>
                  <a:pt x="13152" y="11203"/>
                </a:cubicBezTo>
                <a:cubicBezTo>
                  <a:pt x="13100" y="11211"/>
                  <a:pt x="13052" y="11219"/>
                  <a:pt x="13000" y="11231"/>
                </a:cubicBezTo>
                <a:cubicBezTo>
                  <a:pt x="12985" y="11239"/>
                  <a:pt x="12864" y="11282"/>
                  <a:pt x="12877" y="11314"/>
                </a:cubicBezTo>
                <a:cubicBezTo>
                  <a:pt x="12882" y="11326"/>
                  <a:pt x="12928" y="11317"/>
                  <a:pt x="12938" y="11314"/>
                </a:cubicBezTo>
                <a:cubicBezTo>
                  <a:pt x="12998" y="11294"/>
                  <a:pt x="13054" y="11245"/>
                  <a:pt x="13105" y="11208"/>
                </a:cubicBezTo>
                <a:cubicBezTo>
                  <a:pt x="13108" y="11206"/>
                  <a:pt x="13169" y="11152"/>
                  <a:pt x="13176" y="11161"/>
                </a:cubicBezTo>
                <a:cubicBezTo>
                  <a:pt x="13194" y="11185"/>
                  <a:pt x="13147" y="11234"/>
                  <a:pt x="13161" y="11259"/>
                </a:cubicBezTo>
                <a:cubicBezTo>
                  <a:pt x="13165" y="11266"/>
                  <a:pt x="13154" y="11280"/>
                  <a:pt x="13161" y="11277"/>
                </a:cubicBezTo>
                <a:cubicBezTo>
                  <a:pt x="13172" y="11272"/>
                  <a:pt x="13188" y="11236"/>
                  <a:pt x="13190" y="11226"/>
                </a:cubicBezTo>
                <a:cubicBezTo>
                  <a:pt x="13191" y="11222"/>
                  <a:pt x="13203" y="11181"/>
                  <a:pt x="13190" y="11185"/>
                </a:cubicBezTo>
                <a:cubicBezTo>
                  <a:pt x="13155" y="11195"/>
                  <a:pt x="13117" y="11321"/>
                  <a:pt x="13105" y="11351"/>
                </a:cubicBezTo>
                <a:cubicBezTo>
                  <a:pt x="13095" y="11377"/>
                  <a:pt x="13093" y="11395"/>
                  <a:pt x="13086" y="11420"/>
                </a:cubicBezTo>
                <a:cubicBezTo>
                  <a:pt x="13086" y="11422"/>
                  <a:pt x="13086" y="11423"/>
                  <a:pt x="13086" y="11425"/>
                </a:cubicBezTo>
                <a:cubicBezTo>
                  <a:pt x="13112" y="11395"/>
                  <a:pt x="13144" y="11366"/>
                  <a:pt x="13166" y="11328"/>
                </a:cubicBezTo>
                <a:cubicBezTo>
                  <a:pt x="13191" y="11285"/>
                  <a:pt x="13213" y="11236"/>
                  <a:pt x="13228" y="11189"/>
                </a:cubicBezTo>
                <a:cubicBezTo>
                  <a:pt x="13242" y="11144"/>
                  <a:pt x="13252" y="11088"/>
                  <a:pt x="13247" y="11041"/>
                </a:cubicBezTo>
                <a:cubicBezTo>
                  <a:pt x="13244" y="11010"/>
                  <a:pt x="13233" y="10975"/>
                  <a:pt x="13209" y="10953"/>
                </a:cubicBezTo>
                <a:cubicBezTo>
                  <a:pt x="13154" y="10903"/>
                  <a:pt x="13094" y="10979"/>
                  <a:pt x="13057" y="11009"/>
                </a:cubicBezTo>
                <a:cubicBezTo>
                  <a:pt x="13032" y="11030"/>
                  <a:pt x="12911" y="11163"/>
                  <a:pt x="12872" y="11138"/>
                </a:cubicBezTo>
                <a:cubicBezTo>
                  <a:pt x="12835" y="11114"/>
                  <a:pt x="12865" y="11022"/>
                  <a:pt x="12872" y="10995"/>
                </a:cubicBezTo>
                <a:cubicBezTo>
                  <a:pt x="12922" y="10789"/>
                  <a:pt x="13039" y="10602"/>
                  <a:pt x="13086" y="10394"/>
                </a:cubicBezTo>
                <a:cubicBezTo>
                  <a:pt x="13103" y="10321"/>
                  <a:pt x="13095" y="10335"/>
                  <a:pt x="13067" y="10394"/>
                </a:cubicBezTo>
                <a:cubicBezTo>
                  <a:pt x="13021" y="10494"/>
                  <a:pt x="12977" y="10593"/>
                  <a:pt x="12924" y="10690"/>
                </a:cubicBezTo>
                <a:cubicBezTo>
                  <a:pt x="12848" y="10828"/>
                  <a:pt x="12714" y="10993"/>
                  <a:pt x="12687" y="11152"/>
                </a:cubicBezTo>
                <a:cubicBezTo>
                  <a:pt x="12680" y="11194"/>
                  <a:pt x="12681" y="11176"/>
                  <a:pt x="12701" y="11161"/>
                </a:cubicBezTo>
                <a:cubicBezTo>
                  <a:pt x="12728" y="11135"/>
                  <a:pt x="12738" y="11125"/>
                  <a:pt x="12749" y="11101"/>
                </a:cubicBezTo>
                <a:cubicBezTo>
                  <a:pt x="12854" y="10923"/>
                  <a:pt x="12997" y="10646"/>
                  <a:pt x="12957" y="10431"/>
                </a:cubicBezTo>
                <a:cubicBezTo>
                  <a:pt x="12951" y="10425"/>
                  <a:pt x="12944" y="10419"/>
                  <a:pt x="12938" y="10413"/>
                </a:cubicBezTo>
                <a:cubicBezTo>
                  <a:pt x="12877" y="10444"/>
                  <a:pt x="12843" y="10476"/>
                  <a:pt x="12796" y="10537"/>
                </a:cubicBezTo>
                <a:cubicBezTo>
                  <a:pt x="12718" y="10639"/>
                  <a:pt x="12655" y="10757"/>
                  <a:pt x="12606" y="10875"/>
                </a:cubicBezTo>
                <a:cubicBezTo>
                  <a:pt x="12566" y="10970"/>
                  <a:pt x="12544" y="11055"/>
                  <a:pt x="12540" y="11157"/>
                </a:cubicBezTo>
                <a:cubicBezTo>
                  <a:pt x="12575" y="11187"/>
                  <a:pt x="12547" y="11224"/>
                  <a:pt x="12616" y="11171"/>
                </a:cubicBezTo>
                <a:cubicBezTo>
                  <a:pt x="12782" y="11044"/>
                  <a:pt x="12850" y="10814"/>
                  <a:pt x="12915" y="10625"/>
                </a:cubicBezTo>
                <a:cubicBezTo>
                  <a:pt x="12920" y="10611"/>
                  <a:pt x="12924" y="10598"/>
                  <a:pt x="12929" y="10584"/>
                </a:cubicBezTo>
                <a:cubicBezTo>
                  <a:pt x="12920" y="10618"/>
                  <a:pt x="12918" y="10605"/>
                  <a:pt x="12910" y="10639"/>
                </a:cubicBezTo>
                <a:cubicBezTo>
                  <a:pt x="12891" y="10719"/>
                  <a:pt x="12878" y="10801"/>
                  <a:pt x="12881" y="10884"/>
                </a:cubicBezTo>
                <a:cubicBezTo>
                  <a:pt x="12884" y="10963"/>
                  <a:pt x="12896" y="11041"/>
                  <a:pt x="12981" y="11055"/>
                </a:cubicBezTo>
                <a:cubicBezTo>
                  <a:pt x="13042" y="11065"/>
                  <a:pt x="13094" y="11016"/>
                  <a:pt x="13133" y="10977"/>
                </a:cubicBezTo>
                <a:cubicBezTo>
                  <a:pt x="13187" y="10923"/>
                  <a:pt x="13223" y="10847"/>
                  <a:pt x="13252" y="10778"/>
                </a:cubicBezTo>
                <a:cubicBezTo>
                  <a:pt x="13291" y="10685"/>
                  <a:pt x="13341" y="10588"/>
                  <a:pt x="13370" y="10491"/>
                </a:cubicBezTo>
                <a:cubicBezTo>
                  <a:pt x="13382" y="10449"/>
                  <a:pt x="13393" y="10410"/>
                  <a:pt x="13380" y="10366"/>
                </a:cubicBezTo>
                <a:cubicBezTo>
                  <a:pt x="13362" y="10306"/>
                  <a:pt x="13320" y="10242"/>
                  <a:pt x="13285" y="10191"/>
                </a:cubicBezTo>
                <a:cubicBezTo>
                  <a:pt x="13258" y="10153"/>
                  <a:pt x="13220" y="10114"/>
                  <a:pt x="13171" y="10108"/>
                </a:cubicBezTo>
                <a:cubicBezTo>
                  <a:pt x="13129" y="10103"/>
                  <a:pt x="13105" y="10122"/>
                  <a:pt x="13067" y="10135"/>
                </a:cubicBezTo>
                <a:cubicBezTo>
                  <a:pt x="13014" y="10154"/>
                  <a:pt x="12965" y="10180"/>
                  <a:pt x="12915" y="10205"/>
                </a:cubicBezTo>
                <a:cubicBezTo>
                  <a:pt x="12892" y="10216"/>
                  <a:pt x="12825" y="10237"/>
                  <a:pt x="12834" y="10274"/>
                </a:cubicBezTo>
                <a:cubicBezTo>
                  <a:pt x="12841" y="10302"/>
                  <a:pt x="12861" y="10295"/>
                  <a:pt x="12891" y="10292"/>
                </a:cubicBezTo>
                <a:cubicBezTo>
                  <a:pt x="12922" y="10289"/>
                  <a:pt x="12990" y="10252"/>
                  <a:pt x="13005" y="10223"/>
                </a:cubicBezTo>
                <a:cubicBezTo>
                  <a:pt x="13015" y="10204"/>
                  <a:pt x="13018" y="10190"/>
                  <a:pt x="13010" y="10168"/>
                </a:cubicBezTo>
                <a:cubicBezTo>
                  <a:pt x="12999" y="10157"/>
                  <a:pt x="12994" y="10154"/>
                  <a:pt x="12981" y="10158"/>
                </a:cubicBezTo>
                <a:cubicBezTo>
                  <a:pt x="12943" y="10179"/>
                  <a:pt x="12913" y="10180"/>
                  <a:pt x="12886" y="10223"/>
                </a:cubicBezTo>
                <a:cubicBezTo>
                  <a:pt x="12865" y="10256"/>
                  <a:pt x="12852" y="10311"/>
                  <a:pt x="12891" y="10325"/>
                </a:cubicBezTo>
                <a:cubicBezTo>
                  <a:pt x="12911" y="10332"/>
                  <a:pt x="12954" y="10307"/>
                  <a:pt x="12976" y="10306"/>
                </a:cubicBezTo>
                <a:cubicBezTo>
                  <a:pt x="13032" y="10303"/>
                  <a:pt x="13048" y="10331"/>
                  <a:pt x="13090" y="10339"/>
                </a:cubicBezTo>
                <a:cubicBezTo>
                  <a:pt x="13100" y="10341"/>
                  <a:pt x="13111" y="10348"/>
                  <a:pt x="13128" y="10348"/>
                </a:cubicBezTo>
                <a:cubicBezTo>
                  <a:pt x="13149" y="10348"/>
                  <a:pt x="13169" y="10332"/>
                  <a:pt x="13195" y="10334"/>
                </a:cubicBezTo>
                <a:cubicBezTo>
                  <a:pt x="13244" y="10338"/>
                  <a:pt x="13294" y="10372"/>
                  <a:pt x="13337" y="10394"/>
                </a:cubicBezTo>
                <a:cubicBezTo>
                  <a:pt x="13370" y="10411"/>
                  <a:pt x="13393" y="10421"/>
                  <a:pt x="13418" y="10450"/>
                </a:cubicBezTo>
                <a:cubicBezTo>
                  <a:pt x="13439" y="10475"/>
                  <a:pt x="13484" y="10546"/>
                  <a:pt x="13489" y="10579"/>
                </a:cubicBezTo>
                <a:cubicBezTo>
                  <a:pt x="13489" y="10582"/>
                  <a:pt x="13483" y="10598"/>
                  <a:pt x="13484" y="10607"/>
                </a:cubicBezTo>
                <a:cubicBezTo>
                  <a:pt x="13482" y="10613"/>
                  <a:pt x="13481" y="10619"/>
                  <a:pt x="13479" y="10625"/>
                </a:cubicBezTo>
                <a:cubicBezTo>
                  <a:pt x="13479" y="10648"/>
                  <a:pt x="13467" y="10680"/>
                  <a:pt x="13475" y="10676"/>
                </a:cubicBezTo>
                <a:cubicBezTo>
                  <a:pt x="13480" y="10660"/>
                  <a:pt x="13482" y="10654"/>
                  <a:pt x="13489" y="10644"/>
                </a:cubicBezTo>
                <a:cubicBezTo>
                  <a:pt x="13493" y="10590"/>
                  <a:pt x="13501" y="10537"/>
                  <a:pt x="13498" y="10482"/>
                </a:cubicBezTo>
                <a:cubicBezTo>
                  <a:pt x="13493" y="10385"/>
                  <a:pt x="13449" y="10308"/>
                  <a:pt x="13427" y="10228"/>
                </a:cubicBezTo>
                <a:cubicBezTo>
                  <a:pt x="13425" y="10220"/>
                  <a:pt x="13410" y="10209"/>
                  <a:pt x="13418" y="10209"/>
                </a:cubicBezTo>
                <a:cubicBezTo>
                  <a:pt x="13443" y="10208"/>
                  <a:pt x="13568" y="10354"/>
                  <a:pt x="13584" y="10376"/>
                </a:cubicBezTo>
                <a:cubicBezTo>
                  <a:pt x="13596" y="10393"/>
                  <a:pt x="13599" y="10402"/>
                  <a:pt x="13603" y="10422"/>
                </a:cubicBezTo>
                <a:cubicBezTo>
                  <a:pt x="13623" y="10520"/>
                  <a:pt x="13612" y="10669"/>
                  <a:pt x="13589" y="10764"/>
                </a:cubicBezTo>
                <a:cubicBezTo>
                  <a:pt x="13578" y="10811"/>
                  <a:pt x="13559" y="10853"/>
                  <a:pt x="13541" y="10898"/>
                </a:cubicBezTo>
                <a:cubicBezTo>
                  <a:pt x="13526" y="10934"/>
                  <a:pt x="13509" y="10968"/>
                  <a:pt x="13494" y="11004"/>
                </a:cubicBezTo>
                <a:cubicBezTo>
                  <a:pt x="13473" y="11054"/>
                  <a:pt x="13446" y="11108"/>
                  <a:pt x="13413" y="11152"/>
                </a:cubicBezTo>
                <a:cubicBezTo>
                  <a:pt x="13392" y="11180"/>
                  <a:pt x="13365" y="11201"/>
                  <a:pt x="13342" y="11226"/>
                </a:cubicBezTo>
                <a:cubicBezTo>
                  <a:pt x="13322" y="11247"/>
                  <a:pt x="13308" y="11268"/>
                  <a:pt x="13290" y="11291"/>
                </a:cubicBezTo>
                <a:cubicBezTo>
                  <a:pt x="13287" y="11301"/>
                  <a:pt x="13254" y="11400"/>
                  <a:pt x="13275" y="11360"/>
                </a:cubicBezTo>
                <a:cubicBezTo>
                  <a:pt x="13296" y="11320"/>
                  <a:pt x="13309" y="11274"/>
                  <a:pt x="13323" y="11231"/>
                </a:cubicBezTo>
                <a:cubicBezTo>
                  <a:pt x="13342" y="11171"/>
                  <a:pt x="13348" y="11127"/>
                  <a:pt x="13351" y="11064"/>
                </a:cubicBezTo>
                <a:cubicBezTo>
                  <a:pt x="13355" y="10970"/>
                  <a:pt x="13345" y="10879"/>
                  <a:pt x="13332" y="10787"/>
                </a:cubicBezTo>
                <a:cubicBezTo>
                  <a:pt x="13311" y="10639"/>
                  <a:pt x="13280" y="10513"/>
                  <a:pt x="13214" y="10380"/>
                </a:cubicBezTo>
                <a:cubicBezTo>
                  <a:pt x="13190" y="10332"/>
                  <a:pt x="13168" y="10292"/>
                  <a:pt x="13128" y="10255"/>
                </a:cubicBezTo>
                <a:cubicBezTo>
                  <a:pt x="13068" y="10199"/>
                  <a:pt x="13011" y="10200"/>
                  <a:pt x="12934" y="10191"/>
                </a:cubicBezTo>
                <a:cubicBezTo>
                  <a:pt x="12903" y="10187"/>
                  <a:pt x="12870" y="10179"/>
                  <a:pt x="12839" y="10177"/>
                </a:cubicBezTo>
                <a:cubicBezTo>
                  <a:pt x="12783" y="10174"/>
                  <a:pt x="12731" y="10183"/>
                  <a:pt x="12677" y="10186"/>
                </a:cubicBezTo>
                <a:cubicBezTo>
                  <a:pt x="12643" y="10188"/>
                  <a:pt x="12605" y="10181"/>
                  <a:pt x="12573" y="10191"/>
                </a:cubicBezTo>
                <a:cubicBezTo>
                  <a:pt x="12541" y="10201"/>
                  <a:pt x="12515" y="10222"/>
                  <a:pt x="12488" y="10242"/>
                </a:cubicBezTo>
                <a:cubicBezTo>
                  <a:pt x="12458" y="10265"/>
                  <a:pt x="12434" y="10291"/>
                  <a:pt x="12407" y="10316"/>
                </a:cubicBezTo>
                <a:cubicBezTo>
                  <a:pt x="12381" y="10340"/>
                  <a:pt x="12362" y="10354"/>
                  <a:pt x="12341" y="10385"/>
                </a:cubicBezTo>
                <a:cubicBezTo>
                  <a:pt x="12316" y="10422"/>
                  <a:pt x="12303" y="10469"/>
                  <a:pt x="12288" y="10510"/>
                </a:cubicBezTo>
                <a:cubicBezTo>
                  <a:pt x="12244" y="10632"/>
                  <a:pt x="12218" y="10763"/>
                  <a:pt x="12212" y="10893"/>
                </a:cubicBezTo>
                <a:cubicBezTo>
                  <a:pt x="12209" y="10961"/>
                  <a:pt x="12213" y="11023"/>
                  <a:pt x="12236" y="11087"/>
                </a:cubicBezTo>
                <a:cubicBezTo>
                  <a:pt x="12248" y="11119"/>
                  <a:pt x="12261" y="11144"/>
                  <a:pt x="12274" y="11175"/>
                </a:cubicBezTo>
                <a:cubicBezTo>
                  <a:pt x="12289" y="11210"/>
                  <a:pt x="12300" y="11239"/>
                  <a:pt x="12326" y="11268"/>
                </a:cubicBezTo>
                <a:cubicBezTo>
                  <a:pt x="12346" y="11291"/>
                  <a:pt x="12363" y="11302"/>
                  <a:pt x="12388" y="11319"/>
                </a:cubicBezTo>
                <a:cubicBezTo>
                  <a:pt x="12408" y="11333"/>
                  <a:pt x="12431" y="11343"/>
                  <a:pt x="12454" y="11351"/>
                </a:cubicBezTo>
                <a:cubicBezTo>
                  <a:pt x="12485" y="11362"/>
                  <a:pt x="12516" y="11368"/>
                  <a:pt x="12549" y="11374"/>
                </a:cubicBezTo>
                <a:cubicBezTo>
                  <a:pt x="12633" y="11389"/>
                  <a:pt x="12721" y="11402"/>
                  <a:pt x="12806" y="11393"/>
                </a:cubicBezTo>
                <a:cubicBezTo>
                  <a:pt x="12858" y="11387"/>
                  <a:pt x="12895" y="11370"/>
                  <a:pt x="12943" y="11351"/>
                </a:cubicBezTo>
                <a:cubicBezTo>
                  <a:pt x="12979" y="11337"/>
                  <a:pt x="13016" y="11327"/>
                  <a:pt x="13048" y="11305"/>
                </a:cubicBezTo>
                <a:cubicBezTo>
                  <a:pt x="13085" y="11280"/>
                  <a:pt x="13115" y="11246"/>
                  <a:pt x="13142" y="11212"/>
                </a:cubicBezTo>
                <a:cubicBezTo>
                  <a:pt x="13173" y="11172"/>
                  <a:pt x="13207" y="11127"/>
                  <a:pt x="13233" y="11083"/>
                </a:cubicBezTo>
                <a:cubicBezTo>
                  <a:pt x="13261" y="11035"/>
                  <a:pt x="13277" y="10981"/>
                  <a:pt x="13285" y="10926"/>
                </a:cubicBezTo>
                <a:cubicBezTo>
                  <a:pt x="13296" y="10845"/>
                  <a:pt x="13294" y="10757"/>
                  <a:pt x="13290" y="10676"/>
                </a:cubicBezTo>
                <a:cubicBezTo>
                  <a:pt x="13286" y="10584"/>
                  <a:pt x="13289" y="10484"/>
                  <a:pt x="13266" y="10394"/>
                </a:cubicBezTo>
                <a:cubicBezTo>
                  <a:pt x="13253" y="10344"/>
                  <a:pt x="13233" y="10296"/>
                  <a:pt x="13209" y="10251"/>
                </a:cubicBezTo>
                <a:cubicBezTo>
                  <a:pt x="13174" y="10184"/>
                  <a:pt x="13124" y="10113"/>
                  <a:pt x="13052" y="10084"/>
                </a:cubicBezTo>
                <a:cubicBezTo>
                  <a:pt x="12986" y="10058"/>
                  <a:pt x="12864" y="10070"/>
                  <a:pt x="12791" y="10061"/>
                </a:cubicBezTo>
                <a:cubicBezTo>
                  <a:pt x="12737" y="10054"/>
                  <a:pt x="12687" y="10057"/>
                  <a:pt x="12635" y="10066"/>
                </a:cubicBezTo>
                <a:cubicBezTo>
                  <a:pt x="12604" y="10072"/>
                  <a:pt x="12569" y="10081"/>
                  <a:pt x="12540" y="10094"/>
                </a:cubicBezTo>
                <a:cubicBezTo>
                  <a:pt x="12480" y="10120"/>
                  <a:pt x="12434" y="10160"/>
                  <a:pt x="12388" y="10205"/>
                </a:cubicBezTo>
                <a:cubicBezTo>
                  <a:pt x="12346" y="10246"/>
                  <a:pt x="12304" y="10292"/>
                  <a:pt x="12269" y="10339"/>
                </a:cubicBezTo>
                <a:cubicBezTo>
                  <a:pt x="12190" y="10445"/>
                  <a:pt x="12132" y="10591"/>
                  <a:pt x="12118" y="10722"/>
                </a:cubicBezTo>
                <a:cubicBezTo>
                  <a:pt x="12111" y="10789"/>
                  <a:pt x="12120" y="10855"/>
                  <a:pt x="12146" y="10916"/>
                </a:cubicBezTo>
                <a:cubicBezTo>
                  <a:pt x="12154" y="10932"/>
                  <a:pt x="12162" y="10947"/>
                  <a:pt x="12170" y="10963"/>
                </a:cubicBezTo>
              </a:path>
            </a:pathLst>
          </a:custGeom>
          <a:noFill/>
          <a:ln cap="rnd" w="57240">
            <a:solidFill>
              <a:srgbClr val="08080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484960" y="2192400"/>
            <a:ext cx="1438200" cy="1504800"/>
          </a:xfrm>
          <a:custGeom>
            <a:avLst/>
            <a:gdLst/>
            <a:ahLst/>
            <a:rect l="l" t="t" r="r" b="b"/>
            <a:pathLst>
              <a:path w="3997" h="4179">
                <a:moveTo>
                  <a:pt x="15283" y="8568"/>
                </a:moveTo>
                <a:cubicBezTo>
                  <a:pt x="15285" y="8575"/>
                  <a:pt x="15281" y="8575"/>
                  <a:pt x="15283" y="8582"/>
                </a:cubicBezTo>
                <a:cubicBezTo>
                  <a:pt x="15286" y="8591"/>
                  <a:pt x="15292" y="8601"/>
                  <a:pt x="15297" y="8610"/>
                </a:cubicBezTo>
                <a:cubicBezTo>
                  <a:pt x="15303" y="8622"/>
                  <a:pt x="15308" y="8631"/>
                  <a:pt x="15316" y="8642"/>
                </a:cubicBezTo>
                <a:cubicBezTo>
                  <a:pt x="15327" y="8659"/>
                  <a:pt x="15343" y="8672"/>
                  <a:pt x="15354" y="8689"/>
                </a:cubicBezTo>
                <a:cubicBezTo>
                  <a:pt x="15370" y="8714"/>
                  <a:pt x="15383" y="8742"/>
                  <a:pt x="15401" y="8763"/>
                </a:cubicBezTo>
                <a:cubicBezTo>
                  <a:pt x="15423" y="8789"/>
                  <a:pt x="15444" y="8813"/>
                  <a:pt x="15463" y="8841"/>
                </a:cubicBezTo>
                <a:cubicBezTo>
                  <a:pt x="15489" y="8879"/>
                  <a:pt x="15518" y="8914"/>
                  <a:pt x="15544" y="8952"/>
                </a:cubicBezTo>
                <a:cubicBezTo>
                  <a:pt x="15564" y="8981"/>
                  <a:pt x="15582" y="9010"/>
                  <a:pt x="15601" y="9040"/>
                </a:cubicBezTo>
                <a:cubicBezTo>
                  <a:pt x="15617" y="9066"/>
                  <a:pt x="15632" y="9093"/>
                  <a:pt x="15648" y="9118"/>
                </a:cubicBezTo>
                <a:cubicBezTo>
                  <a:pt x="15665" y="9145"/>
                  <a:pt x="15680" y="9168"/>
                  <a:pt x="15695" y="9197"/>
                </a:cubicBezTo>
                <a:cubicBezTo>
                  <a:pt x="15720" y="9246"/>
                  <a:pt x="15742" y="9296"/>
                  <a:pt x="15767" y="9345"/>
                </a:cubicBezTo>
                <a:cubicBezTo>
                  <a:pt x="15785" y="9380"/>
                  <a:pt x="15801" y="9416"/>
                  <a:pt x="15819" y="9451"/>
                </a:cubicBezTo>
                <a:cubicBezTo>
                  <a:pt x="15832" y="9477"/>
                  <a:pt x="15840" y="9503"/>
                  <a:pt x="15852" y="9530"/>
                </a:cubicBezTo>
                <a:cubicBezTo>
                  <a:pt x="15864" y="9556"/>
                  <a:pt x="15877" y="9583"/>
                  <a:pt x="15890" y="9608"/>
                </a:cubicBezTo>
                <a:cubicBezTo>
                  <a:pt x="15905" y="9638"/>
                  <a:pt x="15919" y="9669"/>
                  <a:pt x="15933" y="9701"/>
                </a:cubicBezTo>
                <a:cubicBezTo>
                  <a:pt x="15946" y="9731"/>
                  <a:pt x="15962" y="9759"/>
                  <a:pt x="15975" y="9789"/>
                </a:cubicBezTo>
                <a:cubicBezTo>
                  <a:pt x="15992" y="9829"/>
                  <a:pt x="16012" y="9868"/>
                  <a:pt x="16032" y="9904"/>
                </a:cubicBezTo>
                <a:cubicBezTo>
                  <a:pt x="16044" y="9925"/>
                  <a:pt x="16056" y="9945"/>
                  <a:pt x="16066" y="9964"/>
                </a:cubicBezTo>
                <a:cubicBezTo>
                  <a:pt x="16071" y="9974"/>
                  <a:pt x="16077" y="9988"/>
                  <a:pt x="16080" y="9997"/>
                </a:cubicBezTo>
                <a:cubicBezTo>
                  <a:pt x="16085" y="10014"/>
                  <a:pt x="16083" y="10029"/>
                  <a:pt x="16085" y="10047"/>
                </a:cubicBezTo>
                <a:cubicBezTo>
                  <a:pt x="16085" y="10049"/>
                  <a:pt x="16085" y="10050"/>
                  <a:pt x="16085" y="10052"/>
                </a:cubicBezTo>
              </a:path>
              <a:path w="3997" h="4179">
                <a:moveTo>
                  <a:pt x="15382" y="8430"/>
                </a:moveTo>
                <a:cubicBezTo>
                  <a:pt x="15404" y="8446"/>
                  <a:pt x="15370" y="8456"/>
                  <a:pt x="15415" y="8467"/>
                </a:cubicBezTo>
                <a:cubicBezTo>
                  <a:pt x="15483" y="8483"/>
                  <a:pt x="15568" y="8455"/>
                  <a:pt x="15634" y="8448"/>
                </a:cubicBezTo>
                <a:cubicBezTo>
                  <a:pt x="15673" y="8444"/>
                  <a:pt x="15713" y="8443"/>
                  <a:pt x="15752" y="8439"/>
                </a:cubicBezTo>
                <a:cubicBezTo>
                  <a:pt x="15832" y="8431"/>
                  <a:pt x="15910" y="8430"/>
                  <a:pt x="15990" y="8430"/>
                </a:cubicBezTo>
                <a:cubicBezTo>
                  <a:pt x="16072" y="8430"/>
                  <a:pt x="16154" y="8426"/>
                  <a:pt x="16236" y="8425"/>
                </a:cubicBezTo>
                <a:cubicBezTo>
                  <a:pt x="16312" y="8424"/>
                  <a:pt x="16388" y="8426"/>
                  <a:pt x="16464" y="8430"/>
                </a:cubicBezTo>
                <a:cubicBezTo>
                  <a:pt x="16532" y="8433"/>
                  <a:pt x="16594" y="8450"/>
                  <a:pt x="16659" y="8462"/>
                </a:cubicBezTo>
                <a:cubicBezTo>
                  <a:pt x="16697" y="8469"/>
                  <a:pt x="16735" y="8472"/>
                  <a:pt x="16773" y="8476"/>
                </a:cubicBezTo>
                <a:cubicBezTo>
                  <a:pt x="16873" y="8486"/>
                  <a:pt x="16977" y="8492"/>
                  <a:pt x="17076" y="8499"/>
                </a:cubicBezTo>
                <a:cubicBezTo>
                  <a:pt x="17116" y="8502"/>
                  <a:pt x="17299" y="8473"/>
                  <a:pt x="17323" y="8504"/>
                </a:cubicBezTo>
                <a:cubicBezTo>
                  <a:pt x="17332" y="8515"/>
                  <a:pt x="17332" y="8509"/>
                  <a:pt x="17333" y="8531"/>
                </a:cubicBezTo>
                <a:cubicBezTo>
                  <a:pt x="17336" y="8577"/>
                  <a:pt x="17229" y="8703"/>
                  <a:pt x="17204" y="8735"/>
                </a:cubicBezTo>
                <a:cubicBezTo>
                  <a:pt x="17175" y="8772"/>
                  <a:pt x="17146" y="8811"/>
                  <a:pt x="17114" y="8846"/>
                </a:cubicBezTo>
                <a:cubicBezTo>
                  <a:pt x="17004" y="8967"/>
                  <a:pt x="16902" y="9092"/>
                  <a:pt x="16801" y="9220"/>
                </a:cubicBezTo>
                <a:cubicBezTo>
                  <a:pt x="16763" y="9269"/>
                  <a:pt x="16726" y="9319"/>
                  <a:pt x="16687" y="9368"/>
                </a:cubicBezTo>
                <a:cubicBezTo>
                  <a:pt x="16653" y="9411"/>
                  <a:pt x="16622" y="9454"/>
                  <a:pt x="16592" y="9497"/>
                </a:cubicBezTo>
                <a:cubicBezTo>
                  <a:pt x="16567" y="9533"/>
                  <a:pt x="16537" y="9567"/>
                  <a:pt x="16512" y="9604"/>
                </a:cubicBezTo>
                <a:cubicBezTo>
                  <a:pt x="16495" y="9629"/>
                  <a:pt x="16471" y="9653"/>
                  <a:pt x="16455" y="9678"/>
                </a:cubicBezTo>
                <a:cubicBezTo>
                  <a:pt x="16441" y="9700"/>
                  <a:pt x="16425" y="9721"/>
                  <a:pt x="16412" y="9742"/>
                </a:cubicBezTo>
                <a:cubicBezTo>
                  <a:pt x="16386" y="9784"/>
                  <a:pt x="16371" y="9831"/>
                  <a:pt x="16341" y="9872"/>
                </a:cubicBezTo>
                <a:cubicBezTo>
                  <a:pt x="16325" y="9895"/>
                  <a:pt x="16307" y="9914"/>
                  <a:pt x="16293" y="9937"/>
                </a:cubicBezTo>
                <a:cubicBezTo>
                  <a:pt x="16280" y="9958"/>
                  <a:pt x="16266" y="9984"/>
                  <a:pt x="16255" y="10006"/>
                </a:cubicBezTo>
                <a:cubicBezTo>
                  <a:pt x="16246" y="10026"/>
                  <a:pt x="16241" y="10050"/>
                  <a:pt x="16232" y="10071"/>
                </a:cubicBezTo>
                <a:cubicBezTo>
                  <a:pt x="16221" y="10097"/>
                  <a:pt x="16212" y="10124"/>
                  <a:pt x="16203" y="10149"/>
                </a:cubicBezTo>
              </a:path>
              <a:path w="3997" h="4179">
                <a:moveTo>
                  <a:pt x="15544" y="8555"/>
                </a:moveTo>
                <a:cubicBezTo>
                  <a:pt x="15556" y="8547"/>
                  <a:pt x="15561" y="8540"/>
                  <a:pt x="15572" y="8531"/>
                </a:cubicBezTo>
                <a:cubicBezTo>
                  <a:pt x="15568" y="8544"/>
                  <a:pt x="15568" y="8559"/>
                  <a:pt x="15563" y="8573"/>
                </a:cubicBezTo>
                <a:cubicBezTo>
                  <a:pt x="15559" y="8584"/>
                  <a:pt x="15524" y="8694"/>
                  <a:pt x="15529" y="8698"/>
                </a:cubicBezTo>
                <a:cubicBezTo>
                  <a:pt x="15537" y="8704"/>
                  <a:pt x="15550" y="8693"/>
                  <a:pt x="15567" y="8679"/>
                </a:cubicBezTo>
                <a:cubicBezTo>
                  <a:pt x="15579" y="8669"/>
                  <a:pt x="15595" y="8638"/>
                  <a:pt x="15610" y="8633"/>
                </a:cubicBezTo>
                <a:cubicBezTo>
                  <a:pt x="15614" y="8632"/>
                  <a:pt x="15631" y="8611"/>
                  <a:pt x="15639" y="8619"/>
                </a:cubicBezTo>
                <a:cubicBezTo>
                  <a:pt x="15648" y="8628"/>
                  <a:pt x="15642" y="8664"/>
                  <a:pt x="15643" y="8675"/>
                </a:cubicBezTo>
                <a:cubicBezTo>
                  <a:pt x="15645" y="8694"/>
                  <a:pt x="15634" y="8831"/>
                  <a:pt x="15648" y="8832"/>
                </a:cubicBezTo>
                <a:cubicBezTo>
                  <a:pt x="15669" y="8834"/>
                  <a:pt x="15706" y="8773"/>
                  <a:pt x="15714" y="8763"/>
                </a:cubicBezTo>
                <a:cubicBezTo>
                  <a:pt x="15763" y="8697"/>
                  <a:pt x="15808" y="8623"/>
                  <a:pt x="15857" y="8559"/>
                </a:cubicBezTo>
                <a:cubicBezTo>
                  <a:pt x="15856" y="8577"/>
                  <a:pt x="15860" y="8602"/>
                  <a:pt x="15857" y="8624"/>
                </a:cubicBezTo>
                <a:cubicBezTo>
                  <a:pt x="15850" y="8669"/>
                  <a:pt x="15839" y="8718"/>
                  <a:pt x="15828" y="8763"/>
                </a:cubicBezTo>
                <a:cubicBezTo>
                  <a:pt x="15822" y="8788"/>
                  <a:pt x="15819" y="8812"/>
                  <a:pt x="15814" y="8836"/>
                </a:cubicBezTo>
                <a:cubicBezTo>
                  <a:pt x="15834" y="8797"/>
                  <a:pt x="15853" y="8758"/>
                  <a:pt x="15871" y="8716"/>
                </a:cubicBezTo>
                <a:cubicBezTo>
                  <a:pt x="15895" y="8659"/>
                  <a:pt x="15914" y="8597"/>
                  <a:pt x="15947" y="8545"/>
                </a:cubicBezTo>
                <a:cubicBezTo>
                  <a:pt x="15952" y="8542"/>
                  <a:pt x="15956" y="8539"/>
                  <a:pt x="15961" y="8536"/>
                </a:cubicBezTo>
                <a:cubicBezTo>
                  <a:pt x="15961" y="8540"/>
                  <a:pt x="15968" y="8586"/>
                  <a:pt x="15966" y="8596"/>
                </a:cubicBezTo>
                <a:cubicBezTo>
                  <a:pt x="15954" y="8664"/>
                  <a:pt x="15937" y="8735"/>
                  <a:pt x="15923" y="8804"/>
                </a:cubicBezTo>
                <a:cubicBezTo>
                  <a:pt x="15907" y="8881"/>
                  <a:pt x="15897" y="8957"/>
                  <a:pt x="15890" y="9035"/>
                </a:cubicBezTo>
                <a:cubicBezTo>
                  <a:pt x="15907" y="9008"/>
                  <a:pt x="15927" y="8981"/>
                  <a:pt x="15942" y="8947"/>
                </a:cubicBezTo>
                <a:cubicBezTo>
                  <a:pt x="15998" y="8815"/>
                  <a:pt x="16056" y="8688"/>
                  <a:pt x="16118" y="8559"/>
                </a:cubicBezTo>
                <a:cubicBezTo>
                  <a:pt x="16120" y="8554"/>
                  <a:pt x="16121" y="8550"/>
                  <a:pt x="16123" y="8545"/>
                </a:cubicBezTo>
                <a:cubicBezTo>
                  <a:pt x="16112" y="8623"/>
                  <a:pt x="16089" y="8696"/>
                  <a:pt x="16066" y="8772"/>
                </a:cubicBezTo>
                <a:cubicBezTo>
                  <a:pt x="16033" y="8884"/>
                  <a:pt x="16009" y="8999"/>
                  <a:pt x="15990" y="9114"/>
                </a:cubicBezTo>
                <a:cubicBezTo>
                  <a:pt x="15981" y="9170"/>
                  <a:pt x="15963" y="9236"/>
                  <a:pt x="15971" y="9294"/>
                </a:cubicBezTo>
                <a:cubicBezTo>
                  <a:pt x="15974" y="9297"/>
                  <a:pt x="15977" y="9300"/>
                  <a:pt x="15980" y="9303"/>
                </a:cubicBezTo>
                <a:cubicBezTo>
                  <a:pt x="16007" y="9256"/>
                  <a:pt x="16028" y="9208"/>
                  <a:pt x="16047" y="9155"/>
                </a:cubicBezTo>
                <a:cubicBezTo>
                  <a:pt x="16089" y="9039"/>
                  <a:pt x="16142" y="8919"/>
                  <a:pt x="16198" y="8809"/>
                </a:cubicBezTo>
                <a:cubicBezTo>
                  <a:pt x="16219" y="8768"/>
                  <a:pt x="16247" y="8728"/>
                  <a:pt x="16270" y="8689"/>
                </a:cubicBezTo>
                <a:cubicBezTo>
                  <a:pt x="16263" y="8760"/>
                  <a:pt x="16251" y="8823"/>
                  <a:pt x="16232" y="8892"/>
                </a:cubicBezTo>
                <a:cubicBezTo>
                  <a:pt x="16200" y="9008"/>
                  <a:pt x="16165" y="9123"/>
                  <a:pt x="16132" y="9239"/>
                </a:cubicBezTo>
                <a:cubicBezTo>
                  <a:pt x="16110" y="9314"/>
                  <a:pt x="16065" y="9405"/>
                  <a:pt x="16066" y="9484"/>
                </a:cubicBezTo>
                <a:cubicBezTo>
                  <a:pt x="16066" y="9510"/>
                  <a:pt x="16085" y="9522"/>
                  <a:pt x="16085" y="9525"/>
                </a:cubicBezTo>
                <a:cubicBezTo>
                  <a:pt x="16120" y="9482"/>
                  <a:pt x="16148" y="9438"/>
                  <a:pt x="16175" y="9387"/>
                </a:cubicBezTo>
                <a:cubicBezTo>
                  <a:pt x="16234" y="9275"/>
                  <a:pt x="16275" y="9155"/>
                  <a:pt x="16336" y="9044"/>
                </a:cubicBezTo>
                <a:cubicBezTo>
                  <a:pt x="16389" y="8947"/>
                  <a:pt x="16436" y="8841"/>
                  <a:pt x="16497" y="8749"/>
                </a:cubicBezTo>
                <a:cubicBezTo>
                  <a:pt x="16499" y="8749"/>
                  <a:pt x="16500" y="8749"/>
                  <a:pt x="16502" y="8749"/>
                </a:cubicBezTo>
                <a:cubicBezTo>
                  <a:pt x="16480" y="8824"/>
                  <a:pt x="16456" y="8897"/>
                  <a:pt x="16431" y="8971"/>
                </a:cubicBezTo>
                <a:cubicBezTo>
                  <a:pt x="16386" y="9101"/>
                  <a:pt x="16336" y="9226"/>
                  <a:pt x="16284" y="9354"/>
                </a:cubicBezTo>
                <a:cubicBezTo>
                  <a:pt x="16250" y="9436"/>
                  <a:pt x="16215" y="9526"/>
                  <a:pt x="16198" y="9613"/>
                </a:cubicBezTo>
                <a:cubicBezTo>
                  <a:pt x="16198" y="9635"/>
                  <a:pt x="16198" y="9638"/>
                  <a:pt x="16198" y="9650"/>
                </a:cubicBezTo>
                <a:cubicBezTo>
                  <a:pt x="16231" y="9615"/>
                  <a:pt x="16258" y="9586"/>
                  <a:pt x="16284" y="9539"/>
                </a:cubicBezTo>
                <a:cubicBezTo>
                  <a:pt x="16349" y="9421"/>
                  <a:pt x="16393" y="9295"/>
                  <a:pt x="16450" y="9174"/>
                </a:cubicBezTo>
                <a:cubicBezTo>
                  <a:pt x="16507" y="9053"/>
                  <a:pt x="16569" y="8934"/>
                  <a:pt x="16635" y="8818"/>
                </a:cubicBezTo>
                <a:cubicBezTo>
                  <a:pt x="16643" y="8796"/>
                  <a:pt x="16640" y="8790"/>
                  <a:pt x="16654" y="8786"/>
                </a:cubicBezTo>
                <a:cubicBezTo>
                  <a:pt x="16637" y="8833"/>
                  <a:pt x="16619" y="8881"/>
                  <a:pt x="16602" y="8929"/>
                </a:cubicBezTo>
                <a:cubicBezTo>
                  <a:pt x="16541" y="9099"/>
                  <a:pt x="16462" y="9259"/>
                  <a:pt x="16388" y="9424"/>
                </a:cubicBezTo>
                <a:cubicBezTo>
                  <a:pt x="16347" y="9517"/>
                  <a:pt x="16294" y="9604"/>
                  <a:pt x="16251" y="9696"/>
                </a:cubicBezTo>
                <a:cubicBezTo>
                  <a:pt x="16242" y="9716"/>
                  <a:pt x="16232" y="9736"/>
                  <a:pt x="16222" y="9756"/>
                </a:cubicBezTo>
                <a:cubicBezTo>
                  <a:pt x="16245" y="9722"/>
                  <a:pt x="16268" y="9688"/>
                  <a:pt x="16293" y="9655"/>
                </a:cubicBezTo>
                <a:cubicBezTo>
                  <a:pt x="16417" y="9491"/>
                  <a:pt x="16495" y="9296"/>
                  <a:pt x="16607" y="9123"/>
                </a:cubicBezTo>
                <a:cubicBezTo>
                  <a:pt x="16666" y="9032"/>
                  <a:pt x="16725" y="8936"/>
                  <a:pt x="16796" y="8855"/>
                </a:cubicBezTo>
                <a:cubicBezTo>
                  <a:pt x="16836" y="8809"/>
                  <a:pt x="16872" y="8793"/>
                  <a:pt x="16920" y="8763"/>
                </a:cubicBezTo>
                <a:cubicBezTo>
                  <a:pt x="16943" y="8748"/>
                  <a:pt x="16963" y="8730"/>
                  <a:pt x="16986" y="8716"/>
                </a:cubicBezTo>
                <a:cubicBezTo>
                  <a:pt x="16999" y="8708"/>
                  <a:pt x="17028" y="8687"/>
                  <a:pt x="17038" y="8684"/>
                </a:cubicBezTo>
                <a:cubicBezTo>
                  <a:pt x="17060" y="8678"/>
                  <a:pt x="17114" y="8676"/>
                  <a:pt x="17119" y="8675"/>
                </a:cubicBezTo>
                <a:cubicBezTo>
                  <a:pt x="17117" y="8675"/>
                  <a:pt x="17116" y="8675"/>
                  <a:pt x="17114" y="8675"/>
                </a:cubicBezTo>
                <a:cubicBezTo>
                  <a:pt x="17091" y="8671"/>
                  <a:pt x="17080" y="8663"/>
                  <a:pt x="17053" y="8661"/>
                </a:cubicBezTo>
                <a:cubicBezTo>
                  <a:pt x="16857" y="8650"/>
                  <a:pt x="16654" y="8690"/>
                  <a:pt x="16459" y="8665"/>
                </a:cubicBezTo>
                <a:cubicBezTo>
                  <a:pt x="16391" y="8656"/>
                  <a:pt x="16329" y="8628"/>
                  <a:pt x="16260" y="8624"/>
                </a:cubicBezTo>
                <a:cubicBezTo>
                  <a:pt x="16213" y="8621"/>
                  <a:pt x="16173" y="8633"/>
                  <a:pt x="16127" y="8638"/>
                </a:cubicBezTo>
                <a:cubicBezTo>
                  <a:pt x="16101" y="8641"/>
                  <a:pt x="16077" y="8640"/>
                  <a:pt x="16051" y="8642"/>
                </a:cubicBezTo>
                <a:cubicBezTo>
                  <a:pt x="16105" y="8655"/>
                  <a:pt x="16166" y="8674"/>
                  <a:pt x="16222" y="8679"/>
                </a:cubicBezTo>
                <a:cubicBezTo>
                  <a:pt x="16265" y="8683"/>
                  <a:pt x="16322" y="8689"/>
                  <a:pt x="16365" y="8689"/>
                </a:cubicBezTo>
                <a:cubicBezTo>
                  <a:pt x="16447" y="8690"/>
                  <a:pt x="16529" y="8678"/>
                  <a:pt x="16611" y="8675"/>
                </a:cubicBezTo>
                <a:cubicBezTo>
                  <a:pt x="16707" y="8671"/>
                  <a:pt x="16805" y="8675"/>
                  <a:pt x="16901" y="8675"/>
                </a:cubicBezTo>
                <a:cubicBezTo>
                  <a:pt x="16891" y="8697"/>
                  <a:pt x="16887" y="8723"/>
                  <a:pt x="16872" y="8744"/>
                </a:cubicBezTo>
                <a:cubicBezTo>
                  <a:pt x="16858" y="8764"/>
                  <a:pt x="16837" y="8786"/>
                  <a:pt x="16820" y="8804"/>
                </a:cubicBezTo>
                <a:cubicBezTo>
                  <a:pt x="16784" y="8844"/>
                  <a:pt x="16744" y="8881"/>
                  <a:pt x="16711" y="8924"/>
                </a:cubicBezTo>
                <a:cubicBezTo>
                  <a:pt x="16648" y="9007"/>
                  <a:pt x="16589" y="9090"/>
                  <a:pt x="16535" y="9179"/>
                </a:cubicBezTo>
                <a:cubicBezTo>
                  <a:pt x="16493" y="9249"/>
                  <a:pt x="16449" y="9317"/>
                  <a:pt x="16407" y="9387"/>
                </a:cubicBezTo>
                <a:cubicBezTo>
                  <a:pt x="16384" y="9425"/>
                  <a:pt x="16366" y="9462"/>
                  <a:pt x="16346" y="9502"/>
                </a:cubicBezTo>
                <a:cubicBezTo>
                  <a:pt x="16332" y="9529"/>
                  <a:pt x="16326" y="9543"/>
                  <a:pt x="16317" y="9571"/>
                </a:cubicBezTo>
                <a:cubicBezTo>
                  <a:pt x="16351" y="9548"/>
                  <a:pt x="16389" y="9527"/>
                  <a:pt x="16422" y="9497"/>
                </a:cubicBezTo>
                <a:cubicBezTo>
                  <a:pt x="16488" y="9436"/>
                  <a:pt x="16544" y="9366"/>
                  <a:pt x="16597" y="9294"/>
                </a:cubicBezTo>
                <a:cubicBezTo>
                  <a:pt x="16647" y="9225"/>
                  <a:pt x="16697" y="9154"/>
                  <a:pt x="16754" y="9091"/>
                </a:cubicBezTo>
                <a:cubicBezTo>
                  <a:pt x="16812" y="9027"/>
                  <a:pt x="16882" y="8979"/>
                  <a:pt x="16943" y="8920"/>
                </a:cubicBezTo>
                <a:cubicBezTo>
                  <a:pt x="16973" y="8891"/>
                  <a:pt x="17002" y="8858"/>
                  <a:pt x="17029" y="8827"/>
                </a:cubicBezTo>
                <a:cubicBezTo>
                  <a:pt x="17034" y="8821"/>
                  <a:pt x="17038" y="8815"/>
                  <a:pt x="17043" y="8809"/>
                </a:cubicBezTo>
                <a:cubicBezTo>
                  <a:pt x="17053" y="8804"/>
                  <a:pt x="17078" y="8770"/>
                  <a:pt x="17067" y="8790"/>
                </a:cubicBezTo>
                <a:cubicBezTo>
                  <a:pt x="17057" y="8807"/>
                  <a:pt x="17037" y="8827"/>
                  <a:pt x="17024" y="8841"/>
                </a:cubicBezTo>
                <a:cubicBezTo>
                  <a:pt x="17002" y="8864"/>
                  <a:pt x="16979" y="8882"/>
                  <a:pt x="16958" y="8906"/>
                </a:cubicBezTo>
                <a:cubicBezTo>
                  <a:pt x="16931" y="8937"/>
                  <a:pt x="16902" y="8969"/>
                  <a:pt x="16877" y="9003"/>
                </a:cubicBezTo>
                <a:cubicBezTo>
                  <a:pt x="16839" y="9054"/>
                  <a:pt x="16804" y="9106"/>
                  <a:pt x="16763" y="9155"/>
                </a:cubicBezTo>
                <a:cubicBezTo>
                  <a:pt x="16711" y="9217"/>
                  <a:pt x="16661" y="9275"/>
                  <a:pt x="16602" y="9331"/>
                </a:cubicBezTo>
                <a:cubicBezTo>
                  <a:pt x="16540" y="9390"/>
                  <a:pt x="16479" y="9445"/>
                  <a:pt x="16412" y="9497"/>
                </a:cubicBezTo>
                <a:cubicBezTo>
                  <a:pt x="16376" y="9525"/>
                  <a:pt x="16336" y="9550"/>
                  <a:pt x="16303" y="9581"/>
                </a:cubicBezTo>
                <a:cubicBezTo>
                  <a:pt x="16278" y="9604"/>
                  <a:pt x="16254" y="9630"/>
                  <a:pt x="16232" y="9655"/>
                </a:cubicBezTo>
                <a:cubicBezTo>
                  <a:pt x="16219" y="9670"/>
                  <a:pt x="16219" y="9669"/>
                  <a:pt x="16208" y="9687"/>
                </a:cubicBezTo>
                <a:cubicBezTo>
                  <a:pt x="16199" y="9702"/>
                  <a:pt x="16196" y="9718"/>
                  <a:pt x="16189" y="9733"/>
                </a:cubicBezTo>
                <a:cubicBezTo>
                  <a:pt x="16184" y="9744"/>
                  <a:pt x="16183" y="9745"/>
                  <a:pt x="16179" y="9756"/>
                </a:cubicBezTo>
                <a:cubicBezTo>
                  <a:pt x="16171" y="9744"/>
                  <a:pt x="16158" y="9732"/>
                  <a:pt x="16151" y="9719"/>
                </a:cubicBezTo>
                <a:cubicBezTo>
                  <a:pt x="16128" y="9677"/>
                  <a:pt x="16112" y="9628"/>
                  <a:pt x="16089" y="9585"/>
                </a:cubicBezTo>
                <a:cubicBezTo>
                  <a:pt x="16068" y="9545"/>
                  <a:pt x="16043" y="9507"/>
                  <a:pt x="16023" y="9465"/>
                </a:cubicBezTo>
                <a:cubicBezTo>
                  <a:pt x="15996" y="9408"/>
                  <a:pt x="15980" y="9346"/>
                  <a:pt x="15952" y="9289"/>
                </a:cubicBezTo>
                <a:cubicBezTo>
                  <a:pt x="15928" y="9241"/>
                  <a:pt x="15893" y="9198"/>
                  <a:pt x="15862" y="9155"/>
                </a:cubicBezTo>
                <a:cubicBezTo>
                  <a:pt x="15842" y="9127"/>
                  <a:pt x="15823" y="9100"/>
                  <a:pt x="15805" y="9072"/>
                </a:cubicBezTo>
                <a:cubicBezTo>
                  <a:pt x="15790" y="9049"/>
                  <a:pt x="15781" y="9017"/>
                  <a:pt x="15767" y="8994"/>
                </a:cubicBezTo>
                <a:cubicBezTo>
                  <a:pt x="15758" y="8979"/>
                  <a:pt x="15747" y="8963"/>
                  <a:pt x="15738" y="8947"/>
                </a:cubicBezTo>
                <a:cubicBezTo>
                  <a:pt x="15732" y="8936"/>
                  <a:pt x="15729" y="8933"/>
                  <a:pt x="15724" y="8924"/>
                </a:cubicBezTo>
                <a:cubicBezTo>
                  <a:pt x="15724" y="8923"/>
                  <a:pt x="15724" y="8921"/>
                  <a:pt x="15724" y="8920"/>
                </a:cubicBezTo>
                <a:cubicBezTo>
                  <a:pt x="15732" y="8942"/>
                  <a:pt x="15740" y="8967"/>
                  <a:pt x="15748" y="8989"/>
                </a:cubicBezTo>
                <a:cubicBezTo>
                  <a:pt x="15771" y="9050"/>
                  <a:pt x="15801" y="9108"/>
                  <a:pt x="15824" y="9169"/>
                </a:cubicBezTo>
                <a:cubicBezTo>
                  <a:pt x="15848" y="9233"/>
                  <a:pt x="15876" y="9293"/>
                  <a:pt x="15904" y="9354"/>
                </a:cubicBezTo>
                <a:cubicBezTo>
                  <a:pt x="15926" y="9401"/>
                  <a:pt x="15942" y="9451"/>
                  <a:pt x="15966" y="9497"/>
                </a:cubicBezTo>
                <a:cubicBezTo>
                  <a:pt x="15984" y="9532"/>
                  <a:pt x="16007" y="9562"/>
                  <a:pt x="16028" y="9595"/>
                </a:cubicBezTo>
                <a:cubicBezTo>
                  <a:pt x="16046" y="9624"/>
                  <a:pt x="16071" y="9650"/>
                  <a:pt x="16089" y="9678"/>
                </a:cubicBezTo>
                <a:cubicBezTo>
                  <a:pt x="16105" y="9704"/>
                  <a:pt x="16117" y="9734"/>
                  <a:pt x="16132" y="9761"/>
                </a:cubicBezTo>
                <a:cubicBezTo>
                  <a:pt x="16140" y="9775"/>
                  <a:pt x="16147" y="9795"/>
                  <a:pt x="16156" y="9807"/>
                </a:cubicBezTo>
                <a:cubicBezTo>
                  <a:pt x="16164" y="9818"/>
                  <a:pt x="16180" y="9832"/>
                  <a:pt x="16189" y="9840"/>
                </a:cubicBezTo>
                <a:cubicBezTo>
                  <a:pt x="16196" y="9846"/>
                  <a:pt x="16190" y="9848"/>
                  <a:pt x="16198" y="9853"/>
                </a:cubicBezTo>
                <a:cubicBezTo>
                  <a:pt x="16200" y="9850"/>
                  <a:pt x="16201" y="9847"/>
                  <a:pt x="16203" y="9844"/>
                </a:cubicBezTo>
                <a:cubicBezTo>
                  <a:pt x="16203" y="9842"/>
                  <a:pt x="16213" y="9846"/>
                  <a:pt x="16213" y="9835"/>
                </a:cubicBezTo>
                <a:cubicBezTo>
                  <a:pt x="16215" y="9772"/>
                  <a:pt x="16202" y="9721"/>
                  <a:pt x="16175" y="9664"/>
                </a:cubicBezTo>
                <a:cubicBezTo>
                  <a:pt x="16147" y="9605"/>
                  <a:pt x="16111" y="9550"/>
                  <a:pt x="16080" y="9493"/>
                </a:cubicBezTo>
                <a:cubicBezTo>
                  <a:pt x="16034" y="9407"/>
                  <a:pt x="15996" y="9320"/>
                  <a:pt x="15952" y="9234"/>
                </a:cubicBezTo>
                <a:cubicBezTo>
                  <a:pt x="15926" y="9183"/>
                  <a:pt x="15901" y="9132"/>
                  <a:pt x="15876" y="9081"/>
                </a:cubicBezTo>
                <a:cubicBezTo>
                  <a:pt x="15854" y="9037"/>
                  <a:pt x="15832" y="8988"/>
                  <a:pt x="15805" y="8947"/>
                </a:cubicBezTo>
                <a:cubicBezTo>
                  <a:pt x="15790" y="8924"/>
                  <a:pt x="15771" y="8906"/>
                  <a:pt x="15757" y="8883"/>
                </a:cubicBezTo>
                <a:cubicBezTo>
                  <a:pt x="15746" y="8865"/>
                  <a:pt x="15739" y="8845"/>
                  <a:pt x="15729" y="8827"/>
                </a:cubicBezTo>
                <a:cubicBezTo>
                  <a:pt x="15722" y="8815"/>
                  <a:pt x="15710" y="8801"/>
                  <a:pt x="15705" y="8795"/>
                </a:cubicBezTo>
                <a:cubicBezTo>
                  <a:pt x="15694" y="8780"/>
                  <a:pt x="15685" y="8772"/>
                  <a:pt x="15672" y="8758"/>
                </a:cubicBezTo>
                <a:cubicBezTo>
                  <a:pt x="15648" y="8732"/>
                  <a:pt x="15623" y="8702"/>
                  <a:pt x="15596" y="8679"/>
                </a:cubicBezTo>
                <a:cubicBezTo>
                  <a:pt x="15584" y="8669"/>
                  <a:pt x="15571" y="8661"/>
                  <a:pt x="15558" y="8652"/>
                </a:cubicBezTo>
                <a:cubicBezTo>
                  <a:pt x="15545" y="8643"/>
                  <a:pt x="15529" y="8636"/>
                  <a:pt x="15515" y="8628"/>
                </a:cubicBezTo>
                <a:cubicBezTo>
                  <a:pt x="15502" y="8620"/>
                  <a:pt x="15494" y="8612"/>
                  <a:pt x="15482" y="8605"/>
                </a:cubicBezTo>
                <a:cubicBezTo>
                  <a:pt x="15477" y="8602"/>
                  <a:pt x="15465" y="8593"/>
                  <a:pt x="15463" y="8592"/>
                </a:cubicBezTo>
                <a:cubicBezTo>
                  <a:pt x="15453" y="8588"/>
                  <a:pt x="15440" y="8591"/>
                  <a:pt x="15430" y="8587"/>
                </a:cubicBezTo>
                <a:cubicBezTo>
                  <a:pt x="15450" y="8585"/>
                  <a:pt x="15467" y="8579"/>
                  <a:pt x="15487" y="8578"/>
                </a:cubicBezTo>
                <a:cubicBezTo>
                  <a:pt x="15628" y="8569"/>
                  <a:pt x="15765" y="8595"/>
                  <a:pt x="15904" y="8601"/>
                </a:cubicBezTo>
                <a:cubicBezTo>
                  <a:pt x="16025" y="8606"/>
                  <a:pt x="16145" y="8603"/>
                  <a:pt x="16265" y="8610"/>
                </a:cubicBezTo>
                <a:cubicBezTo>
                  <a:pt x="16325" y="8614"/>
                  <a:pt x="16385" y="8606"/>
                  <a:pt x="16445" y="8605"/>
                </a:cubicBezTo>
                <a:cubicBezTo>
                  <a:pt x="16572" y="8604"/>
                  <a:pt x="16699" y="8602"/>
                  <a:pt x="16825" y="8601"/>
                </a:cubicBezTo>
                <a:cubicBezTo>
                  <a:pt x="16857" y="8601"/>
                  <a:pt x="16888" y="8601"/>
                  <a:pt x="16920" y="8601"/>
                </a:cubicBezTo>
              </a:path>
              <a:path w="3997" h="4179">
                <a:moveTo>
                  <a:pt x="15316" y="8420"/>
                </a:moveTo>
                <a:cubicBezTo>
                  <a:pt x="15516" y="8420"/>
                  <a:pt x="15714" y="8434"/>
                  <a:pt x="15914" y="8434"/>
                </a:cubicBezTo>
                <a:cubicBezTo>
                  <a:pt x="16023" y="8434"/>
                  <a:pt x="16127" y="8441"/>
                  <a:pt x="16232" y="8453"/>
                </a:cubicBezTo>
                <a:cubicBezTo>
                  <a:pt x="16258" y="8456"/>
                  <a:pt x="16277" y="8452"/>
                  <a:pt x="16303" y="8457"/>
                </a:cubicBezTo>
                <a:cubicBezTo>
                  <a:pt x="16402" y="8475"/>
                  <a:pt x="16496" y="8488"/>
                  <a:pt x="16597" y="8490"/>
                </a:cubicBezTo>
                <a:cubicBezTo>
                  <a:pt x="16650" y="8491"/>
                  <a:pt x="16701" y="8486"/>
                  <a:pt x="16754" y="8485"/>
                </a:cubicBezTo>
                <a:cubicBezTo>
                  <a:pt x="16962" y="8480"/>
                  <a:pt x="17172" y="8485"/>
                  <a:pt x="17380" y="8485"/>
                </a:cubicBezTo>
                <a:cubicBezTo>
                  <a:pt x="17377" y="8519"/>
                  <a:pt x="17372" y="8544"/>
                  <a:pt x="17366" y="8573"/>
                </a:cubicBezTo>
                <a:cubicBezTo>
                  <a:pt x="17362" y="8591"/>
                  <a:pt x="17357" y="8598"/>
                  <a:pt x="17352" y="8615"/>
                </a:cubicBezTo>
                <a:cubicBezTo>
                  <a:pt x="17346" y="8634"/>
                  <a:pt x="17339" y="8648"/>
                  <a:pt x="17333" y="8665"/>
                </a:cubicBezTo>
                <a:cubicBezTo>
                  <a:pt x="17327" y="8681"/>
                  <a:pt x="17324" y="8691"/>
                  <a:pt x="17318" y="8707"/>
                </a:cubicBezTo>
                <a:cubicBezTo>
                  <a:pt x="17311" y="8724"/>
                  <a:pt x="17303" y="8741"/>
                  <a:pt x="17295" y="8758"/>
                </a:cubicBezTo>
                <a:cubicBezTo>
                  <a:pt x="17283" y="8786"/>
                  <a:pt x="17273" y="8815"/>
                  <a:pt x="17257" y="8841"/>
                </a:cubicBezTo>
                <a:cubicBezTo>
                  <a:pt x="17243" y="8864"/>
                  <a:pt x="17229" y="8885"/>
                  <a:pt x="17214" y="8906"/>
                </a:cubicBezTo>
                <a:cubicBezTo>
                  <a:pt x="17157" y="8986"/>
                  <a:pt x="17101" y="9066"/>
                  <a:pt x="17043" y="9146"/>
                </a:cubicBezTo>
                <a:cubicBezTo>
                  <a:pt x="17018" y="9181"/>
                  <a:pt x="16992" y="9214"/>
                  <a:pt x="16962" y="9248"/>
                </a:cubicBezTo>
                <a:cubicBezTo>
                  <a:pt x="16929" y="9285"/>
                  <a:pt x="16892" y="9316"/>
                  <a:pt x="16858" y="9350"/>
                </a:cubicBezTo>
                <a:cubicBezTo>
                  <a:pt x="16825" y="9383"/>
                  <a:pt x="16796" y="9423"/>
                  <a:pt x="16763" y="9456"/>
                </a:cubicBezTo>
                <a:cubicBezTo>
                  <a:pt x="16736" y="9482"/>
                  <a:pt x="16709" y="9508"/>
                  <a:pt x="16682" y="9534"/>
                </a:cubicBezTo>
                <a:cubicBezTo>
                  <a:pt x="16608" y="9605"/>
                  <a:pt x="16541" y="9675"/>
                  <a:pt x="16474" y="9752"/>
                </a:cubicBezTo>
                <a:cubicBezTo>
                  <a:pt x="16456" y="9773"/>
                  <a:pt x="16439" y="9795"/>
                  <a:pt x="16422" y="9816"/>
                </a:cubicBezTo>
                <a:cubicBezTo>
                  <a:pt x="16403" y="9839"/>
                  <a:pt x="16390" y="9861"/>
                  <a:pt x="16374" y="9886"/>
                </a:cubicBezTo>
                <a:cubicBezTo>
                  <a:pt x="16360" y="9908"/>
                  <a:pt x="16345" y="9932"/>
                  <a:pt x="16331" y="9955"/>
                </a:cubicBezTo>
                <a:cubicBezTo>
                  <a:pt x="16318" y="9975"/>
                  <a:pt x="16304" y="9990"/>
                  <a:pt x="16293" y="10011"/>
                </a:cubicBezTo>
                <a:cubicBezTo>
                  <a:pt x="16283" y="10029"/>
                  <a:pt x="16275" y="10052"/>
                  <a:pt x="16265" y="10071"/>
                </a:cubicBezTo>
                <a:cubicBezTo>
                  <a:pt x="16246" y="10110"/>
                  <a:pt x="16236" y="10142"/>
                  <a:pt x="16227" y="10182"/>
                </a:cubicBezTo>
                <a:cubicBezTo>
                  <a:pt x="16221" y="10207"/>
                  <a:pt x="16224" y="10235"/>
                  <a:pt x="16217" y="10260"/>
                </a:cubicBezTo>
                <a:cubicBezTo>
                  <a:pt x="16215" y="10266"/>
                  <a:pt x="16209" y="10263"/>
                  <a:pt x="16208" y="10269"/>
                </a:cubicBezTo>
                <a:cubicBezTo>
                  <a:pt x="16204" y="10256"/>
                  <a:pt x="16203" y="10244"/>
                  <a:pt x="16198" y="10232"/>
                </a:cubicBezTo>
                <a:cubicBezTo>
                  <a:pt x="16186" y="10200"/>
                  <a:pt x="16170" y="10172"/>
                  <a:pt x="16156" y="10140"/>
                </a:cubicBezTo>
                <a:cubicBezTo>
                  <a:pt x="16148" y="10121"/>
                  <a:pt x="16142" y="10098"/>
                  <a:pt x="16132" y="10080"/>
                </a:cubicBezTo>
                <a:cubicBezTo>
                  <a:pt x="16121" y="10060"/>
                  <a:pt x="16105" y="10045"/>
                  <a:pt x="16094" y="10024"/>
                </a:cubicBezTo>
                <a:cubicBezTo>
                  <a:pt x="16083" y="10003"/>
                  <a:pt x="16076" y="9981"/>
                  <a:pt x="16066" y="9960"/>
                </a:cubicBezTo>
                <a:cubicBezTo>
                  <a:pt x="16058" y="9942"/>
                  <a:pt x="16056" y="9921"/>
                  <a:pt x="16047" y="9904"/>
                </a:cubicBezTo>
                <a:cubicBezTo>
                  <a:pt x="16035" y="9880"/>
                  <a:pt x="16013" y="9858"/>
                  <a:pt x="15999" y="9835"/>
                </a:cubicBezTo>
                <a:cubicBezTo>
                  <a:pt x="15988" y="9817"/>
                  <a:pt x="15976" y="9798"/>
                  <a:pt x="15966" y="9779"/>
                </a:cubicBezTo>
                <a:cubicBezTo>
                  <a:pt x="15954" y="9756"/>
                  <a:pt x="15933" y="9726"/>
                  <a:pt x="15923" y="9705"/>
                </a:cubicBezTo>
                <a:cubicBezTo>
                  <a:pt x="15916" y="9690"/>
                  <a:pt x="15913" y="9671"/>
                  <a:pt x="15904" y="9655"/>
                </a:cubicBezTo>
                <a:cubicBezTo>
                  <a:pt x="15896" y="9641"/>
                  <a:pt x="15887" y="9623"/>
                  <a:pt x="15876" y="9608"/>
                </a:cubicBezTo>
                <a:cubicBezTo>
                  <a:pt x="15856" y="9580"/>
                  <a:pt x="15831" y="9557"/>
                  <a:pt x="15809" y="9530"/>
                </a:cubicBezTo>
                <a:cubicBezTo>
                  <a:pt x="15771" y="9483"/>
                  <a:pt x="15731" y="9431"/>
                  <a:pt x="15705" y="9377"/>
                </a:cubicBezTo>
                <a:cubicBezTo>
                  <a:pt x="15673" y="9311"/>
                  <a:pt x="15662" y="9234"/>
                  <a:pt x="15629" y="9169"/>
                </a:cubicBezTo>
                <a:cubicBezTo>
                  <a:pt x="15610" y="9131"/>
                  <a:pt x="15582" y="9097"/>
                  <a:pt x="15563" y="9058"/>
                </a:cubicBezTo>
                <a:cubicBezTo>
                  <a:pt x="15548" y="9029"/>
                  <a:pt x="15540" y="8994"/>
                  <a:pt x="15525" y="8966"/>
                </a:cubicBezTo>
                <a:cubicBezTo>
                  <a:pt x="15503" y="8923"/>
                  <a:pt x="15475" y="8884"/>
                  <a:pt x="15453" y="8841"/>
                </a:cubicBezTo>
                <a:cubicBezTo>
                  <a:pt x="15439" y="8814"/>
                  <a:pt x="15430" y="8784"/>
                  <a:pt x="15415" y="8758"/>
                </a:cubicBezTo>
                <a:cubicBezTo>
                  <a:pt x="15404" y="8739"/>
                  <a:pt x="15390" y="8722"/>
                  <a:pt x="15378" y="8702"/>
                </a:cubicBezTo>
                <a:cubicBezTo>
                  <a:pt x="15362" y="8674"/>
                  <a:pt x="15347" y="8643"/>
                  <a:pt x="15330" y="8615"/>
                </a:cubicBezTo>
                <a:cubicBezTo>
                  <a:pt x="15319" y="8598"/>
                  <a:pt x="15310" y="8580"/>
                  <a:pt x="15297" y="8564"/>
                </a:cubicBezTo>
                <a:cubicBezTo>
                  <a:pt x="15279" y="8541"/>
                  <a:pt x="15256" y="8514"/>
                  <a:pt x="15240" y="8494"/>
                </a:cubicBezTo>
                <a:cubicBezTo>
                  <a:pt x="15235" y="8488"/>
                  <a:pt x="15240" y="8496"/>
                  <a:pt x="15235" y="8490"/>
                </a:cubicBezTo>
              </a:path>
              <a:path w="3997" h="4179">
                <a:moveTo>
                  <a:pt x="17579" y="8420"/>
                </a:moveTo>
                <a:cubicBezTo>
                  <a:pt x="17582" y="8411"/>
                  <a:pt x="17580" y="8406"/>
                  <a:pt x="17584" y="8397"/>
                </a:cubicBezTo>
                <a:cubicBezTo>
                  <a:pt x="17590" y="8382"/>
                  <a:pt x="17585" y="8374"/>
                  <a:pt x="17598" y="8360"/>
                </a:cubicBezTo>
                <a:cubicBezTo>
                  <a:pt x="17601" y="8357"/>
                  <a:pt x="17610" y="8359"/>
                  <a:pt x="17613" y="8356"/>
                </a:cubicBezTo>
                <a:cubicBezTo>
                  <a:pt x="17617" y="8353"/>
                  <a:pt x="17623" y="8354"/>
                  <a:pt x="17627" y="8351"/>
                </a:cubicBezTo>
                <a:cubicBezTo>
                  <a:pt x="17638" y="8341"/>
                  <a:pt x="17649" y="8327"/>
                  <a:pt x="17660" y="8319"/>
                </a:cubicBezTo>
                <a:cubicBezTo>
                  <a:pt x="17701" y="8289"/>
                  <a:pt x="17739" y="8260"/>
                  <a:pt x="17779" y="8231"/>
                </a:cubicBezTo>
                <a:cubicBezTo>
                  <a:pt x="17818" y="8204"/>
                  <a:pt x="17855" y="8176"/>
                  <a:pt x="17893" y="8148"/>
                </a:cubicBezTo>
                <a:cubicBezTo>
                  <a:pt x="17943" y="8111"/>
                  <a:pt x="17995" y="8079"/>
                  <a:pt x="18044" y="8041"/>
                </a:cubicBezTo>
                <a:cubicBezTo>
                  <a:pt x="18112" y="7989"/>
                  <a:pt x="18172" y="7929"/>
                  <a:pt x="18234" y="7870"/>
                </a:cubicBezTo>
                <a:cubicBezTo>
                  <a:pt x="18305" y="7802"/>
                  <a:pt x="18380" y="7738"/>
                  <a:pt x="18453" y="7672"/>
                </a:cubicBezTo>
                <a:cubicBezTo>
                  <a:pt x="18499" y="7631"/>
                  <a:pt x="18546" y="7590"/>
                  <a:pt x="18590" y="7547"/>
                </a:cubicBezTo>
                <a:cubicBezTo>
                  <a:pt x="18630" y="7507"/>
                  <a:pt x="18667" y="7464"/>
                  <a:pt x="18704" y="7422"/>
                </a:cubicBezTo>
                <a:cubicBezTo>
                  <a:pt x="18760" y="7358"/>
                  <a:pt x="18820" y="7297"/>
                  <a:pt x="18880" y="7237"/>
                </a:cubicBezTo>
                <a:cubicBezTo>
                  <a:pt x="18915" y="7202"/>
                  <a:pt x="18952" y="7168"/>
                  <a:pt x="18984" y="7131"/>
                </a:cubicBezTo>
                <a:cubicBezTo>
                  <a:pt x="19013" y="7097"/>
                  <a:pt x="19039" y="7062"/>
                  <a:pt x="19069" y="7029"/>
                </a:cubicBezTo>
                <a:cubicBezTo>
                  <a:pt x="19082" y="7014"/>
                  <a:pt x="19100" y="7001"/>
                  <a:pt x="19112" y="6988"/>
                </a:cubicBezTo>
                <a:cubicBezTo>
                  <a:pt x="19119" y="6980"/>
                  <a:pt x="19117" y="6970"/>
                  <a:pt x="19122" y="6965"/>
                </a:cubicBezTo>
                <a:cubicBezTo>
                  <a:pt x="19117" y="6974"/>
                  <a:pt x="19115" y="6977"/>
                  <a:pt x="19112" y="6983"/>
                </a:cubicBezTo>
              </a:path>
              <a:path w="3997" h="4179">
                <a:moveTo>
                  <a:pt x="19202" y="6091"/>
                </a:moveTo>
                <a:cubicBezTo>
                  <a:pt x="19202" y="6614"/>
                  <a:pt x="19086" y="7285"/>
                  <a:pt x="19216" y="7787"/>
                </a:cubicBezTo>
                <a:cubicBezTo>
                  <a:pt x="19221" y="7806"/>
                  <a:pt x="19229" y="7827"/>
                  <a:pt x="19231" y="7847"/>
                </a:cubicBezTo>
                <a:cubicBezTo>
                  <a:pt x="19232" y="7859"/>
                  <a:pt x="19231" y="7872"/>
                  <a:pt x="19231" y="7884"/>
                </a:cubicBezTo>
              </a:path>
            </a:pathLst>
          </a:custGeom>
          <a:noFill/>
          <a:ln cap="rnd"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484360" y="2276640"/>
            <a:ext cx="1413000" cy="1349280"/>
          </a:xfrm>
          <a:custGeom>
            <a:avLst/>
            <a:gdLst/>
            <a:ahLst/>
            <a:rect l="l" t="t" r="r" b="b"/>
            <a:pathLst>
              <a:path w="3925" h="3750">
                <a:moveTo>
                  <a:pt x="10737" y="8481"/>
                </a:moveTo>
                <a:cubicBezTo>
                  <a:pt x="10722" y="8506"/>
                  <a:pt x="10707" y="8540"/>
                  <a:pt x="10694" y="8564"/>
                </a:cubicBezTo>
                <a:cubicBezTo>
                  <a:pt x="10685" y="8581"/>
                  <a:pt x="10675" y="8596"/>
                  <a:pt x="10665" y="8615"/>
                </a:cubicBezTo>
                <a:cubicBezTo>
                  <a:pt x="10650" y="8644"/>
                  <a:pt x="10636" y="8674"/>
                  <a:pt x="10618" y="8702"/>
                </a:cubicBezTo>
                <a:cubicBezTo>
                  <a:pt x="10595" y="8739"/>
                  <a:pt x="10568" y="8775"/>
                  <a:pt x="10547" y="8813"/>
                </a:cubicBezTo>
                <a:cubicBezTo>
                  <a:pt x="10523" y="8856"/>
                  <a:pt x="10501" y="8899"/>
                  <a:pt x="10480" y="8943"/>
                </a:cubicBezTo>
                <a:cubicBezTo>
                  <a:pt x="10457" y="8991"/>
                  <a:pt x="10440" y="9042"/>
                  <a:pt x="10419" y="9091"/>
                </a:cubicBezTo>
                <a:cubicBezTo>
                  <a:pt x="10398" y="9139"/>
                  <a:pt x="10375" y="9185"/>
                  <a:pt x="10357" y="9234"/>
                </a:cubicBezTo>
                <a:cubicBezTo>
                  <a:pt x="10336" y="9288"/>
                  <a:pt x="10317" y="9342"/>
                  <a:pt x="10295" y="9396"/>
                </a:cubicBezTo>
                <a:cubicBezTo>
                  <a:pt x="10280" y="9434"/>
                  <a:pt x="10265" y="9472"/>
                  <a:pt x="10243" y="9507"/>
                </a:cubicBezTo>
                <a:cubicBezTo>
                  <a:pt x="10222" y="9540"/>
                  <a:pt x="10195" y="9572"/>
                  <a:pt x="10172" y="9604"/>
                </a:cubicBezTo>
                <a:cubicBezTo>
                  <a:pt x="10146" y="9639"/>
                  <a:pt x="10117" y="9672"/>
                  <a:pt x="10091" y="9705"/>
                </a:cubicBezTo>
                <a:cubicBezTo>
                  <a:pt x="10054" y="9753"/>
                  <a:pt x="10018" y="9801"/>
                  <a:pt x="9977" y="9844"/>
                </a:cubicBezTo>
                <a:cubicBezTo>
                  <a:pt x="9959" y="9862"/>
                  <a:pt x="9937" y="9877"/>
                  <a:pt x="9920" y="9895"/>
                </a:cubicBezTo>
                <a:cubicBezTo>
                  <a:pt x="9905" y="9912"/>
                  <a:pt x="9893" y="9929"/>
                  <a:pt x="9878" y="9946"/>
                </a:cubicBezTo>
                <a:cubicBezTo>
                  <a:pt x="9831" y="9997"/>
                  <a:pt x="9793" y="10060"/>
                  <a:pt x="9750" y="10108"/>
                </a:cubicBezTo>
                <a:cubicBezTo>
                  <a:pt x="9736" y="10124"/>
                  <a:pt x="9710" y="10159"/>
                  <a:pt x="9697" y="10163"/>
                </a:cubicBezTo>
                <a:cubicBezTo>
                  <a:pt x="9686" y="10166"/>
                  <a:pt x="9657" y="10167"/>
                  <a:pt x="9650" y="10163"/>
                </a:cubicBezTo>
                <a:cubicBezTo>
                  <a:pt x="9641" y="10157"/>
                  <a:pt x="9637" y="10139"/>
                  <a:pt x="9631" y="10131"/>
                </a:cubicBezTo>
                <a:cubicBezTo>
                  <a:pt x="9619" y="10116"/>
                  <a:pt x="9610" y="10088"/>
                  <a:pt x="9602" y="10071"/>
                </a:cubicBezTo>
                <a:cubicBezTo>
                  <a:pt x="9594" y="10053"/>
                  <a:pt x="9591" y="10043"/>
                  <a:pt x="9584" y="10024"/>
                </a:cubicBezTo>
                <a:cubicBezTo>
                  <a:pt x="9574" y="9994"/>
                  <a:pt x="9559" y="9961"/>
                  <a:pt x="9550" y="9932"/>
                </a:cubicBezTo>
                <a:cubicBezTo>
                  <a:pt x="9538" y="9891"/>
                  <a:pt x="9523" y="9852"/>
                  <a:pt x="9508" y="9812"/>
                </a:cubicBezTo>
                <a:cubicBezTo>
                  <a:pt x="9489" y="9762"/>
                  <a:pt x="9469" y="9713"/>
                  <a:pt x="9446" y="9664"/>
                </a:cubicBezTo>
                <a:cubicBezTo>
                  <a:pt x="9436" y="9642"/>
                  <a:pt x="9424" y="9622"/>
                  <a:pt x="9413" y="9599"/>
                </a:cubicBezTo>
                <a:cubicBezTo>
                  <a:pt x="9400" y="9572"/>
                  <a:pt x="9388" y="9544"/>
                  <a:pt x="9375" y="9516"/>
                </a:cubicBezTo>
                <a:cubicBezTo>
                  <a:pt x="9350" y="9463"/>
                  <a:pt x="9329" y="9409"/>
                  <a:pt x="9308" y="9354"/>
                </a:cubicBezTo>
                <a:cubicBezTo>
                  <a:pt x="9293" y="9313"/>
                  <a:pt x="9281" y="9271"/>
                  <a:pt x="9270" y="9229"/>
                </a:cubicBezTo>
                <a:cubicBezTo>
                  <a:pt x="9262" y="9198"/>
                  <a:pt x="9252" y="9168"/>
                  <a:pt x="9242" y="9137"/>
                </a:cubicBezTo>
                <a:cubicBezTo>
                  <a:pt x="9230" y="9100"/>
                  <a:pt x="9216" y="9063"/>
                  <a:pt x="9204" y="9026"/>
                </a:cubicBezTo>
                <a:cubicBezTo>
                  <a:pt x="9188" y="8978"/>
                  <a:pt x="9173" y="8929"/>
                  <a:pt x="9152" y="8883"/>
                </a:cubicBezTo>
                <a:cubicBezTo>
                  <a:pt x="9141" y="8858"/>
                  <a:pt x="9124" y="8835"/>
                  <a:pt x="9114" y="8809"/>
                </a:cubicBezTo>
                <a:cubicBezTo>
                  <a:pt x="9105" y="8786"/>
                  <a:pt x="9093" y="8762"/>
                  <a:pt x="9085" y="8739"/>
                </a:cubicBezTo>
                <a:cubicBezTo>
                  <a:pt x="9077" y="8715"/>
                  <a:pt x="9072" y="8693"/>
                  <a:pt x="9062" y="8670"/>
                </a:cubicBezTo>
                <a:cubicBezTo>
                  <a:pt x="9053" y="8649"/>
                  <a:pt x="9043" y="8630"/>
                  <a:pt x="9033" y="8610"/>
                </a:cubicBezTo>
                <a:cubicBezTo>
                  <a:pt x="9026" y="8595"/>
                  <a:pt x="9023" y="8579"/>
                  <a:pt x="9014" y="8564"/>
                </a:cubicBezTo>
                <a:cubicBezTo>
                  <a:pt x="9007" y="8552"/>
                  <a:pt x="8997" y="8543"/>
                  <a:pt x="8990" y="8531"/>
                </a:cubicBezTo>
                <a:cubicBezTo>
                  <a:pt x="8984" y="8521"/>
                  <a:pt x="8981" y="8512"/>
                  <a:pt x="8976" y="8504"/>
                </a:cubicBezTo>
                <a:cubicBezTo>
                  <a:pt x="8971" y="8504"/>
                  <a:pt x="8969" y="8504"/>
                  <a:pt x="8971" y="8499"/>
                </a:cubicBezTo>
                <a:cubicBezTo>
                  <a:pt x="8981" y="8501"/>
                  <a:pt x="8989" y="8511"/>
                  <a:pt x="9000" y="8513"/>
                </a:cubicBezTo>
                <a:cubicBezTo>
                  <a:pt x="9024" y="8517"/>
                  <a:pt x="9047" y="8517"/>
                  <a:pt x="9071" y="8518"/>
                </a:cubicBezTo>
                <a:cubicBezTo>
                  <a:pt x="9156" y="8522"/>
                  <a:pt x="9242" y="8514"/>
                  <a:pt x="9327" y="8513"/>
                </a:cubicBezTo>
                <a:cubicBezTo>
                  <a:pt x="9658" y="8510"/>
                  <a:pt x="9989" y="8511"/>
                  <a:pt x="10319" y="8508"/>
                </a:cubicBezTo>
                <a:cubicBezTo>
                  <a:pt x="10374" y="8508"/>
                  <a:pt x="10426" y="8511"/>
                  <a:pt x="10480" y="8518"/>
                </a:cubicBezTo>
                <a:cubicBezTo>
                  <a:pt x="10501" y="8521"/>
                  <a:pt x="10520" y="8526"/>
                  <a:pt x="10542" y="8527"/>
                </a:cubicBezTo>
                <a:cubicBezTo>
                  <a:pt x="10622" y="8532"/>
                  <a:pt x="10704" y="8527"/>
                  <a:pt x="10784" y="8527"/>
                </a:cubicBezTo>
              </a:path>
              <a:path w="3925" h="3750">
                <a:moveTo>
                  <a:pt x="6888" y="6419"/>
                </a:moveTo>
                <a:cubicBezTo>
                  <a:pt x="6885" y="6427"/>
                  <a:pt x="6878" y="6448"/>
                  <a:pt x="6874" y="6461"/>
                </a:cubicBezTo>
                <a:cubicBezTo>
                  <a:pt x="6868" y="6484"/>
                  <a:pt x="6861" y="6507"/>
                  <a:pt x="6860" y="6530"/>
                </a:cubicBezTo>
                <a:cubicBezTo>
                  <a:pt x="6851" y="6689"/>
                  <a:pt x="6873" y="6848"/>
                  <a:pt x="6874" y="7006"/>
                </a:cubicBezTo>
                <a:cubicBezTo>
                  <a:pt x="6875" y="7106"/>
                  <a:pt x="6884" y="7207"/>
                  <a:pt x="6888" y="7307"/>
                </a:cubicBezTo>
                <a:cubicBezTo>
                  <a:pt x="6897" y="7544"/>
                  <a:pt x="6920" y="7781"/>
                  <a:pt x="6921" y="8018"/>
                </a:cubicBezTo>
                <a:cubicBezTo>
                  <a:pt x="6922" y="8171"/>
                  <a:pt x="6909" y="8329"/>
                  <a:pt x="6926" y="8481"/>
                </a:cubicBezTo>
              </a:path>
              <a:path w="3925" h="3750">
                <a:moveTo>
                  <a:pt x="6950" y="7168"/>
                </a:moveTo>
                <a:cubicBezTo>
                  <a:pt x="6956" y="7172"/>
                  <a:pt x="6960" y="7185"/>
                  <a:pt x="6969" y="7191"/>
                </a:cubicBezTo>
                <a:cubicBezTo>
                  <a:pt x="6997" y="7210"/>
                  <a:pt x="7023" y="7219"/>
                  <a:pt x="7054" y="7233"/>
                </a:cubicBezTo>
                <a:cubicBezTo>
                  <a:pt x="7105" y="7256"/>
                  <a:pt x="7150" y="7288"/>
                  <a:pt x="7201" y="7311"/>
                </a:cubicBezTo>
                <a:cubicBezTo>
                  <a:pt x="7260" y="7338"/>
                  <a:pt x="7318" y="7368"/>
                  <a:pt x="7377" y="7394"/>
                </a:cubicBezTo>
                <a:cubicBezTo>
                  <a:pt x="7443" y="7424"/>
                  <a:pt x="7511" y="7449"/>
                  <a:pt x="7576" y="7482"/>
                </a:cubicBezTo>
                <a:cubicBezTo>
                  <a:pt x="7644" y="7517"/>
                  <a:pt x="7709" y="7556"/>
                  <a:pt x="7776" y="7593"/>
                </a:cubicBezTo>
                <a:cubicBezTo>
                  <a:pt x="7842" y="7630"/>
                  <a:pt x="7905" y="7671"/>
                  <a:pt x="7970" y="7709"/>
                </a:cubicBezTo>
                <a:cubicBezTo>
                  <a:pt x="8031" y="7744"/>
                  <a:pt x="8086" y="7785"/>
                  <a:pt x="8146" y="7820"/>
                </a:cubicBezTo>
                <a:cubicBezTo>
                  <a:pt x="8238" y="7874"/>
                  <a:pt x="8327" y="7931"/>
                  <a:pt x="8421" y="7981"/>
                </a:cubicBezTo>
                <a:cubicBezTo>
                  <a:pt x="8476" y="8010"/>
                  <a:pt x="8534" y="8042"/>
                  <a:pt x="8592" y="8065"/>
                </a:cubicBezTo>
                <a:cubicBezTo>
                  <a:pt x="8648" y="8087"/>
                  <a:pt x="8699" y="8114"/>
                  <a:pt x="8753" y="8139"/>
                </a:cubicBezTo>
                <a:cubicBezTo>
                  <a:pt x="8814" y="8166"/>
                  <a:pt x="8880" y="8189"/>
                  <a:pt x="8933" y="8231"/>
                </a:cubicBezTo>
                <a:cubicBezTo>
                  <a:pt x="8960" y="8252"/>
                  <a:pt x="8981" y="8281"/>
                  <a:pt x="9005" y="830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4216320" y="4127400"/>
            <a:ext cx="2143080" cy="2152800"/>
          </a:xfrm>
          <a:custGeom>
            <a:avLst/>
            <a:gdLst/>
            <a:ahLst/>
            <a:rect l="l" t="t" r="r" b="b"/>
            <a:pathLst>
              <a:path w="5953" h="5980">
                <a:moveTo>
                  <a:pt x="11717" y="15566"/>
                </a:moveTo>
                <a:cubicBezTo>
                  <a:pt x="11742" y="15522"/>
                  <a:pt x="11764" y="15482"/>
                  <a:pt x="11793" y="15442"/>
                </a:cubicBezTo>
                <a:cubicBezTo>
                  <a:pt x="11863" y="15345"/>
                  <a:pt x="11953" y="15265"/>
                  <a:pt x="12030" y="15173"/>
                </a:cubicBezTo>
                <a:cubicBezTo>
                  <a:pt x="12172" y="15003"/>
                  <a:pt x="12269" y="14798"/>
                  <a:pt x="12391" y="14614"/>
                </a:cubicBezTo>
                <a:cubicBezTo>
                  <a:pt x="12476" y="14486"/>
                  <a:pt x="12565" y="14362"/>
                  <a:pt x="12657" y="14239"/>
                </a:cubicBezTo>
                <a:cubicBezTo>
                  <a:pt x="12718" y="14158"/>
                  <a:pt x="12788" y="14086"/>
                  <a:pt x="12851" y="14008"/>
                </a:cubicBezTo>
                <a:cubicBezTo>
                  <a:pt x="12882" y="13969"/>
                  <a:pt x="12908" y="13926"/>
                  <a:pt x="12941" y="13888"/>
                </a:cubicBezTo>
                <a:cubicBezTo>
                  <a:pt x="12971" y="13854"/>
                  <a:pt x="13001" y="13822"/>
                  <a:pt x="13027" y="13786"/>
                </a:cubicBezTo>
                <a:cubicBezTo>
                  <a:pt x="13032" y="13780"/>
                  <a:pt x="13038" y="13767"/>
                  <a:pt x="13041" y="13763"/>
                </a:cubicBezTo>
                <a:cubicBezTo>
                  <a:pt x="13047" y="13772"/>
                  <a:pt x="13061" y="13783"/>
                  <a:pt x="13070" y="13795"/>
                </a:cubicBezTo>
                <a:cubicBezTo>
                  <a:pt x="13079" y="13808"/>
                  <a:pt x="13089" y="13822"/>
                  <a:pt x="13098" y="13837"/>
                </a:cubicBezTo>
                <a:cubicBezTo>
                  <a:pt x="13170" y="13958"/>
                  <a:pt x="13231" y="14096"/>
                  <a:pt x="13288" y="14225"/>
                </a:cubicBezTo>
                <a:cubicBezTo>
                  <a:pt x="13400" y="14478"/>
                  <a:pt x="13510" y="14737"/>
                  <a:pt x="13653" y="14974"/>
                </a:cubicBezTo>
                <a:cubicBezTo>
                  <a:pt x="13698" y="15049"/>
                  <a:pt x="13750" y="15123"/>
                  <a:pt x="13805" y="15192"/>
                </a:cubicBezTo>
                <a:cubicBezTo>
                  <a:pt x="13836" y="15231"/>
                  <a:pt x="13870" y="15268"/>
                  <a:pt x="13900" y="15307"/>
                </a:cubicBezTo>
                <a:cubicBezTo>
                  <a:pt x="13988" y="15424"/>
                  <a:pt x="14086" y="15558"/>
                  <a:pt x="14209" y="15636"/>
                </a:cubicBezTo>
                <a:cubicBezTo>
                  <a:pt x="14217" y="15641"/>
                  <a:pt x="14229" y="15648"/>
                  <a:pt x="14233" y="15650"/>
                </a:cubicBezTo>
                <a:cubicBezTo>
                  <a:pt x="14237" y="15650"/>
                  <a:pt x="14239" y="15650"/>
                  <a:pt x="14237" y="15645"/>
                </a:cubicBezTo>
                <a:cubicBezTo>
                  <a:pt x="14221" y="15647"/>
                  <a:pt x="14235" y="15658"/>
                  <a:pt x="14214" y="15659"/>
                </a:cubicBezTo>
                <a:cubicBezTo>
                  <a:pt x="14124" y="15664"/>
                  <a:pt x="14049" y="15639"/>
                  <a:pt x="13962" y="15622"/>
                </a:cubicBezTo>
                <a:cubicBezTo>
                  <a:pt x="13888" y="15607"/>
                  <a:pt x="13813" y="15604"/>
                  <a:pt x="13739" y="15594"/>
                </a:cubicBezTo>
                <a:cubicBezTo>
                  <a:pt x="13671" y="15585"/>
                  <a:pt x="13608" y="15581"/>
                  <a:pt x="13540" y="15580"/>
                </a:cubicBezTo>
                <a:cubicBezTo>
                  <a:pt x="13396" y="15578"/>
                  <a:pt x="13253" y="15603"/>
                  <a:pt x="13108" y="15603"/>
                </a:cubicBezTo>
                <a:cubicBezTo>
                  <a:pt x="12978" y="15603"/>
                  <a:pt x="12848" y="15607"/>
                  <a:pt x="12718" y="15608"/>
                </a:cubicBezTo>
                <a:cubicBezTo>
                  <a:pt x="12546" y="15609"/>
                  <a:pt x="12362" y="15588"/>
                  <a:pt x="12192" y="15617"/>
                </a:cubicBezTo>
                <a:cubicBezTo>
                  <a:pt x="12152" y="15624"/>
                  <a:pt x="12112" y="15635"/>
                  <a:pt x="12073" y="15645"/>
                </a:cubicBezTo>
                <a:cubicBezTo>
                  <a:pt x="12037" y="15654"/>
                  <a:pt x="12000" y="15666"/>
                  <a:pt x="11964" y="15677"/>
                </a:cubicBezTo>
                <a:cubicBezTo>
                  <a:pt x="11914" y="15692"/>
                  <a:pt x="11876" y="15693"/>
                  <a:pt x="11826" y="15701"/>
                </a:cubicBezTo>
                <a:cubicBezTo>
                  <a:pt x="11772" y="15709"/>
                  <a:pt x="11769" y="15704"/>
                  <a:pt x="11726" y="15742"/>
                </a:cubicBezTo>
                <a:cubicBezTo>
                  <a:pt x="11717" y="15756"/>
                  <a:pt x="11715" y="15760"/>
                  <a:pt x="11712" y="15770"/>
                </a:cubicBezTo>
              </a:path>
              <a:path w="5953" h="5980">
                <a:moveTo>
                  <a:pt x="13720" y="11465"/>
                </a:moveTo>
                <a:cubicBezTo>
                  <a:pt x="13722" y="11469"/>
                  <a:pt x="13728" y="11469"/>
                  <a:pt x="13734" y="11478"/>
                </a:cubicBezTo>
                <a:cubicBezTo>
                  <a:pt x="13747" y="11499"/>
                  <a:pt x="13753" y="11523"/>
                  <a:pt x="13767" y="11543"/>
                </a:cubicBezTo>
                <a:cubicBezTo>
                  <a:pt x="13791" y="11578"/>
                  <a:pt x="13811" y="11612"/>
                  <a:pt x="13839" y="11645"/>
                </a:cubicBezTo>
                <a:cubicBezTo>
                  <a:pt x="13883" y="11698"/>
                  <a:pt x="13929" y="11751"/>
                  <a:pt x="13976" y="11802"/>
                </a:cubicBezTo>
                <a:cubicBezTo>
                  <a:pt x="14106" y="11944"/>
                  <a:pt x="14253" y="12064"/>
                  <a:pt x="14380" y="12209"/>
                </a:cubicBezTo>
                <a:cubicBezTo>
                  <a:pt x="14572" y="12428"/>
                  <a:pt x="14740" y="12670"/>
                  <a:pt x="14902" y="12912"/>
                </a:cubicBezTo>
                <a:cubicBezTo>
                  <a:pt x="15114" y="13228"/>
                  <a:pt x="15325" y="13521"/>
                  <a:pt x="15562" y="13818"/>
                </a:cubicBezTo>
                <a:cubicBezTo>
                  <a:pt x="15922" y="14268"/>
                  <a:pt x="16192" y="14779"/>
                  <a:pt x="16549" y="15233"/>
                </a:cubicBezTo>
                <a:cubicBezTo>
                  <a:pt x="16744" y="15481"/>
                  <a:pt x="16961" y="15709"/>
                  <a:pt x="17147" y="15964"/>
                </a:cubicBezTo>
                <a:cubicBezTo>
                  <a:pt x="17234" y="16083"/>
                  <a:pt x="17302" y="16214"/>
                  <a:pt x="17384" y="16334"/>
                </a:cubicBezTo>
                <a:cubicBezTo>
                  <a:pt x="17386" y="16337"/>
                  <a:pt x="17402" y="16351"/>
                  <a:pt x="17403" y="16353"/>
                </a:cubicBezTo>
              </a:path>
              <a:path w="5953" h="5980">
                <a:moveTo>
                  <a:pt x="17555" y="15294"/>
                </a:moveTo>
                <a:cubicBezTo>
                  <a:pt x="17552" y="15319"/>
                  <a:pt x="17552" y="15343"/>
                  <a:pt x="17550" y="15368"/>
                </a:cubicBezTo>
                <a:cubicBezTo>
                  <a:pt x="17546" y="15407"/>
                  <a:pt x="17549" y="15443"/>
                  <a:pt x="17550" y="15483"/>
                </a:cubicBezTo>
                <a:cubicBezTo>
                  <a:pt x="17552" y="15549"/>
                  <a:pt x="17554" y="15616"/>
                  <a:pt x="17555" y="15682"/>
                </a:cubicBezTo>
                <a:cubicBezTo>
                  <a:pt x="17556" y="15849"/>
                  <a:pt x="17579" y="16015"/>
                  <a:pt x="17588" y="16181"/>
                </a:cubicBezTo>
                <a:cubicBezTo>
                  <a:pt x="17593" y="16283"/>
                  <a:pt x="17597" y="16385"/>
                  <a:pt x="17598" y="16487"/>
                </a:cubicBezTo>
                <a:cubicBezTo>
                  <a:pt x="17599" y="16625"/>
                  <a:pt x="17595" y="16761"/>
                  <a:pt x="17607" y="16898"/>
                </a:cubicBezTo>
                <a:cubicBezTo>
                  <a:pt x="17615" y="16989"/>
                  <a:pt x="17622" y="17080"/>
                  <a:pt x="17631" y="17171"/>
                </a:cubicBezTo>
                <a:cubicBezTo>
                  <a:pt x="17640" y="17263"/>
                  <a:pt x="17644" y="17353"/>
                  <a:pt x="17664" y="1744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4432320" y="1758960"/>
            <a:ext cx="1306440" cy="3191040"/>
          </a:xfrm>
          <a:custGeom>
            <a:avLst/>
            <a:gdLst/>
            <a:ahLst/>
            <a:rect l="l" t="t" r="r" b="b"/>
            <a:pathLst>
              <a:path w="3631" h="8866">
                <a:moveTo>
                  <a:pt x="13161" y="5120"/>
                </a:moveTo>
                <a:cubicBezTo>
                  <a:pt x="13155" y="5127"/>
                  <a:pt x="13149" y="5131"/>
                  <a:pt x="13142" y="5139"/>
                </a:cubicBezTo>
                <a:cubicBezTo>
                  <a:pt x="13131" y="5152"/>
                  <a:pt x="13120" y="5166"/>
                  <a:pt x="13109" y="5180"/>
                </a:cubicBezTo>
                <a:cubicBezTo>
                  <a:pt x="13094" y="5199"/>
                  <a:pt x="13081" y="5217"/>
                  <a:pt x="13067" y="5236"/>
                </a:cubicBezTo>
                <a:cubicBezTo>
                  <a:pt x="13049" y="5259"/>
                  <a:pt x="13033" y="5282"/>
                  <a:pt x="13014" y="5305"/>
                </a:cubicBezTo>
                <a:cubicBezTo>
                  <a:pt x="12981" y="5344"/>
                  <a:pt x="12947" y="5381"/>
                  <a:pt x="12910" y="5416"/>
                </a:cubicBezTo>
                <a:cubicBezTo>
                  <a:pt x="12878" y="5446"/>
                  <a:pt x="12846" y="5474"/>
                  <a:pt x="12815" y="5504"/>
                </a:cubicBezTo>
                <a:cubicBezTo>
                  <a:pt x="12775" y="5543"/>
                  <a:pt x="12736" y="5584"/>
                  <a:pt x="12696" y="5624"/>
                </a:cubicBezTo>
                <a:cubicBezTo>
                  <a:pt x="12651" y="5669"/>
                  <a:pt x="12606" y="5713"/>
                  <a:pt x="12564" y="5758"/>
                </a:cubicBezTo>
                <a:cubicBezTo>
                  <a:pt x="12522" y="5803"/>
                  <a:pt x="12481" y="5850"/>
                  <a:pt x="12440" y="5897"/>
                </a:cubicBezTo>
                <a:cubicBezTo>
                  <a:pt x="12426" y="5914"/>
                  <a:pt x="12412" y="5932"/>
                  <a:pt x="12397" y="5948"/>
                </a:cubicBezTo>
                <a:cubicBezTo>
                  <a:pt x="12378" y="5969"/>
                  <a:pt x="12356" y="5989"/>
                  <a:pt x="12341" y="6012"/>
                </a:cubicBezTo>
                <a:cubicBezTo>
                  <a:pt x="12336" y="6019"/>
                  <a:pt x="12317" y="6041"/>
                  <a:pt x="12317" y="6049"/>
                </a:cubicBezTo>
                <a:cubicBezTo>
                  <a:pt x="12317" y="6059"/>
                  <a:pt x="12315" y="6052"/>
                  <a:pt x="12317" y="6059"/>
                </a:cubicBezTo>
                <a:cubicBezTo>
                  <a:pt x="12320" y="6070"/>
                  <a:pt x="12342" y="6043"/>
                  <a:pt x="12345" y="6054"/>
                </a:cubicBezTo>
                <a:cubicBezTo>
                  <a:pt x="12349" y="6066"/>
                  <a:pt x="12355" y="6079"/>
                  <a:pt x="12360" y="6091"/>
                </a:cubicBezTo>
                <a:cubicBezTo>
                  <a:pt x="12369" y="6113"/>
                  <a:pt x="12371" y="6135"/>
                  <a:pt x="12378" y="6156"/>
                </a:cubicBezTo>
                <a:cubicBezTo>
                  <a:pt x="12417" y="6266"/>
                  <a:pt x="12476" y="6369"/>
                  <a:pt x="12502" y="6484"/>
                </a:cubicBezTo>
                <a:cubicBezTo>
                  <a:pt x="12512" y="6527"/>
                  <a:pt x="12517" y="6568"/>
                  <a:pt x="12530" y="6609"/>
                </a:cubicBezTo>
                <a:cubicBezTo>
                  <a:pt x="12540" y="6641"/>
                  <a:pt x="12547" y="6670"/>
                  <a:pt x="12554" y="6701"/>
                </a:cubicBezTo>
                <a:cubicBezTo>
                  <a:pt x="12562" y="6734"/>
                  <a:pt x="12564" y="6761"/>
                  <a:pt x="12573" y="6793"/>
                </a:cubicBezTo>
                <a:cubicBezTo>
                  <a:pt x="12585" y="6834"/>
                  <a:pt x="12605" y="6874"/>
                  <a:pt x="12616" y="6914"/>
                </a:cubicBezTo>
                <a:cubicBezTo>
                  <a:pt x="12625" y="6947"/>
                  <a:pt x="12628" y="6991"/>
                  <a:pt x="12644" y="7020"/>
                </a:cubicBezTo>
                <a:cubicBezTo>
                  <a:pt x="12647" y="7026"/>
                  <a:pt x="12643" y="7047"/>
                  <a:pt x="12649" y="7052"/>
                </a:cubicBezTo>
                <a:cubicBezTo>
                  <a:pt x="12660" y="7061"/>
                  <a:pt x="12686" y="7059"/>
                  <a:pt x="12701" y="7062"/>
                </a:cubicBezTo>
                <a:cubicBezTo>
                  <a:pt x="12723" y="7067"/>
                  <a:pt x="12743" y="7058"/>
                  <a:pt x="12763" y="7057"/>
                </a:cubicBezTo>
                <a:cubicBezTo>
                  <a:pt x="12784" y="7056"/>
                  <a:pt x="12805" y="7057"/>
                  <a:pt x="12825" y="7052"/>
                </a:cubicBezTo>
                <a:cubicBezTo>
                  <a:pt x="12850" y="7046"/>
                  <a:pt x="12871" y="7035"/>
                  <a:pt x="12896" y="7029"/>
                </a:cubicBezTo>
                <a:cubicBezTo>
                  <a:pt x="12996" y="7004"/>
                  <a:pt x="13102" y="6992"/>
                  <a:pt x="13204" y="6988"/>
                </a:cubicBezTo>
                <a:cubicBezTo>
                  <a:pt x="13293" y="6985"/>
                  <a:pt x="13386" y="6985"/>
                  <a:pt x="13475" y="6992"/>
                </a:cubicBezTo>
                <a:cubicBezTo>
                  <a:pt x="13493" y="6993"/>
                  <a:pt x="13509" y="6995"/>
                  <a:pt x="13527" y="6997"/>
                </a:cubicBezTo>
                <a:cubicBezTo>
                  <a:pt x="13556" y="7001"/>
                  <a:pt x="13582" y="7013"/>
                  <a:pt x="13612" y="7015"/>
                </a:cubicBezTo>
                <a:cubicBezTo>
                  <a:pt x="13659" y="7019"/>
                  <a:pt x="13710" y="7021"/>
                  <a:pt x="13755" y="7025"/>
                </a:cubicBezTo>
                <a:cubicBezTo>
                  <a:pt x="13788" y="7028"/>
                  <a:pt x="13825" y="7032"/>
                  <a:pt x="13854" y="7038"/>
                </a:cubicBezTo>
                <a:cubicBezTo>
                  <a:pt x="13866" y="7041"/>
                  <a:pt x="13864" y="7045"/>
                  <a:pt x="13878" y="7048"/>
                </a:cubicBezTo>
                <a:cubicBezTo>
                  <a:pt x="13891" y="7050"/>
                  <a:pt x="13903" y="7050"/>
                  <a:pt x="13916" y="7052"/>
                </a:cubicBezTo>
                <a:cubicBezTo>
                  <a:pt x="13918" y="7052"/>
                  <a:pt x="13919" y="7052"/>
                  <a:pt x="13921" y="7052"/>
                </a:cubicBezTo>
                <a:cubicBezTo>
                  <a:pt x="13930" y="7029"/>
                  <a:pt x="13933" y="7005"/>
                  <a:pt x="13944" y="6983"/>
                </a:cubicBezTo>
                <a:cubicBezTo>
                  <a:pt x="13955" y="6960"/>
                  <a:pt x="13968" y="6936"/>
                  <a:pt x="13982" y="6914"/>
                </a:cubicBezTo>
                <a:cubicBezTo>
                  <a:pt x="14006" y="6874"/>
                  <a:pt x="14031" y="6836"/>
                  <a:pt x="14058" y="6798"/>
                </a:cubicBezTo>
                <a:cubicBezTo>
                  <a:pt x="14106" y="6731"/>
                  <a:pt x="14147" y="6672"/>
                  <a:pt x="14186" y="6599"/>
                </a:cubicBezTo>
                <a:cubicBezTo>
                  <a:pt x="14225" y="6526"/>
                  <a:pt x="14266" y="6455"/>
                  <a:pt x="14305" y="6382"/>
                </a:cubicBezTo>
                <a:cubicBezTo>
                  <a:pt x="14321" y="6352"/>
                  <a:pt x="14332" y="6320"/>
                  <a:pt x="14348" y="6290"/>
                </a:cubicBezTo>
                <a:cubicBezTo>
                  <a:pt x="14364" y="6260"/>
                  <a:pt x="14385" y="6231"/>
                  <a:pt x="14400" y="6202"/>
                </a:cubicBezTo>
                <a:cubicBezTo>
                  <a:pt x="14410" y="6184"/>
                  <a:pt x="14418" y="6169"/>
                  <a:pt x="14428" y="6151"/>
                </a:cubicBezTo>
                <a:cubicBezTo>
                  <a:pt x="14437" y="6135"/>
                  <a:pt x="14444" y="6117"/>
                  <a:pt x="14452" y="6100"/>
                </a:cubicBezTo>
                <a:cubicBezTo>
                  <a:pt x="14460" y="6083"/>
                  <a:pt x="14474" y="6062"/>
                  <a:pt x="14476" y="6045"/>
                </a:cubicBezTo>
                <a:cubicBezTo>
                  <a:pt x="14481" y="6005"/>
                  <a:pt x="14464" y="5996"/>
                  <a:pt x="14452" y="5971"/>
                </a:cubicBezTo>
                <a:cubicBezTo>
                  <a:pt x="14449" y="5964"/>
                  <a:pt x="14446" y="5956"/>
                  <a:pt x="14443" y="5952"/>
                </a:cubicBezTo>
                <a:cubicBezTo>
                  <a:pt x="14437" y="5943"/>
                  <a:pt x="14434" y="5946"/>
                  <a:pt x="14428" y="5938"/>
                </a:cubicBezTo>
                <a:cubicBezTo>
                  <a:pt x="14426" y="5935"/>
                  <a:pt x="14423" y="5924"/>
                  <a:pt x="14419" y="5920"/>
                </a:cubicBezTo>
                <a:cubicBezTo>
                  <a:pt x="14409" y="5908"/>
                  <a:pt x="14394" y="5891"/>
                  <a:pt x="14386" y="5883"/>
                </a:cubicBezTo>
                <a:cubicBezTo>
                  <a:pt x="14370" y="5867"/>
                  <a:pt x="14350" y="5853"/>
                  <a:pt x="14334" y="5837"/>
                </a:cubicBezTo>
                <a:cubicBezTo>
                  <a:pt x="14309" y="5811"/>
                  <a:pt x="14286" y="5788"/>
                  <a:pt x="14258" y="5763"/>
                </a:cubicBezTo>
                <a:cubicBezTo>
                  <a:pt x="14228" y="5736"/>
                  <a:pt x="14198" y="5714"/>
                  <a:pt x="14167" y="5689"/>
                </a:cubicBezTo>
                <a:cubicBezTo>
                  <a:pt x="14132" y="5660"/>
                  <a:pt x="14098" y="5630"/>
                  <a:pt x="14063" y="5601"/>
                </a:cubicBezTo>
                <a:cubicBezTo>
                  <a:pt x="14000" y="5549"/>
                  <a:pt x="13944" y="5490"/>
                  <a:pt x="13873" y="5448"/>
                </a:cubicBezTo>
                <a:cubicBezTo>
                  <a:pt x="13814" y="5413"/>
                  <a:pt x="13748" y="5389"/>
                  <a:pt x="13688" y="5356"/>
                </a:cubicBezTo>
                <a:cubicBezTo>
                  <a:pt x="13659" y="5340"/>
                  <a:pt x="13624" y="5324"/>
                  <a:pt x="13598" y="5305"/>
                </a:cubicBezTo>
                <a:cubicBezTo>
                  <a:pt x="13553" y="5271"/>
                  <a:pt x="13528" y="5212"/>
                  <a:pt x="13484" y="5180"/>
                </a:cubicBezTo>
                <a:cubicBezTo>
                  <a:pt x="13466" y="5167"/>
                  <a:pt x="13440" y="5161"/>
                  <a:pt x="13432" y="5157"/>
                </a:cubicBezTo>
                <a:cubicBezTo>
                  <a:pt x="13435" y="5160"/>
                  <a:pt x="13438" y="5163"/>
                  <a:pt x="13441" y="5166"/>
                </a:cubicBezTo>
              </a:path>
              <a:path w="3631" h="8866">
                <a:moveTo>
                  <a:pt x="13133" y="5203"/>
                </a:moveTo>
                <a:cubicBezTo>
                  <a:pt x="13149" y="5202"/>
                  <a:pt x="13154" y="5200"/>
                  <a:pt x="13166" y="5190"/>
                </a:cubicBezTo>
                <a:cubicBezTo>
                  <a:pt x="13187" y="5174"/>
                  <a:pt x="13204" y="5134"/>
                  <a:pt x="13218" y="5111"/>
                </a:cubicBezTo>
                <a:cubicBezTo>
                  <a:pt x="13236" y="5080"/>
                  <a:pt x="13258" y="5050"/>
                  <a:pt x="13275" y="5019"/>
                </a:cubicBezTo>
                <a:cubicBezTo>
                  <a:pt x="13289" y="4994"/>
                  <a:pt x="13308" y="4978"/>
                  <a:pt x="13323" y="4954"/>
                </a:cubicBezTo>
                <a:cubicBezTo>
                  <a:pt x="13332" y="4939"/>
                  <a:pt x="13339" y="4919"/>
                  <a:pt x="13347" y="4903"/>
                </a:cubicBezTo>
                <a:cubicBezTo>
                  <a:pt x="13349" y="4899"/>
                  <a:pt x="13349" y="4890"/>
                  <a:pt x="13351" y="4885"/>
                </a:cubicBezTo>
                <a:cubicBezTo>
                  <a:pt x="13352" y="4897"/>
                  <a:pt x="13349" y="4903"/>
                  <a:pt x="13356" y="4912"/>
                </a:cubicBezTo>
                <a:cubicBezTo>
                  <a:pt x="13364" y="4924"/>
                  <a:pt x="13368" y="4932"/>
                  <a:pt x="13375" y="4945"/>
                </a:cubicBezTo>
                <a:cubicBezTo>
                  <a:pt x="13382" y="4959"/>
                  <a:pt x="13392" y="4974"/>
                  <a:pt x="13403" y="4986"/>
                </a:cubicBezTo>
                <a:cubicBezTo>
                  <a:pt x="13418" y="5003"/>
                  <a:pt x="13427" y="5027"/>
                  <a:pt x="13441" y="5042"/>
                </a:cubicBezTo>
                <a:cubicBezTo>
                  <a:pt x="13456" y="5059"/>
                  <a:pt x="13477" y="5076"/>
                  <a:pt x="13494" y="5093"/>
                </a:cubicBezTo>
                <a:cubicBezTo>
                  <a:pt x="13509" y="5109"/>
                  <a:pt x="13522" y="5126"/>
                  <a:pt x="13536" y="5143"/>
                </a:cubicBezTo>
                <a:cubicBezTo>
                  <a:pt x="13541" y="5149"/>
                  <a:pt x="13546" y="5156"/>
                  <a:pt x="13551" y="5162"/>
                </a:cubicBezTo>
              </a:path>
              <a:path w="3631" h="8866">
                <a:moveTo>
                  <a:pt x="13185" y="7251"/>
                </a:moveTo>
                <a:cubicBezTo>
                  <a:pt x="13181" y="7264"/>
                  <a:pt x="13175" y="7274"/>
                  <a:pt x="13171" y="7288"/>
                </a:cubicBezTo>
                <a:cubicBezTo>
                  <a:pt x="13160" y="7326"/>
                  <a:pt x="13150" y="7369"/>
                  <a:pt x="13147" y="7408"/>
                </a:cubicBezTo>
                <a:cubicBezTo>
                  <a:pt x="13098" y="8084"/>
                  <a:pt x="13125" y="8802"/>
                  <a:pt x="13152" y="9479"/>
                </a:cubicBezTo>
                <a:cubicBezTo>
                  <a:pt x="13154" y="9534"/>
                  <a:pt x="13148" y="9587"/>
                  <a:pt x="13147" y="9641"/>
                </a:cubicBezTo>
                <a:cubicBezTo>
                  <a:pt x="13147" y="9658"/>
                  <a:pt x="13147" y="9665"/>
                  <a:pt x="13147" y="9682"/>
                </a:cubicBezTo>
                <a:cubicBezTo>
                  <a:pt x="13147" y="9679"/>
                  <a:pt x="13147" y="9676"/>
                  <a:pt x="13147" y="9673"/>
                </a:cubicBezTo>
              </a:path>
              <a:path w="3631" h="8866">
                <a:moveTo>
                  <a:pt x="12924" y="9294"/>
                </a:moveTo>
                <a:cubicBezTo>
                  <a:pt x="12932" y="9300"/>
                  <a:pt x="12939" y="9305"/>
                  <a:pt x="12948" y="9313"/>
                </a:cubicBezTo>
                <a:cubicBezTo>
                  <a:pt x="12961" y="9326"/>
                  <a:pt x="12973" y="9339"/>
                  <a:pt x="12986" y="9354"/>
                </a:cubicBezTo>
                <a:cubicBezTo>
                  <a:pt x="13002" y="9372"/>
                  <a:pt x="13018" y="9396"/>
                  <a:pt x="13029" y="9419"/>
                </a:cubicBezTo>
                <a:cubicBezTo>
                  <a:pt x="13046" y="9455"/>
                  <a:pt x="13053" y="9494"/>
                  <a:pt x="13071" y="9530"/>
                </a:cubicBezTo>
                <a:cubicBezTo>
                  <a:pt x="13084" y="9558"/>
                  <a:pt x="13095" y="9586"/>
                  <a:pt x="13109" y="9613"/>
                </a:cubicBezTo>
                <a:cubicBezTo>
                  <a:pt x="13121" y="9636"/>
                  <a:pt x="13132" y="9656"/>
                  <a:pt x="13142" y="9678"/>
                </a:cubicBezTo>
                <a:cubicBezTo>
                  <a:pt x="13151" y="9697"/>
                  <a:pt x="13156" y="9712"/>
                  <a:pt x="13166" y="9729"/>
                </a:cubicBezTo>
                <a:cubicBezTo>
                  <a:pt x="13170" y="9736"/>
                  <a:pt x="13176" y="9749"/>
                  <a:pt x="13180" y="9752"/>
                </a:cubicBezTo>
                <a:cubicBezTo>
                  <a:pt x="13185" y="9756"/>
                  <a:pt x="13188" y="9753"/>
                  <a:pt x="13195" y="9756"/>
                </a:cubicBezTo>
                <a:cubicBezTo>
                  <a:pt x="13196" y="9756"/>
                  <a:pt x="13198" y="9756"/>
                  <a:pt x="13199" y="9756"/>
                </a:cubicBezTo>
                <a:cubicBezTo>
                  <a:pt x="13202" y="9750"/>
                  <a:pt x="13204" y="9743"/>
                  <a:pt x="13209" y="9733"/>
                </a:cubicBezTo>
                <a:cubicBezTo>
                  <a:pt x="13218" y="9716"/>
                  <a:pt x="13227" y="9698"/>
                  <a:pt x="13237" y="9682"/>
                </a:cubicBezTo>
                <a:cubicBezTo>
                  <a:pt x="13255" y="9654"/>
                  <a:pt x="13272" y="9624"/>
                  <a:pt x="13290" y="9595"/>
                </a:cubicBezTo>
                <a:cubicBezTo>
                  <a:pt x="13323" y="9541"/>
                  <a:pt x="13343" y="9481"/>
                  <a:pt x="13370" y="9424"/>
                </a:cubicBezTo>
                <a:cubicBezTo>
                  <a:pt x="13394" y="9373"/>
                  <a:pt x="13412" y="9313"/>
                  <a:pt x="13451" y="9271"/>
                </a:cubicBezTo>
                <a:cubicBezTo>
                  <a:pt x="13456" y="9268"/>
                  <a:pt x="13460" y="9265"/>
                  <a:pt x="13465" y="9262"/>
                </a:cubicBezTo>
              </a:path>
              <a:path w="3631" h="8866">
                <a:moveTo>
                  <a:pt x="13935" y="10856"/>
                </a:moveTo>
                <a:cubicBezTo>
                  <a:pt x="13926" y="10854"/>
                  <a:pt x="13906" y="10844"/>
                  <a:pt x="13911" y="10852"/>
                </a:cubicBezTo>
                <a:cubicBezTo>
                  <a:pt x="13915" y="10858"/>
                  <a:pt x="13904" y="10849"/>
                  <a:pt x="13911" y="10852"/>
                </a:cubicBezTo>
                <a:cubicBezTo>
                  <a:pt x="13927" y="10858"/>
                  <a:pt x="13936" y="10864"/>
                  <a:pt x="13954" y="10866"/>
                </a:cubicBezTo>
                <a:cubicBezTo>
                  <a:pt x="14094" y="10879"/>
                  <a:pt x="14241" y="10862"/>
                  <a:pt x="14381" y="10861"/>
                </a:cubicBezTo>
                <a:cubicBezTo>
                  <a:pt x="14492" y="10860"/>
                  <a:pt x="14602" y="10861"/>
                  <a:pt x="14713" y="10861"/>
                </a:cubicBezTo>
                <a:cubicBezTo>
                  <a:pt x="14712" y="10853"/>
                  <a:pt x="14705" y="10851"/>
                  <a:pt x="14704" y="10843"/>
                </a:cubicBezTo>
                <a:cubicBezTo>
                  <a:pt x="14698" y="10762"/>
                  <a:pt x="14695" y="10683"/>
                  <a:pt x="14685" y="10602"/>
                </a:cubicBezTo>
                <a:cubicBezTo>
                  <a:pt x="14666" y="10446"/>
                  <a:pt x="14630" y="10286"/>
                  <a:pt x="14623" y="10131"/>
                </a:cubicBezTo>
                <a:cubicBezTo>
                  <a:pt x="14617" y="10002"/>
                  <a:pt x="14623" y="9864"/>
                  <a:pt x="14618" y="9738"/>
                </a:cubicBezTo>
                <a:cubicBezTo>
                  <a:pt x="14618" y="9727"/>
                  <a:pt x="14619" y="9716"/>
                  <a:pt x="14618" y="9705"/>
                </a:cubicBezTo>
                <a:cubicBezTo>
                  <a:pt x="14725" y="9705"/>
                  <a:pt x="14822" y="9722"/>
                  <a:pt x="14927" y="9742"/>
                </a:cubicBezTo>
                <a:cubicBezTo>
                  <a:pt x="14989" y="9754"/>
                  <a:pt x="15053" y="9770"/>
                  <a:pt x="15117" y="9775"/>
                </a:cubicBezTo>
                <a:cubicBezTo>
                  <a:pt x="15197" y="9782"/>
                  <a:pt x="15278" y="9775"/>
                  <a:pt x="15359" y="9775"/>
                </a:cubicBezTo>
                <a:cubicBezTo>
                  <a:pt x="15415" y="9775"/>
                  <a:pt x="15485" y="9776"/>
                  <a:pt x="15534" y="9779"/>
                </a:cubicBezTo>
              </a:path>
              <a:path w="3631" h="8866">
                <a:moveTo>
                  <a:pt x="15534" y="9544"/>
                </a:moveTo>
                <a:cubicBezTo>
                  <a:pt x="15541" y="9548"/>
                  <a:pt x="15550" y="9553"/>
                  <a:pt x="15558" y="9558"/>
                </a:cubicBezTo>
                <a:cubicBezTo>
                  <a:pt x="15568" y="9565"/>
                  <a:pt x="15582" y="9569"/>
                  <a:pt x="15591" y="9576"/>
                </a:cubicBezTo>
                <a:cubicBezTo>
                  <a:pt x="15616" y="9594"/>
                  <a:pt x="15639" y="9597"/>
                  <a:pt x="15667" y="9608"/>
                </a:cubicBezTo>
                <a:cubicBezTo>
                  <a:pt x="15695" y="9619"/>
                  <a:pt x="15724" y="9628"/>
                  <a:pt x="15752" y="9641"/>
                </a:cubicBezTo>
                <a:cubicBezTo>
                  <a:pt x="15786" y="9656"/>
                  <a:pt x="15815" y="9674"/>
                  <a:pt x="15847" y="9692"/>
                </a:cubicBezTo>
                <a:cubicBezTo>
                  <a:pt x="15866" y="9703"/>
                  <a:pt x="15885" y="9708"/>
                  <a:pt x="15904" y="9719"/>
                </a:cubicBezTo>
                <a:cubicBezTo>
                  <a:pt x="15918" y="9727"/>
                  <a:pt x="15929" y="9735"/>
                  <a:pt x="15937" y="9747"/>
                </a:cubicBezTo>
                <a:cubicBezTo>
                  <a:pt x="15942" y="9755"/>
                  <a:pt x="15943" y="9759"/>
                  <a:pt x="15942" y="9770"/>
                </a:cubicBezTo>
                <a:cubicBezTo>
                  <a:pt x="15941" y="9779"/>
                  <a:pt x="15941" y="9783"/>
                  <a:pt x="15933" y="9789"/>
                </a:cubicBezTo>
                <a:cubicBezTo>
                  <a:pt x="15924" y="9797"/>
                  <a:pt x="15906" y="9797"/>
                  <a:pt x="15895" y="9807"/>
                </a:cubicBezTo>
                <a:cubicBezTo>
                  <a:pt x="15879" y="9821"/>
                  <a:pt x="15866" y="9834"/>
                  <a:pt x="15847" y="9849"/>
                </a:cubicBezTo>
                <a:cubicBezTo>
                  <a:pt x="15822" y="9868"/>
                  <a:pt x="15796" y="9892"/>
                  <a:pt x="15771" y="9909"/>
                </a:cubicBezTo>
                <a:cubicBezTo>
                  <a:pt x="15734" y="9933"/>
                  <a:pt x="15707" y="9960"/>
                  <a:pt x="15676" y="9992"/>
                </a:cubicBezTo>
                <a:cubicBezTo>
                  <a:pt x="15648" y="10020"/>
                  <a:pt x="15616" y="10042"/>
                  <a:pt x="15591" y="10071"/>
                </a:cubicBezTo>
                <a:cubicBezTo>
                  <a:pt x="15573" y="10092"/>
                  <a:pt x="15582" y="10083"/>
                  <a:pt x="15586" y="10098"/>
                </a:cubicBezTo>
              </a:path>
              <a:path w="3631" h="8866">
                <a:moveTo>
                  <a:pt x="13067" y="11804"/>
                </a:moveTo>
                <a:cubicBezTo>
                  <a:pt x="13067" y="11878"/>
                  <a:pt x="13071" y="11952"/>
                  <a:pt x="13071" y="12026"/>
                </a:cubicBezTo>
                <a:cubicBezTo>
                  <a:pt x="13071" y="12182"/>
                  <a:pt x="13076" y="12337"/>
                  <a:pt x="13076" y="12493"/>
                </a:cubicBezTo>
                <a:cubicBezTo>
                  <a:pt x="13076" y="12567"/>
                  <a:pt x="13081" y="12640"/>
                  <a:pt x="13081" y="12714"/>
                </a:cubicBezTo>
                <a:cubicBezTo>
                  <a:pt x="13081" y="13052"/>
                  <a:pt x="13069" y="13396"/>
                  <a:pt x="13086" y="13731"/>
                </a:cubicBezTo>
                <a:cubicBezTo>
                  <a:pt x="13086" y="13741"/>
                  <a:pt x="13086" y="13744"/>
                  <a:pt x="13086" y="13750"/>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4662360" y="4218120"/>
            <a:ext cx="127080" cy="242640"/>
          </a:xfrm>
          <a:custGeom>
            <a:avLst/>
            <a:gdLst/>
            <a:ahLst/>
            <a:rect l="l" t="t" r="r" b="b"/>
            <a:pathLst>
              <a:path w="352" h="676">
                <a:moveTo>
                  <a:pt x="13062" y="11730"/>
                </a:moveTo>
                <a:cubicBezTo>
                  <a:pt x="13062" y="11797"/>
                  <a:pt x="13053" y="11855"/>
                  <a:pt x="13043" y="11919"/>
                </a:cubicBezTo>
                <a:cubicBezTo>
                  <a:pt x="13036" y="11965"/>
                  <a:pt x="13023" y="12008"/>
                  <a:pt x="13014" y="12054"/>
                </a:cubicBezTo>
                <a:cubicBezTo>
                  <a:pt x="13005" y="12097"/>
                  <a:pt x="12998" y="12140"/>
                  <a:pt x="12991" y="12183"/>
                </a:cubicBezTo>
                <a:cubicBezTo>
                  <a:pt x="12986" y="12212"/>
                  <a:pt x="12981" y="12247"/>
                  <a:pt x="12972" y="12275"/>
                </a:cubicBezTo>
                <a:cubicBezTo>
                  <a:pt x="12967" y="12289"/>
                  <a:pt x="12960" y="12300"/>
                  <a:pt x="12953" y="12312"/>
                </a:cubicBezTo>
                <a:cubicBezTo>
                  <a:pt x="12958" y="12299"/>
                  <a:pt x="12968" y="12284"/>
                  <a:pt x="12972" y="12271"/>
                </a:cubicBezTo>
                <a:cubicBezTo>
                  <a:pt x="12983" y="12238"/>
                  <a:pt x="12992" y="12202"/>
                  <a:pt x="13005" y="12169"/>
                </a:cubicBezTo>
                <a:cubicBezTo>
                  <a:pt x="13024" y="12119"/>
                  <a:pt x="13034" y="12072"/>
                  <a:pt x="13048" y="12021"/>
                </a:cubicBezTo>
                <a:cubicBezTo>
                  <a:pt x="13062" y="11967"/>
                  <a:pt x="13075" y="11913"/>
                  <a:pt x="13090" y="11859"/>
                </a:cubicBezTo>
                <a:cubicBezTo>
                  <a:pt x="13100" y="11823"/>
                  <a:pt x="13114" y="11788"/>
                  <a:pt x="13124" y="11753"/>
                </a:cubicBezTo>
                <a:cubicBezTo>
                  <a:pt x="13127" y="11742"/>
                  <a:pt x="13132" y="11721"/>
                  <a:pt x="13133" y="11716"/>
                </a:cubicBezTo>
                <a:cubicBezTo>
                  <a:pt x="13135" y="11726"/>
                  <a:pt x="13137" y="11734"/>
                  <a:pt x="13138" y="11744"/>
                </a:cubicBezTo>
                <a:cubicBezTo>
                  <a:pt x="13140" y="11762"/>
                  <a:pt x="13139" y="11781"/>
                  <a:pt x="13142" y="11799"/>
                </a:cubicBezTo>
                <a:cubicBezTo>
                  <a:pt x="13148" y="11838"/>
                  <a:pt x="13160" y="11876"/>
                  <a:pt x="13166" y="11915"/>
                </a:cubicBezTo>
                <a:cubicBezTo>
                  <a:pt x="13173" y="11960"/>
                  <a:pt x="13179" y="12005"/>
                  <a:pt x="13190" y="12049"/>
                </a:cubicBezTo>
                <a:cubicBezTo>
                  <a:pt x="13198" y="12082"/>
                  <a:pt x="13207" y="12119"/>
                  <a:pt x="13218" y="12151"/>
                </a:cubicBezTo>
                <a:cubicBezTo>
                  <a:pt x="13228" y="12178"/>
                  <a:pt x="13242" y="12203"/>
                  <a:pt x="13252" y="12229"/>
                </a:cubicBezTo>
                <a:cubicBezTo>
                  <a:pt x="13260" y="12251"/>
                  <a:pt x="13265" y="12276"/>
                  <a:pt x="13275" y="12298"/>
                </a:cubicBezTo>
                <a:cubicBezTo>
                  <a:pt x="13283" y="12316"/>
                  <a:pt x="13293" y="12329"/>
                  <a:pt x="13299" y="12349"/>
                </a:cubicBezTo>
                <a:cubicBezTo>
                  <a:pt x="13302" y="12359"/>
                  <a:pt x="13305" y="12364"/>
                  <a:pt x="13304" y="12377"/>
                </a:cubicBezTo>
                <a:cubicBezTo>
                  <a:pt x="13303" y="12384"/>
                  <a:pt x="13301" y="12382"/>
                  <a:pt x="13299" y="1239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772080" y="3363840"/>
            <a:ext cx="500040" cy="522360"/>
          </a:xfrm>
          <a:custGeom>
            <a:avLst/>
            <a:gdLst/>
            <a:ahLst/>
            <a:rect l="l" t="t" r="r" b="b"/>
            <a:pathLst>
              <a:path w="1391" h="1448">
                <a:moveTo>
                  <a:pt x="11866" y="10635"/>
                </a:moveTo>
                <a:cubicBezTo>
                  <a:pt x="11850" y="10656"/>
                  <a:pt x="11866" y="10666"/>
                  <a:pt x="11833" y="10681"/>
                </a:cubicBezTo>
                <a:cubicBezTo>
                  <a:pt x="11816" y="10689"/>
                  <a:pt x="11805" y="10693"/>
                  <a:pt x="11785" y="10695"/>
                </a:cubicBezTo>
                <a:cubicBezTo>
                  <a:pt x="11658" y="10707"/>
                  <a:pt x="11542" y="10715"/>
                  <a:pt x="11415" y="10741"/>
                </a:cubicBezTo>
                <a:cubicBezTo>
                  <a:pt x="11361" y="10752"/>
                  <a:pt x="11307" y="10765"/>
                  <a:pt x="11254" y="10778"/>
                </a:cubicBezTo>
                <a:cubicBezTo>
                  <a:pt x="11215" y="10787"/>
                  <a:pt x="11179" y="10790"/>
                  <a:pt x="11140" y="10792"/>
                </a:cubicBezTo>
                <a:cubicBezTo>
                  <a:pt x="11135" y="10792"/>
                  <a:pt x="11131" y="10792"/>
                  <a:pt x="11126" y="10792"/>
                </a:cubicBezTo>
                <a:cubicBezTo>
                  <a:pt x="11132" y="10756"/>
                  <a:pt x="11144" y="10721"/>
                  <a:pt x="11149" y="10685"/>
                </a:cubicBezTo>
                <a:cubicBezTo>
                  <a:pt x="11156" y="10635"/>
                  <a:pt x="11145" y="10582"/>
                  <a:pt x="11154" y="10533"/>
                </a:cubicBezTo>
                <a:cubicBezTo>
                  <a:pt x="11166" y="10464"/>
                  <a:pt x="11172" y="10400"/>
                  <a:pt x="11173" y="10329"/>
                </a:cubicBezTo>
                <a:cubicBezTo>
                  <a:pt x="11174" y="10201"/>
                  <a:pt x="11173" y="10074"/>
                  <a:pt x="11178" y="9946"/>
                </a:cubicBezTo>
                <a:cubicBezTo>
                  <a:pt x="11180" y="9889"/>
                  <a:pt x="11189" y="9833"/>
                  <a:pt x="11192" y="9775"/>
                </a:cubicBezTo>
                <a:cubicBezTo>
                  <a:pt x="11195" y="9728"/>
                  <a:pt x="11205" y="9686"/>
                  <a:pt x="11211" y="9641"/>
                </a:cubicBezTo>
                <a:cubicBezTo>
                  <a:pt x="11215" y="9612"/>
                  <a:pt x="11220" y="9586"/>
                  <a:pt x="11225" y="9558"/>
                </a:cubicBezTo>
                <a:cubicBezTo>
                  <a:pt x="11227" y="9544"/>
                  <a:pt x="11229" y="9529"/>
                  <a:pt x="11230" y="9516"/>
                </a:cubicBezTo>
                <a:cubicBezTo>
                  <a:pt x="11231" y="9508"/>
                  <a:pt x="11229" y="9501"/>
                  <a:pt x="11230" y="9493"/>
                </a:cubicBezTo>
                <a:cubicBezTo>
                  <a:pt x="11038" y="9493"/>
                  <a:pt x="10827" y="9478"/>
                  <a:pt x="10646" y="9502"/>
                </a:cubicBezTo>
              </a:path>
              <a:path w="1391" h="1448">
                <a:moveTo>
                  <a:pt x="10808" y="9345"/>
                </a:moveTo>
                <a:cubicBezTo>
                  <a:pt x="10796" y="9350"/>
                  <a:pt x="10790" y="9355"/>
                  <a:pt x="10779" y="9359"/>
                </a:cubicBezTo>
                <a:cubicBezTo>
                  <a:pt x="10765" y="9365"/>
                  <a:pt x="10760" y="9371"/>
                  <a:pt x="10746" y="9382"/>
                </a:cubicBezTo>
                <a:cubicBezTo>
                  <a:pt x="10728" y="9396"/>
                  <a:pt x="10709" y="9410"/>
                  <a:pt x="10694" y="9428"/>
                </a:cubicBezTo>
                <a:cubicBezTo>
                  <a:pt x="10679" y="9445"/>
                  <a:pt x="10661" y="9465"/>
                  <a:pt x="10646" y="9479"/>
                </a:cubicBezTo>
                <a:cubicBezTo>
                  <a:pt x="10630" y="9494"/>
                  <a:pt x="10610" y="9505"/>
                  <a:pt x="10594" y="9521"/>
                </a:cubicBezTo>
                <a:cubicBezTo>
                  <a:pt x="10577" y="9538"/>
                  <a:pt x="10555" y="9548"/>
                  <a:pt x="10537" y="9562"/>
                </a:cubicBezTo>
                <a:cubicBezTo>
                  <a:pt x="10525" y="9572"/>
                  <a:pt x="10514" y="9578"/>
                  <a:pt x="10499" y="9585"/>
                </a:cubicBezTo>
                <a:cubicBezTo>
                  <a:pt x="10489" y="9590"/>
                  <a:pt x="10484" y="9591"/>
                  <a:pt x="10480" y="9599"/>
                </a:cubicBezTo>
                <a:cubicBezTo>
                  <a:pt x="10477" y="9605"/>
                  <a:pt x="10477" y="9611"/>
                  <a:pt x="10476" y="9618"/>
                </a:cubicBezTo>
                <a:cubicBezTo>
                  <a:pt x="10474" y="9630"/>
                  <a:pt x="10476" y="9630"/>
                  <a:pt x="10485" y="9636"/>
                </a:cubicBezTo>
                <a:cubicBezTo>
                  <a:pt x="10507" y="9651"/>
                  <a:pt x="10525" y="9669"/>
                  <a:pt x="10547" y="9687"/>
                </a:cubicBezTo>
                <a:cubicBezTo>
                  <a:pt x="10580" y="9715"/>
                  <a:pt x="10616" y="9743"/>
                  <a:pt x="10646" y="9775"/>
                </a:cubicBezTo>
                <a:cubicBezTo>
                  <a:pt x="10667" y="9797"/>
                  <a:pt x="10685" y="9820"/>
                  <a:pt x="10703" y="984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924360" y="1270080"/>
            <a:ext cx="592200" cy="664920"/>
          </a:xfrm>
          <a:custGeom>
            <a:avLst/>
            <a:gdLst/>
            <a:ahLst/>
            <a:rect l="l" t="t" r="r" b="b"/>
            <a:pathLst>
              <a:path w="1647" h="1847">
                <a:moveTo>
                  <a:pt x="10903" y="3528"/>
                </a:moveTo>
                <a:cubicBezTo>
                  <a:pt x="10902" y="3548"/>
                  <a:pt x="10899" y="3575"/>
                  <a:pt x="10899" y="3597"/>
                </a:cubicBezTo>
                <a:cubicBezTo>
                  <a:pt x="10898" y="3668"/>
                  <a:pt x="10908" y="3738"/>
                  <a:pt x="10918" y="3809"/>
                </a:cubicBezTo>
                <a:cubicBezTo>
                  <a:pt x="10944" y="3998"/>
                  <a:pt x="10953" y="4186"/>
                  <a:pt x="10956" y="4377"/>
                </a:cubicBezTo>
                <a:cubicBezTo>
                  <a:pt x="10958" y="4527"/>
                  <a:pt x="10965" y="4681"/>
                  <a:pt x="10979" y="4830"/>
                </a:cubicBezTo>
                <a:cubicBezTo>
                  <a:pt x="10995" y="4996"/>
                  <a:pt x="10998" y="5158"/>
                  <a:pt x="10998" y="5324"/>
                </a:cubicBezTo>
                <a:cubicBezTo>
                  <a:pt x="10998" y="5351"/>
                  <a:pt x="10998" y="5357"/>
                  <a:pt x="10998" y="5374"/>
                </a:cubicBezTo>
              </a:path>
              <a:path w="1647" h="1847">
                <a:moveTo>
                  <a:pt x="11069" y="4156"/>
                </a:moveTo>
                <a:cubicBezTo>
                  <a:pt x="11076" y="4160"/>
                  <a:pt x="11048" y="4153"/>
                  <a:pt x="11055" y="4156"/>
                </a:cubicBezTo>
                <a:cubicBezTo>
                  <a:pt x="11076" y="4164"/>
                  <a:pt x="11100" y="4170"/>
                  <a:pt x="11122" y="4179"/>
                </a:cubicBezTo>
                <a:cubicBezTo>
                  <a:pt x="11189" y="4207"/>
                  <a:pt x="11254" y="4243"/>
                  <a:pt x="11311" y="4289"/>
                </a:cubicBezTo>
                <a:cubicBezTo>
                  <a:pt x="11382" y="4346"/>
                  <a:pt x="11450" y="4407"/>
                  <a:pt x="11520" y="4465"/>
                </a:cubicBezTo>
                <a:cubicBezTo>
                  <a:pt x="11609" y="4539"/>
                  <a:pt x="11702" y="4605"/>
                  <a:pt x="11795" y="4673"/>
                </a:cubicBezTo>
                <a:cubicBezTo>
                  <a:pt x="11891" y="4744"/>
                  <a:pt x="11983" y="4818"/>
                  <a:pt x="12075" y="4894"/>
                </a:cubicBezTo>
                <a:cubicBezTo>
                  <a:pt x="12138" y="4946"/>
                  <a:pt x="12202" y="4996"/>
                  <a:pt x="12265" y="5047"/>
                </a:cubicBezTo>
                <a:cubicBezTo>
                  <a:pt x="12320" y="5092"/>
                  <a:pt x="12379" y="5131"/>
                  <a:pt x="12435" y="5176"/>
                </a:cubicBezTo>
                <a:cubicBezTo>
                  <a:pt x="12476" y="5209"/>
                  <a:pt x="12509" y="5239"/>
                  <a:pt x="12545" y="527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273560" y="5683320"/>
            <a:ext cx="404640" cy="825480"/>
          </a:xfrm>
          <a:custGeom>
            <a:avLst/>
            <a:gdLst/>
            <a:ahLst/>
            <a:rect l="l" t="t" r="r" b="b"/>
            <a:pathLst>
              <a:path w="1125" h="2294">
                <a:moveTo>
                  <a:pt x="12995" y="15788"/>
                </a:moveTo>
                <a:cubicBezTo>
                  <a:pt x="12987" y="15797"/>
                  <a:pt x="12975" y="15805"/>
                  <a:pt x="12967" y="15816"/>
                </a:cubicBezTo>
                <a:cubicBezTo>
                  <a:pt x="12911" y="15893"/>
                  <a:pt x="12855" y="15969"/>
                  <a:pt x="12806" y="16052"/>
                </a:cubicBezTo>
                <a:cubicBezTo>
                  <a:pt x="12754" y="16140"/>
                  <a:pt x="12697" y="16226"/>
                  <a:pt x="12639" y="16311"/>
                </a:cubicBezTo>
                <a:cubicBezTo>
                  <a:pt x="12523" y="16480"/>
                  <a:pt x="12425" y="16662"/>
                  <a:pt x="12326" y="16842"/>
                </a:cubicBezTo>
                <a:cubicBezTo>
                  <a:pt x="12243" y="16993"/>
                  <a:pt x="12168" y="17148"/>
                  <a:pt x="12089" y="17300"/>
                </a:cubicBezTo>
                <a:cubicBezTo>
                  <a:pt x="12064" y="17347"/>
                  <a:pt x="12034" y="17394"/>
                  <a:pt x="12013" y="17443"/>
                </a:cubicBezTo>
                <a:cubicBezTo>
                  <a:pt x="12009" y="17451"/>
                  <a:pt x="12008" y="17463"/>
                  <a:pt x="12004" y="17471"/>
                </a:cubicBezTo>
              </a:path>
              <a:path w="1125" h="2294">
                <a:moveTo>
                  <a:pt x="11880" y="16713"/>
                </a:moveTo>
                <a:cubicBezTo>
                  <a:pt x="11879" y="16701"/>
                  <a:pt x="11876" y="16684"/>
                  <a:pt x="11875" y="16680"/>
                </a:cubicBezTo>
                <a:cubicBezTo>
                  <a:pt x="11874" y="16686"/>
                  <a:pt x="11871" y="16718"/>
                  <a:pt x="11871" y="16731"/>
                </a:cubicBezTo>
                <a:cubicBezTo>
                  <a:pt x="11871" y="17098"/>
                  <a:pt x="11850" y="17471"/>
                  <a:pt x="11880" y="17836"/>
                </a:cubicBezTo>
                <a:cubicBezTo>
                  <a:pt x="11885" y="17901"/>
                  <a:pt x="11890" y="17966"/>
                  <a:pt x="11899" y="18030"/>
                </a:cubicBezTo>
                <a:cubicBezTo>
                  <a:pt x="11903" y="18058"/>
                  <a:pt x="11903" y="18066"/>
                  <a:pt x="11913" y="1808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5591160" y="3065400"/>
            <a:ext cx="581040" cy="478080"/>
          </a:xfrm>
          <a:custGeom>
            <a:avLst/>
            <a:gdLst/>
            <a:ahLst/>
            <a:rect l="l" t="t" r="r" b="b"/>
            <a:pathLst>
              <a:path w="1615" h="1328">
                <a:moveTo>
                  <a:pt x="16312" y="8841"/>
                </a:moveTo>
                <a:cubicBezTo>
                  <a:pt x="16302" y="8862"/>
                  <a:pt x="16287" y="8883"/>
                  <a:pt x="16279" y="8906"/>
                </a:cubicBezTo>
                <a:cubicBezTo>
                  <a:pt x="16259" y="8965"/>
                  <a:pt x="16246" y="9021"/>
                  <a:pt x="16232" y="9081"/>
                </a:cubicBezTo>
                <a:cubicBezTo>
                  <a:pt x="16218" y="9142"/>
                  <a:pt x="16195" y="9201"/>
                  <a:pt x="16179" y="9262"/>
                </a:cubicBezTo>
                <a:cubicBezTo>
                  <a:pt x="16172" y="9290"/>
                  <a:pt x="16170" y="9311"/>
                  <a:pt x="16170" y="9340"/>
                </a:cubicBezTo>
                <a:cubicBezTo>
                  <a:pt x="16195" y="9303"/>
                  <a:pt x="16203" y="9277"/>
                  <a:pt x="16217" y="9234"/>
                </a:cubicBezTo>
                <a:cubicBezTo>
                  <a:pt x="16240" y="9165"/>
                  <a:pt x="16279" y="9101"/>
                  <a:pt x="16308" y="9035"/>
                </a:cubicBezTo>
                <a:cubicBezTo>
                  <a:pt x="16328" y="8991"/>
                  <a:pt x="16348" y="8931"/>
                  <a:pt x="16384" y="8897"/>
                </a:cubicBezTo>
                <a:cubicBezTo>
                  <a:pt x="16392" y="8888"/>
                  <a:pt x="16395" y="8883"/>
                  <a:pt x="16393" y="8897"/>
                </a:cubicBezTo>
                <a:cubicBezTo>
                  <a:pt x="16375" y="8943"/>
                  <a:pt x="16351" y="8989"/>
                  <a:pt x="16336" y="9035"/>
                </a:cubicBezTo>
                <a:cubicBezTo>
                  <a:pt x="16312" y="9106"/>
                  <a:pt x="16296" y="9180"/>
                  <a:pt x="16274" y="9252"/>
                </a:cubicBezTo>
                <a:cubicBezTo>
                  <a:pt x="16260" y="9297"/>
                  <a:pt x="16252" y="9340"/>
                  <a:pt x="16251" y="9387"/>
                </a:cubicBezTo>
                <a:cubicBezTo>
                  <a:pt x="16251" y="9391"/>
                  <a:pt x="16251" y="9396"/>
                  <a:pt x="16251" y="9400"/>
                </a:cubicBezTo>
                <a:cubicBezTo>
                  <a:pt x="16292" y="9347"/>
                  <a:pt x="16309" y="9284"/>
                  <a:pt x="16341" y="9225"/>
                </a:cubicBezTo>
                <a:cubicBezTo>
                  <a:pt x="16374" y="9163"/>
                  <a:pt x="16406" y="9086"/>
                  <a:pt x="16455" y="9035"/>
                </a:cubicBezTo>
                <a:cubicBezTo>
                  <a:pt x="16456" y="9035"/>
                  <a:pt x="16458" y="9035"/>
                  <a:pt x="16459" y="9035"/>
                </a:cubicBezTo>
                <a:cubicBezTo>
                  <a:pt x="16449" y="9076"/>
                  <a:pt x="16441" y="9120"/>
                  <a:pt x="16426" y="9160"/>
                </a:cubicBezTo>
                <a:cubicBezTo>
                  <a:pt x="16391" y="9255"/>
                  <a:pt x="16344" y="9343"/>
                  <a:pt x="16298" y="9433"/>
                </a:cubicBezTo>
                <a:cubicBezTo>
                  <a:pt x="16282" y="9464"/>
                  <a:pt x="16265" y="9498"/>
                  <a:pt x="16265" y="9534"/>
                </a:cubicBezTo>
                <a:cubicBezTo>
                  <a:pt x="16267" y="9534"/>
                  <a:pt x="16268" y="9534"/>
                  <a:pt x="16270" y="9534"/>
                </a:cubicBezTo>
                <a:cubicBezTo>
                  <a:pt x="16307" y="9499"/>
                  <a:pt x="16342" y="9458"/>
                  <a:pt x="16369" y="9414"/>
                </a:cubicBezTo>
                <a:cubicBezTo>
                  <a:pt x="16415" y="9340"/>
                  <a:pt x="16454" y="9256"/>
                  <a:pt x="16493" y="9179"/>
                </a:cubicBezTo>
                <a:cubicBezTo>
                  <a:pt x="16524" y="9119"/>
                  <a:pt x="16549" y="9055"/>
                  <a:pt x="16578" y="8994"/>
                </a:cubicBezTo>
                <a:cubicBezTo>
                  <a:pt x="16580" y="8953"/>
                  <a:pt x="16580" y="8983"/>
                  <a:pt x="16569" y="9012"/>
                </a:cubicBezTo>
                <a:cubicBezTo>
                  <a:pt x="16541" y="9085"/>
                  <a:pt x="16514" y="9157"/>
                  <a:pt x="16483" y="9229"/>
                </a:cubicBezTo>
                <a:cubicBezTo>
                  <a:pt x="16455" y="9292"/>
                  <a:pt x="16427" y="9356"/>
                  <a:pt x="16412" y="9424"/>
                </a:cubicBezTo>
                <a:cubicBezTo>
                  <a:pt x="16412" y="9425"/>
                  <a:pt x="16412" y="9427"/>
                  <a:pt x="16412" y="9428"/>
                </a:cubicBezTo>
                <a:cubicBezTo>
                  <a:pt x="16433" y="9404"/>
                  <a:pt x="16448" y="9376"/>
                  <a:pt x="16464" y="9345"/>
                </a:cubicBezTo>
                <a:cubicBezTo>
                  <a:pt x="16501" y="9271"/>
                  <a:pt x="16539" y="9196"/>
                  <a:pt x="16578" y="9123"/>
                </a:cubicBezTo>
                <a:cubicBezTo>
                  <a:pt x="16603" y="9077"/>
                  <a:pt x="16630" y="9037"/>
                  <a:pt x="16659" y="8994"/>
                </a:cubicBezTo>
                <a:cubicBezTo>
                  <a:pt x="16671" y="8977"/>
                  <a:pt x="16637" y="9018"/>
                  <a:pt x="16626" y="9035"/>
                </a:cubicBezTo>
                <a:cubicBezTo>
                  <a:pt x="16600" y="9075"/>
                  <a:pt x="16580" y="9119"/>
                  <a:pt x="16554" y="9160"/>
                </a:cubicBezTo>
              </a:path>
              <a:path w="1615" h="1328">
                <a:moveTo>
                  <a:pt x="16422" y="8952"/>
                </a:moveTo>
                <a:cubicBezTo>
                  <a:pt x="16417" y="8948"/>
                  <a:pt x="16424" y="8941"/>
                  <a:pt x="16412" y="8938"/>
                </a:cubicBezTo>
                <a:cubicBezTo>
                  <a:pt x="16385" y="8930"/>
                  <a:pt x="16376" y="8949"/>
                  <a:pt x="16360" y="8966"/>
                </a:cubicBezTo>
                <a:cubicBezTo>
                  <a:pt x="16316" y="9013"/>
                  <a:pt x="16296" y="9070"/>
                  <a:pt x="16270" y="9128"/>
                </a:cubicBezTo>
                <a:cubicBezTo>
                  <a:pt x="16242" y="9191"/>
                  <a:pt x="16214" y="9250"/>
                  <a:pt x="16189" y="9313"/>
                </a:cubicBezTo>
                <a:cubicBezTo>
                  <a:pt x="16183" y="9329"/>
                  <a:pt x="16149" y="9378"/>
                  <a:pt x="16179" y="9354"/>
                </a:cubicBezTo>
                <a:cubicBezTo>
                  <a:pt x="16223" y="9318"/>
                  <a:pt x="16240" y="9224"/>
                  <a:pt x="16260" y="9174"/>
                </a:cubicBezTo>
                <a:cubicBezTo>
                  <a:pt x="16294" y="9089"/>
                  <a:pt x="16329" y="9005"/>
                  <a:pt x="16369" y="8924"/>
                </a:cubicBezTo>
                <a:cubicBezTo>
                  <a:pt x="16372" y="8915"/>
                  <a:pt x="16376" y="8906"/>
                  <a:pt x="16379" y="8897"/>
                </a:cubicBezTo>
                <a:cubicBezTo>
                  <a:pt x="16365" y="8923"/>
                  <a:pt x="16358" y="8930"/>
                  <a:pt x="16346" y="8957"/>
                </a:cubicBezTo>
                <a:cubicBezTo>
                  <a:pt x="16277" y="9103"/>
                  <a:pt x="16225" y="9259"/>
                  <a:pt x="16170" y="9410"/>
                </a:cubicBezTo>
                <a:cubicBezTo>
                  <a:pt x="16170" y="9410"/>
                  <a:pt x="16148" y="9492"/>
                  <a:pt x="16161" y="9484"/>
                </a:cubicBezTo>
                <a:cubicBezTo>
                  <a:pt x="16201" y="9460"/>
                  <a:pt x="16222" y="9398"/>
                  <a:pt x="16241" y="9359"/>
                </a:cubicBezTo>
                <a:cubicBezTo>
                  <a:pt x="16280" y="9279"/>
                  <a:pt x="16324" y="9202"/>
                  <a:pt x="16365" y="9123"/>
                </a:cubicBezTo>
                <a:cubicBezTo>
                  <a:pt x="16381" y="9093"/>
                  <a:pt x="16394" y="9071"/>
                  <a:pt x="16412" y="9044"/>
                </a:cubicBezTo>
                <a:cubicBezTo>
                  <a:pt x="16403" y="9084"/>
                  <a:pt x="16392" y="9125"/>
                  <a:pt x="16379" y="9165"/>
                </a:cubicBezTo>
                <a:cubicBezTo>
                  <a:pt x="16353" y="9243"/>
                  <a:pt x="16322" y="9319"/>
                  <a:pt x="16293" y="9396"/>
                </a:cubicBezTo>
                <a:cubicBezTo>
                  <a:pt x="16283" y="9424"/>
                  <a:pt x="16255" y="9483"/>
                  <a:pt x="16279" y="9465"/>
                </a:cubicBezTo>
                <a:cubicBezTo>
                  <a:pt x="16334" y="9424"/>
                  <a:pt x="16366" y="9302"/>
                  <a:pt x="16393" y="9243"/>
                </a:cubicBezTo>
                <a:cubicBezTo>
                  <a:pt x="16421" y="9183"/>
                  <a:pt x="16455" y="9123"/>
                  <a:pt x="16493" y="9077"/>
                </a:cubicBezTo>
                <a:cubicBezTo>
                  <a:pt x="16482" y="9135"/>
                  <a:pt x="16467" y="9175"/>
                  <a:pt x="16445" y="9229"/>
                </a:cubicBezTo>
                <a:cubicBezTo>
                  <a:pt x="16416" y="9301"/>
                  <a:pt x="16387" y="9371"/>
                  <a:pt x="16346" y="9437"/>
                </a:cubicBezTo>
                <a:cubicBezTo>
                  <a:pt x="16329" y="9462"/>
                  <a:pt x="16323" y="9468"/>
                  <a:pt x="16322" y="9488"/>
                </a:cubicBezTo>
                <a:cubicBezTo>
                  <a:pt x="16356" y="9447"/>
                  <a:pt x="16381" y="9408"/>
                  <a:pt x="16407" y="9359"/>
                </a:cubicBezTo>
                <a:cubicBezTo>
                  <a:pt x="16471" y="9235"/>
                  <a:pt x="16525" y="9097"/>
                  <a:pt x="16602" y="8980"/>
                </a:cubicBezTo>
                <a:cubicBezTo>
                  <a:pt x="16607" y="8975"/>
                  <a:pt x="16611" y="8971"/>
                  <a:pt x="16616" y="8966"/>
                </a:cubicBezTo>
                <a:cubicBezTo>
                  <a:pt x="16592" y="9024"/>
                  <a:pt x="16568" y="9083"/>
                  <a:pt x="16545" y="9142"/>
                </a:cubicBezTo>
                <a:cubicBezTo>
                  <a:pt x="16518" y="9212"/>
                  <a:pt x="16480" y="9279"/>
                  <a:pt x="16455" y="9350"/>
                </a:cubicBezTo>
                <a:cubicBezTo>
                  <a:pt x="16440" y="9393"/>
                  <a:pt x="16459" y="9372"/>
                  <a:pt x="16474" y="9350"/>
                </a:cubicBezTo>
                <a:cubicBezTo>
                  <a:pt x="16523" y="9280"/>
                  <a:pt x="16559" y="9194"/>
                  <a:pt x="16597" y="9118"/>
                </a:cubicBezTo>
                <a:cubicBezTo>
                  <a:pt x="16640" y="9031"/>
                  <a:pt x="16703" y="8950"/>
                  <a:pt x="16739" y="8860"/>
                </a:cubicBezTo>
                <a:cubicBezTo>
                  <a:pt x="16739" y="8858"/>
                  <a:pt x="16739" y="8857"/>
                  <a:pt x="16739" y="8855"/>
                </a:cubicBezTo>
                <a:cubicBezTo>
                  <a:pt x="16712" y="8910"/>
                  <a:pt x="16690" y="8966"/>
                  <a:pt x="16664" y="9021"/>
                </a:cubicBezTo>
                <a:cubicBezTo>
                  <a:pt x="16616" y="9124"/>
                  <a:pt x="16562" y="9227"/>
                  <a:pt x="16507" y="9326"/>
                </a:cubicBezTo>
                <a:cubicBezTo>
                  <a:pt x="16502" y="9334"/>
                  <a:pt x="16433" y="9441"/>
                  <a:pt x="16450" y="9460"/>
                </a:cubicBezTo>
                <a:cubicBezTo>
                  <a:pt x="16463" y="9474"/>
                  <a:pt x="16524" y="9385"/>
                  <a:pt x="16526" y="9382"/>
                </a:cubicBezTo>
                <a:cubicBezTo>
                  <a:pt x="16571" y="9307"/>
                  <a:pt x="16612" y="9228"/>
                  <a:pt x="16654" y="9151"/>
                </a:cubicBezTo>
                <a:cubicBezTo>
                  <a:pt x="16680" y="9104"/>
                  <a:pt x="16697" y="9062"/>
                  <a:pt x="16711" y="9012"/>
                </a:cubicBezTo>
                <a:cubicBezTo>
                  <a:pt x="16682" y="9053"/>
                  <a:pt x="16661" y="9105"/>
                  <a:pt x="16635" y="9151"/>
                </a:cubicBezTo>
                <a:cubicBezTo>
                  <a:pt x="16585" y="9240"/>
                  <a:pt x="16540" y="9331"/>
                  <a:pt x="16488" y="9419"/>
                </a:cubicBezTo>
                <a:cubicBezTo>
                  <a:pt x="16464" y="9460"/>
                  <a:pt x="16440" y="9502"/>
                  <a:pt x="16417" y="9544"/>
                </a:cubicBezTo>
                <a:cubicBezTo>
                  <a:pt x="16419" y="9509"/>
                  <a:pt x="16425" y="9477"/>
                  <a:pt x="16431" y="9442"/>
                </a:cubicBezTo>
                <a:cubicBezTo>
                  <a:pt x="16446" y="9352"/>
                  <a:pt x="16467" y="9264"/>
                  <a:pt x="16483" y="9174"/>
                </a:cubicBezTo>
                <a:cubicBezTo>
                  <a:pt x="16491" y="9129"/>
                  <a:pt x="16491" y="9083"/>
                  <a:pt x="16483" y="9054"/>
                </a:cubicBezTo>
                <a:cubicBezTo>
                  <a:pt x="16454" y="9109"/>
                  <a:pt x="16421" y="9160"/>
                  <a:pt x="16393" y="9216"/>
                </a:cubicBezTo>
                <a:cubicBezTo>
                  <a:pt x="16359" y="9283"/>
                  <a:pt x="16320" y="9342"/>
                  <a:pt x="16279" y="9405"/>
                </a:cubicBezTo>
                <a:cubicBezTo>
                  <a:pt x="16262" y="9430"/>
                  <a:pt x="16252" y="9454"/>
                  <a:pt x="16251" y="9410"/>
                </a:cubicBezTo>
                <a:cubicBezTo>
                  <a:pt x="16249" y="9327"/>
                  <a:pt x="16271" y="9241"/>
                  <a:pt x="16284" y="9160"/>
                </a:cubicBezTo>
                <a:cubicBezTo>
                  <a:pt x="16296" y="9081"/>
                  <a:pt x="16313" y="9004"/>
                  <a:pt x="16317" y="8924"/>
                </a:cubicBezTo>
                <a:cubicBezTo>
                  <a:pt x="16319" y="8884"/>
                  <a:pt x="16314" y="8862"/>
                  <a:pt x="16289" y="8906"/>
                </a:cubicBezTo>
                <a:cubicBezTo>
                  <a:pt x="16245" y="8983"/>
                  <a:pt x="16208" y="9068"/>
                  <a:pt x="16175" y="9151"/>
                </a:cubicBezTo>
                <a:cubicBezTo>
                  <a:pt x="16169" y="9166"/>
                  <a:pt x="16155" y="9225"/>
                  <a:pt x="16146" y="9211"/>
                </a:cubicBezTo>
                <a:cubicBezTo>
                  <a:pt x="16123" y="9174"/>
                  <a:pt x="16198" y="9027"/>
                  <a:pt x="16208" y="8989"/>
                </a:cubicBezTo>
                <a:cubicBezTo>
                  <a:pt x="16211" y="8974"/>
                  <a:pt x="16214" y="8958"/>
                  <a:pt x="16217" y="8943"/>
                </a:cubicBezTo>
                <a:cubicBezTo>
                  <a:pt x="16230" y="8911"/>
                  <a:pt x="16234" y="8904"/>
                  <a:pt x="16236" y="8883"/>
                </a:cubicBezTo>
                <a:cubicBezTo>
                  <a:pt x="16213" y="8912"/>
                  <a:pt x="16209" y="8931"/>
                  <a:pt x="16198" y="8966"/>
                </a:cubicBezTo>
                <a:cubicBezTo>
                  <a:pt x="16168" y="9057"/>
                  <a:pt x="16105" y="9205"/>
                  <a:pt x="16127" y="9303"/>
                </a:cubicBezTo>
                <a:cubicBezTo>
                  <a:pt x="16136" y="9341"/>
                  <a:pt x="16163" y="9335"/>
                  <a:pt x="16189" y="9308"/>
                </a:cubicBezTo>
                <a:cubicBezTo>
                  <a:pt x="16237" y="9259"/>
                  <a:pt x="16276" y="9194"/>
                  <a:pt x="16322" y="9142"/>
                </a:cubicBezTo>
                <a:cubicBezTo>
                  <a:pt x="16323" y="9141"/>
                  <a:pt x="16395" y="9057"/>
                  <a:pt x="16403" y="9072"/>
                </a:cubicBezTo>
                <a:cubicBezTo>
                  <a:pt x="16419" y="9101"/>
                  <a:pt x="16387" y="9178"/>
                  <a:pt x="16379" y="9202"/>
                </a:cubicBezTo>
                <a:cubicBezTo>
                  <a:pt x="16358" y="9264"/>
                  <a:pt x="16319" y="9322"/>
                  <a:pt x="16312" y="9387"/>
                </a:cubicBezTo>
                <a:cubicBezTo>
                  <a:pt x="16314" y="9390"/>
                  <a:pt x="16315" y="9393"/>
                  <a:pt x="16317" y="9396"/>
                </a:cubicBezTo>
                <a:cubicBezTo>
                  <a:pt x="16352" y="9360"/>
                  <a:pt x="16377" y="9328"/>
                  <a:pt x="16398" y="9280"/>
                </a:cubicBezTo>
                <a:cubicBezTo>
                  <a:pt x="16432" y="9203"/>
                  <a:pt x="16460" y="9122"/>
                  <a:pt x="16493" y="9044"/>
                </a:cubicBezTo>
                <a:cubicBezTo>
                  <a:pt x="16502" y="9022"/>
                  <a:pt x="16528" y="8963"/>
                  <a:pt x="16516" y="8984"/>
                </a:cubicBezTo>
                <a:cubicBezTo>
                  <a:pt x="16501" y="9020"/>
                  <a:pt x="16495" y="9034"/>
                  <a:pt x="16483" y="9058"/>
                </a:cubicBezTo>
                <a:cubicBezTo>
                  <a:pt x="16454" y="9138"/>
                  <a:pt x="16419" y="9215"/>
                  <a:pt x="16388" y="9294"/>
                </a:cubicBezTo>
                <a:cubicBezTo>
                  <a:pt x="16379" y="9316"/>
                  <a:pt x="16361" y="9412"/>
                  <a:pt x="16336" y="9428"/>
                </a:cubicBezTo>
                <a:cubicBezTo>
                  <a:pt x="16263" y="9475"/>
                  <a:pt x="16354" y="9255"/>
                  <a:pt x="16365" y="9169"/>
                </a:cubicBezTo>
                <a:cubicBezTo>
                  <a:pt x="16376" y="9083"/>
                  <a:pt x="16389" y="8997"/>
                  <a:pt x="16393" y="8910"/>
                </a:cubicBezTo>
                <a:cubicBezTo>
                  <a:pt x="16393" y="8909"/>
                  <a:pt x="16396" y="8810"/>
                  <a:pt x="16379" y="8827"/>
                </a:cubicBezTo>
                <a:cubicBezTo>
                  <a:pt x="16353" y="8853"/>
                  <a:pt x="16343" y="8914"/>
                  <a:pt x="16336" y="8947"/>
                </a:cubicBezTo>
                <a:cubicBezTo>
                  <a:pt x="16326" y="8991"/>
                  <a:pt x="16323" y="9033"/>
                  <a:pt x="16322" y="9077"/>
                </a:cubicBezTo>
                <a:cubicBezTo>
                  <a:pt x="16324" y="9094"/>
                  <a:pt x="16312" y="9145"/>
                  <a:pt x="16336" y="9109"/>
                </a:cubicBezTo>
                <a:cubicBezTo>
                  <a:pt x="16362" y="9070"/>
                  <a:pt x="16379" y="9011"/>
                  <a:pt x="16393" y="8966"/>
                </a:cubicBezTo>
                <a:cubicBezTo>
                  <a:pt x="16402" y="8935"/>
                  <a:pt x="16443" y="8854"/>
                  <a:pt x="16417" y="8873"/>
                </a:cubicBezTo>
                <a:cubicBezTo>
                  <a:pt x="16377" y="8903"/>
                  <a:pt x="16369" y="8985"/>
                  <a:pt x="16355" y="9026"/>
                </a:cubicBezTo>
                <a:cubicBezTo>
                  <a:pt x="16324" y="9119"/>
                  <a:pt x="16293" y="9212"/>
                  <a:pt x="16274" y="9308"/>
                </a:cubicBezTo>
                <a:cubicBezTo>
                  <a:pt x="16265" y="9351"/>
                  <a:pt x="16262" y="9393"/>
                  <a:pt x="16260" y="9437"/>
                </a:cubicBezTo>
              </a:path>
              <a:path w="1615" h="1328">
                <a:moveTo>
                  <a:pt x="15529" y="8573"/>
                </a:moveTo>
                <a:cubicBezTo>
                  <a:pt x="15542" y="8614"/>
                  <a:pt x="15546" y="8613"/>
                  <a:pt x="15548" y="8656"/>
                </a:cubicBezTo>
                <a:cubicBezTo>
                  <a:pt x="15548" y="8667"/>
                  <a:pt x="15541" y="8717"/>
                  <a:pt x="15558" y="8716"/>
                </a:cubicBezTo>
                <a:cubicBezTo>
                  <a:pt x="15575" y="8715"/>
                  <a:pt x="15574" y="8700"/>
                  <a:pt x="15586" y="8689"/>
                </a:cubicBezTo>
                <a:cubicBezTo>
                  <a:pt x="15609" y="8669"/>
                  <a:pt x="15618" y="8640"/>
                  <a:pt x="15634" y="8615"/>
                </a:cubicBezTo>
                <a:cubicBezTo>
                  <a:pt x="15646" y="8596"/>
                  <a:pt x="15663" y="8550"/>
                  <a:pt x="15686" y="8578"/>
                </a:cubicBezTo>
                <a:cubicBezTo>
                  <a:pt x="15705" y="8601"/>
                  <a:pt x="15671" y="8670"/>
                  <a:pt x="15667" y="8693"/>
                </a:cubicBezTo>
                <a:cubicBezTo>
                  <a:pt x="15663" y="8713"/>
                  <a:pt x="15648" y="8793"/>
                  <a:pt x="15662" y="8795"/>
                </a:cubicBezTo>
                <a:cubicBezTo>
                  <a:pt x="15683" y="8799"/>
                  <a:pt x="15712" y="8724"/>
                  <a:pt x="15719" y="8712"/>
                </a:cubicBezTo>
                <a:cubicBezTo>
                  <a:pt x="15731" y="8690"/>
                  <a:pt x="15739" y="8659"/>
                  <a:pt x="15757" y="8642"/>
                </a:cubicBezTo>
                <a:cubicBezTo>
                  <a:pt x="15765" y="8642"/>
                  <a:pt x="15767" y="8645"/>
                  <a:pt x="15762" y="8656"/>
                </a:cubicBezTo>
                <a:cubicBezTo>
                  <a:pt x="15758" y="8713"/>
                  <a:pt x="15752" y="8767"/>
                  <a:pt x="15743" y="8823"/>
                </a:cubicBezTo>
                <a:cubicBezTo>
                  <a:pt x="15734" y="8853"/>
                  <a:pt x="15730" y="8862"/>
                  <a:pt x="15733" y="8883"/>
                </a:cubicBezTo>
                <a:cubicBezTo>
                  <a:pt x="15750" y="8871"/>
                  <a:pt x="15741" y="8900"/>
                  <a:pt x="15752" y="8883"/>
                </a:cubicBezTo>
                <a:cubicBezTo>
                  <a:pt x="15785" y="8834"/>
                  <a:pt x="15800" y="8773"/>
                  <a:pt x="15828" y="8721"/>
                </a:cubicBezTo>
                <a:cubicBezTo>
                  <a:pt x="15830" y="8717"/>
                  <a:pt x="15866" y="8652"/>
                  <a:pt x="15871" y="8656"/>
                </a:cubicBezTo>
                <a:cubicBezTo>
                  <a:pt x="15886" y="8667"/>
                  <a:pt x="15876" y="8736"/>
                  <a:pt x="15876" y="8749"/>
                </a:cubicBezTo>
                <a:cubicBezTo>
                  <a:pt x="15875" y="8831"/>
                  <a:pt x="15852" y="8904"/>
                  <a:pt x="15838" y="8984"/>
                </a:cubicBezTo>
                <a:cubicBezTo>
                  <a:pt x="15838" y="8989"/>
                  <a:pt x="15838" y="8993"/>
                  <a:pt x="15838" y="8998"/>
                </a:cubicBezTo>
                <a:cubicBezTo>
                  <a:pt x="15851" y="8969"/>
                  <a:pt x="15863" y="8940"/>
                  <a:pt x="15876" y="8910"/>
                </a:cubicBezTo>
                <a:cubicBezTo>
                  <a:pt x="15890" y="8878"/>
                  <a:pt x="15943" y="8710"/>
                  <a:pt x="15985" y="8707"/>
                </a:cubicBezTo>
                <a:cubicBezTo>
                  <a:pt x="16011" y="8705"/>
                  <a:pt x="16005" y="8708"/>
                  <a:pt x="16004" y="8749"/>
                </a:cubicBezTo>
                <a:cubicBezTo>
                  <a:pt x="16002" y="8814"/>
                  <a:pt x="15990" y="8879"/>
                  <a:pt x="15980" y="8943"/>
                </a:cubicBezTo>
                <a:cubicBezTo>
                  <a:pt x="15970" y="9008"/>
                  <a:pt x="15962" y="9072"/>
                  <a:pt x="15956" y="9137"/>
                </a:cubicBezTo>
                <a:cubicBezTo>
                  <a:pt x="15971" y="9095"/>
                  <a:pt x="15976" y="9078"/>
                  <a:pt x="15990" y="9035"/>
                </a:cubicBezTo>
                <a:cubicBezTo>
                  <a:pt x="16021" y="8944"/>
                  <a:pt x="16051" y="8849"/>
                  <a:pt x="16094" y="8763"/>
                </a:cubicBezTo>
                <a:cubicBezTo>
                  <a:pt x="16108" y="8735"/>
                  <a:pt x="16127" y="8714"/>
                  <a:pt x="16142" y="8689"/>
                </a:cubicBezTo>
                <a:cubicBezTo>
                  <a:pt x="16136" y="8726"/>
                  <a:pt x="16131" y="8763"/>
                  <a:pt x="16123" y="8800"/>
                </a:cubicBezTo>
                <a:cubicBezTo>
                  <a:pt x="16096" y="8922"/>
                  <a:pt x="16053" y="9043"/>
                  <a:pt x="16032" y="9165"/>
                </a:cubicBezTo>
                <a:cubicBezTo>
                  <a:pt x="16029" y="9181"/>
                  <a:pt x="16034" y="9176"/>
                  <a:pt x="16032" y="9192"/>
                </a:cubicBezTo>
                <a:cubicBezTo>
                  <a:pt x="16055" y="9137"/>
                  <a:pt x="16083" y="9086"/>
                  <a:pt x="16108" y="9031"/>
                </a:cubicBezTo>
                <a:cubicBezTo>
                  <a:pt x="16138" y="8964"/>
                  <a:pt x="16170" y="8896"/>
                  <a:pt x="16213" y="8836"/>
                </a:cubicBezTo>
                <a:cubicBezTo>
                  <a:pt x="16234" y="8807"/>
                  <a:pt x="16252" y="8767"/>
                  <a:pt x="16260" y="8813"/>
                </a:cubicBezTo>
                <a:cubicBezTo>
                  <a:pt x="16273" y="8888"/>
                  <a:pt x="16235" y="8987"/>
                  <a:pt x="16217" y="9058"/>
                </a:cubicBezTo>
                <a:cubicBezTo>
                  <a:pt x="16189" y="9168"/>
                  <a:pt x="16151" y="9278"/>
                  <a:pt x="16137" y="9391"/>
                </a:cubicBezTo>
                <a:cubicBezTo>
                  <a:pt x="16134" y="9418"/>
                  <a:pt x="16129" y="9454"/>
                  <a:pt x="16161" y="9424"/>
                </a:cubicBezTo>
                <a:cubicBezTo>
                  <a:pt x="16213" y="9375"/>
                  <a:pt x="16240" y="9280"/>
                  <a:pt x="16265" y="9216"/>
                </a:cubicBezTo>
                <a:cubicBezTo>
                  <a:pt x="16302" y="9121"/>
                  <a:pt x="16345" y="9035"/>
                  <a:pt x="16388" y="8943"/>
                </a:cubicBezTo>
                <a:cubicBezTo>
                  <a:pt x="16394" y="8928"/>
                  <a:pt x="16401" y="8912"/>
                  <a:pt x="16407" y="8897"/>
                </a:cubicBezTo>
                <a:cubicBezTo>
                  <a:pt x="16410" y="8889"/>
                  <a:pt x="16414" y="8881"/>
                  <a:pt x="16417" y="8873"/>
                </a:cubicBezTo>
                <a:cubicBezTo>
                  <a:pt x="16414" y="8911"/>
                  <a:pt x="16413" y="8934"/>
                  <a:pt x="16403" y="8971"/>
                </a:cubicBezTo>
                <a:cubicBezTo>
                  <a:pt x="16376" y="9075"/>
                  <a:pt x="16339" y="9176"/>
                  <a:pt x="16312" y="9280"/>
                </a:cubicBezTo>
                <a:cubicBezTo>
                  <a:pt x="16296" y="9343"/>
                  <a:pt x="16268" y="9427"/>
                  <a:pt x="16270" y="9493"/>
                </a:cubicBezTo>
                <a:cubicBezTo>
                  <a:pt x="16271" y="9522"/>
                  <a:pt x="16267" y="9546"/>
                  <a:pt x="16298" y="9516"/>
                </a:cubicBezTo>
                <a:cubicBezTo>
                  <a:pt x="16348" y="9468"/>
                  <a:pt x="16379" y="9378"/>
                  <a:pt x="16407" y="9317"/>
                </a:cubicBezTo>
                <a:cubicBezTo>
                  <a:pt x="16439" y="9247"/>
                  <a:pt x="16477" y="9184"/>
                  <a:pt x="16516" y="9118"/>
                </a:cubicBezTo>
                <a:cubicBezTo>
                  <a:pt x="16516" y="9161"/>
                  <a:pt x="16519" y="9175"/>
                  <a:pt x="16507" y="9216"/>
                </a:cubicBezTo>
                <a:cubicBezTo>
                  <a:pt x="16479" y="9310"/>
                  <a:pt x="16427" y="9398"/>
                  <a:pt x="16388" y="9488"/>
                </a:cubicBezTo>
                <a:cubicBezTo>
                  <a:pt x="16364" y="9542"/>
                  <a:pt x="16335" y="9592"/>
                  <a:pt x="16312" y="9645"/>
                </a:cubicBezTo>
                <a:cubicBezTo>
                  <a:pt x="16312" y="9648"/>
                  <a:pt x="16312" y="9652"/>
                  <a:pt x="16312" y="9655"/>
                </a:cubicBezTo>
                <a:cubicBezTo>
                  <a:pt x="16342" y="9629"/>
                  <a:pt x="16365" y="9615"/>
                  <a:pt x="16393" y="9576"/>
                </a:cubicBezTo>
                <a:cubicBezTo>
                  <a:pt x="16458" y="9485"/>
                  <a:pt x="16516" y="9392"/>
                  <a:pt x="16569" y="9294"/>
                </a:cubicBezTo>
                <a:cubicBezTo>
                  <a:pt x="16628" y="9185"/>
                  <a:pt x="16683" y="9071"/>
                  <a:pt x="16749" y="8966"/>
                </a:cubicBezTo>
                <a:cubicBezTo>
                  <a:pt x="16759" y="8952"/>
                  <a:pt x="16764" y="8939"/>
                  <a:pt x="16763" y="8952"/>
                </a:cubicBezTo>
                <a:cubicBezTo>
                  <a:pt x="16722" y="9054"/>
                  <a:pt x="16677" y="9150"/>
                  <a:pt x="16626" y="9248"/>
                </a:cubicBezTo>
                <a:cubicBezTo>
                  <a:pt x="16590" y="9317"/>
                  <a:pt x="16538" y="9387"/>
                  <a:pt x="16512" y="9460"/>
                </a:cubicBezTo>
                <a:cubicBezTo>
                  <a:pt x="16512" y="9474"/>
                  <a:pt x="16507" y="9480"/>
                  <a:pt x="16516" y="9479"/>
                </a:cubicBezTo>
                <a:cubicBezTo>
                  <a:pt x="16606" y="9373"/>
                  <a:pt x="16661" y="9247"/>
                  <a:pt x="16739" y="9132"/>
                </a:cubicBezTo>
                <a:cubicBezTo>
                  <a:pt x="16801" y="9040"/>
                  <a:pt x="16901" y="8848"/>
                  <a:pt x="17000" y="8790"/>
                </a:cubicBezTo>
                <a:cubicBezTo>
                  <a:pt x="17029" y="8773"/>
                  <a:pt x="17017" y="8773"/>
                  <a:pt x="17015" y="8809"/>
                </a:cubicBezTo>
                <a:cubicBezTo>
                  <a:pt x="17013" y="8845"/>
                  <a:pt x="16978" y="8884"/>
                  <a:pt x="16962" y="8915"/>
                </a:cubicBezTo>
                <a:cubicBezTo>
                  <a:pt x="16955" y="8930"/>
                  <a:pt x="16946" y="8951"/>
                  <a:pt x="16962" y="8920"/>
                </a:cubicBezTo>
                <a:cubicBezTo>
                  <a:pt x="16982" y="8882"/>
                  <a:pt x="17005" y="8849"/>
                  <a:pt x="17029" y="8813"/>
                </a:cubicBezTo>
                <a:cubicBezTo>
                  <a:pt x="17043" y="8792"/>
                  <a:pt x="17129" y="8697"/>
                  <a:pt x="17110" y="8665"/>
                </a:cubicBezTo>
                <a:cubicBezTo>
                  <a:pt x="17095" y="8640"/>
                  <a:pt x="17079" y="8650"/>
                  <a:pt x="17057" y="8638"/>
                </a:cubicBezTo>
                <a:cubicBezTo>
                  <a:pt x="17026" y="8622"/>
                  <a:pt x="16989" y="8612"/>
                  <a:pt x="16958" y="8596"/>
                </a:cubicBezTo>
                <a:cubicBezTo>
                  <a:pt x="16915" y="8575"/>
                  <a:pt x="16871" y="8549"/>
                  <a:pt x="16825" y="8536"/>
                </a:cubicBezTo>
                <a:cubicBezTo>
                  <a:pt x="16728" y="8510"/>
                  <a:pt x="16625" y="8526"/>
                  <a:pt x="16526" y="8522"/>
                </a:cubicBezTo>
                <a:cubicBezTo>
                  <a:pt x="16467" y="8520"/>
                  <a:pt x="16409" y="8514"/>
                  <a:pt x="16350" y="8513"/>
                </a:cubicBezTo>
                <a:cubicBezTo>
                  <a:pt x="16285" y="8512"/>
                  <a:pt x="16235" y="8525"/>
                  <a:pt x="16175" y="8541"/>
                </a:cubicBezTo>
                <a:cubicBezTo>
                  <a:pt x="16132" y="8552"/>
                  <a:pt x="16090" y="8570"/>
                  <a:pt x="16047" y="8582"/>
                </a:cubicBezTo>
                <a:cubicBezTo>
                  <a:pt x="16029" y="8592"/>
                  <a:pt x="16023" y="8595"/>
                  <a:pt x="16009" y="8592"/>
                </a:cubicBezTo>
                <a:cubicBezTo>
                  <a:pt x="15997" y="8585"/>
                  <a:pt x="15961" y="8573"/>
                  <a:pt x="15975" y="8573"/>
                </a:cubicBezTo>
                <a:cubicBezTo>
                  <a:pt x="15984" y="8573"/>
                  <a:pt x="15971" y="8583"/>
                  <a:pt x="15980" y="8582"/>
                </a:cubicBezTo>
                <a:cubicBezTo>
                  <a:pt x="16036" y="8573"/>
                  <a:pt x="16083" y="8587"/>
                  <a:pt x="16137" y="8592"/>
                </a:cubicBezTo>
                <a:cubicBezTo>
                  <a:pt x="16240" y="8601"/>
                  <a:pt x="16342" y="8612"/>
                  <a:pt x="16445" y="8628"/>
                </a:cubicBezTo>
                <a:cubicBezTo>
                  <a:pt x="16560" y="8647"/>
                  <a:pt x="16669" y="8686"/>
                  <a:pt x="16782" y="8712"/>
                </a:cubicBezTo>
                <a:cubicBezTo>
                  <a:pt x="16834" y="8724"/>
                  <a:pt x="16880" y="8737"/>
                  <a:pt x="16934" y="8739"/>
                </a:cubicBezTo>
                <a:cubicBezTo>
                  <a:pt x="16951" y="8739"/>
                  <a:pt x="16960" y="8736"/>
                  <a:pt x="16977" y="8735"/>
                </a:cubicBezTo>
                <a:cubicBezTo>
                  <a:pt x="16901" y="8738"/>
                  <a:pt x="16825" y="8735"/>
                  <a:pt x="16749" y="8739"/>
                </a:cubicBezTo>
                <a:cubicBezTo>
                  <a:pt x="16654" y="8743"/>
                  <a:pt x="16553" y="8753"/>
                  <a:pt x="16459" y="8767"/>
                </a:cubicBezTo>
                <a:cubicBezTo>
                  <a:pt x="16369" y="8781"/>
                  <a:pt x="16279" y="8789"/>
                  <a:pt x="16189" y="8804"/>
                </a:cubicBezTo>
                <a:cubicBezTo>
                  <a:pt x="16142" y="8812"/>
                  <a:pt x="16005" y="8846"/>
                  <a:pt x="16051" y="8836"/>
                </a:cubicBezTo>
                <a:cubicBezTo>
                  <a:pt x="16081" y="8829"/>
                  <a:pt x="16093" y="8826"/>
                  <a:pt x="16123" y="8818"/>
                </a:cubicBezTo>
                <a:cubicBezTo>
                  <a:pt x="16395" y="8772"/>
                  <a:pt x="16667" y="8732"/>
                  <a:pt x="16939" y="8689"/>
                </a:cubicBezTo>
                <a:cubicBezTo>
                  <a:pt x="16956" y="8685"/>
                  <a:pt x="16957" y="8684"/>
                  <a:pt x="16967" y="8684"/>
                </a:cubicBezTo>
                <a:cubicBezTo>
                  <a:pt x="16766" y="8684"/>
                  <a:pt x="16540" y="8675"/>
                  <a:pt x="16346" y="8730"/>
                </a:cubicBezTo>
                <a:cubicBezTo>
                  <a:pt x="16320" y="8738"/>
                  <a:pt x="16313" y="8740"/>
                  <a:pt x="16298" y="8749"/>
                </a:cubicBezTo>
                <a:cubicBezTo>
                  <a:pt x="16327" y="8758"/>
                  <a:pt x="16352" y="8767"/>
                  <a:pt x="16398" y="8767"/>
                </a:cubicBezTo>
                <a:cubicBezTo>
                  <a:pt x="16528" y="8767"/>
                  <a:pt x="16658" y="8764"/>
                  <a:pt x="16787" y="8758"/>
                </a:cubicBezTo>
                <a:cubicBezTo>
                  <a:pt x="16847" y="8755"/>
                  <a:pt x="16907" y="8748"/>
                  <a:pt x="16967" y="8744"/>
                </a:cubicBezTo>
                <a:cubicBezTo>
                  <a:pt x="16970" y="8744"/>
                  <a:pt x="16974" y="8744"/>
                  <a:pt x="16977" y="8744"/>
                </a:cubicBezTo>
                <a:cubicBezTo>
                  <a:pt x="16929" y="8754"/>
                  <a:pt x="16879" y="8763"/>
                  <a:pt x="16830" y="8772"/>
                </a:cubicBezTo>
                <a:cubicBezTo>
                  <a:pt x="16739" y="8789"/>
                  <a:pt x="16647" y="8820"/>
                  <a:pt x="16564" y="8860"/>
                </a:cubicBezTo>
                <a:cubicBezTo>
                  <a:pt x="16446" y="8916"/>
                  <a:pt x="16362" y="8993"/>
                  <a:pt x="16279" y="9091"/>
                </a:cubicBezTo>
                <a:cubicBezTo>
                  <a:pt x="16248" y="9126"/>
                  <a:pt x="16238" y="9136"/>
                  <a:pt x="16227" y="9165"/>
                </a:cubicBezTo>
                <a:cubicBezTo>
                  <a:pt x="16228" y="9198"/>
                  <a:pt x="16188" y="9224"/>
                  <a:pt x="16236" y="9234"/>
                </a:cubicBezTo>
                <a:cubicBezTo>
                  <a:pt x="16275" y="9242"/>
                  <a:pt x="16313" y="9190"/>
                  <a:pt x="16341" y="9169"/>
                </a:cubicBezTo>
                <a:cubicBezTo>
                  <a:pt x="16342" y="9168"/>
                  <a:pt x="16404" y="9111"/>
                  <a:pt x="16412" y="9123"/>
                </a:cubicBezTo>
                <a:cubicBezTo>
                  <a:pt x="16428" y="9146"/>
                  <a:pt x="16393" y="9214"/>
                  <a:pt x="16388" y="9234"/>
                </a:cubicBezTo>
                <a:cubicBezTo>
                  <a:pt x="16369" y="9311"/>
                  <a:pt x="16347" y="9382"/>
                  <a:pt x="16322" y="9456"/>
                </a:cubicBezTo>
                <a:cubicBezTo>
                  <a:pt x="16319" y="9470"/>
                  <a:pt x="16315" y="9483"/>
                  <a:pt x="16312" y="9497"/>
                </a:cubicBezTo>
                <a:cubicBezTo>
                  <a:pt x="16300" y="9526"/>
                  <a:pt x="16293" y="9613"/>
                  <a:pt x="16279" y="9585"/>
                </a:cubicBezTo>
                <a:cubicBezTo>
                  <a:pt x="16262" y="9549"/>
                  <a:pt x="16306" y="9369"/>
                  <a:pt x="16227" y="9377"/>
                </a:cubicBezTo>
                <a:cubicBezTo>
                  <a:pt x="16204" y="9379"/>
                  <a:pt x="16170" y="9463"/>
                  <a:pt x="16165" y="9479"/>
                </a:cubicBezTo>
                <a:cubicBezTo>
                  <a:pt x="16150" y="9525"/>
                  <a:pt x="16150" y="9575"/>
                  <a:pt x="16142" y="9622"/>
                </a:cubicBezTo>
                <a:cubicBezTo>
                  <a:pt x="16140" y="9632"/>
                  <a:pt x="16143" y="9603"/>
                  <a:pt x="16142" y="9613"/>
                </a:cubicBezTo>
                <a:cubicBezTo>
                  <a:pt x="16131" y="9561"/>
                  <a:pt x="16118" y="9511"/>
                  <a:pt x="16104" y="9460"/>
                </a:cubicBezTo>
                <a:cubicBezTo>
                  <a:pt x="16078" y="9365"/>
                  <a:pt x="16042" y="9272"/>
                  <a:pt x="16009" y="9179"/>
                </a:cubicBezTo>
                <a:cubicBezTo>
                  <a:pt x="15977" y="9088"/>
                  <a:pt x="15930" y="9000"/>
                  <a:pt x="15876" y="8920"/>
                </a:cubicBezTo>
                <a:cubicBezTo>
                  <a:pt x="15873" y="8917"/>
                  <a:pt x="15869" y="8913"/>
                  <a:pt x="15866" y="8910"/>
                </a:cubicBezTo>
                <a:cubicBezTo>
                  <a:pt x="15857" y="8940"/>
                  <a:pt x="15843" y="8954"/>
                  <a:pt x="15847" y="9008"/>
                </a:cubicBezTo>
                <a:cubicBezTo>
                  <a:pt x="15854" y="9105"/>
                  <a:pt x="15870" y="9212"/>
                  <a:pt x="15904" y="9303"/>
                </a:cubicBezTo>
                <a:cubicBezTo>
                  <a:pt x="15932" y="9378"/>
                  <a:pt x="15969" y="9473"/>
                  <a:pt x="16023" y="9534"/>
                </a:cubicBezTo>
                <a:cubicBezTo>
                  <a:pt x="16043" y="9546"/>
                  <a:pt x="16048" y="9547"/>
                  <a:pt x="16056" y="9558"/>
                </a:cubicBezTo>
                <a:cubicBezTo>
                  <a:pt x="16052" y="9539"/>
                  <a:pt x="16064" y="9539"/>
                  <a:pt x="16056" y="9521"/>
                </a:cubicBezTo>
                <a:cubicBezTo>
                  <a:pt x="16028" y="9454"/>
                  <a:pt x="15994" y="9388"/>
                  <a:pt x="15961" y="9322"/>
                </a:cubicBezTo>
                <a:cubicBezTo>
                  <a:pt x="15916" y="9231"/>
                  <a:pt x="15875" y="9139"/>
                  <a:pt x="15828" y="9049"/>
                </a:cubicBezTo>
                <a:cubicBezTo>
                  <a:pt x="15802" y="8999"/>
                  <a:pt x="15770" y="8956"/>
                  <a:pt x="15738" y="8910"/>
                </a:cubicBezTo>
                <a:cubicBezTo>
                  <a:pt x="15732" y="8932"/>
                  <a:pt x="15716" y="8924"/>
                  <a:pt x="15719" y="8947"/>
                </a:cubicBezTo>
                <a:cubicBezTo>
                  <a:pt x="15731" y="9043"/>
                  <a:pt x="15776" y="9132"/>
                  <a:pt x="15819" y="9216"/>
                </a:cubicBezTo>
                <a:cubicBezTo>
                  <a:pt x="15863" y="9303"/>
                  <a:pt x="15910" y="9384"/>
                  <a:pt x="15971" y="9460"/>
                </a:cubicBezTo>
                <a:cubicBezTo>
                  <a:pt x="16008" y="9507"/>
                  <a:pt x="16045" y="9546"/>
                  <a:pt x="16094" y="9581"/>
                </a:cubicBezTo>
                <a:cubicBezTo>
                  <a:pt x="16106" y="9590"/>
                  <a:pt x="16121" y="9597"/>
                  <a:pt x="16132" y="9604"/>
                </a:cubicBezTo>
                <a:cubicBezTo>
                  <a:pt x="16090" y="9545"/>
                  <a:pt x="16047" y="9487"/>
                  <a:pt x="16009" y="9424"/>
                </a:cubicBezTo>
                <a:cubicBezTo>
                  <a:pt x="15964" y="9349"/>
                  <a:pt x="15924" y="9271"/>
                  <a:pt x="15876" y="9197"/>
                </a:cubicBezTo>
                <a:cubicBezTo>
                  <a:pt x="15857" y="9168"/>
                  <a:pt x="15838" y="9138"/>
                  <a:pt x="15819" y="9109"/>
                </a:cubicBezTo>
                <a:cubicBezTo>
                  <a:pt x="15822" y="9139"/>
                  <a:pt x="15820" y="9154"/>
                  <a:pt x="15828" y="9183"/>
                </a:cubicBezTo>
                <a:cubicBezTo>
                  <a:pt x="15853" y="9270"/>
                  <a:pt x="15896" y="9353"/>
                  <a:pt x="15937" y="9433"/>
                </a:cubicBezTo>
                <a:cubicBezTo>
                  <a:pt x="15977" y="9510"/>
                  <a:pt x="16013" y="9581"/>
                  <a:pt x="16066" y="9650"/>
                </a:cubicBezTo>
                <a:cubicBezTo>
                  <a:pt x="16091" y="9683"/>
                  <a:pt x="16114" y="9712"/>
                  <a:pt x="16142" y="9742"/>
                </a:cubicBezTo>
                <a:cubicBezTo>
                  <a:pt x="16159" y="9761"/>
                  <a:pt x="16174" y="9769"/>
                  <a:pt x="16189" y="9789"/>
                </a:cubicBezTo>
                <a:cubicBezTo>
                  <a:pt x="16189" y="9797"/>
                  <a:pt x="16189" y="9800"/>
                  <a:pt x="16194" y="9803"/>
                </a:cubicBezTo>
                <a:cubicBezTo>
                  <a:pt x="16236" y="9791"/>
                  <a:pt x="16239" y="9787"/>
                  <a:pt x="16279" y="9761"/>
                </a:cubicBezTo>
                <a:cubicBezTo>
                  <a:pt x="16319" y="9735"/>
                  <a:pt x="16347" y="9708"/>
                  <a:pt x="16384" y="9678"/>
                </a:cubicBezTo>
                <a:cubicBezTo>
                  <a:pt x="16448" y="9626"/>
                  <a:pt x="16515" y="9565"/>
                  <a:pt x="16569" y="9502"/>
                </a:cubicBezTo>
                <a:cubicBezTo>
                  <a:pt x="16668" y="9386"/>
                  <a:pt x="16759" y="9262"/>
                  <a:pt x="16858" y="9146"/>
                </a:cubicBezTo>
                <a:cubicBezTo>
                  <a:pt x="16918" y="9076"/>
                  <a:pt x="16984" y="9010"/>
                  <a:pt x="17048" y="8943"/>
                </a:cubicBezTo>
                <a:cubicBezTo>
                  <a:pt x="17077" y="8913"/>
                  <a:pt x="17102" y="8881"/>
                  <a:pt x="17129" y="8850"/>
                </a:cubicBezTo>
                <a:cubicBezTo>
                  <a:pt x="17137" y="8842"/>
                  <a:pt x="17138" y="8841"/>
                  <a:pt x="17143" y="8836"/>
                </a:cubicBezTo>
                <a:cubicBezTo>
                  <a:pt x="17085" y="8911"/>
                  <a:pt x="17028" y="8986"/>
                  <a:pt x="16972" y="9063"/>
                </a:cubicBezTo>
                <a:cubicBezTo>
                  <a:pt x="16907" y="9153"/>
                  <a:pt x="16843" y="9243"/>
                  <a:pt x="16777" y="9331"/>
                </a:cubicBezTo>
                <a:cubicBezTo>
                  <a:pt x="16711" y="9419"/>
                  <a:pt x="16638" y="9500"/>
                  <a:pt x="16569" y="9585"/>
                </a:cubicBezTo>
                <a:cubicBezTo>
                  <a:pt x="16520" y="9645"/>
                  <a:pt x="16457" y="9709"/>
                  <a:pt x="16417" y="9775"/>
                </a:cubicBezTo>
                <a:cubicBezTo>
                  <a:pt x="16409" y="9788"/>
                  <a:pt x="16395" y="9836"/>
                  <a:pt x="16393" y="9840"/>
                </a:cubicBezTo>
                <a:cubicBezTo>
                  <a:pt x="16418" y="9800"/>
                  <a:pt x="16441" y="9763"/>
                  <a:pt x="16469" y="9724"/>
                </a:cubicBezTo>
                <a:cubicBezTo>
                  <a:pt x="16541" y="9623"/>
                  <a:pt x="16612" y="9521"/>
                  <a:pt x="16682" y="9419"/>
                </a:cubicBezTo>
                <a:cubicBezTo>
                  <a:pt x="16750" y="9319"/>
                  <a:pt x="16810" y="9211"/>
                  <a:pt x="16882" y="9114"/>
                </a:cubicBezTo>
                <a:cubicBezTo>
                  <a:pt x="16946" y="9028"/>
                  <a:pt x="17013" y="8943"/>
                  <a:pt x="17081" y="8860"/>
                </a:cubicBezTo>
                <a:cubicBezTo>
                  <a:pt x="17097" y="8841"/>
                  <a:pt x="17118" y="8818"/>
                  <a:pt x="17129" y="8795"/>
                </a:cubicBezTo>
                <a:cubicBezTo>
                  <a:pt x="17133" y="8786"/>
                  <a:pt x="17136" y="8788"/>
                  <a:pt x="17138" y="8781"/>
                </a:cubicBezTo>
                <a:cubicBezTo>
                  <a:pt x="17143" y="8760"/>
                  <a:pt x="17130" y="8744"/>
                  <a:pt x="17129" y="8726"/>
                </a:cubicBezTo>
                <a:cubicBezTo>
                  <a:pt x="17095" y="8722"/>
                  <a:pt x="17081" y="8718"/>
                  <a:pt x="17043" y="8726"/>
                </a:cubicBezTo>
                <a:cubicBezTo>
                  <a:pt x="16991" y="8737"/>
                  <a:pt x="16946" y="8760"/>
                  <a:pt x="16896" y="8776"/>
                </a:cubicBezTo>
                <a:cubicBezTo>
                  <a:pt x="16827" y="8798"/>
                  <a:pt x="16764" y="8816"/>
                  <a:pt x="16692" y="8827"/>
                </a:cubicBezTo>
                <a:cubicBezTo>
                  <a:pt x="16607" y="8841"/>
                  <a:pt x="16529" y="8870"/>
                  <a:pt x="16445" y="8887"/>
                </a:cubicBezTo>
                <a:cubicBezTo>
                  <a:pt x="16374" y="8902"/>
                  <a:pt x="16303" y="8915"/>
                  <a:pt x="16232" y="8929"/>
                </a:cubicBezTo>
                <a:cubicBezTo>
                  <a:pt x="16198" y="8936"/>
                  <a:pt x="16161" y="8939"/>
                  <a:pt x="16127" y="8947"/>
                </a:cubicBezTo>
                <a:cubicBezTo>
                  <a:pt x="16126" y="8949"/>
                  <a:pt x="16124" y="8950"/>
                  <a:pt x="16123" y="8952"/>
                </a:cubicBezTo>
                <a:cubicBezTo>
                  <a:pt x="16242" y="8950"/>
                  <a:pt x="16356" y="8938"/>
                  <a:pt x="16474" y="8924"/>
                </a:cubicBezTo>
                <a:cubicBezTo>
                  <a:pt x="16564" y="8914"/>
                  <a:pt x="16655" y="8911"/>
                  <a:pt x="16744" y="8892"/>
                </a:cubicBezTo>
                <a:cubicBezTo>
                  <a:pt x="16784" y="8883"/>
                  <a:pt x="16829" y="8874"/>
                  <a:pt x="16868" y="8869"/>
                </a:cubicBezTo>
                <a:cubicBezTo>
                  <a:pt x="16871" y="8869"/>
                  <a:pt x="16874" y="8869"/>
                  <a:pt x="16877" y="8869"/>
                </a:cubicBezTo>
                <a:cubicBezTo>
                  <a:pt x="16668" y="8869"/>
                  <a:pt x="16460" y="8873"/>
                  <a:pt x="16251" y="8873"/>
                </a:cubicBezTo>
                <a:cubicBezTo>
                  <a:pt x="16294" y="8864"/>
                  <a:pt x="16336" y="8853"/>
                  <a:pt x="16379" y="8841"/>
                </a:cubicBezTo>
                <a:cubicBezTo>
                  <a:pt x="16488" y="8811"/>
                  <a:pt x="16601" y="8783"/>
                  <a:pt x="16711" y="8758"/>
                </a:cubicBezTo>
                <a:cubicBezTo>
                  <a:pt x="16732" y="8754"/>
                  <a:pt x="16736" y="8752"/>
                  <a:pt x="16749" y="8753"/>
                </a:cubicBezTo>
                <a:cubicBezTo>
                  <a:pt x="16531" y="8753"/>
                  <a:pt x="16250" y="8802"/>
                  <a:pt x="16042" y="8744"/>
                </a:cubicBezTo>
                <a:cubicBezTo>
                  <a:pt x="16017" y="8737"/>
                  <a:pt x="15999" y="8728"/>
                  <a:pt x="15975" y="8716"/>
                </a:cubicBezTo>
                <a:cubicBezTo>
                  <a:pt x="15958" y="8707"/>
                  <a:pt x="15946" y="8695"/>
                  <a:pt x="15928" y="8689"/>
                </a:cubicBezTo>
                <a:cubicBezTo>
                  <a:pt x="15911" y="8683"/>
                  <a:pt x="15894" y="8683"/>
                  <a:pt x="15876" y="8679"/>
                </a:cubicBezTo>
                <a:cubicBezTo>
                  <a:pt x="15850" y="8673"/>
                  <a:pt x="15834" y="8668"/>
                  <a:pt x="15809" y="8656"/>
                </a:cubicBezTo>
                <a:cubicBezTo>
                  <a:pt x="15795" y="8649"/>
                  <a:pt x="15792" y="8639"/>
                  <a:pt x="15771" y="8633"/>
                </a:cubicBezTo>
                <a:cubicBezTo>
                  <a:pt x="15741" y="8624"/>
                  <a:pt x="15713" y="8632"/>
                  <a:pt x="15686" y="8633"/>
                </a:cubicBezTo>
                <a:cubicBezTo>
                  <a:pt x="15662" y="8634"/>
                  <a:pt x="15639" y="8632"/>
                  <a:pt x="15615" y="8633"/>
                </a:cubicBezTo>
                <a:cubicBezTo>
                  <a:pt x="15621" y="8643"/>
                  <a:pt x="15621" y="8658"/>
                  <a:pt x="15629" y="8670"/>
                </a:cubicBezTo>
                <a:cubicBezTo>
                  <a:pt x="15650" y="8704"/>
                  <a:pt x="15674" y="8733"/>
                  <a:pt x="15700" y="8763"/>
                </a:cubicBezTo>
                <a:cubicBezTo>
                  <a:pt x="15734" y="8803"/>
                  <a:pt x="15767" y="8843"/>
                  <a:pt x="15800" y="8883"/>
                </a:cubicBezTo>
                <a:cubicBezTo>
                  <a:pt x="15863" y="8961"/>
                  <a:pt x="15909" y="9053"/>
                  <a:pt x="15952" y="9142"/>
                </a:cubicBezTo>
                <a:cubicBezTo>
                  <a:pt x="15977" y="9194"/>
                  <a:pt x="16001" y="9245"/>
                  <a:pt x="16032" y="9294"/>
                </a:cubicBezTo>
                <a:cubicBezTo>
                  <a:pt x="16054" y="9329"/>
                  <a:pt x="16081" y="9366"/>
                  <a:pt x="16108" y="9396"/>
                </a:cubicBezTo>
                <a:cubicBezTo>
                  <a:pt x="16126" y="9415"/>
                  <a:pt x="16144" y="9432"/>
                  <a:pt x="16161" y="9451"/>
                </a:cubicBezTo>
                <a:cubicBezTo>
                  <a:pt x="16175" y="9466"/>
                  <a:pt x="16185" y="9482"/>
                  <a:pt x="16198" y="9497"/>
                </a:cubicBezTo>
                <a:cubicBezTo>
                  <a:pt x="16208" y="9509"/>
                  <a:pt x="16217" y="9518"/>
                  <a:pt x="16227" y="9530"/>
                </a:cubicBezTo>
              </a:path>
            </a:pathLst>
          </a:custGeom>
          <a:noFill/>
          <a:ln cap="rnd" w="284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931440" y="229716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ource Adapter</a:t>
            </a:r>
            <a:endParaRPr b="0" lang="en-US" sz="1800" spc="-1" strike="noStrike">
              <a:solidFill>
                <a:srgbClr val="ffffff"/>
              </a:solidFill>
              <a:latin typeface="Arial"/>
            </a:endParaRPr>
          </a:p>
        </p:txBody>
      </p:sp>
      <p:sp>
        <p:nvSpPr>
          <p:cNvPr id="604" name=""/>
          <p:cNvSpPr/>
          <p:nvPr/>
        </p:nvSpPr>
        <p:spPr>
          <a:xfrm>
            <a:off x="162720" y="236844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pplication Adapter</a:t>
            </a:r>
            <a:endParaRPr b="0" lang="en-US" sz="1800" spc="-1" strike="noStrike">
              <a:solidFill>
                <a:srgbClr val="ffffff"/>
              </a:solidFill>
              <a:latin typeface="Arial"/>
            </a:endParaRPr>
          </a:p>
        </p:txBody>
      </p:sp>
      <p:sp>
        <p:nvSpPr>
          <p:cNvPr id="605" name=""/>
          <p:cNvSpPr/>
          <p:nvPr/>
        </p:nvSpPr>
        <p:spPr>
          <a:xfrm>
            <a:off x="2486880" y="1413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 Portal</a:t>
            </a:r>
            <a:endParaRPr b="0" lang="en-US" sz="1800" spc="-1" strike="noStrike">
              <a:solidFill>
                <a:srgbClr val="ffffff"/>
              </a:solidFill>
              <a:latin typeface="Arial"/>
            </a:endParaRPr>
          </a:p>
        </p:txBody>
      </p:sp>
      <p:sp>
        <p:nvSpPr>
          <p:cNvPr id="606" name=""/>
          <p:cNvSpPr/>
          <p:nvPr/>
        </p:nvSpPr>
        <p:spPr>
          <a:xfrm>
            <a:off x="6354000" y="58244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re</a:t>
            </a:r>
            <a:endParaRPr b="0" lang="en-US" sz="1800" spc="-1" strike="noStrike">
              <a:solidFill>
                <a:srgbClr val="ffffff"/>
              </a:solidFill>
              <a:latin typeface="Arial"/>
            </a:endParaRPr>
          </a:p>
        </p:txBody>
      </p:sp>
      <p:sp>
        <p:nvSpPr>
          <p:cNvPr id="607" name=""/>
          <p:cNvSpPr/>
          <p:nvPr/>
        </p:nvSpPr>
        <p:spPr>
          <a:xfrm>
            <a:off x="2180160" y="604044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pplication Por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Begriffserklärung</a:t>
            </a:r>
            <a:endParaRPr b="0" lang="en-US" sz="4400" spc="-1" strike="noStrike">
              <a:solidFill>
                <a:srgbClr val="dfdef6"/>
              </a:solidFill>
              <a:latin typeface="Arial"/>
            </a:endParaRPr>
          </a:p>
        </p:txBody>
      </p:sp>
      <p:sp>
        <p:nvSpPr>
          <p:cNvPr id="6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Core – Logik der Zelle (Verarbeitung)</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ortal – API steuert die Logik.</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dapter – Die Logik steuert ein AP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lle = Kompon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45" dur="500"/>
                                        <p:tgtEl>
                                          <p:spTgt spid="60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09">
                                            <p:txEl>
                                              <p:pRg st="1" end="1"/>
                                            </p:txEl>
                                          </p:spTgt>
                                        </p:tgtEl>
                                        <p:attrNameLst>
                                          <p:attrName>style.visibility</p:attrName>
                                        </p:attrNameLst>
                                      </p:cBhvr>
                                      <p:to>
                                        <p:strVal val="visible"/>
                                      </p:to>
                                    </p:set>
                                    <p:animEffect filter="blinds(horizontal)" transition="in">
                                      <p:cBhvr additive="repl">
                                        <p:cTn id="150" dur="500"/>
                                        <p:tgtEl>
                                          <p:spTgt spid="60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09">
                                            <p:txEl>
                                              <p:pRg st="2" end="2"/>
                                            </p:txEl>
                                          </p:spTgt>
                                        </p:tgtEl>
                                        <p:attrNameLst>
                                          <p:attrName>style.visibility</p:attrName>
                                        </p:attrNameLst>
                                      </p:cBhvr>
                                      <p:to>
                                        <p:strVal val="visible"/>
                                      </p:to>
                                    </p:set>
                                    <p:animEffect filter="blinds(horizontal)" transition="in">
                                      <p:cBhvr additive="repl">
                                        <p:cTn id="155" dur="500"/>
                                        <p:tgtEl>
                                          <p:spTgt spid="60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09">
                                            <p:txEl>
                                              <p:pRg st="4" end="4"/>
                                            </p:txEl>
                                          </p:spTgt>
                                        </p:tgtEl>
                                        <p:attrNameLst>
                                          <p:attrName>style.visibility</p:attrName>
                                        </p:attrNameLst>
                                      </p:cBhvr>
                                      <p:to>
                                        <p:strVal val="visible"/>
                                      </p:to>
                                    </p:set>
                                    <p:animEffect filter="blinds(horizontal)" transition="in">
                                      <p:cBhvr additive="repl">
                                        <p:cTn id="160" dur="500"/>
                                        <p:tgtEl>
                                          <p:spTgt spid="6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0" name=""/>
          <p:cNvSpPr/>
          <p:nvPr/>
        </p:nvSpPr>
        <p:spPr>
          <a:xfrm>
            <a:off x="3492360" y="160164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rot="10800000">
            <a:off x="349200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Zellen (Komponenten) werden zusammengesteckt </a:t>
            </a:r>
            <a:endParaRPr b="0" lang="en-US" sz="4000" spc="-1" strike="noStrike">
              <a:solidFill>
                <a:srgbClr val="dfdef6"/>
              </a:solidFill>
              <a:latin typeface="Arial"/>
            </a:endParaRPr>
          </a:p>
        </p:txBody>
      </p:sp>
      <p:sp>
        <p:nvSpPr>
          <p:cNvPr id="613" name=""/>
          <p:cNvSpPr/>
          <p:nvPr/>
        </p:nvSpPr>
        <p:spPr>
          <a:xfrm>
            <a:off x="471636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4356000" y="2610000"/>
            <a:ext cx="50508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5221440" y="5850000"/>
            <a:ext cx="1079280" cy="1008000"/>
          </a:xfrm>
          <a:prstGeom prst="flowChartMagneticDisk">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4500720" y="1962000"/>
            <a:ext cx="288720" cy="360360"/>
          </a:xfrm>
          <a:prstGeom prst="pentagon">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4429080" y="4049640"/>
            <a:ext cx="504720" cy="43200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5580000" y="448164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645080" y="23209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V="1">
            <a:off x="4500720" y="3185280"/>
            <a:ext cx="288720" cy="2890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flipH="1" flipV="1">
            <a:off x="5652360" y="5129280"/>
            <a:ext cx="35892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4500720" y="3546360"/>
            <a:ext cx="287280" cy="21600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23" name=""/>
          <p:cNvSpPr/>
          <p:nvPr/>
        </p:nvSpPr>
        <p:spPr>
          <a:xfrm>
            <a:off x="4645080" y="2897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H="1">
            <a:off x="4932360" y="4338720"/>
            <a:ext cx="216000" cy="21564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25" name=""/>
          <p:cNvSpPr/>
          <p:nvPr/>
        </p:nvSpPr>
        <p:spPr>
          <a:xfrm>
            <a:off x="5148360" y="4481640"/>
            <a:ext cx="287280" cy="215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26" name=""/>
          <p:cNvSpPr/>
          <p:nvPr/>
        </p:nvSpPr>
        <p:spPr>
          <a:xfrm>
            <a:off x="4645080" y="3762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4861080" y="4338720"/>
            <a:ext cx="21564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28" name=""/>
          <p:cNvSpPr/>
          <p:nvPr/>
        </p:nvSpPr>
        <p:spPr>
          <a:xfrm>
            <a:off x="5364000" y="4697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H="1">
            <a:off x="5795640" y="4842000"/>
            <a:ext cx="730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630" name=""/>
          <p:cNvCxnSpPr>
            <a:stCxn id="621" idx="0"/>
            <a:endCxn id="615" idx="1"/>
          </p:cNvCxnSpPr>
          <p:nvPr/>
        </p:nvCxnSpPr>
        <p:spPr>
          <a:xfrm flipH="1">
            <a:off x="5760720" y="5418000"/>
            <a:ext cx="72000" cy="432720"/>
          </a:xfrm>
          <a:prstGeom prst="straightConnector1">
            <a:avLst/>
          </a:prstGeom>
          <a:ln w="9360">
            <a:solidFill>
              <a:srgbClr val="ffffff"/>
            </a:solidFill>
            <a:miter/>
          </a:ln>
        </p:spPr>
      </p:cxnSp>
      <p:sp>
        <p:nvSpPr>
          <p:cNvPr id="631" name=""/>
          <p:cNvSpPr/>
          <p:nvPr/>
        </p:nvSpPr>
        <p:spPr>
          <a:xfrm>
            <a:off x="4859280" y="1773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UI</a:t>
            </a:r>
            <a:endParaRPr b="0" lang="en-US" sz="1800" spc="-1" strike="noStrike">
              <a:solidFill>
                <a:srgbClr val="ffffff"/>
              </a:solidFill>
              <a:latin typeface="Arial"/>
            </a:endParaRPr>
          </a:p>
        </p:txBody>
      </p:sp>
      <p:sp>
        <p:nvSpPr>
          <p:cNvPr id="632" name=""/>
          <p:cNvSpPr/>
          <p:nvPr/>
        </p:nvSpPr>
        <p:spPr>
          <a:xfrm>
            <a:off x="3061800" y="45813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usiness</a:t>
            </a:r>
            <a:endParaRPr b="0" lang="en-US" sz="1800" spc="-1" strike="noStrike">
              <a:solidFill>
                <a:srgbClr val="ffffff"/>
              </a:solidFill>
              <a:latin typeface="Arial"/>
            </a:endParaRPr>
          </a:p>
        </p:txBody>
      </p:sp>
      <p:sp>
        <p:nvSpPr>
          <p:cNvPr id="633" name=""/>
          <p:cNvSpPr/>
          <p:nvPr/>
        </p:nvSpPr>
        <p:spPr>
          <a:xfrm>
            <a:off x="6445800" y="55166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Access</a:t>
            </a:r>
            <a:endParaRPr b="0" lang="en-US" sz="1800" spc="-1" strike="noStrike">
              <a:solidFill>
                <a:srgbClr val="ffffff"/>
              </a:solidFill>
              <a:latin typeface="Arial"/>
            </a:endParaRPr>
          </a:p>
        </p:txBody>
      </p:sp>
      <p:sp>
        <p:nvSpPr>
          <p:cNvPr id="634" name=""/>
          <p:cNvSpPr/>
          <p:nvPr/>
        </p:nvSpPr>
        <p:spPr>
          <a:xfrm rot="10800000">
            <a:off x="899640" y="2565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p:cNvSpPr/>
          <p:nvPr/>
        </p:nvSpPr>
        <p:spPr>
          <a:xfrm rot="18165600">
            <a:off x="2195640" y="3285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1692360" y="292428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flipH="1" flipV="1">
            <a:off x="2195280" y="3213000"/>
            <a:ext cx="14436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rot="3559800">
            <a:off x="6228360" y="1771920"/>
            <a:ext cx="230328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
          <p:cNvSpPr/>
          <p:nvPr/>
        </p:nvSpPr>
        <p:spPr>
          <a:xfrm rot="3416400">
            <a:off x="6372000" y="285264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rot="14346000">
            <a:off x="6983280" y="245736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V="1">
            <a:off x="6732720" y="2781000"/>
            <a:ext cx="28728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952920" y="20811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Types</a:t>
            </a:r>
            <a:endParaRPr b="0" lang="en-US" sz="1800" spc="-1" strike="noStrike">
              <a:solidFill>
                <a:srgbClr val="ffffff"/>
              </a:solidFill>
              <a:latin typeface="Arial"/>
            </a:endParaRPr>
          </a:p>
        </p:txBody>
      </p:sp>
      <p:sp>
        <p:nvSpPr>
          <p:cNvPr id="643" name=""/>
          <p:cNvSpPr/>
          <p:nvPr/>
        </p:nvSpPr>
        <p:spPr>
          <a:xfrm>
            <a:off x="6067080" y="179244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tilities</a:t>
            </a:r>
            <a:endParaRPr b="0" lang="en-US" sz="1800" spc="-1" strike="noStrike">
              <a:solidFill>
                <a:srgbClr val="ffffff"/>
              </a:solidFill>
              <a:latin typeface="Arial"/>
            </a:endParaRPr>
          </a:p>
        </p:txBody>
      </p:sp>
      <p:sp>
        <p:nvSpPr>
          <p:cNvPr id="644" name=""/>
          <p:cNvSpPr/>
          <p:nvPr/>
        </p:nvSpPr>
        <p:spPr>
          <a:xfrm rot="14781000">
            <a:off x="3779280" y="4077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rot="18165600">
            <a:off x="3780000" y="263628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646" name=""/>
          <p:cNvCxnSpPr>
            <a:stCxn id="644" idx="0"/>
            <a:endCxn id="634" idx="1"/>
          </p:cNvCxnSpPr>
          <p:nvPr/>
        </p:nvCxnSpPr>
        <p:spPr>
          <a:xfrm flipH="1" flipV="1">
            <a:off x="2628360" y="3501360"/>
            <a:ext cx="1308600" cy="780120"/>
          </a:xfrm>
          <a:prstGeom prst="straightConnector1">
            <a:avLst/>
          </a:prstGeom>
          <a:ln w="9360">
            <a:solidFill>
              <a:srgbClr val="ffffff"/>
            </a:solidFill>
            <a:miter/>
            <a:tailEnd len="med" type="triangle" w="med"/>
          </a:ln>
        </p:spPr>
      </p:cxnSp>
      <p:cxnSp>
        <p:nvCxnSpPr>
          <p:cNvPr id="647" name=""/>
          <p:cNvCxnSpPr>
            <a:stCxn id="645" idx="0"/>
            <a:endCxn id="635" idx="4"/>
          </p:cNvCxnSpPr>
          <p:nvPr/>
        </p:nvCxnSpPr>
        <p:spPr>
          <a:xfrm flipH="1">
            <a:off x="2760840" y="2704680"/>
            <a:ext cx="1187640" cy="562680"/>
          </a:xfrm>
          <a:prstGeom prst="straightConnector1">
            <a:avLst/>
          </a:prstGeom>
          <a:ln w="9360">
            <a:solidFill>
              <a:srgbClr val="ffffff"/>
            </a:solidFill>
            <a:miter/>
            <a:tailEnd len="med" type="triangle" w="med"/>
          </a:ln>
        </p:spPr>
      </p:cxnSp>
      <p:cxnSp>
        <p:nvCxnSpPr>
          <p:cNvPr id="648" name=""/>
          <p:cNvCxnSpPr>
            <a:stCxn id="645" idx="3"/>
            <a:endCxn id="645" idx="3"/>
          </p:cNvCxnSpPr>
          <p:nvPr/>
        </p:nvCxnSpPr>
        <p:spPr>
          <a:xfrm>
            <a:off x="4188960" y="2860200"/>
            <a:ext cx="1080" cy="1080"/>
          </a:xfrm>
          <a:prstGeom prst="straightConnector1">
            <a:avLst/>
          </a:prstGeom>
          <a:ln w="9360">
            <a:solidFill>
              <a:srgbClr val="ffffff"/>
            </a:solidFill>
            <a:miter/>
            <a:tailEnd len="med" type="triangle" w="med"/>
          </a:ln>
        </p:spPr>
      </p:cxnSp>
      <p:sp>
        <p:nvSpPr>
          <p:cNvPr id="649" name=""/>
          <p:cNvSpPr/>
          <p:nvPr/>
        </p:nvSpPr>
        <p:spPr>
          <a:xfrm flipH="1">
            <a:off x="4211640" y="285264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flipH="1" rot="3624000">
            <a:off x="4989600" y="2794680"/>
            <a:ext cx="576000" cy="260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39960" bIns="39960" anchor="ctr">
            <a:noAutofit/>
          </a:bodyPr>
          <a:p>
            <a:endParaRPr b="0" lang="en-US" sz="1800" spc="-1" strike="noStrike">
              <a:solidFill>
                <a:srgbClr val="ffffff"/>
              </a:solidFill>
              <a:latin typeface="Arial"/>
            </a:endParaRPr>
          </a:p>
        </p:txBody>
      </p:sp>
      <p:cxnSp>
        <p:nvCxnSpPr>
          <p:cNvPr id="651" name=""/>
          <p:cNvCxnSpPr>
            <a:stCxn id="650" idx="0"/>
            <a:endCxn id="639" idx="3"/>
          </p:cNvCxnSpPr>
          <p:nvPr/>
        </p:nvCxnSpPr>
        <p:spPr>
          <a:xfrm>
            <a:off x="5392800" y="2860560"/>
            <a:ext cx="1149840" cy="215280"/>
          </a:xfrm>
          <a:prstGeom prst="straightConnector1">
            <a:avLst/>
          </a:prstGeom>
          <a:ln w="9360">
            <a:solidFill>
              <a:srgbClr val="ffffff"/>
            </a:solidFill>
            <a:miter/>
            <a:tailEnd len="med" type="triangle" w="med"/>
          </a:ln>
        </p:spPr>
      </p:cxnSp>
      <p:cxnSp>
        <p:nvCxnSpPr>
          <p:cNvPr id="652" name=""/>
          <p:cNvCxnSpPr>
            <a:stCxn id="614" idx="6"/>
            <a:endCxn id="650" idx="3"/>
          </p:cNvCxnSpPr>
          <p:nvPr/>
        </p:nvCxnSpPr>
        <p:spPr>
          <a:xfrm>
            <a:off x="4861080" y="2825280"/>
            <a:ext cx="305280" cy="164520"/>
          </a:xfrm>
          <a:prstGeom prst="straightConnector1">
            <a:avLst/>
          </a:prstGeom>
          <a:ln w="9360">
            <a:solidFill>
              <a:srgbClr val="ffffff"/>
            </a:solidFill>
            <a:miter/>
            <a:tailEnd len="med" type="triangle" w="med"/>
          </a:ln>
        </p:spPr>
      </p:cxnSp>
      <p:sp>
        <p:nvSpPr>
          <p:cNvPr id="653" name=""/>
          <p:cNvSpPr/>
          <p:nvPr/>
        </p:nvSpPr>
        <p:spPr>
          <a:xfrm flipH="1" rot="3624000">
            <a:off x="5926680" y="4233960"/>
            <a:ext cx="576360" cy="260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cxnSp>
        <p:nvCxnSpPr>
          <p:cNvPr id="654" name=""/>
          <p:cNvCxnSpPr>
            <a:stCxn id="618" idx="7"/>
            <a:endCxn id="653" idx="3"/>
          </p:cNvCxnSpPr>
          <p:nvPr/>
        </p:nvCxnSpPr>
        <p:spPr>
          <a:xfrm flipV="1">
            <a:off x="6010200" y="4428720"/>
            <a:ext cx="92880" cy="116640"/>
          </a:xfrm>
          <a:prstGeom prst="straightConnector1">
            <a:avLst/>
          </a:prstGeom>
          <a:ln w="9360">
            <a:solidFill>
              <a:srgbClr val="ffffff"/>
            </a:solidFill>
            <a:miter/>
            <a:tailEnd len="med" type="triangle" w="med"/>
          </a:ln>
        </p:spPr>
      </p:cxnSp>
      <p:cxnSp>
        <p:nvCxnSpPr>
          <p:cNvPr id="655" name=""/>
          <p:cNvCxnSpPr>
            <a:stCxn id="653" idx="0"/>
            <a:endCxn id="639" idx="3"/>
          </p:cNvCxnSpPr>
          <p:nvPr/>
        </p:nvCxnSpPr>
        <p:spPr>
          <a:xfrm flipV="1">
            <a:off x="6329520" y="3074760"/>
            <a:ext cx="213120" cy="1226160"/>
          </a:xfrm>
          <a:prstGeom prst="straightConnector1">
            <a:avLst/>
          </a:prstGeom>
          <a:ln w="9360">
            <a:solidFill>
              <a:srgbClr val="ffffff"/>
            </a:solidFill>
            <a:miter/>
            <a:tailEnd len="med" type="triangle" w="med"/>
          </a:ln>
        </p:spPr>
      </p:cxnSp>
      <p:cxnSp>
        <p:nvCxnSpPr>
          <p:cNvPr id="656" name=""/>
          <p:cNvCxnSpPr>
            <a:stCxn id="617" idx="1"/>
            <a:endCxn id="644" idx="3"/>
          </p:cNvCxnSpPr>
          <p:nvPr/>
        </p:nvCxnSpPr>
        <p:spPr>
          <a:xfrm flipH="1">
            <a:off x="4200120" y="4113360"/>
            <a:ext cx="303840" cy="547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ellen...(SOA läßt grüßen)</a:t>
            </a:r>
            <a:endParaRPr b="0" lang="en-US" sz="4400" spc="-1" strike="noStrike">
              <a:solidFill>
                <a:srgbClr val="dfdef6"/>
              </a:solidFill>
              <a:latin typeface="Arial"/>
            </a:endParaRPr>
          </a:p>
        </p:txBody>
      </p:sp>
      <p:sp>
        <p:nvSpPr>
          <p:cNvPr id="65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Grenzen zwischen Zellen (Komponenten) sind explizi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llen (Komponenten) sind möglichst in sich geschlosse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llen (Komponenten) kennen voneinander nur ihre Verträge, nicht aber ihre Implementierungen.</a:t>
            </a:r>
            <a:endParaRPr b="0" lang="en-US" sz="3200" spc="-1" strike="noStrike">
              <a:solidFill>
                <a:srgbClr val="ffffff"/>
              </a:solidFill>
              <a:latin typeface="Arial"/>
            </a:endParaRPr>
          </a:p>
        </p:txBody>
      </p:sp>
      <p:sp>
        <p:nvSpPr>
          <p:cNvPr id="659" name=""/>
          <p:cNvSpPr/>
          <p:nvPr/>
        </p:nvSpPr>
        <p:spPr>
          <a:xfrm>
            <a:off x="450000" y="6040440"/>
            <a:ext cx="39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OA = Service Oriented Archite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658">
                                            <p:txEl>
                                              <p:pRg st="0" end="0"/>
                                            </p:txEl>
                                          </p:spTgt>
                                        </p:tgtEl>
                                        <p:attrNameLst>
                                          <p:attrName>style.visibility</p:attrName>
                                        </p:attrNameLst>
                                      </p:cBhvr>
                                      <p:to>
                                        <p:strVal val="visible"/>
                                      </p:to>
                                    </p:set>
                                    <p:animEffect filter="blinds(horizontal)" transition="in">
                                      <p:cBhvr additive="repl">
                                        <p:cTn id="167" dur="500"/>
                                        <p:tgtEl>
                                          <p:spTgt spid="65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658">
                                            <p:txEl>
                                              <p:pRg st="1" end="1"/>
                                            </p:txEl>
                                          </p:spTgt>
                                        </p:tgtEl>
                                        <p:attrNameLst>
                                          <p:attrName>style.visibility</p:attrName>
                                        </p:attrNameLst>
                                      </p:cBhvr>
                                      <p:to>
                                        <p:strVal val="visible"/>
                                      </p:to>
                                    </p:set>
                                    <p:animEffect filter="blinds(horizontal)" transition="in">
                                      <p:cBhvr additive="repl">
                                        <p:cTn id="172" dur="500"/>
                                        <p:tgtEl>
                                          <p:spTgt spid="658">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658">
                                            <p:txEl>
                                              <p:pRg st="2" end="2"/>
                                            </p:txEl>
                                          </p:spTgt>
                                        </p:tgtEl>
                                        <p:attrNameLst>
                                          <p:attrName>style.visibility</p:attrName>
                                        </p:attrNameLst>
                                      </p:cBhvr>
                                      <p:to>
                                        <p:strVal val="visible"/>
                                      </p:to>
                                    </p:set>
                                    <p:animEffect filter="blinds(horizontal)" transition="in">
                                      <p:cBhvr additive="repl">
                                        <p:cTn id="177" dur="500"/>
                                        <p:tgtEl>
                                          <p:spTgt spid="6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0" name=""/>
          <p:cNvSpPr/>
          <p:nvPr/>
        </p:nvSpPr>
        <p:spPr>
          <a:xfrm>
            <a:off x="3492360" y="160164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rot="10800000">
            <a:off x="349200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Zellen (Komponenten) werden zusammengesteckt </a:t>
            </a:r>
            <a:endParaRPr b="0" lang="en-US" sz="4000" spc="-1" strike="noStrike">
              <a:solidFill>
                <a:srgbClr val="dfdef6"/>
              </a:solidFill>
              <a:latin typeface="Arial"/>
            </a:endParaRPr>
          </a:p>
        </p:txBody>
      </p:sp>
      <p:sp>
        <p:nvSpPr>
          <p:cNvPr id="663" name=""/>
          <p:cNvSpPr/>
          <p:nvPr/>
        </p:nvSpPr>
        <p:spPr>
          <a:xfrm>
            <a:off x="471636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4356000" y="2610000"/>
            <a:ext cx="50508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5221440" y="5850000"/>
            <a:ext cx="1079280" cy="1008000"/>
          </a:xfrm>
          <a:prstGeom prst="flowChartMagneticDisk">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4500720" y="1962000"/>
            <a:ext cx="288720" cy="360360"/>
          </a:xfrm>
          <a:prstGeom prst="pentagon">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4429080" y="4049640"/>
            <a:ext cx="504720" cy="43200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5580000" y="448164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645080" y="23209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flipV="1">
            <a:off x="4500720" y="3185280"/>
            <a:ext cx="288720" cy="2890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flipH="1" flipV="1">
            <a:off x="5652360" y="5129280"/>
            <a:ext cx="35892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flipV="1">
            <a:off x="4500720" y="3546360"/>
            <a:ext cx="287280" cy="21600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73" name=""/>
          <p:cNvSpPr/>
          <p:nvPr/>
        </p:nvSpPr>
        <p:spPr>
          <a:xfrm>
            <a:off x="4645080" y="2897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4932360" y="4338720"/>
            <a:ext cx="216000" cy="21564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75" name=""/>
          <p:cNvSpPr/>
          <p:nvPr/>
        </p:nvSpPr>
        <p:spPr>
          <a:xfrm>
            <a:off x="5148360" y="4481640"/>
            <a:ext cx="287280" cy="215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76" name=""/>
          <p:cNvSpPr/>
          <p:nvPr/>
        </p:nvSpPr>
        <p:spPr>
          <a:xfrm>
            <a:off x="4645080" y="3762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61080" y="4338720"/>
            <a:ext cx="21564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8" name=""/>
          <p:cNvSpPr/>
          <p:nvPr/>
        </p:nvSpPr>
        <p:spPr>
          <a:xfrm>
            <a:off x="5364000" y="4697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H="1">
            <a:off x="5795640" y="4842000"/>
            <a:ext cx="730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680" name=""/>
          <p:cNvCxnSpPr>
            <a:stCxn id="671" idx="0"/>
            <a:endCxn id="665" idx="1"/>
          </p:cNvCxnSpPr>
          <p:nvPr/>
        </p:nvCxnSpPr>
        <p:spPr>
          <a:xfrm flipH="1">
            <a:off x="5760720" y="5418000"/>
            <a:ext cx="72000" cy="432720"/>
          </a:xfrm>
          <a:prstGeom prst="straightConnector1">
            <a:avLst/>
          </a:prstGeom>
          <a:ln w="9360">
            <a:solidFill>
              <a:srgbClr val="ffffff"/>
            </a:solidFill>
            <a:miter/>
          </a:ln>
        </p:spPr>
      </p:cxnSp>
      <p:sp>
        <p:nvSpPr>
          <p:cNvPr id="681" name=""/>
          <p:cNvSpPr/>
          <p:nvPr/>
        </p:nvSpPr>
        <p:spPr>
          <a:xfrm>
            <a:off x="4859280" y="1773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UI</a:t>
            </a:r>
            <a:endParaRPr b="0" lang="en-US" sz="1800" spc="-1" strike="noStrike">
              <a:solidFill>
                <a:srgbClr val="ffffff"/>
              </a:solidFill>
              <a:latin typeface="Arial"/>
            </a:endParaRPr>
          </a:p>
        </p:txBody>
      </p:sp>
      <p:sp>
        <p:nvSpPr>
          <p:cNvPr id="682" name=""/>
          <p:cNvSpPr/>
          <p:nvPr/>
        </p:nvSpPr>
        <p:spPr>
          <a:xfrm>
            <a:off x="3061800" y="45813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usiness</a:t>
            </a:r>
            <a:endParaRPr b="0" lang="en-US" sz="1800" spc="-1" strike="noStrike">
              <a:solidFill>
                <a:srgbClr val="ffffff"/>
              </a:solidFill>
              <a:latin typeface="Arial"/>
            </a:endParaRPr>
          </a:p>
        </p:txBody>
      </p:sp>
      <p:sp>
        <p:nvSpPr>
          <p:cNvPr id="683" name=""/>
          <p:cNvSpPr/>
          <p:nvPr/>
        </p:nvSpPr>
        <p:spPr>
          <a:xfrm>
            <a:off x="6445800" y="55166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Access</a:t>
            </a:r>
            <a:endParaRPr b="0" lang="en-US" sz="1800" spc="-1" strike="noStrike">
              <a:solidFill>
                <a:srgbClr val="ffffff"/>
              </a:solidFill>
              <a:latin typeface="Arial"/>
            </a:endParaRPr>
          </a:p>
        </p:txBody>
      </p:sp>
      <p:sp>
        <p:nvSpPr>
          <p:cNvPr id="684" name=""/>
          <p:cNvSpPr/>
          <p:nvPr/>
        </p:nvSpPr>
        <p:spPr>
          <a:xfrm rot="10800000">
            <a:off x="899640" y="2565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rot="18165600">
            <a:off x="2195640" y="3285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1692360" y="292428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flipH="1" flipV="1">
            <a:off x="2195280" y="3213000"/>
            <a:ext cx="14436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rot="3559800">
            <a:off x="6228360" y="1771920"/>
            <a:ext cx="230328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rot="3416400">
            <a:off x="6372000" y="285264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rot="14346000">
            <a:off x="6983280" y="245736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flipV="1">
            <a:off x="6732720" y="2781000"/>
            <a:ext cx="28728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952920" y="20811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Types</a:t>
            </a:r>
            <a:endParaRPr b="0" lang="en-US" sz="1800" spc="-1" strike="noStrike">
              <a:solidFill>
                <a:srgbClr val="ffffff"/>
              </a:solidFill>
              <a:latin typeface="Arial"/>
            </a:endParaRPr>
          </a:p>
        </p:txBody>
      </p:sp>
      <p:sp>
        <p:nvSpPr>
          <p:cNvPr id="693" name=""/>
          <p:cNvSpPr/>
          <p:nvPr/>
        </p:nvSpPr>
        <p:spPr>
          <a:xfrm>
            <a:off x="6067080" y="179244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tilities</a:t>
            </a:r>
            <a:endParaRPr b="0" lang="en-US" sz="1800" spc="-1" strike="noStrike">
              <a:solidFill>
                <a:srgbClr val="ffffff"/>
              </a:solidFill>
              <a:latin typeface="Arial"/>
            </a:endParaRPr>
          </a:p>
        </p:txBody>
      </p:sp>
      <p:sp>
        <p:nvSpPr>
          <p:cNvPr id="694" name=""/>
          <p:cNvSpPr/>
          <p:nvPr/>
        </p:nvSpPr>
        <p:spPr>
          <a:xfrm rot="14781000">
            <a:off x="3779280" y="4077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rot="18165600">
            <a:off x="3780000" y="263628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696" name=""/>
          <p:cNvCxnSpPr>
            <a:stCxn id="694" idx="0"/>
            <a:endCxn id="684" idx="1"/>
          </p:cNvCxnSpPr>
          <p:nvPr/>
        </p:nvCxnSpPr>
        <p:spPr>
          <a:xfrm flipH="1" flipV="1">
            <a:off x="2628360" y="3501360"/>
            <a:ext cx="1308600" cy="780120"/>
          </a:xfrm>
          <a:prstGeom prst="straightConnector1">
            <a:avLst/>
          </a:prstGeom>
          <a:ln w="9360">
            <a:solidFill>
              <a:srgbClr val="ffffff"/>
            </a:solidFill>
            <a:miter/>
            <a:tailEnd len="med" type="triangle" w="med"/>
          </a:ln>
        </p:spPr>
      </p:cxnSp>
      <p:cxnSp>
        <p:nvCxnSpPr>
          <p:cNvPr id="697" name=""/>
          <p:cNvCxnSpPr>
            <a:stCxn id="695" idx="0"/>
            <a:endCxn id="685" idx="4"/>
          </p:cNvCxnSpPr>
          <p:nvPr/>
        </p:nvCxnSpPr>
        <p:spPr>
          <a:xfrm flipH="1">
            <a:off x="2760840" y="2704680"/>
            <a:ext cx="1187640" cy="562680"/>
          </a:xfrm>
          <a:prstGeom prst="straightConnector1">
            <a:avLst/>
          </a:prstGeom>
          <a:ln w="9360">
            <a:solidFill>
              <a:srgbClr val="ffffff"/>
            </a:solidFill>
            <a:miter/>
            <a:tailEnd len="med" type="triangle" w="med"/>
          </a:ln>
        </p:spPr>
      </p:cxnSp>
      <p:cxnSp>
        <p:nvCxnSpPr>
          <p:cNvPr id="698" name=""/>
          <p:cNvCxnSpPr>
            <a:stCxn id="695" idx="3"/>
            <a:endCxn id="695" idx="3"/>
          </p:cNvCxnSpPr>
          <p:nvPr/>
        </p:nvCxnSpPr>
        <p:spPr>
          <a:xfrm>
            <a:off x="4188960" y="2860200"/>
            <a:ext cx="1080" cy="1080"/>
          </a:xfrm>
          <a:prstGeom prst="straightConnector1">
            <a:avLst/>
          </a:prstGeom>
          <a:ln w="9360">
            <a:solidFill>
              <a:srgbClr val="ffffff"/>
            </a:solidFill>
            <a:miter/>
            <a:tailEnd len="med" type="triangle" w="med"/>
          </a:ln>
        </p:spPr>
      </p:cxnSp>
      <p:sp>
        <p:nvSpPr>
          <p:cNvPr id="699" name=""/>
          <p:cNvSpPr/>
          <p:nvPr/>
        </p:nvSpPr>
        <p:spPr>
          <a:xfrm flipH="1">
            <a:off x="4211640" y="285264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flipH="1" rot="3624000">
            <a:off x="4989600" y="2794680"/>
            <a:ext cx="576000" cy="260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39960" bIns="39960" anchor="ctr">
            <a:noAutofit/>
          </a:bodyPr>
          <a:p>
            <a:endParaRPr b="0" lang="en-US" sz="1800" spc="-1" strike="noStrike">
              <a:solidFill>
                <a:srgbClr val="ffffff"/>
              </a:solidFill>
              <a:latin typeface="Arial"/>
            </a:endParaRPr>
          </a:p>
        </p:txBody>
      </p:sp>
      <p:cxnSp>
        <p:nvCxnSpPr>
          <p:cNvPr id="701" name=""/>
          <p:cNvCxnSpPr>
            <a:stCxn id="700" idx="0"/>
            <a:endCxn id="689" idx="3"/>
          </p:cNvCxnSpPr>
          <p:nvPr/>
        </p:nvCxnSpPr>
        <p:spPr>
          <a:xfrm>
            <a:off x="5392800" y="2860560"/>
            <a:ext cx="1149840" cy="215280"/>
          </a:xfrm>
          <a:prstGeom prst="straightConnector1">
            <a:avLst/>
          </a:prstGeom>
          <a:ln w="9360">
            <a:solidFill>
              <a:srgbClr val="ffffff"/>
            </a:solidFill>
            <a:miter/>
            <a:tailEnd len="med" type="triangle" w="med"/>
          </a:ln>
        </p:spPr>
      </p:cxnSp>
      <p:cxnSp>
        <p:nvCxnSpPr>
          <p:cNvPr id="702" name=""/>
          <p:cNvCxnSpPr>
            <a:stCxn id="664" idx="6"/>
            <a:endCxn id="700" idx="3"/>
          </p:cNvCxnSpPr>
          <p:nvPr/>
        </p:nvCxnSpPr>
        <p:spPr>
          <a:xfrm>
            <a:off x="4861080" y="2825280"/>
            <a:ext cx="305280" cy="164520"/>
          </a:xfrm>
          <a:prstGeom prst="straightConnector1">
            <a:avLst/>
          </a:prstGeom>
          <a:ln w="9360">
            <a:solidFill>
              <a:srgbClr val="ffffff"/>
            </a:solidFill>
            <a:miter/>
            <a:tailEnd len="med" type="triangle" w="med"/>
          </a:ln>
        </p:spPr>
      </p:cxnSp>
      <p:sp>
        <p:nvSpPr>
          <p:cNvPr id="703" name=""/>
          <p:cNvSpPr/>
          <p:nvPr/>
        </p:nvSpPr>
        <p:spPr>
          <a:xfrm flipH="1" rot="3624000">
            <a:off x="5926680" y="4233960"/>
            <a:ext cx="576360" cy="260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cxnSp>
        <p:nvCxnSpPr>
          <p:cNvPr id="704" name=""/>
          <p:cNvCxnSpPr>
            <a:stCxn id="668" idx="7"/>
            <a:endCxn id="703" idx="3"/>
          </p:cNvCxnSpPr>
          <p:nvPr/>
        </p:nvCxnSpPr>
        <p:spPr>
          <a:xfrm flipV="1">
            <a:off x="6010200" y="4428720"/>
            <a:ext cx="92880" cy="116640"/>
          </a:xfrm>
          <a:prstGeom prst="straightConnector1">
            <a:avLst/>
          </a:prstGeom>
          <a:ln w="9360">
            <a:solidFill>
              <a:srgbClr val="ffffff"/>
            </a:solidFill>
            <a:miter/>
            <a:tailEnd len="med" type="triangle" w="med"/>
          </a:ln>
        </p:spPr>
      </p:cxnSp>
      <p:cxnSp>
        <p:nvCxnSpPr>
          <p:cNvPr id="705" name=""/>
          <p:cNvCxnSpPr>
            <a:stCxn id="703" idx="0"/>
            <a:endCxn id="689" idx="3"/>
          </p:cNvCxnSpPr>
          <p:nvPr/>
        </p:nvCxnSpPr>
        <p:spPr>
          <a:xfrm flipV="1">
            <a:off x="6329520" y="3074760"/>
            <a:ext cx="213120" cy="1226160"/>
          </a:xfrm>
          <a:prstGeom prst="straightConnector1">
            <a:avLst/>
          </a:prstGeom>
          <a:ln w="9360">
            <a:solidFill>
              <a:srgbClr val="ffffff"/>
            </a:solidFill>
            <a:miter/>
            <a:tailEnd len="med" type="triangle" w="med"/>
          </a:ln>
        </p:spPr>
      </p:cxnSp>
      <p:sp>
        <p:nvSpPr>
          <p:cNvPr id="706" name=""/>
          <p:cNvSpPr/>
          <p:nvPr/>
        </p:nvSpPr>
        <p:spPr>
          <a:xfrm>
            <a:off x="581040" y="1625760"/>
            <a:ext cx="6572160" cy="4384440"/>
          </a:xfrm>
          <a:custGeom>
            <a:avLst/>
            <a:gdLst/>
            <a:ahLst/>
            <a:rect l="l" t="t" r="r" b="b"/>
            <a:pathLst>
              <a:path w="18256" h="12180">
                <a:moveTo>
                  <a:pt x="16507" y="6174"/>
                </a:moveTo>
                <a:cubicBezTo>
                  <a:pt x="16513" y="6190"/>
                  <a:pt x="16519" y="6208"/>
                  <a:pt x="16526" y="6225"/>
                </a:cubicBezTo>
                <a:cubicBezTo>
                  <a:pt x="16584" y="6369"/>
                  <a:pt x="16648" y="6506"/>
                  <a:pt x="16725" y="6641"/>
                </a:cubicBezTo>
                <a:cubicBezTo>
                  <a:pt x="16835" y="6834"/>
                  <a:pt x="16978" y="7007"/>
                  <a:pt x="17100" y="7191"/>
                </a:cubicBezTo>
                <a:cubicBezTo>
                  <a:pt x="17131" y="7237"/>
                  <a:pt x="17162" y="7282"/>
                  <a:pt x="17190" y="7330"/>
                </a:cubicBezTo>
                <a:cubicBezTo>
                  <a:pt x="17277" y="7480"/>
                  <a:pt x="17336" y="7640"/>
                  <a:pt x="17409" y="7796"/>
                </a:cubicBezTo>
                <a:cubicBezTo>
                  <a:pt x="17486" y="7960"/>
                  <a:pt x="17588" y="8112"/>
                  <a:pt x="17679" y="8268"/>
                </a:cubicBezTo>
                <a:cubicBezTo>
                  <a:pt x="17729" y="8354"/>
                  <a:pt x="17782" y="8438"/>
                  <a:pt x="17836" y="8522"/>
                </a:cubicBezTo>
                <a:cubicBezTo>
                  <a:pt x="17941" y="8686"/>
                  <a:pt x="18063" y="8826"/>
                  <a:pt x="18177" y="8980"/>
                </a:cubicBezTo>
                <a:cubicBezTo>
                  <a:pt x="18298" y="9144"/>
                  <a:pt x="18392" y="9327"/>
                  <a:pt x="18505" y="9497"/>
                </a:cubicBezTo>
                <a:cubicBezTo>
                  <a:pt x="18578" y="9607"/>
                  <a:pt x="18658" y="9711"/>
                  <a:pt x="18732" y="9821"/>
                </a:cubicBezTo>
                <a:cubicBezTo>
                  <a:pt x="18805" y="9930"/>
                  <a:pt x="18869" y="10045"/>
                  <a:pt x="18937" y="10158"/>
                </a:cubicBezTo>
                <a:cubicBezTo>
                  <a:pt x="18976" y="10222"/>
                  <a:pt x="19014" y="10287"/>
                  <a:pt x="19050" y="10353"/>
                </a:cubicBezTo>
                <a:cubicBezTo>
                  <a:pt x="19076" y="10400"/>
                  <a:pt x="19099" y="10449"/>
                  <a:pt x="19126" y="10496"/>
                </a:cubicBezTo>
                <a:cubicBezTo>
                  <a:pt x="19264" y="10734"/>
                  <a:pt x="19382" y="10990"/>
                  <a:pt x="19539" y="11217"/>
                </a:cubicBezTo>
                <a:cubicBezTo>
                  <a:pt x="19571" y="11264"/>
                  <a:pt x="19605" y="11311"/>
                  <a:pt x="19639" y="11356"/>
                </a:cubicBezTo>
                <a:cubicBezTo>
                  <a:pt x="19722" y="11467"/>
                  <a:pt x="19798" y="11579"/>
                  <a:pt x="19871" y="11698"/>
                </a:cubicBezTo>
              </a:path>
              <a:path w="18256" h="12180">
                <a:moveTo>
                  <a:pt x="13090" y="14998"/>
                </a:moveTo>
                <a:cubicBezTo>
                  <a:pt x="13102" y="14961"/>
                  <a:pt x="13112" y="14921"/>
                  <a:pt x="13124" y="14882"/>
                </a:cubicBezTo>
                <a:cubicBezTo>
                  <a:pt x="13171" y="14734"/>
                  <a:pt x="13238" y="14604"/>
                  <a:pt x="13318" y="14471"/>
                </a:cubicBezTo>
                <a:cubicBezTo>
                  <a:pt x="13359" y="14403"/>
                  <a:pt x="13404" y="14332"/>
                  <a:pt x="13451" y="14268"/>
                </a:cubicBezTo>
                <a:cubicBezTo>
                  <a:pt x="13602" y="14062"/>
                  <a:pt x="13779" y="13881"/>
                  <a:pt x="13930" y="13676"/>
                </a:cubicBezTo>
                <a:cubicBezTo>
                  <a:pt x="14078" y="13475"/>
                  <a:pt x="14219" y="13256"/>
                  <a:pt x="14348" y="13043"/>
                </a:cubicBezTo>
                <a:cubicBezTo>
                  <a:pt x="14454" y="12869"/>
                  <a:pt x="14514" y="12673"/>
                  <a:pt x="14609" y="12493"/>
                </a:cubicBezTo>
                <a:cubicBezTo>
                  <a:pt x="14702" y="12318"/>
                  <a:pt x="14789" y="12144"/>
                  <a:pt x="14875" y="11966"/>
                </a:cubicBezTo>
                <a:cubicBezTo>
                  <a:pt x="14954" y="11803"/>
                  <a:pt x="15039" y="11641"/>
                  <a:pt x="15131" y="11485"/>
                </a:cubicBezTo>
                <a:cubicBezTo>
                  <a:pt x="15169" y="11421"/>
                  <a:pt x="15211" y="11360"/>
                  <a:pt x="15254" y="11300"/>
                </a:cubicBezTo>
                <a:cubicBezTo>
                  <a:pt x="15293" y="11245"/>
                  <a:pt x="15335" y="11190"/>
                  <a:pt x="15378" y="11138"/>
                </a:cubicBezTo>
                <a:cubicBezTo>
                  <a:pt x="15431" y="11075"/>
                  <a:pt x="15488" y="11017"/>
                  <a:pt x="15539" y="10953"/>
                </a:cubicBezTo>
                <a:cubicBezTo>
                  <a:pt x="15583" y="10897"/>
                  <a:pt x="15618" y="10843"/>
                  <a:pt x="15653" y="10782"/>
                </a:cubicBezTo>
                <a:cubicBezTo>
                  <a:pt x="15694" y="10710"/>
                  <a:pt x="15729" y="10631"/>
                  <a:pt x="15762" y="10556"/>
                </a:cubicBezTo>
                <a:cubicBezTo>
                  <a:pt x="15819" y="10428"/>
                  <a:pt x="15871" y="10299"/>
                  <a:pt x="15928" y="10172"/>
                </a:cubicBezTo>
                <a:cubicBezTo>
                  <a:pt x="16009" y="9990"/>
                  <a:pt x="16104" y="9833"/>
                  <a:pt x="16217" y="9673"/>
                </a:cubicBezTo>
              </a:path>
              <a:path w="18256" h="12180">
                <a:moveTo>
                  <a:pt x="9778" y="9738"/>
                </a:moveTo>
                <a:cubicBezTo>
                  <a:pt x="9861" y="9749"/>
                  <a:pt x="9948" y="9748"/>
                  <a:pt x="10030" y="9761"/>
                </a:cubicBezTo>
                <a:cubicBezTo>
                  <a:pt x="10108" y="9773"/>
                  <a:pt x="10177" y="9790"/>
                  <a:pt x="10257" y="9793"/>
                </a:cubicBezTo>
                <a:cubicBezTo>
                  <a:pt x="10728" y="9813"/>
                  <a:pt x="11185" y="9750"/>
                  <a:pt x="11652" y="9729"/>
                </a:cubicBezTo>
                <a:cubicBezTo>
                  <a:pt x="11888" y="9718"/>
                  <a:pt x="12125" y="9717"/>
                  <a:pt x="12360" y="9715"/>
                </a:cubicBezTo>
                <a:cubicBezTo>
                  <a:pt x="12593" y="9713"/>
                  <a:pt x="12827" y="9668"/>
                  <a:pt x="13057" y="9673"/>
                </a:cubicBezTo>
                <a:cubicBezTo>
                  <a:pt x="13098" y="9674"/>
                  <a:pt x="13138" y="9681"/>
                  <a:pt x="13180" y="9682"/>
                </a:cubicBezTo>
                <a:cubicBezTo>
                  <a:pt x="13392" y="9688"/>
                  <a:pt x="13606" y="9679"/>
                  <a:pt x="13816" y="9659"/>
                </a:cubicBezTo>
                <a:cubicBezTo>
                  <a:pt x="13952" y="9646"/>
                  <a:pt x="14089" y="9631"/>
                  <a:pt x="14224" y="9627"/>
                </a:cubicBezTo>
                <a:cubicBezTo>
                  <a:pt x="14337" y="9624"/>
                  <a:pt x="14463" y="9614"/>
                  <a:pt x="14571" y="9645"/>
                </a:cubicBezTo>
                <a:cubicBezTo>
                  <a:pt x="14597" y="9653"/>
                  <a:pt x="14621" y="9677"/>
                  <a:pt x="14647" y="9682"/>
                </a:cubicBezTo>
                <a:cubicBezTo>
                  <a:pt x="14738" y="9698"/>
                  <a:pt x="14845" y="9708"/>
                  <a:pt x="14936" y="9715"/>
                </a:cubicBezTo>
                <a:cubicBezTo>
                  <a:pt x="15078" y="9726"/>
                  <a:pt x="15217" y="9728"/>
                  <a:pt x="15359" y="9742"/>
                </a:cubicBezTo>
                <a:cubicBezTo>
                  <a:pt x="15422" y="9748"/>
                  <a:pt x="15485" y="9753"/>
                  <a:pt x="15548" y="9756"/>
                </a:cubicBezTo>
                <a:cubicBezTo>
                  <a:pt x="15623" y="9759"/>
                  <a:pt x="15694" y="9752"/>
                  <a:pt x="15767" y="9747"/>
                </a:cubicBezTo>
                <a:cubicBezTo>
                  <a:pt x="15824" y="9743"/>
                  <a:pt x="15880" y="9738"/>
                  <a:pt x="15937" y="9738"/>
                </a:cubicBezTo>
                <a:cubicBezTo>
                  <a:pt x="15955" y="9738"/>
                  <a:pt x="15974" y="9742"/>
                  <a:pt x="15990" y="9742"/>
                </a:cubicBezTo>
              </a:path>
              <a:path w="18256" h="12180">
                <a:moveTo>
                  <a:pt x="12692" y="4640"/>
                </a:moveTo>
                <a:cubicBezTo>
                  <a:pt x="12687" y="4645"/>
                  <a:pt x="12676" y="4655"/>
                  <a:pt x="12668" y="4663"/>
                </a:cubicBezTo>
                <a:cubicBezTo>
                  <a:pt x="12632" y="4700"/>
                  <a:pt x="12596" y="4735"/>
                  <a:pt x="12564" y="4778"/>
                </a:cubicBezTo>
                <a:cubicBezTo>
                  <a:pt x="12530" y="4825"/>
                  <a:pt x="12501" y="4875"/>
                  <a:pt x="12469" y="4922"/>
                </a:cubicBezTo>
                <a:cubicBezTo>
                  <a:pt x="12424" y="4988"/>
                  <a:pt x="12378" y="5051"/>
                  <a:pt x="12331" y="5116"/>
                </a:cubicBezTo>
                <a:cubicBezTo>
                  <a:pt x="12215" y="5277"/>
                  <a:pt x="12067" y="5412"/>
                  <a:pt x="11951" y="5573"/>
                </a:cubicBezTo>
                <a:cubicBezTo>
                  <a:pt x="11857" y="5703"/>
                  <a:pt x="11786" y="5847"/>
                  <a:pt x="11705" y="5985"/>
                </a:cubicBezTo>
                <a:cubicBezTo>
                  <a:pt x="11513" y="6312"/>
                  <a:pt x="11263" y="6587"/>
                  <a:pt x="11055" y="6900"/>
                </a:cubicBezTo>
                <a:cubicBezTo>
                  <a:pt x="10884" y="7158"/>
                  <a:pt x="10731" y="7431"/>
                  <a:pt x="10594" y="7709"/>
                </a:cubicBezTo>
                <a:cubicBezTo>
                  <a:pt x="10502" y="7895"/>
                  <a:pt x="10423" y="8088"/>
                  <a:pt x="10338" y="8277"/>
                </a:cubicBezTo>
                <a:cubicBezTo>
                  <a:pt x="10304" y="8354"/>
                  <a:pt x="10274" y="8432"/>
                  <a:pt x="10238" y="8508"/>
                </a:cubicBezTo>
                <a:cubicBezTo>
                  <a:pt x="10164" y="8663"/>
                  <a:pt x="10057" y="8791"/>
                  <a:pt x="9958" y="8929"/>
                </a:cubicBezTo>
                <a:cubicBezTo>
                  <a:pt x="9836" y="9099"/>
                  <a:pt x="9736" y="9272"/>
                  <a:pt x="9640" y="9456"/>
                </a:cubicBezTo>
                <a:cubicBezTo>
                  <a:pt x="9606" y="9521"/>
                  <a:pt x="9564" y="9580"/>
                  <a:pt x="9531" y="9645"/>
                </a:cubicBezTo>
                <a:cubicBezTo>
                  <a:pt x="9524" y="9660"/>
                  <a:pt x="9519" y="9683"/>
                  <a:pt x="9512" y="9696"/>
                </a:cubicBezTo>
              </a:path>
              <a:path w="18256" h="12180">
                <a:moveTo>
                  <a:pt x="13204" y="4515"/>
                </a:moveTo>
                <a:cubicBezTo>
                  <a:pt x="13219" y="4553"/>
                  <a:pt x="13235" y="4595"/>
                  <a:pt x="13252" y="4635"/>
                </a:cubicBezTo>
                <a:cubicBezTo>
                  <a:pt x="13324" y="4806"/>
                  <a:pt x="13415" y="4954"/>
                  <a:pt x="13522" y="5106"/>
                </a:cubicBezTo>
                <a:cubicBezTo>
                  <a:pt x="13725" y="5395"/>
                  <a:pt x="13978" y="5644"/>
                  <a:pt x="14191" y="5925"/>
                </a:cubicBezTo>
                <a:cubicBezTo>
                  <a:pt x="14337" y="6118"/>
                  <a:pt x="14423" y="6329"/>
                  <a:pt x="14528" y="6544"/>
                </a:cubicBezTo>
                <a:cubicBezTo>
                  <a:pt x="14634" y="6760"/>
                  <a:pt x="14738" y="6978"/>
                  <a:pt x="14860" y="7186"/>
                </a:cubicBezTo>
                <a:cubicBezTo>
                  <a:pt x="15032" y="7480"/>
                  <a:pt x="15219" y="7778"/>
                  <a:pt x="15415" y="8055"/>
                </a:cubicBezTo>
                <a:cubicBezTo>
                  <a:pt x="15462" y="8122"/>
                  <a:pt x="15510" y="8188"/>
                  <a:pt x="15558" y="8254"/>
                </a:cubicBezTo>
                <a:cubicBezTo>
                  <a:pt x="15666" y="8402"/>
                  <a:pt x="15777" y="8547"/>
                  <a:pt x="15857" y="8712"/>
                </a:cubicBezTo>
                <a:cubicBezTo>
                  <a:pt x="15881" y="8761"/>
                  <a:pt x="15899" y="8811"/>
                  <a:pt x="15923" y="8860"/>
                </a:cubicBezTo>
                <a:cubicBezTo>
                  <a:pt x="16006" y="9027"/>
                  <a:pt x="16096" y="9180"/>
                  <a:pt x="16198" y="9336"/>
                </a:cubicBezTo>
                <a:cubicBezTo>
                  <a:pt x="16263" y="9436"/>
                  <a:pt x="16325" y="9539"/>
                  <a:pt x="16388" y="9641"/>
                </a:cubicBezTo>
              </a:path>
              <a:path w="18256" h="12180">
                <a:moveTo>
                  <a:pt x="9536" y="9937"/>
                </a:moveTo>
                <a:cubicBezTo>
                  <a:pt x="9541" y="9949"/>
                  <a:pt x="9526" y="9949"/>
                  <a:pt x="9531" y="9960"/>
                </a:cubicBezTo>
                <a:cubicBezTo>
                  <a:pt x="9557" y="10017"/>
                  <a:pt x="9590" y="10075"/>
                  <a:pt x="9621" y="10131"/>
                </a:cubicBezTo>
                <a:cubicBezTo>
                  <a:pt x="9673" y="10224"/>
                  <a:pt x="9728" y="10317"/>
                  <a:pt x="9783" y="10408"/>
                </a:cubicBezTo>
                <a:cubicBezTo>
                  <a:pt x="9890" y="10585"/>
                  <a:pt x="10003" y="10758"/>
                  <a:pt x="10110" y="10935"/>
                </a:cubicBezTo>
                <a:cubicBezTo>
                  <a:pt x="10263" y="11187"/>
                  <a:pt x="10410" y="11449"/>
                  <a:pt x="10547" y="11711"/>
                </a:cubicBezTo>
                <a:cubicBezTo>
                  <a:pt x="10671" y="11947"/>
                  <a:pt x="10808" y="12170"/>
                  <a:pt x="10941" y="12400"/>
                </a:cubicBezTo>
                <a:cubicBezTo>
                  <a:pt x="11099" y="12673"/>
                  <a:pt x="11264" y="12938"/>
                  <a:pt x="11425" y="13209"/>
                </a:cubicBezTo>
                <a:cubicBezTo>
                  <a:pt x="11544" y="13408"/>
                  <a:pt x="11642" y="13618"/>
                  <a:pt x="11757" y="13819"/>
                </a:cubicBezTo>
                <a:cubicBezTo>
                  <a:pt x="11838" y="13960"/>
                  <a:pt x="11919" y="14083"/>
                  <a:pt x="12018" y="14212"/>
                </a:cubicBezTo>
                <a:cubicBezTo>
                  <a:pt x="12163" y="14401"/>
                  <a:pt x="12312" y="14585"/>
                  <a:pt x="12464" y="14767"/>
                </a:cubicBezTo>
                <a:cubicBezTo>
                  <a:pt x="12501" y="14812"/>
                  <a:pt x="12536" y="14857"/>
                  <a:pt x="12573" y="14901"/>
                </a:cubicBezTo>
                <a:cubicBezTo>
                  <a:pt x="12617" y="14953"/>
                  <a:pt x="12665" y="14996"/>
                  <a:pt x="12711" y="15044"/>
                </a:cubicBezTo>
              </a:path>
              <a:path w="18256" h="12180">
                <a:moveTo>
                  <a:pt x="1754" y="16694"/>
                </a:moveTo>
                <a:cubicBezTo>
                  <a:pt x="1948" y="16626"/>
                  <a:pt x="2113" y="16588"/>
                  <a:pt x="2323" y="16583"/>
                </a:cubicBezTo>
                <a:cubicBezTo>
                  <a:pt x="2984" y="16567"/>
                  <a:pt x="3645" y="16627"/>
                  <a:pt x="4307" y="16620"/>
                </a:cubicBezTo>
                <a:cubicBezTo>
                  <a:pt x="5252" y="16610"/>
                  <a:pt x="6195" y="16538"/>
                  <a:pt x="7140" y="16519"/>
                </a:cubicBezTo>
                <a:cubicBezTo>
                  <a:pt x="7875" y="16504"/>
                  <a:pt x="8611" y="16461"/>
                  <a:pt x="9346" y="16472"/>
                </a:cubicBezTo>
                <a:cubicBezTo>
                  <a:pt x="9323" y="16483"/>
                  <a:pt x="9390" y="16500"/>
                  <a:pt x="9365" y="16505"/>
                </a:cubicBezTo>
                <a:cubicBezTo>
                  <a:pt x="9238" y="16531"/>
                  <a:pt x="9118" y="16540"/>
                  <a:pt x="8986" y="16542"/>
                </a:cubicBezTo>
                <a:cubicBezTo>
                  <a:pt x="7738" y="16561"/>
                  <a:pt x="6490" y="16539"/>
                  <a:pt x="5242" y="16505"/>
                </a:cubicBezTo>
                <a:cubicBezTo>
                  <a:pt x="4114" y="16475"/>
                  <a:pt x="2989" y="16384"/>
                  <a:pt x="1863" y="16338"/>
                </a:cubicBezTo>
                <a:cubicBezTo>
                  <a:pt x="1781" y="16335"/>
                  <a:pt x="1694" y="16327"/>
                  <a:pt x="1616" y="16320"/>
                </a:cubicBezTo>
                <a:cubicBezTo>
                  <a:pt x="1685" y="16313"/>
                  <a:pt x="1761" y="16296"/>
                  <a:pt x="1834" y="16292"/>
                </a:cubicBezTo>
                <a:cubicBezTo>
                  <a:pt x="2466" y="16257"/>
                  <a:pt x="3101" y="16277"/>
                  <a:pt x="3733" y="16250"/>
                </a:cubicBezTo>
                <a:cubicBezTo>
                  <a:pt x="4986" y="16196"/>
                  <a:pt x="6231" y="16130"/>
                  <a:pt x="7486" y="16130"/>
                </a:cubicBezTo>
                <a:cubicBezTo>
                  <a:pt x="8312" y="16130"/>
                  <a:pt x="9143" y="16105"/>
                  <a:pt x="9968" y="16135"/>
                </a:cubicBezTo>
                <a:cubicBezTo>
                  <a:pt x="9916" y="16138"/>
                  <a:pt x="9837" y="16152"/>
                  <a:pt x="9778" y="16153"/>
                </a:cubicBezTo>
                <a:cubicBezTo>
                  <a:pt x="7732" y="16198"/>
                  <a:pt x="5685" y="16034"/>
                  <a:pt x="3642" y="16075"/>
                </a:cubicBezTo>
                <a:cubicBezTo>
                  <a:pt x="3259" y="16083"/>
                  <a:pt x="2876" y="16109"/>
                  <a:pt x="2494" y="16144"/>
                </a:cubicBezTo>
                <a:cubicBezTo>
                  <a:pt x="2536" y="16148"/>
                  <a:pt x="2499" y="16166"/>
                  <a:pt x="2541" y="16167"/>
                </a:cubicBezTo>
                <a:cubicBezTo>
                  <a:pt x="3039" y="16182"/>
                  <a:pt x="3538" y="16150"/>
                  <a:pt x="4036" y="16149"/>
                </a:cubicBezTo>
                <a:cubicBezTo>
                  <a:pt x="4829" y="16148"/>
                  <a:pt x="5617" y="16155"/>
                  <a:pt x="6409" y="16190"/>
                </a:cubicBezTo>
                <a:cubicBezTo>
                  <a:pt x="7509" y="16239"/>
                  <a:pt x="8609" y="16307"/>
                  <a:pt x="9707" y="16371"/>
                </a:cubicBezTo>
                <a:cubicBezTo>
                  <a:pt x="9761" y="16374"/>
                  <a:pt x="9770" y="16376"/>
                  <a:pt x="9802" y="16375"/>
                </a:cubicBezTo>
                <a:cubicBezTo>
                  <a:pt x="9763" y="16377"/>
                  <a:pt x="9692" y="16384"/>
                  <a:pt x="9645" y="16385"/>
                </a:cubicBezTo>
                <a:cubicBezTo>
                  <a:pt x="8341" y="16402"/>
                  <a:pt x="7035" y="16311"/>
                  <a:pt x="5730" y="16311"/>
                </a:cubicBezTo>
                <a:cubicBezTo>
                  <a:pt x="4942" y="16311"/>
                  <a:pt x="4163" y="16205"/>
                  <a:pt x="3377" y="16195"/>
                </a:cubicBezTo>
                <a:cubicBezTo>
                  <a:pt x="3168" y="16192"/>
                  <a:pt x="2967" y="16190"/>
                  <a:pt x="2764" y="16237"/>
                </a:cubicBezTo>
                <a:cubicBezTo>
                  <a:pt x="2761" y="16243"/>
                  <a:pt x="2758" y="16249"/>
                  <a:pt x="2755" y="16255"/>
                </a:cubicBezTo>
                <a:cubicBezTo>
                  <a:pt x="2855" y="16276"/>
                  <a:pt x="2965" y="16311"/>
                  <a:pt x="3073" y="16324"/>
                </a:cubicBezTo>
                <a:cubicBezTo>
                  <a:pt x="4179" y="16461"/>
                  <a:pt x="5349" y="16353"/>
                  <a:pt x="6461" y="16357"/>
                </a:cubicBezTo>
                <a:cubicBezTo>
                  <a:pt x="7286" y="16360"/>
                  <a:pt x="8113" y="16355"/>
                  <a:pt x="8938" y="16380"/>
                </a:cubicBezTo>
                <a:cubicBezTo>
                  <a:pt x="9356" y="16393"/>
                  <a:pt x="9775" y="16408"/>
                  <a:pt x="10191" y="16440"/>
                </a:cubicBezTo>
                <a:cubicBezTo>
                  <a:pt x="10118" y="16450"/>
                  <a:pt x="10031" y="16469"/>
                  <a:pt x="9949" y="16472"/>
                </a:cubicBezTo>
                <a:cubicBezTo>
                  <a:pt x="9221" y="16497"/>
                  <a:pt x="8488" y="16452"/>
                  <a:pt x="7761" y="16408"/>
                </a:cubicBezTo>
                <a:cubicBezTo>
                  <a:pt x="6204" y="16313"/>
                  <a:pt x="4614" y="16107"/>
                  <a:pt x="3054" y="16250"/>
                </a:cubicBezTo>
                <a:cubicBezTo>
                  <a:pt x="2870" y="16267"/>
                  <a:pt x="2721" y="16303"/>
                  <a:pt x="2546" y="16357"/>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12800" y="5149800"/>
            <a:ext cx="1274760" cy="506520"/>
          </a:xfrm>
          <a:custGeom>
            <a:avLst/>
            <a:gdLst/>
            <a:ahLst/>
            <a:rect l="l" t="t" r="r" b="b"/>
            <a:pathLst>
              <a:path w="3541" h="1406">
                <a:moveTo>
                  <a:pt x="2010" y="14305"/>
                </a:moveTo>
                <a:cubicBezTo>
                  <a:pt x="2005" y="14316"/>
                  <a:pt x="2007" y="14320"/>
                  <a:pt x="2000" y="14332"/>
                </a:cubicBezTo>
                <a:cubicBezTo>
                  <a:pt x="1991" y="14346"/>
                  <a:pt x="1989" y="14343"/>
                  <a:pt x="1986" y="14360"/>
                </a:cubicBezTo>
                <a:cubicBezTo>
                  <a:pt x="1983" y="14377"/>
                  <a:pt x="1983" y="14394"/>
                  <a:pt x="1982" y="14411"/>
                </a:cubicBezTo>
                <a:cubicBezTo>
                  <a:pt x="1962" y="14786"/>
                  <a:pt x="1981" y="15168"/>
                  <a:pt x="1986" y="15543"/>
                </a:cubicBezTo>
                <a:cubicBezTo>
                  <a:pt x="1987" y="15585"/>
                  <a:pt x="1986" y="15626"/>
                  <a:pt x="1986" y="15668"/>
                </a:cubicBezTo>
              </a:path>
              <a:path w="3541" h="1406">
                <a:moveTo>
                  <a:pt x="2546" y="14355"/>
                </a:moveTo>
                <a:cubicBezTo>
                  <a:pt x="2543" y="14386"/>
                  <a:pt x="2540" y="14412"/>
                  <a:pt x="2532" y="14443"/>
                </a:cubicBezTo>
                <a:cubicBezTo>
                  <a:pt x="2509" y="14535"/>
                  <a:pt x="2495" y="14628"/>
                  <a:pt x="2480" y="14721"/>
                </a:cubicBezTo>
                <a:cubicBezTo>
                  <a:pt x="2463" y="14826"/>
                  <a:pt x="2438" y="14930"/>
                  <a:pt x="2418" y="15035"/>
                </a:cubicBezTo>
                <a:cubicBezTo>
                  <a:pt x="2400" y="15128"/>
                  <a:pt x="2383" y="15219"/>
                  <a:pt x="2361" y="15312"/>
                </a:cubicBezTo>
                <a:cubicBezTo>
                  <a:pt x="2346" y="15374"/>
                  <a:pt x="2325" y="15438"/>
                  <a:pt x="2318" y="15502"/>
                </a:cubicBezTo>
                <a:cubicBezTo>
                  <a:pt x="2315" y="15531"/>
                  <a:pt x="2314" y="15560"/>
                  <a:pt x="2309" y="15589"/>
                </a:cubicBezTo>
                <a:cubicBezTo>
                  <a:pt x="2306" y="15608"/>
                  <a:pt x="2310" y="15565"/>
                  <a:pt x="2309" y="15571"/>
                </a:cubicBezTo>
                <a:cubicBezTo>
                  <a:pt x="2319" y="15514"/>
                  <a:pt x="2327" y="15456"/>
                  <a:pt x="2342" y="15400"/>
                </a:cubicBezTo>
                <a:cubicBezTo>
                  <a:pt x="2359" y="15338"/>
                  <a:pt x="2384" y="15274"/>
                  <a:pt x="2394" y="15210"/>
                </a:cubicBezTo>
                <a:cubicBezTo>
                  <a:pt x="2410" y="15108"/>
                  <a:pt x="2427" y="15007"/>
                  <a:pt x="2442" y="14905"/>
                </a:cubicBezTo>
                <a:cubicBezTo>
                  <a:pt x="2459" y="14792"/>
                  <a:pt x="2459" y="14656"/>
                  <a:pt x="2503" y="14549"/>
                </a:cubicBezTo>
                <a:cubicBezTo>
                  <a:pt x="2512" y="14527"/>
                  <a:pt x="2521" y="14531"/>
                  <a:pt x="2527" y="14522"/>
                </a:cubicBezTo>
                <a:cubicBezTo>
                  <a:pt x="2549" y="14566"/>
                  <a:pt x="2565" y="14606"/>
                  <a:pt x="2579" y="14656"/>
                </a:cubicBezTo>
                <a:cubicBezTo>
                  <a:pt x="2601" y="14734"/>
                  <a:pt x="2611" y="14814"/>
                  <a:pt x="2636" y="14892"/>
                </a:cubicBezTo>
                <a:cubicBezTo>
                  <a:pt x="2659" y="14963"/>
                  <a:pt x="2682" y="15030"/>
                  <a:pt x="2708" y="15100"/>
                </a:cubicBezTo>
                <a:cubicBezTo>
                  <a:pt x="2735" y="15171"/>
                  <a:pt x="2754" y="15249"/>
                  <a:pt x="2788" y="15317"/>
                </a:cubicBezTo>
                <a:cubicBezTo>
                  <a:pt x="2818" y="15376"/>
                  <a:pt x="2848" y="15441"/>
                  <a:pt x="2883" y="15497"/>
                </a:cubicBezTo>
                <a:cubicBezTo>
                  <a:pt x="2910" y="15540"/>
                  <a:pt x="2944" y="15581"/>
                  <a:pt x="2969" y="15626"/>
                </a:cubicBezTo>
                <a:cubicBezTo>
                  <a:pt x="2984" y="15653"/>
                  <a:pt x="2992" y="15681"/>
                  <a:pt x="3011" y="15705"/>
                </a:cubicBezTo>
                <a:cubicBezTo>
                  <a:pt x="3014" y="15707"/>
                  <a:pt x="3018" y="15708"/>
                  <a:pt x="3021" y="15710"/>
                </a:cubicBezTo>
                <a:cubicBezTo>
                  <a:pt x="3023" y="15700"/>
                  <a:pt x="3034" y="15680"/>
                  <a:pt x="3035" y="15663"/>
                </a:cubicBezTo>
                <a:cubicBezTo>
                  <a:pt x="3040" y="15604"/>
                  <a:pt x="3038" y="15542"/>
                  <a:pt x="3044" y="15483"/>
                </a:cubicBezTo>
                <a:cubicBezTo>
                  <a:pt x="3061" y="15309"/>
                  <a:pt x="3092" y="15134"/>
                  <a:pt x="3116" y="14961"/>
                </a:cubicBezTo>
                <a:cubicBezTo>
                  <a:pt x="3129" y="14865"/>
                  <a:pt x="3136" y="14765"/>
                  <a:pt x="3158" y="14670"/>
                </a:cubicBezTo>
                <a:cubicBezTo>
                  <a:pt x="3167" y="14640"/>
                  <a:pt x="3169" y="14632"/>
                  <a:pt x="3177" y="14614"/>
                </a:cubicBezTo>
              </a:path>
              <a:path w="3541" h="1406">
                <a:moveTo>
                  <a:pt x="3367" y="14665"/>
                </a:moveTo>
                <a:cubicBezTo>
                  <a:pt x="3367" y="14682"/>
                  <a:pt x="3363" y="14688"/>
                  <a:pt x="3381" y="14697"/>
                </a:cubicBezTo>
                <a:cubicBezTo>
                  <a:pt x="3406" y="14710"/>
                  <a:pt x="3449" y="14702"/>
                  <a:pt x="3476" y="14702"/>
                </a:cubicBezTo>
                <a:cubicBezTo>
                  <a:pt x="3543" y="14702"/>
                  <a:pt x="3605" y="14687"/>
                  <a:pt x="3671" y="14679"/>
                </a:cubicBezTo>
                <a:cubicBezTo>
                  <a:pt x="3739" y="14670"/>
                  <a:pt x="3807" y="14662"/>
                  <a:pt x="3875" y="14660"/>
                </a:cubicBezTo>
                <a:cubicBezTo>
                  <a:pt x="3891" y="14660"/>
                  <a:pt x="3906" y="14660"/>
                  <a:pt x="3922" y="14660"/>
                </a:cubicBezTo>
              </a:path>
              <a:path w="3541" h="1406">
                <a:moveTo>
                  <a:pt x="3723" y="14882"/>
                </a:moveTo>
                <a:cubicBezTo>
                  <a:pt x="3723" y="14985"/>
                  <a:pt x="3724" y="15089"/>
                  <a:pt x="3718" y="15192"/>
                </a:cubicBezTo>
                <a:cubicBezTo>
                  <a:pt x="3713" y="15270"/>
                  <a:pt x="3704" y="15344"/>
                  <a:pt x="3704" y="15423"/>
                </a:cubicBezTo>
                <a:cubicBezTo>
                  <a:pt x="3704" y="15469"/>
                  <a:pt x="3704" y="15516"/>
                  <a:pt x="3704" y="15562"/>
                </a:cubicBezTo>
              </a:path>
              <a:path w="3541" h="1406">
                <a:moveTo>
                  <a:pt x="4283" y="14757"/>
                </a:moveTo>
                <a:cubicBezTo>
                  <a:pt x="4284" y="14790"/>
                  <a:pt x="4290" y="14822"/>
                  <a:pt x="4292" y="14855"/>
                </a:cubicBezTo>
                <a:cubicBezTo>
                  <a:pt x="4295" y="14924"/>
                  <a:pt x="4295" y="14995"/>
                  <a:pt x="4302" y="15063"/>
                </a:cubicBezTo>
                <a:cubicBezTo>
                  <a:pt x="4310" y="15145"/>
                  <a:pt x="4320" y="15226"/>
                  <a:pt x="4326" y="15308"/>
                </a:cubicBezTo>
                <a:cubicBezTo>
                  <a:pt x="4330" y="15363"/>
                  <a:pt x="4330" y="15418"/>
                  <a:pt x="4330" y="15474"/>
                </a:cubicBezTo>
              </a:path>
              <a:path w="3541" h="1406">
                <a:moveTo>
                  <a:pt x="4273" y="14605"/>
                </a:moveTo>
                <a:cubicBezTo>
                  <a:pt x="4300" y="14573"/>
                  <a:pt x="4339" y="14542"/>
                  <a:pt x="4373" y="14517"/>
                </a:cubicBezTo>
                <a:cubicBezTo>
                  <a:pt x="4437" y="14470"/>
                  <a:pt x="4516" y="14436"/>
                  <a:pt x="4596" y="14439"/>
                </a:cubicBezTo>
                <a:cubicBezTo>
                  <a:pt x="4627" y="14443"/>
                  <a:pt x="4637" y="14443"/>
                  <a:pt x="4653" y="14457"/>
                </a:cubicBezTo>
              </a:path>
              <a:path w="3541" h="1406">
                <a:moveTo>
                  <a:pt x="4330" y="15137"/>
                </a:moveTo>
                <a:cubicBezTo>
                  <a:pt x="4340" y="15147"/>
                  <a:pt x="4350" y="15153"/>
                  <a:pt x="4368" y="15155"/>
                </a:cubicBezTo>
                <a:cubicBezTo>
                  <a:pt x="4462" y="15164"/>
                  <a:pt x="4562" y="15140"/>
                  <a:pt x="4653" y="15164"/>
                </a:cubicBezTo>
              </a:path>
              <a:path w="3541" h="1406">
                <a:moveTo>
                  <a:pt x="4316" y="15668"/>
                </a:moveTo>
                <a:cubicBezTo>
                  <a:pt x="4344" y="15684"/>
                  <a:pt x="4363" y="15698"/>
                  <a:pt x="4397" y="15700"/>
                </a:cubicBezTo>
                <a:cubicBezTo>
                  <a:pt x="4470" y="15705"/>
                  <a:pt x="4531" y="15690"/>
                  <a:pt x="4601" y="15673"/>
                </a:cubicBezTo>
                <a:cubicBezTo>
                  <a:pt x="4655" y="15660"/>
                  <a:pt x="4709" y="15646"/>
                  <a:pt x="4762" y="15631"/>
                </a:cubicBezTo>
              </a:path>
              <a:path w="3541" h="1406">
                <a:moveTo>
                  <a:pt x="5042" y="14808"/>
                </a:moveTo>
                <a:cubicBezTo>
                  <a:pt x="5042" y="14901"/>
                  <a:pt x="5048" y="14993"/>
                  <a:pt x="5056" y="15086"/>
                </a:cubicBezTo>
                <a:cubicBezTo>
                  <a:pt x="5061" y="15148"/>
                  <a:pt x="5082" y="15255"/>
                  <a:pt x="5052" y="15312"/>
                </a:cubicBezTo>
                <a:cubicBezTo>
                  <a:pt x="5049" y="15312"/>
                  <a:pt x="5045" y="15312"/>
                  <a:pt x="5042" y="15312"/>
                </a:cubicBezTo>
                <a:cubicBezTo>
                  <a:pt x="5010" y="15277"/>
                  <a:pt x="4989" y="15255"/>
                  <a:pt x="4976" y="15206"/>
                </a:cubicBezTo>
                <a:cubicBezTo>
                  <a:pt x="4944" y="15086"/>
                  <a:pt x="4962" y="14953"/>
                  <a:pt x="4995" y="14836"/>
                </a:cubicBezTo>
                <a:cubicBezTo>
                  <a:pt x="5034" y="14696"/>
                  <a:pt x="5097" y="14577"/>
                  <a:pt x="5185" y="14462"/>
                </a:cubicBezTo>
                <a:cubicBezTo>
                  <a:pt x="5233" y="14400"/>
                  <a:pt x="5279" y="14366"/>
                  <a:pt x="5355" y="14355"/>
                </a:cubicBezTo>
                <a:cubicBezTo>
                  <a:pt x="5398" y="14412"/>
                  <a:pt x="5384" y="14454"/>
                  <a:pt x="5365" y="14522"/>
                </a:cubicBezTo>
                <a:cubicBezTo>
                  <a:pt x="5334" y="14630"/>
                  <a:pt x="5280" y="14725"/>
                  <a:pt x="5218" y="14818"/>
                </a:cubicBezTo>
                <a:cubicBezTo>
                  <a:pt x="5171" y="14889"/>
                  <a:pt x="5107" y="14940"/>
                  <a:pt x="5056" y="15007"/>
                </a:cubicBezTo>
                <a:cubicBezTo>
                  <a:pt x="5041" y="15027"/>
                  <a:pt x="5006" y="15080"/>
                  <a:pt x="5019" y="15109"/>
                </a:cubicBezTo>
                <a:cubicBezTo>
                  <a:pt x="5045" y="15169"/>
                  <a:pt x="5137" y="15194"/>
                  <a:pt x="5189" y="15220"/>
                </a:cubicBezTo>
                <a:cubicBezTo>
                  <a:pt x="5264" y="15258"/>
                  <a:pt x="5338" y="15299"/>
                  <a:pt x="5403" y="15354"/>
                </a:cubicBezTo>
                <a:cubicBezTo>
                  <a:pt x="5444" y="15389"/>
                  <a:pt x="5483" y="15428"/>
                  <a:pt x="5522" y="15465"/>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158920" y="5224320"/>
            <a:ext cx="727200" cy="403200"/>
          </a:xfrm>
          <a:custGeom>
            <a:avLst/>
            <a:gdLst/>
            <a:ahLst/>
            <a:rect l="l" t="t" r="r" b="b"/>
            <a:pathLst>
              <a:path w="2023" h="1119">
                <a:moveTo>
                  <a:pt x="6077" y="14670"/>
                </a:moveTo>
                <a:cubicBezTo>
                  <a:pt x="6076" y="14693"/>
                  <a:pt x="6067" y="14709"/>
                  <a:pt x="6062" y="14730"/>
                </a:cubicBezTo>
                <a:cubicBezTo>
                  <a:pt x="6050" y="14785"/>
                  <a:pt x="6039" y="14841"/>
                  <a:pt x="6029" y="14896"/>
                </a:cubicBezTo>
                <a:cubicBezTo>
                  <a:pt x="6016" y="14969"/>
                  <a:pt x="6015" y="15039"/>
                  <a:pt x="6015" y="15113"/>
                </a:cubicBezTo>
                <a:cubicBezTo>
                  <a:pt x="6015" y="15214"/>
                  <a:pt x="6016" y="15314"/>
                  <a:pt x="6010" y="15414"/>
                </a:cubicBezTo>
                <a:cubicBezTo>
                  <a:pt x="6009" y="15434"/>
                  <a:pt x="6010" y="15454"/>
                  <a:pt x="6010" y="15474"/>
                </a:cubicBezTo>
              </a:path>
              <a:path w="2023" h="1119">
                <a:moveTo>
                  <a:pt x="5996" y="14744"/>
                </a:moveTo>
                <a:cubicBezTo>
                  <a:pt x="5996" y="14716"/>
                  <a:pt x="6002" y="14693"/>
                  <a:pt x="6020" y="14670"/>
                </a:cubicBezTo>
                <a:cubicBezTo>
                  <a:pt x="6062" y="14616"/>
                  <a:pt x="6120" y="14591"/>
                  <a:pt x="6186" y="14577"/>
                </a:cubicBezTo>
                <a:cubicBezTo>
                  <a:pt x="6246" y="14564"/>
                  <a:pt x="6306" y="14561"/>
                  <a:pt x="6366" y="14559"/>
                </a:cubicBezTo>
              </a:path>
              <a:path w="2023" h="1119">
                <a:moveTo>
                  <a:pt x="6048" y="15123"/>
                </a:moveTo>
                <a:cubicBezTo>
                  <a:pt x="6042" y="15137"/>
                  <a:pt x="6042" y="15136"/>
                  <a:pt x="6048" y="15150"/>
                </a:cubicBezTo>
                <a:cubicBezTo>
                  <a:pt x="6086" y="15161"/>
                  <a:pt x="6127" y="15153"/>
                  <a:pt x="6167" y="15150"/>
                </a:cubicBezTo>
                <a:cubicBezTo>
                  <a:pt x="6222" y="15146"/>
                  <a:pt x="6243" y="15144"/>
                  <a:pt x="6281" y="15141"/>
                </a:cubicBezTo>
              </a:path>
              <a:path w="2023" h="1119">
                <a:moveTo>
                  <a:pt x="7021" y="14697"/>
                </a:moveTo>
                <a:cubicBezTo>
                  <a:pt x="7006" y="14699"/>
                  <a:pt x="7009" y="14678"/>
                  <a:pt x="6988" y="14693"/>
                </a:cubicBezTo>
                <a:cubicBezTo>
                  <a:pt x="6957" y="14716"/>
                  <a:pt x="6940" y="14780"/>
                  <a:pt x="6926" y="14813"/>
                </a:cubicBezTo>
                <a:cubicBezTo>
                  <a:pt x="6885" y="14909"/>
                  <a:pt x="6853" y="15010"/>
                  <a:pt x="6822" y="15109"/>
                </a:cubicBezTo>
                <a:cubicBezTo>
                  <a:pt x="6784" y="15230"/>
                  <a:pt x="6752" y="15356"/>
                  <a:pt x="6708" y="15474"/>
                </a:cubicBezTo>
                <a:cubicBezTo>
                  <a:pt x="6686" y="15532"/>
                  <a:pt x="6659" y="15583"/>
                  <a:pt x="6627" y="15631"/>
                </a:cubicBezTo>
                <a:cubicBezTo>
                  <a:pt x="6616" y="15588"/>
                  <a:pt x="6620" y="15557"/>
                  <a:pt x="6632" y="15502"/>
                </a:cubicBezTo>
                <a:cubicBezTo>
                  <a:pt x="6656" y="15395"/>
                  <a:pt x="6690" y="15291"/>
                  <a:pt x="6713" y="15183"/>
                </a:cubicBezTo>
                <a:cubicBezTo>
                  <a:pt x="6746" y="15028"/>
                  <a:pt x="6777" y="14874"/>
                  <a:pt x="6817" y="14721"/>
                </a:cubicBezTo>
                <a:cubicBezTo>
                  <a:pt x="6836" y="14647"/>
                  <a:pt x="6851" y="14563"/>
                  <a:pt x="6907" y="14513"/>
                </a:cubicBezTo>
                <a:cubicBezTo>
                  <a:pt x="6947" y="14578"/>
                  <a:pt x="6958" y="14629"/>
                  <a:pt x="6974" y="14711"/>
                </a:cubicBezTo>
                <a:cubicBezTo>
                  <a:pt x="6999" y="14839"/>
                  <a:pt x="7031" y="14960"/>
                  <a:pt x="7078" y="15081"/>
                </a:cubicBezTo>
                <a:cubicBezTo>
                  <a:pt x="7122" y="15196"/>
                  <a:pt x="7169" y="15304"/>
                  <a:pt x="7239" y="15405"/>
                </a:cubicBezTo>
                <a:cubicBezTo>
                  <a:pt x="7256" y="15430"/>
                  <a:pt x="7272" y="15469"/>
                  <a:pt x="7287" y="15442"/>
                </a:cubicBezTo>
                <a:cubicBezTo>
                  <a:pt x="7282" y="15436"/>
                  <a:pt x="7278" y="15429"/>
                  <a:pt x="7273" y="15423"/>
                </a:cubicBezTo>
                <a:cubicBezTo>
                  <a:pt x="7220" y="15392"/>
                  <a:pt x="7164" y="15356"/>
                  <a:pt x="7106" y="15335"/>
                </a:cubicBezTo>
                <a:cubicBezTo>
                  <a:pt x="7055" y="15316"/>
                  <a:pt x="6994" y="15307"/>
                  <a:pt x="6940" y="15303"/>
                </a:cubicBezTo>
                <a:cubicBezTo>
                  <a:pt x="6922" y="15302"/>
                  <a:pt x="6901" y="15303"/>
                  <a:pt x="6883" y="15303"/>
                </a:cubicBezTo>
              </a:path>
              <a:path w="2023" h="1119">
                <a:moveTo>
                  <a:pt x="7984" y="14697"/>
                </a:moveTo>
                <a:cubicBezTo>
                  <a:pt x="7993" y="14689"/>
                  <a:pt x="8013" y="14687"/>
                  <a:pt x="8018" y="14670"/>
                </a:cubicBezTo>
                <a:cubicBezTo>
                  <a:pt x="8025" y="14644"/>
                  <a:pt x="8015" y="14619"/>
                  <a:pt x="8008" y="14596"/>
                </a:cubicBezTo>
                <a:cubicBezTo>
                  <a:pt x="7998" y="14565"/>
                  <a:pt x="7968" y="14544"/>
                  <a:pt x="7937" y="14540"/>
                </a:cubicBezTo>
                <a:cubicBezTo>
                  <a:pt x="7878" y="14533"/>
                  <a:pt x="7816" y="14555"/>
                  <a:pt x="7766" y="14586"/>
                </a:cubicBezTo>
                <a:cubicBezTo>
                  <a:pt x="7693" y="14631"/>
                  <a:pt x="7658" y="14713"/>
                  <a:pt x="7619" y="14785"/>
                </a:cubicBezTo>
                <a:cubicBezTo>
                  <a:pt x="7571" y="14875"/>
                  <a:pt x="7556" y="14961"/>
                  <a:pt x="7553" y="15063"/>
                </a:cubicBezTo>
                <a:cubicBezTo>
                  <a:pt x="7550" y="15156"/>
                  <a:pt x="7556" y="15253"/>
                  <a:pt x="7605" y="15335"/>
                </a:cubicBezTo>
                <a:cubicBezTo>
                  <a:pt x="7685" y="15470"/>
                  <a:pt x="7803" y="15469"/>
                  <a:pt x="7942" y="15460"/>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032280" y="5257800"/>
            <a:ext cx="161640" cy="328680"/>
          </a:xfrm>
          <a:custGeom>
            <a:avLst/>
            <a:gdLst/>
            <a:ahLst/>
            <a:rect l="l" t="t" r="r" b="b"/>
            <a:pathLst>
              <a:path w="452" h="912">
                <a:moveTo>
                  <a:pt x="8587" y="14776"/>
                </a:moveTo>
                <a:cubicBezTo>
                  <a:pt x="8587" y="14845"/>
                  <a:pt x="8583" y="14911"/>
                  <a:pt x="8577" y="14979"/>
                </a:cubicBezTo>
                <a:cubicBezTo>
                  <a:pt x="8568" y="15080"/>
                  <a:pt x="8550" y="15179"/>
                  <a:pt x="8540" y="15280"/>
                </a:cubicBezTo>
                <a:cubicBezTo>
                  <a:pt x="8533" y="15351"/>
                  <a:pt x="8524" y="15422"/>
                  <a:pt x="8516" y="15492"/>
                </a:cubicBezTo>
                <a:cubicBezTo>
                  <a:pt x="8516" y="15508"/>
                  <a:pt x="8516" y="15517"/>
                  <a:pt x="8516" y="15502"/>
                </a:cubicBezTo>
              </a:path>
              <a:path w="452" h="912">
                <a:moveTo>
                  <a:pt x="8421" y="14790"/>
                </a:moveTo>
                <a:cubicBezTo>
                  <a:pt x="8440" y="14765"/>
                  <a:pt x="8461" y="14743"/>
                  <a:pt x="8492" y="14725"/>
                </a:cubicBezTo>
                <a:cubicBezTo>
                  <a:pt x="8551" y="14691"/>
                  <a:pt x="8626" y="14658"/>
                  <a:pt x="8691" y="14637"/>
                </a:cubicBezTo>
                <a:cubicBezTo>
                  <a:pt x="8739" y="14621"/>
                  <a:pt x="8789" y="14613"/>
                  <a:pt x="8838" y="14605"/>
                </a:cubicBezTo>
              </a:path>
              <a:path w="452" h="912">
                <a:moveTo>
                  <a:pt x="8511" y="15178"/>
                </a:moveTo>
                <a:cubicBezTo>
                  <a:pt x="8540" y="15178"/>
                  <a:pt x="8558" y="15180"/>
                  <a:pt x="8587" y="15178"/>
                </a:cubicBezTo>
                <a:cubicBezTo>
                  <a:pt x="8653" y="15174"/>
                  <a:pt x="8715" y="15152"/>
                  <a:pt x="8782" y="15155"/>
                </a:cubicBezTo>
                <a:cubicBezTo>
                  <a:pt x="8796" y="15157"/>
                  <a:pt x="8810" y="15158"/>
                  <a:pt x="8824" y="15160"/>
                </a:cubicBezTo>
              </a:path>
              <a:path w="452" h="912">
                <a:moveTo>
                  <a:pt x="8611" y="15516"/>
                </a:moveTo>
                <a:cubicBezTo>
                  <a:pt x="8651" y="15516"/>
                  <a:pt x="8690" y="15513"/>
                  <a:pt x="8729" y="15511"/>
                </a:cubicBezTo>
                <a:cubicBezTo>
                  <a:pt x="8776" y="15509"/>
                  <a:pt x="8825" y="15511"/>
                  <a:pt x="8872" y="15511"/>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357720" y="5238720"/>
            <a:ext cx="168120" cy="358920"/>
          </a:xfrm>
          <a:custGeom>
            <a:avLst/>
            <a:gdLst/>
            <a:ahLst/>
            <a:rect l="l" t="t" r="r" b="b"/>
            <a:pathLst>
              <a:path w="466" h="995">
                <a:moveTo>
                  <a:pt x="9792" y="14554"/>
                </a:moveTo>
                <a:cubicBezTo>
                  <a:pt x="9756" y="14570"/>
                  <a:pt x="9720" y="14588"/>
                  <a:pt x="9683" y="14605"/>
                </a:cubicBezTo>
                <a:cubicBezTo>
                  <a:pt x="9607" y="14639"/>
                  <a:pt x="9543" y="14686"/>
                  <a:pt x="9479" y="14739"/>
                </a:cubicBezTo>
                <a:cubicBezTo>
                  <a:pt x="9425" y="14783"/>
                  <a:pt x="9368" y="14833"/>
                  <a:pt x="9356" y="14905"/>
                </a:cubicBezTo>
                <a:cubicBezTo>
                  <a:pt x="9345" y="14970"/>
                  <a:pt x="9405" y="15034"/>
                  <a:pt x="9451" y="15072"/>
                </a:cubicBezTo>
                <a:cubicBezTo>
                  <a:pt x="9524" y="15134"/>
                  <a:pt x="9607" y="15182"/>
                  <a:pt x="9678" y="15247"/>
                </a:cubicBezTo>
                <a:cubicBezTo>
                  <a:pt x="9733" y="15297"/>
                  <a:pt x="9811" y="15399"/>
                  <a:pt x="9788" y="15483"/>
                </a:cubicBezTo>
                <a:cubicBezTo>
                  <a:pt x="9773" y="15536"/>
                  <a:pt x="9695" y="15554"/>
                  <a:pt x="9650" y="15548"/>
                </a:cubicBezTo>
                <a:cubicBezTo>
                  <a:pt x="9569" y="15536"/>
                  <a:pt x="9488" y="15503"/>
                  <a:pt x="9408" y="15483"/>
                </a:cubicBezTo>
                <a:cubicBezTo>
                  <a:pt x="9367" y="15474"/>
                  <a:pt x="9354" y="15472"/>
                  <a:pt x="9327" y="15469"/>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3797280" y="5156280"/>
            <a:ext cx="181080" cy="780840"/>
          </a:xfrm>
          <a:custGeom>
            <a:avLst/>
            <a:gdLst/>
            <a:ahLst/>
            <a:rect l="l" t="t" r="r" b="b"/>
            <a:pathLst>
              <a:path w="504" h="2169">
                <a:moveTo>
                  <a:pt x="10912" y="14697"/>
                </a:moveTo>
                <a:cubicBezTo>
                  <a:pt x="10915" y="14669"/>
                  <a:pt x="10920" y="14647"/>
                  <a:pt x="10926" y="14619"/>
                </a:cubicBezTo>
                <a:cubicBezTo>
                  <a:pt x="10929" y="14602"/>
                  <a:pt x="10945" y="14553"/>
                  <a:pt x="10936" y="14568"/>
                </a:cubicBezTo>
                <a:cubicBezTo>
                  <a:pt x="10929" y="14587"/>
                  <a:pt x="10926" y="14596"/>
                  <a:pt x="10922" y="14610"/>
                </a:cubicBezTo>
                <a:cubicBezTo>
                  <a:pt x="10906" y="14711"/>
                  <a:pt x="10886" y="14810"/>
                  <a:pt x="10865" y="14910"/>
                </a:cubicBezTo>
                <a:cubicBezTo>
                  <a:pt x="10837" y="15044"/>
                  <a:pt x="10807" y="15178"/>
                  <a:pt x="10779" y="15312"/>
                </a:cubicBezTo>
                <a:cubicBezTo>
                  <a:pt x="10760" y="15406"/>
                  <a:pt x="10737" y="15504"/>
                  <a:pt x="10727" y="15599"/>
                </a:cubicBezTo>
                <a:cubicBezTo>
                  <a:pt x="10727" y="15623"/>
                  <a:pt x="10727" y="15626"/>
                  <a:pt x="10727" y="15640"/>
                </a:cubicBezTo>
                <a:cubicBezTo>
                  <a:pt x="10762" y="15599"/>
                  <a:pt x="10774" y="15564"/>
                  <a:pt x="10798" y="15511"/>
                </a:cubicBezTo>
                <a:cubicBezTo>
                  <a:pt x="10845" y="15406"/>
                  <a:pt x="10879" y="15304"/>
                  <a:pt x="10907" y="15192"/>
                </a:cubicBezTo>
                <a:cubicBezTo>
                  <a:pt x="10946" y="15035"/>
                  <a:pt x="10969" y="14875"/>
                  <a:pt x="10998" y="14716"/>
                </a:cubicBezTo>
                <a:cubicBezTo>
                  <a:pt x="11017" y="14613"/>
                  <a:pt x="11043" y="14507"/>
                  <a:pt x="11050" y="14402"/>
                </a:cubicBezTo>
                <a:cubicBezTo>
                  <a:pt x="11052" y="14374"/>
                  <a:pt x="11047" y="14348"/>
                  <a:pt x="11045" y="14323"/>
                </a:cubicBezTo>
                <a:cubicBezTo>
                  <a:pt x="11001" y="14384"/>
                  <a:pt x="10986" y="14428"/>
                  <a:pt x="10969" y="14508"/>
                </a:cubicBezTo>
                <a:cubicBezTo>
                  <a:pt x="10933" y="14682"/>
                  <a:pt x="10902" y="14859"/>
                  <a:pt x="10874" y="15035"/>
                </a:cubicBezTo>
                <a:cubicBezTo>
                  <a:pt x="10858" y="15133"/>
                  <a:pt x="10835" y="15232"/>
                  <a:pt x="10827" y="15331"/>
                </a:cubicBezTo>
                <a:cubicBezTo>
                  <a:pt x="10827" y="15339"/>
                  <a:pt x="10827" y="15346"/>
                  <a:pt x="10827" y="15354"/>
                </a:cubicBezTo>
                <a:cubicBezTo>
                  <a:pt x="10843" y="15337"/>
                  <a:pt x="10860" y="15317"/>
                  <a:pt x="10874" y="15294"/>
                </a:cubicBezTo>
                <a:cubicBezTo>
                  <a:pt x="10899" y="15255"/>
                  <a:pt x="10914" y="15199"/>
                  <a:pt x="10941" y="15164"/>
                </a:cubicBezTo>
                <a:cubicBezTo>
                  <a:pt x="10949" y="15152"/>
                  <a:pt x="10950" y="15147"/>
                  <a:pt x="10960" y="15150"/>
                </a:cubicBezTo>
              </a:path>
              <a:path w="504" h="2169">
                <a:moveTo>
                  <a:pt x="10627" y="16491"/>
                </a:moveTo>
                <a:cubicBezTo>
                  <a:pt x="10628" y="16473"/>
                  <a:pt x="10630" y="16458"/>
                  <a:pt x="10637" y="16440"/>
                </a:cubicBezTo>
                <a:cubicBezTo>
                  <a:pt x="10649" y="16411"/>
                  <a:pt x="10651" y="16389"/>
                  <a:pt x="10651" y="16357"/>
                </a:cubicBezTo>
                <a:cubicBezTo>
                  <a:pt x="10651" y="16343"/>
                  <a:pt x="10651" y="16329"/>
                  <a:pt x="10651" y="16315"/>
                </a:cubicBezTo>
                <a:cubicBezTo>
                  <a:pt x="10632" y="16315"/>
                  <a:pt x="10617" y="16324"/>
                  <a:pt x="10608" y="16343"/>
                </a:cubicBezTo>
                <a:cubicBezTo>
                  <a:pt x="10596" y="16366"/>
                  <a:pt x="10594" y="16386"/>
                  <a:pt x="10594" y="16412"/>
                </a:cubicBezTo>
                <a:cubicBezTo>
                  <a:pt x="10594" y="16428"/>
                  <a:pt x="10601" y="16428"/>
                  <a:pt x="10613" y="16431"/>
                </a:cubicBezTo>
                <a:cubicBezTo>
                  <a:pt x="10643" y="16428"/>
                  <a:pt x="10656" y="16418"/>
                  <a:pt x="10670" y="16389"/>
                </a:cubicBezTo>
                <a:cubicBezTo>
                  <a:pt x="10688" y="16351"/>
                  <a:pt x="10693" y="16287"/>
                  <a:pt x="10684" y="16246"/>
                </a:cubicBezTo>
                <a:cubicBezTo>
                  <a:pt x="10677" y="16212"/>
                  <a:pt x="10651" y="16175"/>
                  <a:pt x="10613" y="16181"/>
                </a:cubicBezTo>
                <a:cubicBezTo>
                  <a:pt x="10573" y="16187"/>
                  <a:pt x="10553" y="16240"/>
                  <a:pt x="10547" y="16274"/>
                </a:cubicBezTo>
                <a:cubicBezTo>
                  <a:pt x="10543" y="16301"/>
                  <a:pt x="10539" y="16352"/>
                  <a:pt x="10571" y="16366"/>
                </a:cubicBezTo>
                <a:cubicBezTo>
                  <a:pt x="10606" y="16382"/>
                  <a:pt x="10645" y="16366"/>
                  <a:pt x="10675" y="16348"/>
                </a:cubicBezTo>
                <a:cubicBezTo>
                  <a:pt x="10687" y="16341"/>
                  <a:pt x="10727" y="16299"/>
                  <a:pt x="10699" y="16338"/>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716440" y="5159520"/>
            <a:ext cx="249480" cy="182520"/>
          </a:xfrm>
          <a:custGeom>
            <a:avLst/>
            <a:gdLst/>
            <a:ahLst/>
            <a:rect l="l" t="t" r="r" b="b"/>
            <a:pathLst>
              <a:path w="689" h="505">
                <a:moveTo>
                  <a:pt x="15975" y="14480"/>
                </a:moveTo>
                <a:cubicBezTo>
                  <a:pt x="15972" y="14471"/>
                  <a:pt x="15977" y="14467"/>
                  <a:pt x="15971" y="14462"/>
                </a:cubicBezTo>
                <a:cubicBezTo>
                  <a:pt x="15956" y="14450"/>
                  <a:pt x="15960" y="14465"/>
                  <a:pt x="15956" y="14443"/>
                </a:cubicBezTo>
                <a:cubicBezTo>
                  <a:pt x="15953" y="14427"/>
                  <a:pt x="15960" y="14421"/>
                  <a:pt x="15947" y="14411"/>
                </a:cubicBezTo>
                <a:cubicBezTo>
                  <a:pt x="15939" y="14405"/>
                  <a:pt x="15929" y="14405"/>
                  <a:pt x="15919" y="14397"/>
                </a:cubicBezTo>
                <a:cubicBezTo>
                  <a:pt x="15907" y="14388"/>
                  <a:pt x="15901" y="14378"/>
                  <a:pt x="15895" y="14365"/>
                </a:cubicBezTo>
                <a:cubicBezTo>
                  <a:pt x="15888" y="14351"/>
                  <a:pt x="15896" y="14355"/>
                  <a:pt x="15881" y="14351"/>
                </a:cubicBezTo>
                <a:cubicBezTo>
                  <a:pt x="15881" y="14352"/>
                  <a:pt x="15881" y="14354"/>
                  <a:pt x="15881" y="14355"/>
                </a:cubicBezTo>
                <a:cubicBezTo>
                  <a:pt x="15890" y="14369"/>
                  <a:pt x="15887" y="14367"/>
                  <a:pt x="15904" y="14378"/>
                </a:cubicBezTo>
                <a:cubicBezTo>
                  <a:pt x="15920" y="14389"/>
                  <a:pt x="15924" y="14393"/>
                  <a:pt x="15933" y="14411"/>
                </a:cubicBezTo>
                <a:cubicBezTo>
                  <a:pt x="15944" y="14434"/>
                  <a:pt x="15950" y="14457"/>
                  <a:pt x="15961" y="14480"/>
                </a:cubicBezTo>
                <a:cubicBezTo>
                  <a:pt x="15975" y="14508"/>
                  <a:pt x="15988" y="14523"/>
                  <a:pt x="16004" y="14549"/>
                </a:cubicBezTo>
                <a:cubicBezTo>
                  <a:pt x="16020" y="14575"/>
                  <a:pt x="16037" y="14601"/>
                  <a:pt x="16051" y="14628"/>
                </a:cubicBezTo>
                <a:cubicBezTo>
                  <a:pt x="16065" y="14654"/>
                  <a:pt x="16071" y="14683"/>
                  <a:pt x="16089" y="14707"/>
                </a:cubicBezTo>
                <a:cubicBezTo>
                  <a:pt x="16101" y="14723"/>
                  <a:pt x="16118" y="14742"/>
                  <a:pt x="16123" y="14762"/>
                </a:cubicBezTo>
                <a:cubicBezTo>
                  <a:pt x="16123" y="14770"/>
                  <a:pt x="16123" y="14771"/>
                  <a:pt x="16123" y="14776"/>
                </a:cubicBezTo>
                <a:cubicBezTo>
                  <a:pt x="16123" y="14723"/>
                  <a:pt x="16119" y="14669"/>
                  <a:pt x="16132" y="14619"/>
                </a:cubicBezTo>
                <a:cubicBezTo>
                  <a:pt x="16139" y="14591"/>
                  <a:pt x="16146" y="14565"/>
                  <a:pt x="16161" y="14540"/>
                </a:cubicBezTo>
                <a:cubicBezTo>
                  <a:pt x="16173" y="14521"/>
                  <a:pt x="16183" y="14503"/>
                  <a:pt x="16194" y="14485"/>
                </a:cubicBezTo>
                <a:cubicBezTo>
                  <a:pt x="16199" y="14477"/>
                  <a:pt x="16195" y="14475"/>
                  <a:pt x="16198" y="14466"/>
                </a:cubicBezTo>
                <a:cubicBezTo>
                  <a:pt x="16189" y="14485"/>
                  <a:pt x="16183" y="14506"/>
                  <a:pt x="16175" y="14526"/>
                </a:cubicBezTo>
                <a:cubicBezTo>
                  <a:pt x="16159" y="14568"/>
                  <a:pt x="16150" y="14607"/>
                  <a:pt x="16142" y="14651"/>
                </a:cubicBezTo>
                <a:cubicBezTo>
                  <a:pt x="16132" y="14705"/>
                  <a:pt x="16110" y="14758"/>
                  <a:pt x="16108" y="14813"/>
                </a:cubicBezTo>
                <a:cubicBezTo>
                  <a:pt x="16108" y="14827"/>
                  <a:pt x="16108" y="14828"/>
                  <a:pt x="16108" y="14836"/>
                </a:cubicBezTo>
                <a:cubicBezTo>
                  <a:pt x="16122" y="14810"/>
                  <a:pt x="16132" y="14786"/>
                  <a:pt x="16142" y="14757"/>
                </a:cubicBezTo>
                <a:cubicBezTo>
                  <a:pt x="16158" y="14710"/>
                  <a:pt x="16174" y="14664"/>
                  <a:pt x="16194" y="14619"/>
                </a:cubicBezTo>
                <a:cubicBezTo>
                  <a:pt x="16209" y="14585"/>
                  <a:pt x="16219" y="14550"/>
                  <a:pt x="16236" y="14517"/>
                </a:cubicBezTo>
                <a:cubicBezTo>
                  <a:pt x="16244" y="14501"/>
                  <a:pt x="16252" y="14479"/>
                  <a:pt x="16260" y="14466"/>
                </a:cubicBezTo>
                <a:cubicBezTo>
                  <a:pt x="16262" y="14465"/>
                  <a:pt x="16263" y="14463"/>
                  <a:pt x="16265" y="14462"/>
                </a:cubicBezTo>
                <a:cubicBezTo>
                  <a:pt x="16263" y="14498"/>
                  <a:pt x="16260" y="14529"/>
                  <a:pt x="16246" y="14563"/>
                </a:cubicBezTo>
                <a:cubicBezTo>
                  <a:pt x="16235" y="14589"/>
                  <a:pt x="16213" y="14620"/>
                  <a:pt x="16208" y="14647"/>
                </a:cubicBezTo>
                <a:cubicBezTo>
                  <a:pt x="16206" y="14657"/>
                  <a:pt x="16214" y="14642"/>
                  <a:pt x="16208" y="14651"/>
                </a:cubicBezTo>
                <a:cubicBezTo>
                  <a:pt x="16217" y="14624"/>
                  <a:pt x="16233" y="14596"/>
                  <a:pt x="16251" y="14573"/>
                </a:cubicBezTo>
                <a:cubicBezTo>
                  <a:pt x="16272" y="14546"/>
                  <a:pt x="16291" y="14524"/>
                  <a:pt x="16308" y="14494"/>
                </a:cubicBezTo>
                <a:cubicBezTo>
                  <a:pt x="16320" y="14472"/>
                  <a:pt x="16336" y="14455"/>
                  <a:pt x="16350" y="14434"/>
                </a:cubicBezTo>
                <a:cubicBezTo>
                  <a:pt x="16359" y="14421"/>
                  <a:pt x="16373" y="14414"/>
                  <a:pt x="16379" y="14402"/>
                </a:cubicBezTo>
                <a:cubicBezTo>
                  <a:pt x="16381" y="14398"/>
                  <a:pt x="16377" y="14392"/>
                  <a:pt x="16379" y="14388"/>
                </a:cubicBezTo>
                <a:cubicBezTo>
                  <a:pt x="16305" y="14388"/>
                  <a:pt x="16223" y="14398"/>
                  <a:pt x="16151" y="14383"/>
                </a:cubicBezTo>
                <a:cubicBezTo>
                  <a:pt x="16135" y="14380"/>
                  <a:pt x="16120" y="14377"/>
                  <a:pt x="16104" y="14369"/>
                </a:cubicBezTo>
                <a:cubicBezTo>
                  <a:pt x="16094" y="14364"/>
                  <a:pt x="16086" y="14357"/>
                  <a:pt x="16075" y="14355"/>
                </a:cubicBezTo>
                <a:cubicBezTo>
                  <a:pt x="16063" y="14353"/>
                  <a:pt x="16047" y="14353"/>
                  <a:pt x="16042" y="14360"/>
                </a:cubicBezTo>
                <a:cubicBezTo>
                  <a:pt x="16040" y="14363"/>
                  <a:pt x="16043" y="14371"/>
                  <a:pt x="16042" y="14374"/>
                </a:cubicBezTo>
                <a:cubicBezTo>
                  <a:pt x="16048" y="14381"/>
                  <a:pt x="16035" y="14385"/>
                  <a:pt x="16047" y="14388"/>
                </a:cubicBezTo>
                <a:cubicBezTo>
                  <a:pt x="16058" y="14391"/>
                  <a:pt x="16070" y="14387"/>
                  <a:pt x="16080" y="14383"/>
                </a:cubicBezTo>
                <a:cubicBezTo>
                  <a:pt x="16089" y="14379"/>
                  <a:pt x="16093" y="14375"/>
                  <a:pt x="16104" y="14374"/>
                </a:cubicBezTo>
                <a:cubicBezTo>
                  <a:pt x="16115" y="14373"/>
                  <a:pt x="16141" y="14371"/>
                  <a:pt x="16151" y="14378"/>
                </a:cubicBezTo>
                <a:cubicBezTo>
                  <a:pt x="16170" y="14391"/>
                  <a:pt x="16176" y="14419"/>
                  <a:pt x="16184" y="14439"/>
                </a:cubicBezTo>
                <a:cubicBezTo>
                  <a:pt x="16189" y="14452"/>
                  <a:pt x="16193" y="14474"/>
                  <a:pt x="16208" y="14480"/>
                </a:cubicBezTo>
                <a:cubicBezTo>
                  <a:pt x="16225" y="14487"/>
                  <a:pt x="16222" y="14474"/>
                  <a:pt x="16227" y="14471"/>
                </a:cubicBezTo>
                <a:cubicBezTo>
                  <a:pt x="16241" y="14461"/>
                  <a:pt x="16225" y="14462"/>
                  <a:pt x="16232" y="14471"/>
                </a:cubicBezTo>
                <a:cubicBezTo>
                  <a:pt x="16235" y="14479"/>
                  <a:pt x="16237" y="14480"/>
                  <a:pt x="16236" y="14485"/>
                </a:cubicBezTo>
              </a:path>
              <a:path w="689" h="505">
                <a:moveTo>
                  <a:pt x="16274" y="14549"/>
                </a:moveTo>
                <a:cubicBezTo>
                  <a:pt x="16274" y="14523"/>
                  <a:pt x="16267" y="14475"/>
                  <a:pt x="16270" y="14457"/>
                </a:cubicBezTo>
                <a:cubicBezTo>
                  <a:pt x="16271" y="14451"/>
                  <a:pt x="16262" y="14473"/>
                  <a:pt x="16274" y="14462"/>
                </a:cubicBezTo>
                <a:cubicBezTo>
                  <a:pt x="16282" y="14455"/>
                  <a:pt x="16286" y="14450"/>
                  <a:pt x="16293" y="14439"/>
                </a:cubicBezTo>
                <a:cubicBezTo>
                  <a:pt x="16299" y="14429"/>
                  <a:pt x="16304" y="14420"/>
                  <a:pt x="16312" y="14411"/>
                </a:cubicBezTo>
                <a:cubicBezTo>
                  <a:pt x="16316" y="14407"/>
                  <a:pt x="16324" y="14403"/>
                  <a:pt x="16331" y="14397"/>
                </a:cubicBezTo>
                <a:cubicBezTo>
                  <a:pt x="16346" y="14386"/>
                  <a:pt x="16358" y="14378"/>
                  <a:pt x="16374" y="14369"/>
                </a:cubicBezTo>
                <a:cubicBezTo>
                  <a:pt x="16387" y="14362"/>
                  <a:pt x="16394" y="14363"/>
                  <a:pt x="16407" y="14360"/>
                </a:cubicBezTo>
                <a:cubicBezTo>
                  <a:pt x="16387" y="14369"/>
                  <a:pt x="16404" y="14357"/>
                  <a:pt x="16388" y="14374"/>
                </a:cubicBezTo>
                <a:cubicBezTo>
                  <a:pt x="16376" y="14386"/>
                  <a:pt x="16364" y="14387"/>
                  <a:pt x="16350" y="14402"/>
                </a:cubicBezTo>
                <a:cubicBezTo>
                  <a:pt x="16338" y="14415"/>
                  <a:pt x="16327" y="14437"/>
                  <a:pt x="16317" y="14452"/>
                </a:cubicBezTo>
                <a:cubicBezTo>
                  <a:pt x="16303" y="14472"/>
                  <a:pt x="16290" y="14491"/>
                  <a:pt x="16279" y="14513"/>
                </a:cubicBezTo>
                <a:cubicBezTo>
                  <a:pt x="16266" y="14538"/>
                  <a:pt x="16256" y="14563"/>
                  <a:pt x="16246" y="14586"/>
                </a:cubicBezTo>
                <a:cubicBezTo>
                  <a:pt x="16235" y="14610"/>
                  <a:pt x="16222" y="14631"/>
                  <a:pt x="16213" y="14656"/>
                </a:cubicBezTo>
                <a:cubicBezTo>
                  <a:pt x="16208" y="14670"/>
                  <a:pt x="16209" y="14679"/>
                  <a:pt x="16208" y="14693"/>
                </a:cubicBezTo>
                <a:cubicBezTo>
                  <a:pt x="16224" y="14670"/>
                  <a:pt x="16238" y="14643"/>
                  <a:pt x="16255" y="14619"/>
                </a:cubicBezTo>
                <a:cubicBezTo>
                  <a:pt x="16279" y="14586"/>
                  <a:pt x="16307" y="14555"/>
                  <a:pt x="16331" y="14522"/>
                </a:cubicBezTo>
                <a:cubicBezTo>
                  <a:pt x="16351" y="14494"/>
                  <a:pt x="16370" y="14472"/>
                  <a:pt x="16393" y="14448"/>
                </a:cubicBezTo>
                <a:cubicBezTo>
                  <a:pt x="16406" y="14435"/>
                  <a:pt x="16418" y="14419"/>
                  <a:pt x="16431" y="14406"/>
                </a:cubicBezTo>
                <a:cubicBezTo>
                  <a:pt x="16437" y="14400"/>
                  <a:pt x="16446" y="14391"/>
                  <a:pt x="16450" y="14388"/>
                </a:cubicBezTo>
                <a:cubicBezTo>
                  <a:pt x="16455" y="14388"/>
                  <a:pt x="16457" y="14388"/>
                  <a:pt x="16459" y="14383"/>
                </a:cubicBezTo>
                <a:cubicBezTo>
                  <a:pt x="16451" y="14388"/>
                  <a:pt x="16460" y="14380"/>
                  <a:pt x="16455" y="14388"/>
                </a:cubicBezTo>
                <a:cubicBezTo>
                  <a:pt x="16441" y="14408"/>
                  <a:pt x="16429" y="14427"/>
                  <a:pt x="16417" y="14448"/>
                </a:cubicBezTo>
                <a:cubicBezTo>
                  <a:pt x="16401" y="14475"/>
                  <a:pt x="16387" y="14503"/>
                  <a:pt x="16374" y="14531"/>
                </a:cubicBezTo>
                <a:cubicBezTo>
                  <a:pt x="16361" y="14560"/>
                  <a:pt x="16345" y="14585"/>
                  <a:pt x="16331" y="14614"/>
                </a:cubicBezTo>
                <a:cubicBezTo>
                  <a:pt x="16319" y="14639"/>
                  <a:pt x="16304" y="14661"/>
                  <a:pt x="16289" y="14684"/>
                </a:cubicBezTo>
                <a:cubicBezTo>
                  <a:pt x="16272" y="14710"/>
                  <a:pt x="16251" y="14729"/>
                  <a:pt x="16232" y="14753"/>
                </a:cubicBezTo>
                <a:cubicBezTo>
                  <a:pt x="16225" y="14762"/>
                  <a:pt x="16220" y="14775"/>
                  <a:pt x="16213" y="14785"/>
                </a:cubicBezTo>
                <a:cubicBezTo>
                  <a:pt x="16224" y="14785"/>
                  <a:pt x="16188" y="14816"/>
                  <a:pt x="16213" y="14781"/>
                </a:cubicBezTo>
                <a:cubicBezTo>
                  <a:pt x="16231" y="14756"/>
                  <a:pt x="16234" y="14725"/>
                  <a:pt x="16251" y="14697"/>
                </a:cubicBezTo>
                <a:cubicBezTo>
                  <a:pt x="16272" y="14662"/>
                  <a:pt x="16299" y="14630"/>
                  <a:pt x="16322" y="14596"/>
                </a:cubicBezTo>
                <a:cubicBezTo>
                  <a:pt x="16342" y="14566"/>
                  <a:pt x="16359" y="14533"/>
                  <a:pt x="16379" y="14503"/>
                </a:cubicBezTo>
                <a:cubicBezTo>
                  <a:pt x="16394" y="14480"/>
                  <a:pt x="16417" y="14464"/>
                  <a:pt x="16431" y="14439"/>
                </a:cubicBezTo>
                <a:cubicBezTo>
                  <a:pt x="16440" y="14423"/>
                  <a:pt x="16437" y="14421"/>
                  <a:pt x="16440" y="14406"/>
                </a:cubicBezTo>
                <a:cubicBezTo>
                  <a:pt x="16371" y="14406"/>
                  <a:pt x="16304" y="14410"/>
                  <a:pt x="16236" y="14411"/>
                </a:cubicBezTo>
                <a:cubicBezTo>
                  <a:pt x="16153" y="14412"/>
                  <a:pt x="16065" y="14417"/>
                  <a:pt x="15985" y="14406"/>
                </a:cubicBezTo>
                <a:cubicBezTo>
                  <a:pt x="15966" y="14404"/>
                  <a:pt x="15958" y="14398"/>
                  <a:pt x="15942" y="14392"/>
                </a:cubicBezTo>
                <a:cubicBezTo>
                  <a:pt x="15938" y="14390"/>
                  <a:pt x="15929" y="14388"/>
                  <a:pt x="15928" y="14388"/>
                </a:cubicBezTo>
                <a:cubicBezTo>
                  <a:pt x="15939" y="14384"/>
                  <a:pt x="15948" y="14381"/>
                  <a:pt x="15961" y="14378"/>
                </a:cubicBezTo>
                <a:cubicBezTo>
                  <a:pt x="15990" y="14370"/>
                  <a:pt x="16019" y="14363"/>
                  <a:pt x="16047" y="14355"/>
                </a:cubicBezTo>
                <a:cubicBezTo>
                  <a:pt x="16085" y="14344"/>
                  <a:pt x="16122" y="14334"/>
                  <a:pt x="16161" y="14332"/>
                </a:cubicBezTo>
                <a:cubicBezTo>
                  <a:pt x="16296" y="14326"/>
                  <a:pt x="16433" y="14332"/>
                  <a:pt x="16569" y="14332"/>
                </a:cubicBezTo>
                <a:cubicBezTo>
                  <a:pt x="16565" y="14335"/>
                  <a:pt x="16548" y="14341"/>
                  <a:pt x="16545" y="14346"/>
                </a:cubicBezTo>
                <a:cubicBezTo>
                  <a:pt x="16535" y="14362"/>
                  <a:pt x="16534" y="14372"/>
                  <a:pt x="16521" y="14388"/>
                </a:cubicBezTo>
                <a:cubicBezTo>
                  <a:pt x="16514" y="14397"/>
                  <a:pt x="16502" y="14413"/>
                  <a:pt x="16493" y="14425"/>
                </a:cubicBezTo>
                <a:cubicBezTo>
                  <a:pt x="16483" y="14439"/>
                  <a:pt x="16474" y="14453"/>
                  <a:pt x="16464" y="14466"/>
                </a:cubicBezTo>
                <a:cubicBezTo>
                  <a:pt x="16450" y="14484"/>
                  <a:pt x="16440" y="14505"/>
                  <a:pt x="16426" y="14522"/>
                </a:cubicBezTo>
                <a:cubicBezTo>
                  <a:pt x="16409" y="14543"/>
                  <a:pt x="16392" y="14572"/>
                  <a:pt x="16374" y="14591"/>
                </a:cubicBezTo>
                <a:cubicBezTo>
                  <a:pt x="16356" y="14610"/>
                  <a:pt x="16338" y="14630"/>
                  <a:pt x="16327" y="14656"/>
                </a:cubicBezTo>
                <a:cubicBezTo>
                  <a:pt x="16318" y="14676"/>
                  <a:pt x="16314" y="14703"/>
                  <a:pt x="16308" y="14725"/>
                </a:cubicBezTo>
                <a:cubicBezTo>
                  <a:pt x="16301" y="14750"/>
                  <a:pt x="16299" y="14778"/>
                  <a:pt x="16298" y="14804"/>
                </a:cubicBezTo>
                <a:cubicBezTo>
                  <a:pt x="16298" y="14810"/>
                  <a:pt x="16298" y="14816"/>
                  <a:pt x="16298" y="14822"/>
                </a:cubicBezTo>
              </a:path>
            </a:pathLst>
          </a:custGeom>
          <a:noFill/>
          <a:ln cap="rnd" w="381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05000" y="2571840"/>
            <a:ext cx="1084320" cy="1917720"/>
          </a:xfrm>
          <a:custGeom>
            <a:avLst/>
            <a:gdLst/>
            <a:ahLst/>
            <a:rect l="l" t="t" r="r" b="b"/>
            <a:pathLst>
              <a:path w="3014" h="5326">
                <a:moveTo>
                  <a:pt x="9137" y="7145"/>
                </a:moveTo>
                <a:cubicBezTo>
                  <a:pt x="9127" y="7163"/>
                  <a:pt x="9106" y="7187"/>
                  <a:pt x="9095" y="7209"/>
                </a:cubicBezTo>
                <a:cubicBezTo>
                  <a:pt x="9074" y="7250"/>
                  <a:pt x="9056" y="7290"/>
                  <a:pt x="9038" y="7334"/>
                </a:cubicBezTo>
                <a:cubicBezTo>
                  <a:pt x="9012" y="7398"/>
                  <a:pt x="8992" y="7464"/>
                  <a:pt x="8967" y="7528"/>
                </a:cubicBezTo>
                <a:cubicBezTo>
                  <a:pt x="8857" y="7808"/>
                  <a:pt x="8698" y="8018"/>
                  <a:pt x="8525" y="8259"/>
                </a:cubicBezTo>
                <a:cubicBezTo>
                  <a:pt x="8425" y="8398"/>
                  <a:pt x="8345" y="8547"/>
                  <a:pt x="8264" y="8698"/>
                </a:cubicBezTo>
                <a:cubicBezTo>
                  <a:pt x="8144" y="8921"/>
                  <a:pt x="8032" y="9148"/>
                  <a:pt x="7904" y="9368"/>
                </a:cubicBezTo>
                <a:cubicBezTo>
                  <a:pt x="7839" y="9479"/>
                  <a:pt x="7775" y="9590"/>
                  <a:pt x="7719" y="9705"/>
                </a:cubicBezTo>
                <a:cubicBezTo>
                  <a:pt x="7639" y="9870"/>
                  <a:pt x="7573" y="10041"/>
                  <a:pt x="7491" y="10205"/>
                </a:cubicBezTo>
                <a:cubicBezTo>
                  <a:pt x="7441" y="10306"/>
                  <a:pt x="7389" y="10414"/>
                  <a:pt x="7329" y="10510"/>
                </a:cubicBezTo>
                <a:cubicBezTo>
                  <a:pt x="7216" y="10690"/>
                  <a:pt x="7073" y="10840"/>
                  <a:pt x="6950" y="11009"/>
                </a:cubicBezTo>
                <a:cubicBezTo>
                  <a:pt x="6908" y="11067"/>
                  <a:pt x="6864" y="11129"/>
                  <a:pt x="6826" y="11189"/>
                </a:cubicBezTo>
                <a:cubicBezTo>
                  <a:pt x="6681" y="11418"/>
                  <a:pt x="6525" y="11653"/>
                  <a:pt x="6399" y="11892"/>
                </a:cubicBezTo>
                <a:cubicBezTo>
                  <a:pt x="6360" y="11966"/>
                  <a:pt x="6327" y="12042"/>
                  <a:pt x="6290" y="12118"/>
                </a:cubicBezTo>
                <a:cubicBezTo>
                  <a:pt x="6252" y="12197"/>
                  <a:pt x="6212" y="12276"/>
                  <a:pt x="6176" y="12354"/>
                </a:cubicBezTo>
                <a:cubicBezTo>
                  <a:pt x="6166" y="12375"/>
                  <a:pt x="6153" y="12392"/>
                  <a:pt x="6143" y="12414"/>
                </a:cubicBezTo>
                <a:cubicBezTo>
                  <a:pt x="6135" y="12432"/>
                  <a:pt x="6131" y="12454"/>
                  <a:pt x="6124" y="12470"/>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934240" y="3540240"/>
            <a:ext cx="1158840" cy="1869840"/>
          </a:xfrm>
          <a:custGeom>
            <a:avLst/>
            <a:gdLst/>
            <a:ahLst/>
            <a:rect l="l" t="t" r="r" b="b"/>
            <a:pathLst>
              <a:path w="3219" h="5192">
                <a:moveTo>
                  <a:pt x="16483" y="9835"/>
                </a:moveTo>
                <a:cubicBezTo>
                  <a:pt x="16516" y="9889"/>
                  <a:pt x="16553" y="9948"/>
                  <a:pt x="16592" y="10006"/>
                </a:cubicBezTo>
                <a:cubicBezTo>
                  <a:pt x="16655" y="10098"/>
                  <a:pt x="16716" y="10170"/>
                  <a:pt x="16792" y="10251"/>
                </a:cubicBezTo>
                <a:cubicBezTo>
                  <a:pt x="16930" y="10398"/>
                  <a:pt x="17034" y="10559"/>
                  <a:pt x="17138" y="10732"/>
                </a:cubicBezTo>
                <a:cubicBezTo>
                  <a:pt x="17226" y="10878"/>
                  <a:pt x="17310" y="11026"/>
                  <a:pt x="17399" y="11171"/>
                </a:cubicBezTo>
                <a:cubicBezTo>
                  <a:pt x="17501" y="11337"/>
                  <a:pt x="17607" y="11493"/>
                  <a:pt x="17698" y="11665"/>
                </a:cubicBezTo>
                <a:cubicBezTo>
                  <a:pt x="17751" y="11765"/>
                  <a:pt x="17799" y="11868"/>
                  <a:pt x="17850" y="11970"/>
                </a:cubicBezTo>
                <a:cubicBezTo>
                  <a:pt x="17935" y="12140"/>
                  <a:pt x="18035" y="12295"/>
                  <a:pt x="18135" y="12456"/>
                </a:cubicBezTo>
                <a:cubicBezTo>
                  <a:pt x="18212" y="12581"/>
                  <a:pt x="18283" y="12704"/>
                  <a:pt x="18372" y="12821"/>
                </a:cubicBezTo>
                <a:cubicBezTo>
                  <a:pt x="18499" y="12988"/>
                  <a:pt x="18596" y="13134"/>
                  <a:pt x="18685" y="13325"/>
                </a:cubicBezTo>
                <a:cubicBezTo>
                  <a:pt x="18732" y="13425"/>
                  <a:pt x="18772" y="13527"/>
                  <a:pt x="18823" y="13625"/>
                </a:cubicBezTo>
                <a:cubicBezTo>
                  <a:pt x="18862" y="13699"/>
                  <a:pt x="18905" y="13771"/>
                  <a:pt x="18941" y="13847"/>
                </a:cubicBezTo>
                <a:cubicBezTo>
                  <a:pt x="19012" y="13998"/>
                  <a:pt x="19092" y="14141"/>
                  <a:pt x="19183" y="14281"/>
                </a:cubicBezTo>
                <a:cubicBezTo>
                  <a:pt x="19221" y="14340"/>
                  <a:pt x="19263" y="14387"/>
                  <a:pt x="19302" y="14443"/>
                </a:cubicBezTo>
                <a:cubicBezTo>
                  <a:pt x="19345" y="14504"/>
                  <a:pt x="19396" y="14561"/>
                  <a:pt x="19435" y="14623"/>
                </a:cubicBezTo>
                <a:cubicBezTo>
                  <a:pt x="19462" y="14666"/>
                  <a:pt x="19481" y="14713"/>
                  <a:pt x="19506" y="14757"/>
                </a:cubicBezTo>
                <a:cubicBezTo>
                  <a:pt x="19533" y="14804"/>
                  <a:pt x="19554" y="14861"/>
                  <a:pt x="19587" y="14905"/>
                </a:cubicBezTo>
                <a:cubicBezTo>
                  <a:pt x="19621" y="14950"/>
                  <a:pt x="19665" y="14984"/>
                  <a:pt x="19701" y="15026"/>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as Schichtenmodell – Die Zweite..</a:t>
            </a:r>
            <a:endParaRPr b="0" lang="en-US" sz="4000" spc="-1" strike="noStrike">
              <a:solidFill>
                <a:srgbClr val="dfdef6"/>
              </a:solidFill>
              <a:latin typeface="Arial"/>
            </a:endParaRPr>
          </a:p>
        </p:txBody>
      </p:sp>
      <p:sp>
        <p:nvSpPr>
          <p:cNvPr id="716" name=""/>
          <p:cNvSpPr/>
          <p:nvPr/>
        </p:nvSpPr>
        <p:spPr>
          <a:xfrm>
            <a:off x="6937200" y="1714680"/>
            <a:ext cx="362160" cy="2950920"/>
          </a:xfrm>
          <a:custGeom>
            <a:avLst/>
            <a:gdLst/>
            <a:ahLst/>
            <a:rect l="l" t="t" r="r" b="b"/>
            <a:pathLst>
              <a:path w="1007" h="8197">
                <a:moveTo>
                  <a:pt x="16962" y="5435"/>
                </a:moveTo>
                <a:cubicBezTo>
                  <a:pt x="16958" y="5445"/>
                  <a:pt x="16947" y="5469"/>
                  <a:pt x="16943" y="5485"/>
                </a:cubicBezTo>
                <a:cubicBezTo>
                  <a:pt x="16929" y="5546"/>
                  <a:pt x="16929" y="5604"/>
                  <a:pt x="16929" y="5666"/>
                </a:cubicBezTo>
                <a:cubicBezTo>
                  <a:pt x="16929" y="5772"/>
                  <a:pt x="16940" y="5858"/>
                  <a:pt x="16967" y="5961"/>
                </a:cubicBezTo>
                <a:cubicBezTo>
                  <a:pt x="16991" y="6052"/>
                  <a:pt x="17028" y="6131"/>
                  <a:pt x="17091" y="6202"/>
                </a:cubicBezTo>
                <a:cubicBezTo>
                  <a:pt x="17126" y="6241"/>
                  <a:pt x="17180" y="6290"/>
                  <a:pt x="17238" y="6267"/>
                </a:cubicBezTo>
                <a:cubicBezTo>
                  <a:pt x="17305" y="6240"/>
                  <a:pt x="17346" y="6155"/>
                  <a:pt x="17375" y="6096"/>
                </a:cubicBezTo>
                <a:cubicBezTo>
                  <a:pt x="17446" y="5951"/>
                  <a:pt x="17496" y="5788"/>
                  <a:pt x="17541" y="5633"/>
                </a:cubicBezTo>
                <a:cubicBezTo>
                  <a:pt x="17567" y="5543"/>
                  <a:pt x="17588" y="5450"/>
                  <a:pt x="17594" y="5356"/>
                </a:cubicBezTo>
                <a:cubicBezTo>
                  <a:pt x="17596" y="5330"/>
                  <a:pt x="17594" y="5303"/>
                  <a:pt x="17594" y="5277"/>
                </a:cubicBezTo>
              </a:path>
              <a:path w="1007" h="8197">
                <a:moveTo>
                  <a:pt x="17015" y="6960"/>
                </a:moveTo>
                <a:cubicBezTo>
                  <a:pt x="16992" y="6955"/>
                  <a:pt x="16993" y="6955"/>
                  <a:pt x="16977" y="6937"/>
                </a:cubicBezTo>
                <a:cubicBezTo>
                  <a:pt x="16974" y="6932"/>
                  <a:pt x="16970" y="6928"/>
                  <a:pt x="16967" y="6923"/>
                </a:cubicBezTo>
                <a:cubicBezTo>
                  <a:pt x="16986" y="6893"/>
                  <a:pt x="16990" y="6895"/>
                  <a:pt x="17029" y="6881"/>
                </a:cubicBezTo>
                <a:cubicBezTo>
                  <a:pt x="17094" y="6858"/>
                  <a:pt x="17159" y="6852"/>
                  <a:pt x="17228" y="6844"/>
                </a:cubicBezTo>
                <a:cubicBezTo>
                  <a:pt x="17353" y="6829"/>
                  <a:pt x="17477" y="6812"/>
                  <a:pt x="17603" y="6803"/>
                </a:cubicBezTo>
                <a:cubicBezTo>
                  <a:pt x="17627" y="6801"/>
                  <a:pt x="17650" y="6800"/>
                  <a:pt x="17674" y="6798"/>
                </a:cubicBezTo>
              </a:path>
              <a:path w="1007" h="8197">
                <a:moveTo>
                  <a:pt x="17404" y="7145"/>
                </a:moveTo>
                <a:cubicBezTo>
                  <a:pt x="17378" y="7173"/>
                  <a:pt x="17368" y="7216"/>
                  <a:pt x="17361" y="7256"/>
                </a:cubicBezTo>
                <a:cubicBezTo>
                  <a:pt x="17342" y="7356"/>
                  <a:pt x="17331" y="7460"/>
                  <a:pt x="17323" y="7561"/>
                </a:cubicBezTo>
                <a:cubicBezTo>
                  <a:pt x="17313" y="7681"/>
                  <a:pt x="17314" y="7801"/>
                  <a:pt x="17314" y="7921"/>
                </a:cubicBezTo>
                <a:cubicBezTo>
                  <a:pt x="17314" y="7947"/>
                  <a:pt x="17314" y="7974"/>
                  <a:pt x="17314" y="8000"/>
                </a:cubicBezTo>
              </a:path>
              <a:path w="1007" h="8197">
                <a:moveTo>
                  <a:pt x="17162" y="8670"/>
                </a:moveTo>
                <a:cubicBezTo>
                  <a:pt x="17162" y="8767"/>
                  <a:pt x="17166" y="8861"/>
                  <a:pt x="17157" y="8957"/>
                </a:cubicBezTo>
                <a:cubicBezTo>
                  <a:pt x="17145" y="9085"/>
                  <a:pt x="17126" y="9212"/>
                  <a:pt x="17110" y="9340"/>
                </a:cubicBezTo>
                <a:cubicBezTo>
                  <a:pt x="17096" y="9449"/>
                  <a:pt x="17084" y="9558"/>
                  <a:pt x="17095" y="9668"/>
                </a:cubicBezTo>
                <a:cubicBezTo>
                  <a:pt x="17098" y="9690"/>
                  <a:pt x="17102" y="9711"/>
                  <a:pt x="17105" y="9733"/>
                </a:cubicBezTo>
              </a:path>
              <a:path w="1007" h="8197">
                <a:moveTo>
                  <a:pt x="17053" y="10371"/>
                </a:moveTo>
                <a:cubicBezTo>
                  <a:pt x="17053" y="10360"/>
                  <a:pt x="17053" y="10350"/>
                  <a:pt x="17053" y="10339"/>
                </a:cubicBezTo>
                <a:cubicBezTo>
                  <a:pt x="17045" y="10370"/>
                  <a:pt x="17037" y="10404"/>
                  <a:pt x="17029" y="10436"/>
                </a:cubicBezTo>
                <a:cubicBezTo>
                  <a:pt x="17006" y="10529"/>
                  <a:pt x="16972" y="10614"/>
                  <a:pt x="16939" y="10704"/>
                </a:cubicBezTo>
                <a:cubicBezTo>
                  <a:pt x="16896" y="10821"/>
                  <a:pt x="16848" y="10945"/>
                  <a:pt x="16830" y="11069"/>
                </a:cubicBezTo>
                <a:cubicBezTo>
                  <a:pt x="16817" y="11158"/>
                  <a:pt x="16813" y="11293"/>
                  <a:pt x="16877" y="11365"/>
                </a:cubicBezTo>
                <a:cubicBezTo>
                  <a:pt x="16936" y="11433"/>
                  <a:pt x="17048" y="11439"/>
                  <a:pt x="17129" y="11434"/>
                </a:cubicBezTo>
                <a:cubicBezTo>
                  <a:pt x="17224" y="11429"/>
                  <a:pt x="17314" y="11417"/>
                  <a:pt x="17409" y="11420"/>
                </a:cubicBezTo>
              </a:path>
              <a:path w="1007" h="8197">
                <a:moveTo>
                  <a:pt x="17394" y="12317"/>
                </a:moveTo>
                <a:cubicBezTo>
                  <a:pt x="17373" y="12326"/>
                  <a:pt x="17343" y="12335"/>
                  <a:pt x="17323" y="12349"/>
                </a:cubicBezTo>
                <a:cubicBezTo>
                  <a:pt x="17238" y="12409"/>
                  <a:pt x="17145" y="12460"/>
                  <a:pt x="17053" y="12511"/>
                </a:cubicBezTo>
                <a:cubicBezTo>
                  <a:pt x="16996" y="12542"/>
                  <a:pt x="16903" y="12581"/>
                  <a:pt x="16920" y="12664"/>
                </a:cubicBezTo>
                <a:cubicBezTo>
                  <a:pt x="16937" y="12747"/>
                  <a:pt x="17077" y="12810"/>
                  <a:pt x="17133" y="12862"/>
                </a:cubicBezTo>
                <a:cubicBezTo>
                  <a:pt x="17200" y="12925"/>
                  <a:pt x="17253" y="13006"/>
                  <a:pt x="17271" y="13098"/>
                </a:cubicBezTo>
                <a:cubicBezTo>
                  <a:pt x="17288" y="13183"/>
                  <a:pt x="17283" y="13279"/>
                  <a:pt x="17233" y="13352"/>
                </a:cubicBezTo>
                <a:cubicBezTo>
                  <a:pt x="17172" y="13442"/>
                  <a:pt x="17049" y="13469"/>
                  <a:pt x="16948" y="13473"/>
                </a:cubicBezTo>
                <a:cubicBezTo>
                  <a:pt x="16833" y="13478"/>
                  <a:pt x="16755" y="13422"/>
                  <a:pt x="16668" y="1335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3132000" y="3227400"/>
            <a:ext cx="2336760" cy="536400"/>
          </a:xfrm>
          <a:custGeom>
            <a:avLst/>
            <a:gdLst/>
            <a:ahLst/>
            <a:rect l="l" t="t" r="r" b="b"/>
            <a:pathLst>
              <a:path w="6491" h="1493">
                <a:moveTo>
                  <a:pt x="9360" y="9195"/>
                </a:moveTo>
                <a:cubicBezTo>
                  <a:pt x="9360" y="9216"/>
                  <a:pt x="9364" y="9234"/>
                  <a:pt x="9364" y="9255"/>
                </a:cubicBezTo>
                <a:cubicBezTo>
                  <a:pt x="9365" y="9303"/>
                  <a:pt x="9370" y="9350"/>
                  <a:pt x="9374" y="9398"/>
                </a:cubicBezTo>
                <a:cubicBezTo>
                  <a:pt x="9379" y="9464"/>
                  <a:pt x="9378" y="9530"/>
                  <a:pt x="9378" y="9597"/>
                </a:cubicBezTo>
                <a:cubicBezTo>
                  <a:pt x="9378" y="9638"/>
                  <a:pt x="9377" y="9677"/>
                  <a:pt x="9388" y="9717"/>
                </a:cubicBezTo>
                <a:cubicBezTo>
                  <a:pt x="9391" y="9730"/>
                  <a:pt x="9393" y="9741"/>
                  <a:pt x="9397" y="9754"/>
                </a:cubicBezTo>
              </a:path>
              <a:path w="6491" h="1493">
                <a:moveTo>
                  <a:pt x="8729" y="9477"/>
                </a:moveTo>
                <a:cubicBezTo>
                  <a:pt x="8716" y="9445"/>
                  <a:pt x="8698" y="9441"/>
                  <a:pt x="8700" y="9398"/>
                </a:cubicBezTo>
                <a:cubicBezTo>
                  <a:pt x="8704" y="9321"/>
                  <a:pt x="8735" y="9280"/>
                  <a:pt x="8786" y="9223"/>
                </a:cubicBezTo>
                <a:cubicBezTo>
                  <a:pt x="8875" y="9123"/>
                  <a:pt x="8976" y="9060"/>
                  <a:pt x="9099" y="9010"/>
                </a:cubicBezTo>
                <a:cubicBezTo>
                  <a:pt x="9210" y="8965"/>
                  <a:pt x="9361" y="8928"/>
                  <a:pt x="9464" y="9010"/>
                </a:cubicBezTo>
                <a:cubicBezTo>
                  <a:pt x="9529" y="9062"/>
                  <a:pt x="9535" y="9155"/>
                  <a:pt x="9530" y="9232"/>
                </a:cubicBezTo>
                <a:cubicBezTo>
                  <a:pt x="9525" y="9310"/>
                  <a:pt x="9495" y="9388"/>
                  <a:pt x="9502" y="9467"/>
                </a:cubicBezTo>
                <a:cubicBezTo>
                  <a:pt x="9509" y="9551"/>
                  <a:pt x="9567" y="9563"/>
                  <a:pt x="9630" y="9601"/>
                </a:cubicBezTo>
                <a:cubicBezTo>
                  <a:pt x="9704" y="9645"/>
                  <a:pt x="9784" y="9680"/>
                  <a:pt x="9848" y="9740"/>
                </a:cubicBezTo>
                <a:cubicBezTo>
                  <a:pt x="9918" y="9805"/>
                  <a:pt x="9929" y="9878"/>
                  <a:pt x="9924" y="9971"/>
                </a:cubicBezTo>
                <a:cubicBezTo>
                  <a:pt x="9916" y="10114"/>
                  <a:pt x="9831" y="10283"/>
                  <a:pt x="9706" y="10359"/>
                </a:cubicBezTo>
                <a:cubicBezTo>
                  <a:pt x="9560" y="10448"/>
                  <a:pt x="9319" y="10457"/>
                  <a:pt x="9179" y="10350"/>
                </a:cubicBezTo>
                <a:cubicBezTo>
                  <a:pt x="9125" y="10293"/>
                  <a:pt x="9107" y="10277"/>
                  <a:pt x="9094" y="10225"/>
                </a:cubicBezTo>
              </a:path>
              <a:path w="6491" h="1493">
                <a:moveTo>
                  <a:pt x="10038" y="9412"/>
                </a:moveTo>
                <a:cubicBezTo>
                  <a:pt x="10032" y="9418"/>
                  <a:pt x="10027" y="9414"/>
                  <a:pt x="10019" y="9426"/>
                </a:cubicBezTo>
                <a:cubicBezTo>
                  <a:pt x="10006" y="9446"/>
                  <a:pt x="9998" y="9461"/>
                  <a:pt x="9995" y="9486"/>
                </a:cubicBezTo>
                <a:cubicBezTo>
                  <a:pt x="9982" y="9601"/>
                  <a:pt x="10004" y="9721"/>
                  <a:pt x="10033" y="9832"/>
                </a:cubicBezTo>
                <a:cubicBezTo>
                  <a:pt x="10064" y="9952"/>
                  <a:pt x="10112" y="10099"/>
                  <a:pt x="10228" y="10165"/>
                </a:cubicBezTo>
                <a:cubicBezTo>
                  <a:pt x="10324" y="10220"/>
                  <a:pt x="10423" y="10158"/>
                  <a:pt x="10484" y="10082"/>
                </a:cubicBezTo>
                <a:cubicBezTo>
                  <a:pt x="10554" y="9995"/>
                  <a:pt x="10590" y="9888"/>
                  <a:pt x="10617" y="9782"/>
                </a:cubicBezTo>
                <a:cubicBezTo>
                  <a:pt x="10648" y="9659"/>
                  <a:pt x="10658" y="9532"/>
                  <a:pt x="10678" y="9407"/>
                </a:cubicBezTo>
                <a:cubicBezTo>
                  <a:pt x="10683" y="9365"/>
                  <a:pt x="10685" y="9350"/>
                  <a:pt x="10697" y="9324"/>
                </a:cubicBezTo>
              </a:path>
              <a:path w="6491" h="1493">
                <a:moveTo>
                  <a:pt x="11684" y="9218"/>
                </a:moveTo>
                <a:cubicBezTo>
                  <a:pt x="11666" y="9213"/>
                  <a:pt x="11647" y="9204"/>
                  <a:pt x="11627" y="9200"/>
                </a:cubicBezTo>
                <a:cubicBezTo>
                  <a:pt x="11567" y="9188"/>
                  <a:pt x="11502" y="9193"/>
                  <a:pt x="11442" y="9204"/>
                </a:cubicBezTo>
                <a:cubicBezTo>
                  <a:pt x="11357" y="9219"/>
                  <a:pt x="11281" y="9250"/>
                  <a:pt x="11210" y="9301"/>
                </a:cubicBezTo>
                <a:cubicBezTo>
                  <a:pt x="11154" y="9341"/>
                  <a:pt x="11113" y="9394"/>
                  <a:pt x="11101" y="9463"/>
                </a:cubicBezTo>
                <a:cubicBezTo>
                  <a:pt x="11090" y="9527"/>
                  <a:pt x="11155" y="9595"/>
                  <a:pt x="11195" y="9638"/>
                </a:cubicBezTo>
                <a:cubicBezTo>
                  <a:pt x="11283" y="9732"/>
                  <a:pt x="11375" y="9823"/>
                  <a:pt x="11418" y="9948"/>
                </a:cubicBezTo>
                <a:cubicBezTo>
                  <a:pt x="11448" y="10035"/>
                  <a:pt x="11447" y="10119"/>
                  <a:pt x="11418" y="10206"/>
                </a:cubicBezTo>
                <a:cubicBezTo>
                  <a:pt x="11394" y="10277"/>
                  <a:pt x="11344" y="10328"/>
                  <a:pt x="11276" y="10359"/>
                </a:cubicBezTo>
                <a:cubicBezTo>
                  <a:pt x="11187" y="10399"/>
                  <a:pt x="11100" y="10351"/>
                  <a:pt x="11025" y="10303"/>
                </a:cubicBezTo>
                <a:cubicBezTo>
                  <a:pt x="10974" y="10267"/>
                  <a:pt x="10957" y="10256"/>
                  <a:pt x="10930" y="10225"/>
                </a:cubicBezTo>
              </a:path>
              <a:path w="6491" h="1493">
                <a:moveTo>
                  <a:pt x="12087" y="9352"/>
                </a:moveTo>
                <a:cubicBezTo>
                  <a:pt x="12082" y="9422"/>
                  <a:pt x="12053" y="9483"/>
                  <a:pt x="12035" y="9551"/>
                </a:cubicBezTo>
                <a:cubicBezTo>
                  <a:pt x="12006" y="9663"/>
                  <a:pt x="11976" y="9774"/>
                  <a:pt x="11954" y="9888"/>
                </a:cubicBezTo>
                <a:cubicBezTo>
                  <a:pt x="11937" y="9977"/>
                  <a:pt x="11923" y="10061"/>
                  <a:pt x="11921" y="10151"/>
                </a:cubicBezTo>
              </a:path>
              <a:path w="6491" h="1493">
                <a:moveTo>
                  <a:pt x="12538" y="9347"/>
                </a:moveTo>
                <a:cubicBezTo>
                  <a:pt x="12533" y="9375"/>
                  <a:pt x="12528" y="9402"/>
                  <a:pt x="12524" y="9431"/>
                </a:cubicBezTo>
                <a:cubicBezTo>
                  <a:pt x="12509" y="9539"/>
                  <a:pt x="12491" y="9646"/>
                  <a:pt x="12476" y="9754"/>
                </a:cubicBezTo>
                <a:cubicBezTo>
                  <a:pt x="12457" y="9888"/>
                  <a:pt x="12439" y="10023"/>
                  <a:pt x="12415" y="10156"/>
                </a:cubicBezTo>
                <a:cubicBezTo>
                  <a:pt x="12407" y="10203"/>
                  <a:pt x="12404" y="10252"/>
                  <a:pt x="12396" y="10299"/>
                </a:cubicBezTo>
                <a:cubicBezTo>
                  <a:pt x="12396" y="10293"/>
                  <a:pt x="12396" y="10286"/>
                  <a:pt x="12396" y="10280"/>
                </a:cubicBezTo>
                <a:cubicBezTo>
                  <a:pt x="12398" y="10202"/>
                  <a:pt x="12408" y="10126"/>
                  <a:pt x="12419" y="10049"/>
                </a:cubicBezTo>
                <a:cubicBezTo>
                  <a:pt x="12438" y="9923"/>
                  <a:pt x="12458" y="9797"/>
                  <a:pt x="12476" y="9671"/>
                </a:cubicBezTo>
                <a:cubicBezTo>
                  <a:pt x="12488" y="9586"/>
                  <a:pt x="12502" y="9465"/>
                  <a:pt x="12547" y="9389"/>
                </a:cubicBezTo>
                <a:cubicBezTo>
                  <a:pt x="12550" y="9386"/>
                  <a:pt x="12554" y="9383"/>
                  <a:pt x="12557" y="9380"/>
                </a:cubicBezTo>
                <a:cubicBezTo>
                  <a:pt x="12583" y="9408"/>
                  <a:pt x="12593" y="9432"/>
                  <a:pt x="12604" y="9481"/>
                </a:cubicBezTo>
                <a:cubicBezTo>
                  <a:pt x="12628" y="9583"/>
                  <a:pt x="12651" y="9684"/>
                  <a:pt x="12675" y="9786"/>
                </a:cubicBezTo>
                <a:cubicBezTo>
                  <a:pt x="12697" y="9880"/>
                  <a:pt x="12717" y="9967"/>
                  <a:pt x="12756" y="10054"/>
                </a:cubicBezTo>
                <a:cubicBezTo>
                  <a:pt x="12780" y="10107"/>
                  <a:pt x="12771" y="10078"/>
                  <a:pt x="12808" y="10091"/>
                </a:cubicBezTo>
                <a:cubicBezTo>
                  <a:pt x="12841" y="10028"/>
                  <a:pt x="12866" y="9965"/>
                  <a:pt x="12889" y="9897"/>
                </a:cubicBezTo>
                <a:cubicBezTo>
                  <a:pt x="12932" y="9766"/>
                  <a:pt x="12962" y="9634"/>
                  <a:pt x="12993" y="9500"/>
                </a:cubicBezTo>
                <a:cubicBezTo>
                  <a:pt x="13013" y="9415"/>
                  <a:pt x="13052" y="9307"/>
                  <a:pt x="13041" y="9218"/>
                </a:cubicBezTo>
                <a:cubicBezTo>
                  <a:pt x="13027" y="9171"/>
                  <a:pt x="13021" y="9131"/>
                  <a:pt x="13022" y="9163"/>
                </a:cubicBezTo>
              </a:path>
              <a:path w="6491" h="1493">
                <a:moveTo>
                  <a:pt x="13572" y="9481"/>
                </a:moveTo>
                <a:cubicBezTo>
                  <a:pt x="13572" y="9536"/>
                  <a:pt x="13565" y="9588"/>
                  <a:pt x="13558" y="9643"/>
                </a:cubicBezTo>
                <a:cubicBezTo>
                  <a:pt x="13542" y="9759"/>
                  <a:pt x="13524" y="9874"/>
                  <a:pt x="13501" y="9989"/>
                </a:cubicBezTo>
                <a:cubicBezTo>
                  <a:pt x="13486" y="10066"/>
                  <a:pt x="13466" y="10143"/>
                  <a:pt x="13449" y="10220"/>
                </a:cubicBezTo>
              </a:path>
              <a:path w="6491" h="1493">
                <a:moveTo>
                  <a:pt x="13563" y="9287"/>
                </a:moveTo>
                <a:cubicBezTo>
                  <a:pt x="13583" y="9270"/>
                  <a:pt x="13610" y="9252"/>
                  <a:pt x="13638" y="9241"/>
                </a:cubicBezTo>
                <a:cubicBezTo>
                  <a:pt x="13700" y="9216"/>
                  <a:pt x="13756" y="9210"/>
                  <a:pt x="13823" y="9209"/>
                </a:cubicBezTo>
                <a:cubicBezTo>
                  <a:pt x="13837" y="9209"/>
                  <a:pt x="13852" y="9209"/>
                  <a:pt x="13866" y="9209"/>
                </a:cubicBezTo>
              </a:path>
              <a:path w="6491" h="1493">
                <a:moveTo>
                  <a:pt x="13439" y="9869"/>
                </a:moveTo>
                <a:cubicBezTo>
                  <a:pt x="13482" y="9851"/>
                  <a:pt x="13525" y="9835"/>
                  <a:pt x="13567" y="9814"/>
                </a:cubicBezTo>
                <a:cubicBezTo>
                  <a:pt x="13643" y="9776"/>
                  <a:pt x="13715" y="9740"/>
                  <a:pt x="13795" y="9712"/>
                </a:cubicBezTo>
                <a:cubicBezTo>
                  <a:pt x="13808" y="9707"/>
                  <a:pt x="13820" y="9703"/>
                  <a:pt x="13833" y="9698"/>
                </a:cubicBezTo>
              </a:path>
              <a:path w="6491" h="1493">
                <a:moveTo>
                  <a:pt x="13245" y="10428"/>
                </a:moveTo>
                <a:cubicBezTo>
                  <a:pt x="13263" y="10449"/>
                  <a:pt x="13267" y="10447"/>
                  <a:pt x="13302" y="10451"/>
                </a:cubicBezTo>
                <a:cubicBezTo>
                  <a:pt x="13382" y="10461"/>
                  <a:pt x="13459" y="10454"/>
                  <a:pt x="13539" y="10447"/>
                </a:cubicBezTo>
                <a:cubicBezTo>
                  <a:pt x="13604" y="10442"/>
                  <a:pt x="13624" y="10440"/>
                  <a:pt x="13667" y="10442"/>
                </a:cubicBezTo>
              </a:path>
              <a:path w="6491" h="1493">
                <a:moveTo>
                  <a:pt x="14568" y="9186"/>
                </a:moveTo>
                <a:cubicBezTo>
                  <a:pt x="14499" y="9186"/>
                  <a:pt x="14431" y="9181"/>
                  <a:pt x="14364" y="9200"/>
                </a:cubicBezTo>
                <a:cubicBezTo>
                  <a:pt x="14274" y="9225"/>
                  <a:pt x="14176" y="9288"/>
                  <a:pt x="14113" y="9357"/>
                </a:cubicBezTo>
                <a:cubicBezTo>
                  <a:pt x="14053" y="9423"/>
                  <a:pt x="14033" y="9508"/>
                  <a:pt x="14065" y="9592"/>
                </a:cubicBezTo>
                <a:cubicBezTo>
                  <a:pt x="14114" y="9721"/>
                  <a:pt x="14251" y="9799"/>
                  <a:pt x="14345" y="9892"/>
                </a:cubicBezTo>
                <a:cubicBezTo>
                  <a:pt x="14418" y="9964"/>
                  <a:pt x="14469" y="10047"/>
                  <a:pt x="14473" y="10151"/>
                </a:cubicBezTo>
                <a:cubicBezTo>
                  <a:pt x="14476" y="10243"/>
                  <a:pt x="14437" y="10316"/>
                  <a:pt x="14369" y="10377"/>
                </a:cubicBezTo>
                <a:cubicBezTo>
                  <a:pt x="14313" y="10427"/>
                  <a:pt x="14249" y="10452"/>
                  <a:pt x="14175" y="10451"/>
                </a:cubicBezTo>
                <a:cubicBezTo>
                  <a:pt x="14136" y="10447"/>
                  <a:pt x="14123" y="10445"/>
                  <a:pt x="14099" y="10433"/>
                </a:cubicBezTo>
              </a:path>
              <a:path w="6491" h="1493">
                <a:moveTo>
                  <a:pt x="15190" y="9218"/>
                </a:moveTo>
                <a:cubicBezTo>
                  <a:pt x="15124" y="9218"/>
                  <a:pt x="15072" y="9228"/>
                  <a:pt x="15009" y="9250"/>
                </a:cubicBezTo>
                <a:cubicBezTo>
                  <a:pt x="14954" y="9270"/>
                  <a:pt x="14876" y="9313"/>
                  <a:pt x="14848" y="9370"/>
                </a:cubicBezTo>
                <a:cubicBezTo>
                  <a:pt x="14818" y="9432"/>
                  <a:pt x="14870" y="9495"/>
                  <a:pt x="14910" y="9537"/>
                </a:cubicBezTo>
                <a:cubicBezTo>
                  <a:pt x="14971" y="9601"/>
                  <a:pt x="15048" y="9646"/>
                  <a:pt x="15104" y="9717"/>
                </a:cubicBezTo>
                <a:cubicBezTo>
                  <a:pt x="15158" y="9785"/>
                  <a:pt x="15183" y="9875"/>
                  <a:pt x="15171" y="9962"/>
                </a:cubicBezTo>
                <a:cubicBezTo>
                  <a:pt x="15158" y="10057"/>
                  <a:pt x="15093" y="10136"/>
                  <a:pt x="15024" y="10197"/>
                </a:cubicBezTo>
                <a:cubicBezTo>
                  <a:pt x="14961" y="10252"/>
                  <a:pt x="14889" y="10278"/>
                  <a:pt x="14805" y="10276"/>
                </a:cubicBezTo>
                <a:cubicBezTo>
                  <a:pt x="14793" y="10274"/>
                  <a:pt x="14780" y="10273"/>
                  <a:pt x="14768" y="1027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3127320" y="2844720"/>
            <a:ext cx="2530440" cy="1230480"/>
          </a:xfrm>
          <a:custGeom>
            <a:avLst/>
            <a:gdLst/>
            <a:ahLst/>
            <a:rect l="l" t="t" r="r" b="b"/>
            <a:pathLst>
              <a:path w="7027" h="3416">
                <a:moveTo>
                  <a:pt x="7943" y="8339"/>
                </a:moveTo>
                <a:cubicBezTo>
                  <a:pt x="7956" y="8339"/>
                  <a:pt x="7958" y="8339"/>
                  <a:pt x="7971" y="8339"/>
                </a:cubicBezTo>
                <a:cubicBezTo>
                  <a:pt x="8188" y="8339"/>
                  <a:pt x="8371" y="8387"/>
                  <a:pt x="8583" y="8422"/>
                </a:cubicBezTo>
                <a:cubicBezTo>
                  <a:pt x="8919" y="8477"/>
                  <a:pt x="9268" y="8458"/>
                  <a:pt x="9608" y="8473"/>
                </a:cubicBezTo>
                <a:cubicBezTo>
                  <a:pt x="9981" y="8490"/>
                  <a:pt x="10353" y="8497"/>
                  <a:pt x="10727" y="8505"/>
                </a:cubicBezTo>
                <a:cubicBezTo>
                  <a:pt x="11420" y="8519"/>
                  <a:pt x="12106" y="8593"/>
                  <a:pt x="12800" y="8588"/>
                </a:cubicBezTo>
                <a:cubicBezTo>
                  <a:pt x="13399" y="8583"/>
                  <a:pt x="13996" y="8538"/>
                  <a:pt x="14594" y="8528"/>
                </a:cubicBezTo>
                <a:cubicBezTo>
                  <a:pt x="14730" y="8526"/>
                  <a:pt x="14838" y="8548"/>
                  <a:pt x="14959" y="8570"/>
                </a:cubicBezTo>
                <a:cubicBezTo>
                  <a:pt x="14934" y="8660"/>
                  <a:pt x="14901" y="8764"/>
                  <a:pt x="14874" y="8861"/>
                </a:cubicBezTo>
                <a:cubicBezTo>
                  <a:pt x="14843" y="8970"/>
                  <a:pt x="14823" y="9083"/>
                  <a:pt x="14802" y="9194"/>
                </a:cubicBezTo>
                <a:cubicBezTo>
                  <a:pt x="14663" y="9936"/>
                  <a:pt x="14632" y="10657"/>
                  <a:pt x="14665" y="11407"/>
                </a:cubicBezTo>
                <a:cubicBezTo>
                  <a:pt x="14669" y="11488"/>
                  <a:pt x="14664" y="11573"/>
                  <a:pt x="14665" y="11652"/>
                </a:cubicBezTo>
                <a:cubicBezTo>
                  <a:pt x="14590" y="11654"/>
                  <a:pt x="14509" y="11656"/>
                  <a:pt x="14432" y="11657"/>
                </a:cubicBezTo>
                <a:cubicBezTo>
                  <a:pt x="14037" y="11663"/>
                  <a:pt x="13645" y="11704"/>
                  <a:pt x="13251" y="11731"/>
                </a:cubicBezTo>
                <a:cubicBezTo>
                  <a:pt x="12911" y="11755"/>
                  <a:pt x="12567" y="11753"/>
                  <a:pt x="12226" y="11754"/>
                </a:cubicBezTo>
                <a:cubicBezTo>
                  <a:pt x="11734" y="11756"/>
                  <a:pt x="11241" y="11701"/>
                  <a:pt x="10751" y="11661"/>
                </a:cubicBezTo>
                <a:cubicBezTo>
                  <a:pt x="10277" y="11623"/>
                  <a:pt x="9808" y="11607"/>
                  <a:pt x="9333" y="11592"/>
                </a:cubicBezTo>
                <a:cubicBezTo>
                  <a:pt x="9025" y="11582"/>
                  <a:pt x="8721" y="11564"/>
                  <a:pt x="8412" y="11564"/>
                </a:cubicBezTo>
                <a:cubicBezTo>
                  <a:pt x="8285" y="11564"/>
                  <a:pt x="8139" y="11569"/>
                  <a:pt x="8023" y="1157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3103560" y="2841480"/>
            <a:ext cx="34920" cy="1260720"/>
          </a:xfrm>
          <a:custGeom>
            <a:avLst/>
            <a:gdLst/>
            <a:ahLst/>
            <a:rect l="l" t="t" r="r" b="b"/>
            <a:pathLst>
              <a:path w="96" h="3504">
                <a:moveTo>
                  <a:pt x="7871" y="8329"/>
                </a:moveTo>
                <a:cubicBezTo>
                  <a:pt x="7871" y="8586"/>
                  <a:pt x="7886" y="8841"/>
                  <a:pt x="7900" y="9097"/>
                </a:cubicBezTo>
                <a:cubicBezTo>
                  <a:pt x="7909" y="9268"/>
                  <a:pt x="7918" y="9439"/>
                  <a:pt x="7924" y="9610"/>
                </a:cubicBezTo>
                <a:cubicBezTo>
                  <a:pt x="7931" y="9804"/>
                  <a:pt x="7941" y="9998"/>
                  <a:pt x="7947" y="10192"/>
                </a:cubicBezTo>
                <a:cubicBezTo>
                  <a:pt x="7953" y="10374"/>
                  <a:pt x="7965" y="10555"/>
                  <a:pt x="7966" y="10737"/>
                </a:cubicBezTo>
                <a:cubicBezTo>
                  <a:pt x="7967" y="10968"/>
                  <a:pt x="7970" y="11199"/>
                  <a:pt x="7957" y="11430"/>
                </a:cubicBezTo>
                <a:cubicBezTo>
                  <a:pt x="7950" y="11564"/>
                  <a:pt x="7931" y="11697"/>
                  <a:pt x="7928" y="1183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3067200" y="1147680"/>
            <a:ext cx="2628720" cy="1201680"/>
          </a:xfrm>
          <a:custGeom>
            <a:avLst/>
            <a:gdLst/>
            <a:ahLst/>
            <a:rect l="l" t="t" r="r" b="b"/>
            <a:pathLst>
              <a:path w="7302" h="3338">
                <a:moveTo>
                  <a:pt x="8075" y="4581"/>
                </a:moveTo>
                <a:cubicBezTo>
                  <a:pt x="8075" y="4594"/>
                  <a:pt x="8071" y="4592"/>
                  <a:pt x="8071" y="4605"/>
                </a:cubicBezTo>
                <a:cubicBezTo>
                  <a:pt x="8068" y="4699"/>
                  <a:pt x="8066" y="4792"/>
                  <a:pt x="8066" y="4886"/>
                </a:cubicBezTo>
                <a:cubicBezTo>
                  <a:pt x="8063" y="5513"/>
                  <a:pt x="8077" y="6129"/>
                  <a:pt x="8014" y="6753"/>
                </a:cubicBezTo>
                <a:cubicBezTo>
                  <a:pt x="8014" y="6755"/>
                  <a:pt x="8014" y="6756"/>
                  <a:pt x="8014" y="6758"/>
                </a:cubicBezTo>
                <a:cubicBezTo>
                  <a:pt x="8025" y="6581"/>
                  <a:pt x="8037" y="6404"/>
                  <a:pt x="8042" y="6227"/>
                </a:cubicBezTo>
                <a:cubicBezTo>
                  <a:pt x="8054" y="5815"/>
                  <a:pt x="7878" y="4906"/>
                  <a:pt x="8090" y="4558"/>
                </a:cubicBezTo>
                <a:cubicBezTo>
                  <a:pt x="8184" y="4404"/>
                  <a:pt x="8513" y="4405"/>
                  <a:pt x="8664" y="4383"/>
                </a:cubicBezTo>
                <a:cubicBezTo>
                  <a:pt x="9976" y="4191"/>
                  <a:pt x="11250" y="4210"/>
                  <a:pt x="12568" y="4313"/>
                </a:cubicBezTo>
                <a:cubicBezTo>
                  <a:pt x="13194" y="4362"/>
                  <a:pt x="14488" y="4239"/>
                  <a:pt x="15035" y="4600"/>
                </a:cubicBezTo>
                <a:cubicBezTo>
                  <a:pt x="15161" y="4683"/>
                  <a:pt x="15173" y="4808"/>
                  <a:pt x="15168" y="4951"/>
                </a:cubicBezTo>
                <a:cubicBezTo>
                  <a:pt x="15160" y="5186"/>
                  <a:pt x="15067" y="5438"/>
                  <a:pt x="15016" y="5667"/>
                </a:cubicBezTo>
                <a:cubicBezTo>
                  <a:pt x="14906" y="6158"/>
                  <a:pt x="14967" y="6965"/>
                  <a:pt x="14750" y="7405"/>
                </a:cubicBezTo>
                <a:cubicBezTo>
                  <a:pt x="14722" y="7461"/>
                  <a:pt x="14724" y="7481"/>
                  <a:pt x="14670" y="7516"/>
                </a:cubicBezTo>
                <a:cubicBezTo>
                  <a:pt x="14603" y="7560"/>
                  <a:pt x="14506" y="7513"/>
                  <a:pt x="14437" y="7511"/>
                </a:cubicBezTo>
                <a:cubicBezTo>
                  <a:pt x="13777" y="7494"/>
                  <a:pt x="13124" y="7534"/>
                  <a:pt x="12464" y="7534"/>
                </a:cubicBezTo>
                <a:cubicBezTo>
                  <a:pt x="11448" y="7534"/>
                  <a:pt x="10431" y="7567"/>
                  <a:pt x="9418" y="7465"/>
                </a:cubicBezTo>
                <a:cubicBezTo>
                  <a:pt x="9139" y="7437"/>
                  <a:pt x="8102" y="7447"/>
                  <a:pt x="7895" y="7197"/>
                </a:cubicBezTo>
                <a:cubicBezTo>
                  <a:pt x="7881" y="7181"/>
                  <a:pt x="7882" y="7172"/>
                  <a:pt x="7871" y="7151"/>
                </a:cubicBezTo>
                <a:cubicBezTo>
                  <a:pt x="7825" y="7063"/>
                  <a:pt x="7869" y="6827"/>
                  <a:pt x="7867" y="672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635280" y="1484280"/>
            <a:ext cx="981000" cy="376200"/>
          </a:xfrm>
          <a:custGeom>
            <a:avLst/>
            <a:gdLst/>
            <a:ahLst/>
            <a:rect l="l" t="t" r="r" b="b"/>
            <a:pathLst>
              <a:path w="2725" h="1046">
                <a:moveTo>
                  <a:pt x="10324" y="5162"/>
                </a:moveTo>
                <a:cubicBezTo>
                  <a:pt x="10313" y="5160"/>
                  <a:pt x="10305" y="5160"/>
                  <a:pt x="10295" y="5157"/>
                </a:cubicBezTo>
                <a:cubicBezTo>
                  <a:pt x="10277" y="5151"/>
                  <a:pt x="10262" y="5145"/>
                  <a:pt x="10243" y="5143"/>
                </a:cubicBezTo>
                <a:cubicBezTo>
                  <a:pt x="10159" y="5136"/>
                  <a:pt x="10053" y="5132"/>
                  <a:pt x="9973" y="5157"/>
                </a:cubicBezTo>
                <a:cubicBezTo>
                  <a:pt x="9913" y="5176"/>
                  <a:pt x="9854" y="5202"/>
                  <a:pt x="9802" y="5236"/>
                </a:cubicBezTo>
                <a:cubicBezTo>
                  <a:pt x="9758" y="5265"/>
                  <a:pt x="9715" y="5301"/>
                  <a:pt x="9678" y="5338"/>
                </a:cubicBezTo>
                <a:cubicBezTo>
                  <a:pt x="9635" y="5381"/>
                  <a:pt x="9598" y="5430"/>
                  <a:pt x="9565" y="5481"/>
                </a:cubicBezTo>
                <a:cubicBezTo>
                  <a:pt x="9528" y="5537"/>
                  <a:pt x="9499" y="5602"/>
                  <a:pt x="9479" y="5666"/>
                </a:cubicBezTo>
                <a:cubicBezTo>
                  <a:pt x="9459" y="5730"/>
                  <a:pt x="9447" y="5797"/>
                  <a:pt x="9446" y="5864"/>
                </a:cubicBezTo>
                <a:cubicBezTo>
                  <a:pt x="9445" y="5926"/>
                  <a:pt x="9454" y="5976"/>
                  <a:pt x="9484" y="6031"/>
                </a:cubicBezTo>
                <a:cubicBezTo>
                  <a:pt x="9515" y="6088"/>
                  <a:pt x="9582" y="6133"/>
                  <a:pt x="9645" y="6146"/>
                </a:cubicBezTo>
                <a:cubicBezTo>
                  <a:pt x="9709" y="6159"/>
                  <a:pt x="9785" y="6154"/>
                  <a:pt x="9849" y="6146"/>
                </a:cubicBezTo>
                <a:cubicBezTo>
                  <a:pt x="9921" y="6137"/>
                  <a:pt x="9990" y="6120"/>
                  <a:pt x="10058" y="6096"/>
                </a:cubicBezTo>
                <a:cubicBezTo>
                  <a:pt x="10124" y="6072"/>
                  <a:pt x="10191" y="6036"/>
                  <a:pt x="10243" y="5989"/>
                </a:cubicBezTo>
                <a:cubicBezTo>
                  <a:pt x="10286" y="5950"/>
                  <a:pt x="10317" y="5912"/>
                  <a:pt x="10343" y="5860"/>
                </a:cubicBezTo>
                <a:cubicBezTo>
                  <a:pt x="10352" y="5841"/>
                  <a:pt x="10356" y="5825"/>
                  <a:pt x="10357" y="5804"/>
                </a:cubicBezTo>
                <a:cubicBezTo>
                  <a:pt x="10358" y="5789"/>
                  <a:pt x="10352" y="5776"/>
                  <a:pt x="10343" y="5767"/>
                </a:cubicBezTo>
                <a:cubicBezTo>
                  <a:pt x="10329" y="5753"/>
                  <a:pt x="10307" y="5749"/>
                  <a:pt x="10291" y="5744"/>
                </a:cubicBezTo>
                <a:cubicBezTo>
                  <a:pt x="10274" y="5739"/>
                  <a:pt x="10252" y="5735"/>
                  <a:pt x="10234" y="5730"/>
                </a:cubicBezTo>
                <a:cubicBezTo>
                  <a:pt x="10220" y="5726"/>
                  <a:pt x="10204" y="5725"/>
                  <a:pt x="10191" y="5721"/>
                </a:cubicBezTo>
                <a:cubicBezTo>
                  <a:pt x="10189" y="5720"/>
                  <a:pt x="10188" y="5718"/>
                  <a:pt x="10186" y="5717"/>
                </a:cubicBezTo>
                <a:cubicBezTo>
                  <a:pt x="10252" y="5717"/>
                  <a:pt x="10361" y="5703"/>
                  <a:pt x="10400" y="5772"/>
                </a:cubicBezTo>
                <a:cubicBezTo>
                  <a:pt x="10412" y="5794"/>
                  <a:pt x="10411" y="5826"/>
                  <a:pt x="10409" y="5851"/>
                </a:cubicBezTo>
                <a:cubicBezTo>
                  <a:pt x="10405" y="5890"/>
                  <a:pt x="10386" y="5927"/>
                  <a:pt x="10381" y="5966"/>
                </a:cubicBezTo>
                <a:cubicBezTo>
                  <a:pt x="10379" y="5978"/>
                  <a:pt x="10372" y="6083"/>
                  <a:pt x="10390" y="6086"/>
                </a:cubicBezTo>
                <a:cubicBezTo>
                  <a:pt x="10414" y="6090"/>
                  <a:pt x="10383" y="6177"/>
                  <a:pt x="10404" y="6063"/>
                </a:cubicBezTo>
                <a:cubicBezTo>
                  <a:pt x="10404" y="6058"/>
                  <a:pt x="10404" y="6054"/>
                  <a:pt x="10404" y="6049"/>
                </a:cubicBezTo>
              </a:path>
              <a:path w="2725" h="1046">
                <a:moveTo>
                  <a:pt x="10898" y="5277"/>
                </a:moveTo>
                <a:cubicBezTo>
                  <a:pt x="10895" y="5283"/>
                  <a:pt x="10892" y="5289"/>
                  <a:pt x="10888" y="5296"/>
                </a:cubicBezTo>
                <a:cubicBezTo>
                  <a:pt x="10879" y="5314"/>
                  <a:pt x="10872" y="5327"/>
                  <a:pt x="10865" y="5347"/>
                </a:cubicBezTo>
                <a:cubicBezTo>
                  <a:pt x="10853" y="5384"/>
                  <a:pt x="10844" y="5424"/>
                  <a:pt x="10836" y="5462"/>
                </a:cubicBezTo>
                <a:cubicBezTo>
                  <a:pt x="10822" y="5530"/>
                  <a:pt x="10818" y="5597"/>
                  <a:pt x="10817" y="5666"/>
                </a:cubicBezTo>
                <a:cubicBezTo>
                  <a:pt x="10816" y="5738"/>
                  <a:pt x="10828" y="5804"/>
                  <a:pt x="10860" y="5869"/>
                </a:cubicBezTo>
                <a:cubicBezTo>
                  <a:pt x="10888" y="5925"/>
                  <a:pt x="10935" y="5965"/>
                  <a:pt x="10993" y="5989"/>
                </a:cubicBezTo>
                <a:cubicBezTo>
                  <a:pt x="11063" y="6018"/>
                  <a:pt x="11145" y="6007"/>
                  <a:pt x="11216" y="5985"/>
                </a:cubicBezTo>
                <a:cubicBezTo>
                  <a:pt x="11306" y="5957"/>
                  <a:pt x="11377" y="5881"/>
                  <a:pt x="11434" y="5809"/>
                </a:cubicBezTo>
                <a:cubicBezTo>
                  <a:pt x="11524" y="5696"/>
                  <a:pt x="11591" y="5560"/>
                  <a:pt x="11638" y="5425"/>
                </a:cubicBezTo>
                <a:cubicBezTo>
                  <a:pt x="11650" y="5391"/>
                  <a:pt x="11651" y="5353"/>
                  <a:pt x="11657" y="5319"/>
                </a:cubicBezTo>
                <a:cubicBezTo>
                  <a:pt x="11657" y="5317"/>
                  <a:pt x="11657" y="5316"/>
                  <a:pt x="11657" y="5314"/>
                </a:cubicBezTo>
              </a:path>
              <a:path w="2725" h="1046">
                <a:moveTo>
                  <a:pt x="12165" y="5310"/>
                </a:moveTo>
                <a:cubicBezTo>
                  <a:pt x="12167" y="5317"/>
                  <a:pt x="12170" y="5332"/>
                  <a:pt x="12170" y="5347"/>
                </a:cubicBezTo>
                <a:cubicBezTo>
                  <a:pt x="12170" y="5441"/>
                  <a:pt x="12171" y="5535"/>
                  <a:pt x="12165" y="5629"/>
                </a:cubicBezTo>
                <a:cubicBezTo>
                  <a:pt x="12159" y="5729"/>
                  <a:pt x="12165" y="5829"/>
                  <a:pt x="12165" y="5929"/>
                </a:cubicBezTo>
                <a:cubicBezTo>
                  <a:pt x="12165" y="6015"/>
                  <a:pt x="12165" y="6102"/>
                  <a:pt x="12165" y="618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171960" y="4721400"/>
            <a:ext cx="31680" cy="1064880"/>
          </a:xfrm>
          <a:custGeom>
            <a:avLst/>
            <a:gdLst/>
            <a:ahLst/>
            <a:rect l="l" t="t" r="r" b="b"/>
            <a:pathLst>
              <a:path w="91" h="2959">
                <a:moveTo>
                  <a:pt x="7956" y="12996"/>
                </a:moveTo>
                <a:cubicBezTo>
                  <a:pt x="7955" y="12986"/>
                  <a:pt x="7953" y="12981"/>
                  <a:pt x="7951" y="12973"/>
                </a:cubicBezTo>
                <a:cubicBezTo>
                  <a:pt x="7948" y="12976"/>
                  <a:pt x="7927" y="12963"/>
                  <a:pt x="7918" y="12978"/>
                </a:cubicBezTo>
                <a:cubicBezTo>
                  <a:pt x="7898" y="13011"/>
                  <a:pt x="7898" y="13067"/>
                  <a:pt x="7894" y="13103"/>
                </a:cubicBezTo>
                <a:cubicBezTo>
                  <a:pt x="7868" y="13329"/>
                  <a:pt x="7889" y="13560"/>
                  <a:pt x="7880" y="13787"/>
                </a:cubicBezTo>
                <a:cubicBezTo>
                  <a:pt x="7866" y="14136"/>
                  <a:pt x="7877" y="14487"/>
                  <a:pt x="7870" y="14836"/>
                </a:cubicBezTo>
                <a:cubicBezTo>
                  <a:pt x="7867" y="14963"/>
                  <a:pt x="7869" y="15088"/>
                  <a:pt x="7870" y="15215"/>
                </a:cubicBezTo>
                <a:cubicBezTo>
                  <a:pt x="7871" y="15452"/>
                  <a:pt x="7870" y="15690"/>
                  <a:pt x="7870" y="1592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6595920" y="1450800"/>
            <a:ext cx="208080" cy="4354560"/>
          </a:xfrm>
          <a:custGeom>
            <a:avLst/>
            <a:gdLst/>
            <a:ahLst/>
            <a:rect l="l" t="t" r="r" b="b"/>
            <a:pathLst>
              <a:path w="580" h="12097">
                <a:moveTo>
                  <a:pt x="16232" y="4547"/>
                </a:moveTo>
                <a:cubicBezTo>
                  <a:pt x="16222" y="4656"/>
                  <a:pt x="16207" y="4762"/>
                  <a:pt x="16208" y="4875"/>
                </a:cubicBezTo>
                <a:cubicBezTo>
                  <a:pt x="16216" y="5695"/>
                  <a:pt x="16320" y="6498"/>
                  <a:pt x="16270" y="7320"/>
                </a:cubicBezTo>
                <a:cubicBezTo>
                  <a:pt x="16229" y="7995"/>
                  <a:pt x="16224" y="8671"/>
                  <a:pt x="16175" y="9345"/>
                </a:cubicBezTo>
                <a:cubicBezTo>
                  <a:pt x="16091" y="10517"/>
                  <a:pt x="15989" y="11687"/>
                  <a:pt x="15890" y="12858"/>
                </a:cubicBezTo>
                <a:cubicBezTo>
                  <a:pt x="15798" y="13946"/>
                  <a:pt x="15766" y="15027"/>
                  <a:pt x="15729" y="16116"/>
                </a:cubicBezTo>
                <a:cubicBezTo>
                  <a:pt x="15723" y="16299"/>
                  <a:pt x="15731" y="16464"/>
                  <a:pt x="15748" y="1664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6588000" y="1341360"/>
            <a:ext cx="1063800" cy="4529160"/>
          </a:xfrm>
          <a:custGeom>
            <a:avLst/>
            <a:gdLst/>
            <a:ahLst/>
            <a:rect l="l" t="t" r="r" b="b"/>
            <a:pathLst>
              <a:path w="2953" h="12583">
                <a:moveTo>
                  <a:pt x="16312" y="4242"/>
                </a:moveTo>
                <a:cubicBezTo>
                  <a:pt x="16383" y="4270"/>
                  <a:pt x="16452" y="4345"/>
                  <a:pt x="16569" y="4362"/>
                </a:cubicBezTo>
                <a:cubicBezTo>
                  <a:pt x="17045" y="4431"/>
                  <a:pt x="17538" y="4340"/>
                  <a:pt x="18016" y="4418"/>
                </a:cubicBezTo>
                <a:cubicBezTo>
                  <a:pt x="18118" y="4435"/>
                  <a:pt x="18209" y="4466"/>
                  <a:pt x="18305" y="4492"/>
                </a:cubicBezTo>
                <a:cubicBezTo>
                  <a:pt x="18318" y="4495"/>
                  <a:pt x="18324" y="4526"/>
                  <a:pt x="18362" y="4533"/>
                </a:cubicBezTo>
                <a:cubicBezTo>
                  <a:pt x="18438" y="4547"/>
                  <a:pt x="18512" y="4537"/>
                  <a:pt x="18585" y="4547"/>
                </a:cubicBezTo>
                <a:cubicBezTo>
                  <a:pt x="18587" y="4547"/>
                  <a:pt x="18588" y="4547"/>
                  <a:pt x="18590" y="4547"/>
                </a:cubicBezTo>
                <a:cubicBezTo>
                  <a:pt x="18601" y="4912"/>
                  <a:pt x="18593" y="5278"/>
                  <a:pt x="18604" y="5643"/>
                </a:cubicBezTo>
                <a:cubicBezTo>
                  <a:pt x="18629" y="6465"/>
                  <a:pt x="18652" y="7283"/>
                  <a:pt x="18652" y="8106"/>
                </a:cubicBezTo>
                <a:cubicBezTo>
                  <a:pt x="18652" y="9295"/>
                  <a:pt x="18586" y="10487"/>
                  <a:pt x="18547" y="11675"/>
                </a:cubicBezTo>
                <a:cubicBezTo>
                  <a:pt x="18530" y="12196"/>
                  <a:pt x="18531" y="12717"/>
                  <a:pt x="18514" y="13237"/>
                </a:cubicBezTo>
                <a:cubicBezTo>
                  <a:pt x="18486" y="14102"/>
                  <a:pt x="18387" y="14954"/>
                  <a:pt x="18396" y="15821"/>
                </a:cubicBezTo>
                <a:cubicBezTo>
                  <a:pt x="18398" y="16066"/>
                  <a:pt x="18413" y="16317"/>
                  <a:pt x="18424" y="16556"/>
                </a:cubicBezTo>
                <a:cubicBezTo>
                  <a:pt x="18389" y="16557"/>
                  <a:pt x="18352" y="16549"/>
                  <a:pt x="18310" y="16551"/>
                </a:cubicBezTo>
                <a:cubicBezTo>
                  <a:pt x="17842" y="16574"/>
                  <a:pt x="17398" y="16710"/>
                  <a:pt x="16934" y="16768"/>
                </a:cubicBezTo>
                <a:cubicBezTo>
                  <a:pt x="16523" y="16819"/>
                  <a:pt x="16113" y="16818"/>
                  <a:pt x="15700" y="16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1403280" y="1628640"/>
            <a:ext cx="365040" cy="3876840"/>
          </a:xfrm>
          <a:custGeom>
            <a:avLst/>
            <a:gdLst/>
            <a:ahLst/>
            <a:rect l="l" t="t" r="r" b="b"/>
            <a:pathLst>
              <a:path w="1016" h="10771">
                <a:moveTo>
                  <a:pt x="6100" y="5324"/>
                </a:moveTo>
                <a:cubicBezTo>
                  <a:pt x="6100" y="5409"/>
                  <a:pt x="6150" y="5741"/>
                  <a:pt x="6096" y="5786"/>
                </a:cubicBezTo>
                <a:cubicBezTo>
                  <a:pt x="6091" y="5781"/>
                  <a:pt x="6089" y="5778"/>
                  <a:pt x="6091" y="5772"/>
                </a:cubicBezTo>
              </a:path>
              <a:path w="1016" h="10771">
                <a:moveTo>
                  <a:pt x="5384" y="5684"/>
                </a:moveTo>
                <a:cubicBezTo>
                  <a:pt x="5355" y="5671"/>
                  <a:pt x="5340" y="5673"/>
                  <a:pt x="5317" y="5643"/>
                </a:cubicBezTo>
                <a:cubicBezTo>
                  <a:pt x="5292" y="5611"/>
                  <a:pt x="5285" y="5551"/>
                  <a:pt x="5298" y="5513"/>
                </a:cubicBezTo>
                <a:cubicBezTo>
                  <a:pt x="5331" y="5419"/>
                  <a:pt x="5429" y="5342"/>
                  <a:pt x="5503" y="5282"/>
                </a:cubicBezTo>
                <a:cubicBezTo>
                  <a:pt x="5611" y="5194"/>
                  <a:pt x="5732" y="5120"/>
                  <a:pt x="5873" y="5106"/>
                </a:cubicBezTo>
                <a:cubicBezTo>
                  <a:pt x="5985" y="5094"/>
                  <a:pt x="6100" y="5116"/>
                  <a:pt x="6191" y="5185"/>
                </a:cubicBezTo>
                <a:cubicBezTo>
                  <a:pt x="6268" y="5243"/>
                  <a:pt x="6302" y="5332"/>
                  <a:pt x="6309" y="5425"/>
                </a:cubicBezTo>
                <a:cubicBezTo>
                  <a:pt x="6317" y="5528"/>
                  <a:pt x="6289" y="5644"/>
                  <a:pt x="6252" y="5740"/>
                </a:cubicBezTo>
                <a:cubicBezTo>
                  <a:pt x="6212" y="5843"/>
                  <a:pt x="6145" y="5945"/>
                  <a:pt x="6034" y="5975"/>
                </a:cubicBezTo>
                <a:cubicBezTo>
                  <a:pt x="5977" y="5990"/>
                  <a:pt x="5925" y="5984"/>
                  <a:pt x="5868" y="5980"/>
                </a:cubicBezTo>
              </a:path>
              <a:path w="1016" h="10771">
                <a:moveTo>
                  <a:pt x="6048" y="6627"/>
                </a:moveTo>
                <a:cubicBezTo>
                  <a:pt x="6031" y="6641"/>
                  <a:pt x="6028" y="6657"/>
                  <a:pt x="6010" y="6683"/>
                </a:cubicBezTo>
                <a:cubicBezTo>
                  <a:pt x="5972" y="6740"/>
                  <a:pt x="5947" y="6802"/>
                  <a:pt x="5915" y="6863"/>
                </a:cubicBezTo>
                <a:cubicBezTo>
                  <a:pt x="5870" y="6947"/>
                  <a:pt x="5827" y="7032"/>
                  <a:pt x="5783" y="7117"/>
                </a:cubicBezTo>
                <a:cubicBezTo>
                  <a:pt x="5757" y="7167"/>
                  <a:pt x="5734" y="7225"/>
                  <a:pt x="5692" y="7265"/>
                </a:cubicBezTo>
                <a:cubicBezTo>
                  <a:pt x="5685" y="7272"/>
                  <a:pt x="5684" y="7275"/>
                  <a:pt x="5678" y="7274"/>
                </a:cubicBezTo>
                <a:cubicBezTo>
                  <a:pt x="5681" y="7232"/>
                  <a:pt x="5688" y="7200"/>
                  <a:pt x="5702" y="7159"/>
                </a:cubicBezTo>
                <a:cubicBezTo>
                  <a:pt x="5730" y="7080"/>
                  <a:pt x="5776" y="7005"/>
                  <a:pt x="5811" y="6928"/>
                </a:cubicBezTo>
                <a:cubicBezTo>
                  <a:pt x="5853" y="6837"/>
                  <a:pt x="5890" y="6746"/>
                  <a:pt x="5920" y="6650"/>
                </a:cubicBezTo>
                <a:cubicBezTo>
                  <a:pt x="5933" y="6609"/>
                  <a:pt x="5943" y="6569"/>
                  <a:pt x="5958" y="6530"/>
                </a:cubicBezTo>
                <a:cubicBezTo>
                  <a:pt x="5969" y="6559"/>
                  <a:pt x="5973" y="6589"/>
                  <a:pt x="5977" y="6622"/>
                </a:cubicBezTo>
                <a:cubicBezTo>
                  <a:pt x="5986" y="6706"/>
                  <a:pt x="6001" y="6791"/>
                  <a:pt x="6020" y="6872"/>
                </a:cubicBezTo>
                <a:cubicBezTo>
                  <a:pt x="6043" y="6971"/>
                  <a:pt x="6070" y="7070"/>
                  <a:pt x="6096" y="7168"/>
                </a:cubicBezTo>
                <a:cubicBezTo>
                  <a:pt x="6110" y="7219"/>
                  <a:pt x="6123" y="7272"/>
                  <a:pt x="6143" y="7320"/>
                </a:cubicBezTo>
                <a:cubicBezTo>
                  <a:pt x="6151" y="7331"/>
                  <a:pt x="6154" y="7331"/>
                  <a:pt x="6153" y="7339"/>
                </a:cubicBezTo>
                <a:cubicBezTo>
                  <a:pt x="6137" y="7321"/>
                  <a:pt x="6118" y="7303"/>
                  <a:pt x="6096" y="7288"/>
                </a:cubicBezTo>
                <a:cubicBezTo>
                  <a:pt x="6049" y="7256"/>
                  <a:pt x="6000" y="7236"/>
                  <a:pt x="5949" y="7214"/>
                </a:cubicBezTo>
                <a:cubicBezTo>
                  <a:pt x="5921" y="7201"/>
                  <a:pt x="5913" y="7196"/>
                  <a:pt x="5892" y="7196"/>
                </a:cubicBezTo>
              </a:path>
              <a:path w="1016" h="10771">
                <a:moveTo>
                  <a:pt x="5574" y="7963"/>
                </a:moveTo>
                <a:cubicBezTo>
                  <a:pt x="5534" y="7963"/>
                  <a:pt x="5576" y="7962"/>
                  <a:pt x="5593" y="7958"/>
                </a:cubicBezTo>
                <a:cubicBezTo>
                  <a:pt x="5664" y="7942"/>
                  <a:pt x="5732" y="7909"/>
                  <a:pt x="5801" y="7884"/>
                </a:cubicBezTo>
                <a:cubicBezTo>
                  <a:pt x="5878" y="7856"/>
                  <a:pt x="5954" y="7835"/>
                  <a:pt x="6034" y="7815"/>
                </a:cubicBezTo>
              </a:path>
              <a:path w="1016" h="10771">
                <a:moveTo>
                  <a:pt x="5844" y="8171"/>
                </a:moveTo>
                <a:cubicBezTo>
                  <a:pt x="5844" y="8195"/>
                  <a:pt x="5832" y="8212"/>
                  <a:pt x="5830" y="8236"/>
                </a:cubicBezTo>
                <a:cubicBezTo>
                  <a:pt x="5824" y="8302"/>
                  <a:pt x="5830" y="8372"/>
                  <a:pt x="5830" y="8439"/>
                </a:cubicBezTo>
              </a:path>
              <a:path w="1016" h="10771">
                <a:moveTo>
                  <a:pt x="5915" y="8943"/>
                </a:moveTo>
                <a:cubicBezTo>
                  <a:pt x="5911" y="8950"/>
                  <a:pt x="5897" y="8972"/>
                  <a:pt x="5892" y="8984"/>
                </a:cubicBezTo>
                <a:cubicBezTo>
                  <a:pt x="5867" y="9042"/>
                  <a:pt x="5855" y="9109"/>
                  <a:pt x="5835" y="9169"/>
                </a:cubicBezTo>
                <a:cubicBezTo>
                  <a:pt x="5804" y="9263"/>
                  <a:pt x="5774" y="9358"/>
                  <a:pt x="5740" y="9451"/>
                </a:cubicBezTo>
                <a:cubicBezTo>
                  <a:pt x="5712" y="9527"/>
                  <a:pt x="5675" y="9601"/>
                  <a:pt x="5650" y="9678"/>
                </a:cubicBezTo>
                <a:cubicBezTo>
                  <a:pt x="5638" y="9714"/>
                  <a:pt x="5631" y="9748"/>
                  <a:pt x="5607" y="9779"/>
                </a:cubicBezTo>
                <a:cubicBezTo>
                  <a:pt x="5605" y="9779"/>
                  <a:pt x="5604" y="9779"/>
                  <a:pt x="5602" y="9779"/>
                </a:cubicBezTo>
                <a:cubicBezTo>
                  <a:pt x="5603" y="9743"/>
                  <a:pt x="5607" y="9717"/>
                  <a:pt x="5621" y="9682"/>
                </a:cubicBezTo>
                <a:cubicBezTo>
                  <a:pt x="5657" y="9589"/>
                  <a:pt x="5695" y="9496"/>
                  <a:pt x="5721" y="9400"/>
                </a:cubicBezTo>
                <a:cubicBezTo>
                  <a:pt x="5753" y="9281"/>
                  <a:pt x="5773" y="9158"/>
                  <a:pt x="5806" y="9040"/>
                </a:cubicBezTo>
                <a:cubicBezTo>
                  <a:pt x="5818" y="8997"/>
                  <a:pt x="5834" y="8949"/>
                  <a:pt x="5849" y="8910"/>
                </a:cubicBezTo>
                <a:cubicBezTo>
                  <a:pt x="5871" y="8949"/>
                  <a:pt x="5887" y="8988"/>
                  <a:pt x="5901" y="9031"/>
                </a:cubicBezTo>
                <a:cubicBezTo>
                  <a:pt x="5932" y="9128"/>
                  <a:pt x="5976" y="9220"/>
                  <a:pt x="6010" y="9317"/>
                </a:cubicBezTo>
                <a:cubicBezTo>
                  <a:pt x="6043" y="9411"/>
                  <a:pt x="6080" y="9504"/>
                  <a:pt x="6110" y="9599"/>
                </a:cubicBezTo>
                <a:cubicBezTo>
                  <a:pt x="6128" y="9654"/>
                  <a:pt x="6152" y="9712"/>
                  <a:pt x="6157" y="9770"/>
                </a:cubicBezTo>
                <a:cubicBezTo>
                  <a:pt x="6157" y="9786"/>
                  <a:pt x="6157" y="9789"/>
                  <a:pt x="6157" y="9798"/>
                </a:cubicBezTo>
                <a:cubicBezTo>
                  <a:pt x="6140" y="9786"/>
                  <a:pt x="6119" y="9768"/>
                  <a:pt x="6100" y="9756"/>
                </a:cubicBezTo>
                <a:cubicBezTo>
                  <a:pt x="6048" y="9721"/>
                  <a:pt x="5999" y="9688"/>
                  <a:pt x="5939" y="9668"/>
                </a:cubicBezTo>
                <a:cubicBezTo>
                  <a:pt x="5906" y="9658"/>
                  <a:pt x="5877" y="9653"/>
                  <a:pt x="5844" y="9650"/>
                </a:cubicBezTo>
              </a:path>
              <a:path w="1016" h="10771">
                <a:moveTo>
                  <a:pt x="5493" y="10376"/>
                </a:moveTo>
                <a:cubicBezTo>
                  <a:pt x="5493" y="10363"/>
                  <a:pt x="5489" y="10351"/>
                  <a:pt x="5503" y="10343"/>
                </a:cubicBezTo>
                <a:cubicBezTo>
                  <a:pt x="5538" y="10322"/>
                  <a:pt x="5591" y="10313"/>
                  <a:pt x="5631" y="10311"/>
                </a:cubicBezTo>
                <a:cubicBezTo>
                  <a:pt x="5749" y="10304"/>
                  <a:pt x="5869" y="10311"/>
                  <a:pt x="5987" y="10311"/>
                </a:cubicBezTo>
              </a:path>
              <a:path w="1016" h="10771">
                <a:moveTo>
                  <a:pt x="5801" y="10732"/>
                </a:moveTo>
                <a:cubicBezTo>
                  <a:pt x="5780" y="10764"/>
                  <a:pt x="5773" y="10804"/>
                  <a:pt x="5768" y="10843"/>
                </a:cubicBezTo>
                <a:cubicBezTo>
                  <a:pt x="5760" y="10904"/>
                  <a:pt x="5764" y="10966"/>
                  <a:pt x="5764" y="11027"/>
                </a:cubicBezTo>
              </a:path>
              <a:path w="1016" h="10771">
                <a:moveTo>
                  <a:pt x="5436" y="11564"/>
                </a:moveTo>
                <a:cubicBezTo>
                  <a:pt x="5447" y="11572"/>
                  <a:pt x="5452" y="11571"/>
                  <a:pt x="5460" y="11582"/>
                </a:cubicBezTo>
                <a:cubicBezTo>
                  <a:pt x="5487" y="11618"/>
                  <a:pt x="5502" y="11660"/>
                  <a:pt x="5517" y="11702"/>
                </a:cubicBezTo>
                <a:cubicBezTo>
                  <a:pt x="5539" y="11767"/>
                  <a:pt x="5562" y="11831"/>
                  <a:pt x="5583" y="11896"/>
                </a:cubicBezTo>
                <a:cubicBezTo>
                  <a:pt x="5599" y="11947"/>
                  <a:pt x="5619" y="12016"/>
                  <a:pt x="5654" y="12058"/>
                </a:cubicBezTo>
                <a:cubicBezTo>
                  <a:pt x="5682" y="12091"/>
                  <a:pt x="5729" y="12096"/>
                  <a:pt x="5764" y="12072"/>
                </a:cubicBezTo>
                <a:cubicBezTo>
                  <a:pt x="5832" y="12026"/>
                  <a:pt x="5862" y="11919"/>
                  <a:pt x="5896" y="11850"/>
                </a:cubicBezTo>
                <a:cubicBezTo>
                  <a:pt x="5955" y="11729"/>
                  <a:pt x="6002" y="11599"/>
                  <a:pt x="6072" y="11485"/>
                </a:cubicBezTo>
              </a:path>
              <a:path w="1016" h="10771">
                <a:moveTo>
                  <a:pt x="5716" y="12308"/>
                </a:moveTo>
                <a:cubicBezTo>
                  <a:pt x="5719" y="12323"/>
                  <a:pt x="5725" y="12329"/>
                  <a:pt x="5726" y="12345"/>
                </a:cubicBezTo>
                <a:cubicBezTo>
                  <a:pt x="5731" y="12421"/>
                  <a:pt x="5696" y="12549"/>
                  <a:pt x="5730" y="12617"/>
                </a:cubicBezTo>
                <a:cubicBezTo>
                  <a:pt x="5735" y="12622"/>
                  <a:pt x="5740" y="12626"/>
                  <a:pt x="5745" y="12631"/>
                </a:cubicBezTo>
              </a:path>
              <a:path w="1016" h="10771">
                <a:moveTo>
                  <a:pt x="5588" y="13343"/>
                </a:moveTo>
                <a:cubicBezTo>
                  <a:pt x="5589" y="13364"/>
                  <a:pt x="5589" y="13382"/>
                  <a:pt x="5593" y="13403"/>
                </a:cubicBezTo>
                <a:cubicBezTo>
                  <a:pt x="5600" y="13446"/>
                  <a:pt x="5597" y="13490"/>
                  <a:pt x="5597" y="13533"/>
                </a:cubicBezTo>
                <a:cubicBezTo>
                  <a:pt x="5597" y="13575"/>
                  <a:pt x="5611" y="13646"/>
                  <a:pt x="5593" y="13685"/>
                </a:cubicBezTo>
                <a:cubicBezTo>
                  <a:pt x="5578" y="13719"/>
                  <a:pt x="5572" y="13711"/>
                  <a:pt x="5545" y="13722"/>
                </a:cubicBezTo>
                <a:cubicBezTo>
                  <a:pt x="5520" y="13697"/>
                  <a:pt x="5497" y="13653"/>
                  <a:pt x="5493" y="13616"/>
                </a:cubicBezTo>
                <a:cubicBezTo>
                  <a:pt x="5483" y="13526"/>
                  <a:pt x="5494" y="13428"/>
                  <a:pt x="5526" y="13343"/>
                </a:cubicBezTo>
                <a:cubicBezTo>
                  <a:pt x="5555" y="13265"/>
                  <a:pt x="5622" y="13179"/>
                  <a:pt x="5697" y="13140"/>
                </a:cubicBezTo>
                <a:cubicBezTo>
                  <a:pt x="5757" y="13109"/>
                  <a:pt x="5831" y="13092"/>
                  <a:pt x="5892" y="13126"/>
                </a:cubicBezTo>
                <a:cubicBezTo>
                  <a:pt x="5938" y="13151"/>
                  <a:pt x="5960" y="13202"/>
                  <a:pt x="5968" y="13251"/>
                </a:cubicBezTo>
                <a:cubicBezTo>
                  <a:pt x="5975" y="13292"/>
                  <a:pt x="5978" y="13348"/>
                  <a:pt x="5953" y="13385"/>
                </a:cubicBezTo>
                <a:cubicBezTo>
                  <a:pt x="5926" y="13425"/>
                  <a:pt x="5871" y="13425"/>
                  <a:pt x="5830" y="13426"/>
                </a:cubicBezTo>
                <a:cubicBezTo>
                  <a:pt x="5817" y="13426"/>
                  <a:pt x="5805" y="13426"/>
                  <a:pt x="5792" y="13426"/>
                </a:cubicBezTo>
              </a:path>
              <a:path w="1016" h="10771">
                <a:moveTo>
                  <a:pt x="5593" y="14083"/>
                </a:moveTo>
                <a:cubicBezTo>
                  <a:pt x="5575" y="14093"/>
                  <a:pt x="5570" y="14095"/>
                  <a:pt x="5569" y="14120"/>
                </a:cubicBezTo>
                <a:cubicBezTo>
                  <a:pt x="5567" y="14158"/>
                  <a:pt x="5573" y="14197"/>
                  <a:pt x="5574" y="14235"/>
                </a:cubicBezTo>
                <a:cubicBezTo>
                  <a:pt x="5575" y="14314"/>
                  <a:pt x="5581" y="14398"/>
                  <a:pt x="5569" y="14476"/>
                </a:cubicBezTo>
                <a:cubicBezTo>
                  <a:pt x="5563" y="14516"/>
                  <a:pt x="5556" y="14560"/>
                  <a:pt x="5545" y="14600"/>
                </a:cubicBezTo>
                <a:cubicBezTo>
                  <a:pt x="5543" y="14605"/>
                  <a:pt x="5542" y="14609"/>
                  <a:pt x="5540" y="14614"/>
                </a:cubicBezTo>
              </a:path>
              <a:path w="1016" h="10771">
                <a:moveTo>
                  <a:pt x="5526" y="14134"/>
                </a:moveTo>
                <a:cubicBezTo>
                  <a:pt x="5543" y="14110"/>
                  <a:pt x="5559" y="14094"/>
                  <a:pt x="5588" y="14078"/>
                </a:cubicBezTo>
                <a:cubicBezTo>
                  <a:pt x="5644" y="14047"/>
                  <a:pt x="5712" y="14036"/>
                  <a:pt x="5773" y="14018"/>
                </a:cubicBezTo>
              </a:path>
              <a:path w="1016" h="10771">
                <a:moveTo>
                  <a:pt x="5602" y="14448"/>
                </a:moveTo>
                <a:cubicBezTo>
                  <a:pt x="5641" y="14434"/>
                  <a:pt x="5676" y="14420"/>
                  <a:pt x="5716" y="14411"/>
                </a:cubicBezTo>
                <a:cubicBezTo>
                  <a:pt x="5762" y="14402"/>
                  <a:pt x="5776" y="14400"/>
                  <a:pt x="5806" y="14397"/>
                </a:cubicBezTo>
              </a:path>
              <a:path w="1016" h="10771">
                <a:moveTo>
                  <a:pt x="5484" y="14831"/>
                </a:moveTo>
                <a:cubicBezTo>
                  <a:pt x="5526" y="14820"/>
                  <a:pt x="5569" y="14808"/>
                  <a:pt x="5612" y="14799"/>
                </a:cubicBezTo>
                <a:cubicBezTo>
                  <a:pt x="5672" y="14789"/>
                  <a:pt x="5694" y="14786"/>
                  <a:pt x="5735" y="14776"/>
                </a:cubicBezTo>
              </a:path>
              <a:path w="1016" h="10771">
                <a:moveTo>
                  <a:pt x="5754" y="15201"/>
                </a:moveTo>
                <a:cubicBezTo>
                  <a:pt x="5681" y="15246"/>
                  <a:pt x="5619" y="15307"/>
                  <a:pt x="5564" y="15372"/>
                </a:cubicBezTo>
                <a:cubicBezTo>
                  <a:pt x="5539" y="15402"/>
                  <a:pt x="5523" y="15421"/>
                  <a:pt x="5507" y="15455"/>
                </a:cubicBezTo>
                <a:cubicBezTo>
                  <a:pt x="5532" y="15485"/>
                  <a:pt x="5548" y="15489"/>
                  <a:pt x="5593" y="15506"/>
                </a:cubicBezTo>
                <a:cubicBezTo>
                  <a:pt x="5658" y="15531"/>
                  <a:pt x="5731" y="15549"/>
                  <a:pt x="5783" y="15599"/>
                </a:cubicBezTo>
                <a:cubicBezTo>
                  <a:pt x="5832" y="15645"/>
                  <a:pt x="5863" y="15693"/>
                  <a:pt x="5868" y="15761"/>
                </a:cubicBezTo>
                <a:cubicBezTo>
                  <a:pt x="5873" y="15826"/>
                  <a:pt x="5835" y="15856"/>
                  <a:pt x="5773" y="15871"/>
                </a:cubicBezTo>
                <a:cubicBezTo>
                  <a:pt x="5695" y="15890"/>
                  <a:pt x="5621" y="15870"/>
                  <a:pt x="5550" y="15839"/>
                </a:cubicBezTo>
                <a:cubicBezTo>
                  <a:pt x="5534" y="15831"/>
                  <a:pt x="5519" y="15824"/>
                  <a:pt x="5503" y="158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1192320" y="1319040"/>
            <a:ext cx="868320" cy="4573800"/>
          </a:xfrm>
          <a:custGeom>
            <a:avLst/>
            <a:gdLst/>
            <a:ahLst/>
            <a:rect l="l" t="t" r="r" b="b"/>
            <a:pathLst>
              <a:path w="2412" h="12702">
                <a:moveTo>
                  <a:pt x="5042" y="4270"/>
                </a:moveTo>
                <a:cubicBezTo>
                  <a:pt x="5022" y="4260"/>
                  <a:pt x="5004" y="4255"/>
                  <a:pt x="4985" y="4247"/>
                </a:cubicBezTo>
                <a:cubicBezTo>
                  <a:pt x="5022" y="4256"/>
                  <a:pt x="5038" y="4270"/>
                  <a:pt x="5075" y="4279"/>
                </a:cubicBezTo>
                <a:cubicBezTo>
                  <a:pt x="5402" y="4355"/>
                  <a:pt x="5737" y="4374"/>
                  <a:pt x="6072" y="4381"/>
                </a:cubicBezTo>
                <a:cubicBezTo>
                  <a:pt x="6288" y="4385"/>
                  <a:pt x="6807" y="4281"/>
                  <a:pt x="7002" y="4404"/>
                </a:cubicBezTo>
                <a:cubicBezTo>
                  <a:pt x="7108" y="4471"/>
                  <a:pt x="7054" y="4368"/>
                  <a:pt x="7106" y="4506"/>
                </a:cubicBezTo>
                <a:cubicBezTo>
                  <a:pt x="7306" y="5043"/>
                  <a:pt x="7077" y="5941"/>
                  <a:pt x="7068" y="6502"/>
                </a:cubicBezTo>
                <a:cubicBezTo>
                  <a:pt x="7052" y="7433"/>
                  <a:pt x="6945" y="8357"/>
                  <a:pt x="6926" y="9289"/>
                </a:cubicBezTo>
                <a:cubicBezTo>
                  <a:pt x="6912" y="9988"/>
                  <a:pt x="6874" y="10690"/>
                  <a:pt x="6845" y="11388"/>
                </a:cubicBezTo>
                <a:cubicBezTo>
                  <a:pt x="6786" y="12823"/>
                  <a:pt x="6753" y="14255"/>
                  <a:pt x="6751" y="15691"/>
                </a:cubicBezTo>
                <a:cubicBezTo>
                  <a:pt x="6751" y="15922"/>
                  <a:pt x="6867" y="16507"/>
                  <a:pt x="6741" y="16713"/>
                </a:cubicBezTo>
                <a:cubicBezTo>
                  <a:pt x="6686" y="16802"/>
                  <a:pt x="6720" y="16766"/>
                  <a:pt x="6622" y="16805"/>
                </a:cubicBezTo>
                <a:cubicBezTo>
                  <a:pt x="6490" y="16858"/>
                  <a:pt x="6258" y="16777"/>
                  <a:pt x="6119" y="16777"/>
                </a:cubicBezTo>
                <a:cubicBezTo>
                  <a:pt x="5933" y="16777"/>
                  <a:pt x="5744" y="16817"/>
                  <a:pt x="5559" y="16842"/>
                </a:cubicBezTo>
                <a:cubicBezTo>
                  <a:pt x="5315" y="16876"/>
                  <a:pt x="5074" y="16928"/>
                  <a:pt x="4829" y="16948"/>
                </a:cubicBezTo>
                <a:cubicBezTo>
                  <a:pt x="4801" y="16950"/>
                  <a:pt x="4727" y="16947"/>
                  <a:pt x="4715" y="1694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1181160" y="1374840"/>
            <a:ext cx="65160" cy="4560840"/>
          </a:xfrm>
          <a:custGeom>
            <a:avLst/>
            <a:gdLst/>
            <a:ahLst/>
            <a:rect l="l" t="t" r="r" b="b"/>
            <a:pathLst>
              <a:path w="181" h="12671">
                <a:moveTo>
                  <a:pt x="4857" y="4399"/>
                </a:moveTo>
                <a:cubicBezTo>
                  <a:pt x="4854" y="4437"/>
                  <a:pt x="4835" y="4476"/>
                  <a:pt x="4833" y="4519"/>
                </a:cubicBezTo>
                <a:cubicBezTo>
                  <a:pt x="4757" y="6080"/>
                  <a:pt x="4850" y="7658"/>
                  <a:pt x="4843" y="9220"/>
                </a:cubicBezTo>
                <a:cubicBezTo>
                  <a:pt x="4841" y="9773"/>
                  <a:pt x="4855" y="10324"/>
                  <a:pt x="4819" y="10875"/>
                </a:cubicBezTo>
                <a:cubicBezTo>
                  <a:pt x="4782" y="11445"/>
                  <a:pt x="4754" y="12014"/>
                  <a:pt x="4734" y="12585"/>
                </a:cubicBezTo>
                <a:cubicBezTo>
                  <a:pt x="4707" y="13364"/>
                  <a:pt x="4691" y="14145"/>
                  <a:pt x="4691" y="14924"/>
                </a:cubicBezTo>
                <a:cubicBezTo>
                  <a:pt x="4691" y="15614"/>
                  <a:pt x="4653" y="16313"/>
                  <a:pt x="4691" y="16999"/>
                </a:cubicBezTo>
                <a:cubicBezTo>
                  <a:pt x="4691" y="17033"/>
                  <a:pt x="4691" y="17046"/>
                  <a:pt x="4696" y="1706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228840" y="5106960"/>
            <a:ext cx="1030320" cy="385920"/>
          </a:xfrm>
          <a:custGeom>
            <a:avLst/>
            <a:gdLst/>
            <a:ahLst/>
            <a:rect l="l" t="t" r="r" b="b"/>
            <a:pathLst>
              <a:path w="2862" h="1069">
                <a:moveTo>
                  <a:pt x="8430" y="14328"/>
                </a:moveTo>
                <a:cubicBezTo>
                  <a:pt x="8424" y="14341"/>
                  <a:pt x="8421" y="14352"/>
                  <a:pt x="8416" y="14365"/>
                </a:cubicBezTo>
                <a:cubicBezTo>
                  <a:pt x="8408" y="14387"/>
                  <a:pt x="8408" y="14416"/>
                  <a:pt x="8407" y="14439"/>
                </a:cubicBezTo>
                <a:cubicBezTo>
                  <a:pt x="8403" y="14514"/>
                  <a:pt x="8405" y="14590"/>
                  <a:pt x="8402" y="14665"/>
                </a:cubicBezTo>
                <a:cubicBezTo>
                  <a:pt x="8400" y="14715"/>
                  <a:pt x="8395" y="14764"/>
                  <a:pt x="8392" y="14813"/>
                </a:cubicBezTo>
                <a:cubicBezTo>
                  <a:pt x="8390" y="14839"/>
                  <a:pt x="8388" y="14866"/>
                  <a:pt x="8388" y="14892"/>
                </a:cubicBezTo>
                <a:cubicBezTo>
                  <a:pt x="8388" y="14913"/>
                  <a:pt x="8392" y="14912"/>
                  <a:pt x="8378" y="14919"/>
                </a:cubicBezTo>
                <a:cubicBezTo>
                  <a:pt x="8378" y="14918"/>
                  <a:pt x="8378" y="14916"/>
                  <a:pt x="8378" y="14915"/>
                </a:cubicBezTo>
              </a:path>
              <a:path w="2862" h="1069">
                <a:moveTo>
                  <a:pt x="8074" y="14494"/>
                </a:moveTo>
                <a:cubicBezTo>
                  <a:pt x="8065" y="14487"/>
                  <a:pt x="8040" y="14491"/>
                  <a:pt x="8032" y="14476"/>
                </a:cubicBezTo>
                <a:cubicBezTo>
                  <a:pt x="8016" y="14445"/>
                  <a:pt x="8033" y="14419"/>
                  <a:pt x="8041" y="14392"/>
                </a:cubicBezTo>
                <a:cubicBezTo>
                  <a:pt x="8061" y="14329"/>
                  <a:pt x="8116" y="14273"/>
                  <a:pt x="8165" y="14231"/>
                </a:cubicBezTo>
                <a:cubicBezTo>
                  <a:pt x="8250" y="14159"/>
                  <a:pt x="8353" y="14103"/>
                  <a:pt x="8459" y="14069"/>
                </a:cubicBezTo>
                <a:cubicBezTo>
                  <a:pt x="8576" y="14031"/>
                  <a:pt x="8710" y="14026"/>
                  <a:pt x="8824" y="14073"/>
                </a:cubicBezTo>
                <a:cubicBezTo>
                  <a:pt x="8902" y="14105"/>
                  <a:pt x="8947" y="14169"/>
                  <a:pt x="8971" y="14249"/>
                </a:cubicBezTo>
                <a:cubicBezTo>
                  <a:pt x="9002" y="14354"/>
                  <a:pt x="8980" y="14460"/>
                  <a:pt x="8952" y="14563"/>
                </a:cubicBezTo>
                <a:cubicBezTo>
                  <a:pt x="8920" y="14683"/>
                  <a:pt x="8874" y="14797"/>
                  <a:pt x="8786" y="14887"/>
                </a:cubicBezTo>
                <a:cubicBezTo>
                  <a:pt x="8707" y="14968"/>
                  <a:pt x="8591" y="15014"/>
                  <a:pt x="8483" y="15039"/>
                </a:cubicBezTo>
                <a:cubicBezTo>
                  <a:pt x="8428" y="15052"/>
                  <a:pt x="8373" y="15052"/>
                  <a:pt x="8317" y="15053"/>
                </a:cubicBezTo>
              </a:path>
              <a:path w="2862" h="1069">
                <a:moveTo>
                  <a:pt x="9389" y="14046"/>
                </a:moveTo>
                <a:cubicBezTo>
                  <a:pt x="9374" y="14065"/>
                  <a:pt x="9353" y="14085"/>
                  <a:pt x="9341" y="14106"/>
                </a:cubicBezTo>
                <a:cubicBezTo>
                  <a:pt x="9305" y="14166"/>
                  <a:pt x="9278" y="14236"/>
                  <a:pt x="9251" y="14300"/>
                </a:cubicBezTo>
                <a:cubicBezTo>
                  <a:pt x="9205" y="14408"/>
                  <a:pt x="9174" y="14523"/>
                  <a:pt x="9147" y="14637"/>
                </a:cubicBezTo>
                <a:cubicBezTo>
                  <a:pt x="9123" y="14738"/>
                  <a:pt x="9088" y="14836"/>
                  <a:pt x="9066" y="14938"/>
                </a:cubicBezTo>
                <a:cubicBezTo>
                  <a:pt x="9057" y="14980"/>
                  <a:pt x="9053" y="15020"/>
                  <a:pt x="9033" y="15058"/>
                </a:cubicBezTo>
                <a:cubicBezTo>
                  <a:pt x="9033" y="15056"/>
                  <a:pt x="9033" y="15055"/>
                  <a:pt x="9033" y="15053"/>
                </a:cubicBezTo>
                <a:cubicBezTo>
                  <a:pt x="9044" y="14948"/>
                  <a:pt x="9064" y="14845"/>
                  <a:pt x="9095" y="14744"/>
                </a:cubicBezTo>
                <a:cubicBezTo>
                  <a:pt x="9128" y="14635"/>
                  <a:pt x="9166" y="14517"/>
                  <a:pt x="9218" y="14415"/>
                </a:cubicBezTo>
                <a:cubicBezTo>
                  <a:pt x="9240" y="14371"/>
                  <a:pt x="9254" y="14355"/>
                  <a:pt x="9294" y="14337"/>
                </a:cubicBezTo>
                <a:cubicBezTo>
                  <a:pt x="9339" y="14356"/>
                  <a:pt x="9365" y="14402"/>
                  <a:pt x="9389" y="14448"/>
                </a:cubicBezTo>
                <a:cubicBezTo>
                  <a:pt x="9432" y="14530"/>
                  <a:pt x="9462" y="14619"/>
                  <a:pt x="9503" y="14702"/>
                </a:cubicBezTo>
                <a:cubicBezTo>
                  <a:pt x="9534" y="14764"/>
                  <a:pt x="9582" y="14829"/>
                  <a:pt x="9602" y="14896"/>
                </a:cubicBezTo>
                <a:cubicBezTo>
                  <a:pt x="9602" y="14899"/>
                  <a:pt x="9602" y="14902"/>
                  <a:pt x="9602" y="14905"/>
                </a:cubicBezTo>
                <a:cubicBezTo>
                  <a:pt x="9572" y="14890"/>
                  <a:pt x="9538" y="14869"/>
                  <a:pt x="9508" y="14850"/>
                </a:cubicBezTo>
                <a:cubicBezTo>
                  <a:pt x="9442" y="14808"/>
                  <a:pt x="9376" y="14770"/>
                  <a:pt x="9308" y="14730"/>
                </a:cubicBezTo>
                <a:cubicBezTo>
                  <a:pt x="9276" y="14711"/>
                  <a:pt x="9246" y="14695"/>
                  <a:pt x="9213" y="14679"/>
                </a:cubicBezTo>
              </a:path>
              <a:path w="2862" h="1069">
                <a:moveTo>
                  <a:pt x="9788" y="14244"/>
                </a:moveTo>
                <a:cubicBezTo>
                  <a:pt x="9807" y="14225"/>
                  <a:pt x="9828" y="14225"/>
                  <a:pt x="9859" y="14217"/>
                </a:cubicBezTo>
                <a:cubicBezTo>
                  <a:pt x="9939" y="14195"/>
                  <a:pt x="10018" y="14178"/>
                  <a:pt x="10101" y="14166"/>
                </a:cubicBezTo>
                <a:cubicBezTo>
                  <a:pt x="10166" y="14157"/>
                  <a:pt x="10186" y="14154"/>
                  <a:pt x="10229" y="14147"/>
                </a:cubicBezTo>
              </a:path>
              <a:path w="2862" h="1069">
                <a:moveTo>
                  <a:pt x="10063" y="14494"/>
                </a:moveTo>
                <a:cubicBezTo>
                  <a:pt x="10044" y="14538"/>
                  <a:pt x="10027" y="14589"/>
                  <a:pt x="10020" y="14637"/>
                </a:cubicBezTo>
                <a:cubicBezTo>
                  <a:pt x="10011" y="14693"/>
                  <a:pt x="10012" y="14751"/>
                  <a:pt x="10011" y="14808"/>
                </a:cubicBezTo>
              </a:path>
              <a:path w="2862" h="1069">
                <a:moveTo>
                  <a:pt x="10670" y="14309"/>
                </a:moveTo>
                <a:cubicBezTo>
                  <a:pt x="10667" y="14311"/>
                  <a:pt x="10666" y="14301"/>
                  <a:pt x="10651" y="14318"/>
                </a:cubicBezTo>
                <a:cubicBezTo>
                  <a:pt x="10584" y="14396"/>
                  <a:pt x="10556" y="14518"/>
                  <a:pt x="10518" y="14610"/>
                </a:cubicBezTo>
                <a:cubicBezTo>
                  <a:pt x="10471" y="14723"/>
                  <a:pt x="10433" y="14839"/>
                  <a:pt x="10385" y="14952"/>
                </a:cubicBezTo>
                <a:cubicBezTo>
                  <a:pt x="10362" y="15006"/>
                  <a:pt x="10336" y="15056"/>
                  <a:pt x="10314" y="15109"/>
                </a:cubicBezTo>
                <a:cubicBezTo>
                  <a:pt x="10339" y="15018"/>
                  <a:pt x="10365" y="14927"/>
                  <a:pt x="10390" y="14836"/>
                </a:cubicBezTo>
                <a:cubicBezTo>
                  <a:pt x="10431" y="14684"/>
                  <a:pt x="10470" y="14538"/>
                  <a:pt x="10528" y="14392"/>
                </a:cubicBezTo>
                <a:cubicBezTo>
                  <a:pt x="10545" y="14349"/>
                  <a:pt x="10564" y="14309"/>
                  <a:pt x="10585" y="14268"/>
                </a:cubicBezTo>
                <a:cubicBezTo>
                  <a:pt x="10626" y="14295"/>
                  <a:pt x="10629" y="14303"/>
                  <a:pt x="10646" y="14365"/>
                </a:cubicBezTo>
                <a:cubicBezTo>
                  <a:pt x="10681" y="14494"/>
                  <a:pt x="10715" y="14621"/>
                  <a:pt x="10756" y="14748"/>
                </a:cubicBezTo>
                <a:cubicBezTo>
                  <a:pt x="10781" y="14826"/>
                  <a:pt x="10809" y="14904"/>
                  <a:pt x="10851" y="14975"/>
                </a:cubicBezTo>
                <a:cubicBezTo>
                  <a:pt x="10861" y="14992"/>
                  <a:pt x="10875" y="15002"/>
                  <a:pt x="10888" y="15016"/>
                </a:cubicBezTo>
                <a:cubicBezTo>
                  <a:pt x="10856" y="14992"/>
                  <a:pt x="10822" y="14974"/>
                  <a:pt x="10784" y="14956"/>
                </a:cubicBezTo>
                <a:cubicBezTo>
                  <a:pt x="10708" y="14920"/>
                  <a:pt x="10630" y="14897"/>
                  <a:pt x="10552" y="14868"/>
                </a:cubicBezTo>
                <a:cubicBezTo>
                  <a:pt x="10528" y="14859"/>
                  <a:pt x="10520" y="14856"/>
                  <a:pt x="10509" y="1484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427640" y="5135400"/>
            <a:ext cx="588960" cy="362160"/>
          </a:xfrm>
          <a:custGeom>
            <a:avLst/>
            <a:gdLst/>
            <a:ahLst/>
            <a:rect l="l" t="t" r="r" b="b"/>
            <a:pathLst>
              <a:path w="1634" h="1005">
                <a:moveTo>
                  <a:pt x="11611" y="14198"/>
                </a:moveTo>
                <a:cubicBezTo>
                  <a:pt x="11617" y="14176"/>
                  <a:pt x="11623" y="14148"/>
                  <a:pt x="11639" y="14129"/>
                </a:cubicBezTo>
                <a:cubicBezTo>
                  <a:pt x="11647" y="14122"/>
                  <a:pt x="11647" y="14119"/>
                  <a:pt x="11654" y="14120"/>
                </a:cubicBezTo>
                <a:cubicBezTo>
                  <a:pt x="11651" y="14170"/>
                  <a:pt x="11644" y="14219"/>
                  <a:pt x="11630" y="14268"/>
                </a:cubicBezTo>
                <a:cubicBezTo>
                  <a:pt x="11593" y="14394"/>
                  <a:pt x="11549" y="14519"/>
                  <a:pt x="11502" y="14642"/>
                </a:cubicBezTo>
                <a:cubicBezTo>
                  <a:pt x="11463" y="14745"/>
                  <a:pt x="11415" y="14842"/>
                  <a:pt x="11373" y="14943"/>
                </a:cubicBezTo>
                <a:cubicBezTo>
                  <a:pt x="11361" y="14971"/>
                  <a:pt x="11361" y="14981"/>
                  <a:pt x="11355" y="15008"/>
                </a:cubicBezTo>
                <a:cubicBezTo>
                  <a:pt x="11378" y="14948"/>
                  <a:pt x="11399" y="14885"/>
                  <a:pt x="11421" y="14823"/>
                </a:cubicBezTo>
                <a:cubicBezTo>
                  <a:pt x="11465" y="14703"/>
                  <a:pt x="11505" y="14580"/>
                  <a:pt x="11554" y="14462"/>
                </a:cubicBezTo>
                <a:cubicBezTo>
                  <a:pt x="11582" y="14394"/>
                  <a:pt x="11613" y="14328"/>
                  <a:pt x="11654" y="14268"/>
                </a:cubicBezTo>
                <a:cubicBezTo>
                  <a:pt x="11657" y="14263"/>
                  <a:pt x="11660" y="14259"/>
                  <a:pt x="11663" y="14254"/>
                </a:cubicBezTo>
                <a:cubicBezTo>
                  <a:pt x="11681" y="14309"/>
                  <a:pt x="11688" y="14359"/>
                  <a:pt x="11692" y="14420"/>
                </a:cubicBezTo>
                <a:cubicBezTo>
                  <a:pt x="11699" y="14534"/>
                  <a:pt x="11704" y="14655"/>
                  <a:pt x="11725" y="14767"/>
                </a:cubicBezTo>
                <a:cubicBezTo>
                  <a:pt x="11737" y="14832"/>
                  <a:pt x="11757" y="14896"/>
                  <a:pt x="11768" y="14962"/>
                </a:cubicBezTo>
                <a:cubicBezTo>
                  <a:pt x="11771" y="14977"/>
                  <a:pt x="11773" y="14980"/>
                  <a:pt x="11772" y="14989"/>
                </a:cubicBezTo>
                <a:cubicBezTo>
                  <a:pt x="11745" y="14964"/>
                  <a:pt x="11718" y="14941"/>
                  <a:pt x="11687" y="14920"/>
                </a:cubicBezTo>
                <a:cubicBezTo>
                  <a:pt x="11635" y="14886"/>
                  <a:pt x="11584" y="14854"/>
                  <a:pt x="11525" y="14832"/>
                </a:cubicBezTo>
                <a:cubicBezTo>
                  <a:pt x="11494" y="14824"/>
                  <a:pt x="11485" y="14822"/>
                  <a:pt x="11468" y="14809"/>
                </a:cubicBezTo>
              </a:path>
              <a:path w="1634" h="1005">
                <a:moveTo>
                  <a:pt x="12503" y="14147"/>
                </a:moveTo>
                <a:cubicBezTo>
                  <a:pt x="12464" y="14151"/>
                  <a:pt x="12431" y="14157"/>
                  <a:pt x="12394" y="14175"/>
                </a:cubicBezTo>
                <a:cubicBezTo>
                  <a:pt x="12321" y="14212"/>
                  <a:pt x="12253" y="14266"/>
                  <a:pt x="12195" y="14323"/>
                </a:cubicBezTo>
                <a:cubicBezTo>
                  <a:pt x="12104" y="14412"/>
                  <a:pt x="12046" y="14509"/>
                  <a:pt x="12014" y="14633"/>
                </a:cubicBezTo>
                <a:cubicBezTo>
                  <a:pt x="11983" y="14752"/>
                  <a:pt x="11987" y="14901"/>
                  <a:pt x="12086" y="14985"/>
                </a:cubicBezTo>
                <a:cubicBezTo>
                  <a:pt x="12143" y="15033"/>
                  <a:pt x="12196" y="15036"/>
                  <a:pt x="12266" y="15045"/>
                </a:cubicBezTo>
              </a:path>
              <a:path w="1634" h="1005">
                <a:moveTo>
                  <a:pt x="12988" y="14309"/>
                </a:moveTo>
                <a:cubicBezTo>
                  <a:pt x="12982" y="14303"/>
                  <a:pt x="12972" y="14282"/>
                  <a:pt x="12964" y="14277"/>
                </a:cubicBezTo>
                <a:cubicBezTo>
                  <a:pt x="12922" y="14251"/>
                  <a:pt x="12879" y="14267"/>
                  <a:pt x="12836" y="14282"/>
                </a:cubicBezTo>
                <a:cubicBezTo>
                  <a:pt x="12741" y="14316"/>
                  <a:pt x="12663" y="14376"/>
                  <a:pt x="12594" y="14448"/>
                </a:cubicBezTo>
                <a:cubicBezTo>
                  <a:pt x="12508" y="14538"/>
                  <a:pt x="12442" y="14652"/>
                  <a:pt x="12408" y="14772"/>
                </a:cubicBezTo>
                <a:cubicBezTo>
                  <a:pt x="12383" y="14862"/>
                  <a:pt x="12362" y="14962"/>
                  <a:pt x="12413" y="15045"/>
                </a:cubicBezTo>
                <a:cubicBezTo>
                  <a:pt x="12457" y="15117"/>
                  <a:pt x="12543" y="15113"/>
                  <a:pt x="12617" y="151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3871800" y="6066000"/>
            <a:ext cx="930240" cy="295200"/>
          </a:xfrm>
          <a:custGeom>
            <a:avLst/>
            <a:gdLst/>
            <a:ahLst/>
            <a:rect l="l" t="t" r="r" b="b"/>
            <a:pathLst>
              <a:path w="2583" h="820">
                <a:moveTo>
                  <a:pt x="11562" y="16740"/>
                </a:moveTo>
                <a:cubicBezTo>
                  <a:pt x="11552" y="16738"/>
                  <a:pt x="11544" y="16738"/>
                  <a:pt x="11534" y="16736"/>
                </a:cubicBezTo>
                <a:cubicBezTo>
                  <a:pt x="11516" y="16732"/>
                  <a:pt x="11501" y="16725"/>
                  <a:pt x="11482" y="16722"/>
                </a:cubicBezTo>
                <a:cubicBezTo>
                  <a:pt x="11454" y="16718"/>
                  <a:pt x="11425" y="16717"/>
                  <a:pt x="11396" y="16713"/>
                </a:cubicBezTo>
                <a:cubicBezTo>
                  <a:pt x="11354" y="16707"/>
                  <a:pt x="11316" y="16704"/>
                  <a:pt x="11273" y="16703"/>
                </a:cubicBezTo>
                <a:cubicBezTo>
                  <a:pt x="11053" y="16699"/>
                  <a:pt x="10822" y="16687"/>
                  <a:pt x="10604" y="16717"/>
                </a:cubicBezTo>
                <a:cubicBezTo>
                  <a:pt x="10532" y="16727"/>
                  <a:pt x="10462" y="16741"/>
                  <a:pt x="10390" y="16754"/>
                </a:cubicBezTo>
                <a:cubicBezTo>
                  <a:pt x="10316" y="16768"/>
                  <a:pt x="10245" y="16784"/>
                  <a:pt x="10172" y="16805"/>
                </a:cubicBezTo>
                <a:cubicBezTo>
                  <a:pt x="10056" y="16839"/>
                  <a:pt x="9936" y="16869"/>
                  <a:pt x="9854" y="16962"/>
                </a:cubicBezTo>
                <a:cubicBezTo>
                  <a:pt x="9770" y="17057"/>
                  <a:pt x="9828" y="17126"/>
                  <a:pt x="9911" y="17193"/>
                </a:cubicBezTo>
                <a:cubicBezTo>
                  <a:pt x="9988" y="17255"/>
                  <a:pt x="10074" y="17301"/>
                  <a:pt x="10162" y="17346"/>
                </a:cubicBezTo>
                <a:cubicBezTo>
                  <a:pt x="10249" y="17390"/>
                  <a:pt x="10345" y="17421"/>
                  <a:pt x="10438" y="17448"/>
                </a:cubicBezTo>
                <a:cubicBezTo>
                  <a:pt x="10587" y="17491"/>
                  <a:pt x="10743" y="17508"/>
                  <a:pt x="10898" y="17517"/>
                </a:cubicBezTo>
                <a:cubicBezTo>
                  <a:pt x="11072" y="17527"/>
                  <a:pt x="11251" y="17529"/>
                  <a:pt x="11425" y="17517"/>
                </a:cubicBezTo>
                <a:cubicBezTo>
                  <a:pt x="11545" y="17508"/>
                  <a:pt x="11664" y="17490"/>
                  <a:pt x="11781" y="17461"/>
                </a:cubicBezTo>
                <a:cubicBezTo>
                  <a:pt x="11923" y="17426"/>
                  <a:pt x="12082" y="17374"/>
                  <a:pt x="12203" y="17290"/>
                </a:cubicBezTo>
                <a:cubicBezTo>
                  <a:pt x="12257" y="17253"/>
                  <a:pt x="12326" y="17205"/>
                  <a:pt x="12360" y="17147"/>
                </a:cubicBezTo>
                <a:cubicBezTo>
                  <a:pt x="12406" y="17070"/>
                  <a:pt x="12406" y="16973"/>
                  <a:pt x="12355" y="16902"/>
                </a:cubicBezTo>
                <a:cubicBezTo>
                  <a:pt x="12304" y="16830"/>
                  <a:pt x="12222" y="16787"/>
                  <a:pt x="12141" y="16759"/>
                </a:cubicBezTo>
                <a:cubicBezTo>
                  <a:pt x="12038" y="16723"/>
                  <a:pt x="11926" y="16726"/>
                  <a:pt x="11819" y="16736"/>
                </a:cubicBezTo>
                <a:cubicBezTo>
                  <a:pt x="11803" y="16739"/>
                  <a:pt x="11787" y="16742"/>
                  <a:pt x="11771" y="1674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5064120" y="5232240"/>
            <a:ext cx="487440" cy="312840"/>
          </a:xfrm>
          <a:custGeom>
            <a:avLst/>
            <a:gdLst/>
            <a:ahLst/>
            <a:rect l="l" t="t" r="r" b="b"/>
            <a:pathLst>
              <a:path w="1353" h="870">
                <a:moveTo>
                  <a:pt x="13190" y="14434"/>
                </a:moveTo>
                <a:cubicBezTo>
                  <a:pt x="13190" y="14497"/>
                  <a:pt x="13184" y="14557"/>
                  <a:pt x="13180" y="14619"/>
                </a:cubicBezTo>
                <a:cubicBezTo>
                  <a:pt x="13176" y="14674"/>
                  <a:pt x="13169" y="14726"/>
                  <a:pt x="13161" y="14781"/>
                </a:cubicBezTo>
                <a:cubicBezTo>
                  <a:pt x="13153" y="14836"/>
                  <a:pt x="13149" y="14892"/>
                  <a:pt x="13142" y="14947"/>
                </a:cubicBezTo>
                <a:cubicBezTo>
                  <a:pt x="13138" y="14984"/>
                  <a:pt x="13129" y="15021"/>
                  <a:pt x="13128" y="15058"/>
                </a:cubicBezTo>
                <a:cubicBezTo>
                  <a:pt x="13128" y="15077"/>
                  <a:pt x="13124" y="15094"/>
                  <a:pt x="13124" y="15113"/>
                </a:cubicBezTo>
                <a:cubicBezTo>
                  <a:pt x="13124" y="15130"/>
                  <a:pt x="13124" y="15147"/>
                  <a:pt x="13124" y="15164"/>
                </a:cubicBezTo>
              </a:path>
              <a:path w="1353" h="870">
                <a:moveTo>
                  <a:pt x="13195" y="14434"/>
                </a:moveTo>
                <a:cubicBezTo>
                  <a:pt x="13199" y="14426"/>
                  <a:pt x="13209" y="14413"/>
                  <a:pt x="13218" y="14411"/>
                </a:cubicBezTo>
                <a:cubicBezTo>
                  <a:pt x="13237" y="14406"/>
                  <a:pt x="13265" y="14399"/>
                  <a:pt x="13285" y="14397"/>
                </a:cubicBezTo>
                <a:cubicBezTo>
                  <a:pt x="13307" y="14397"/>
                  <a:pt x="13314" y="14397"/>
                  <a:pt x="13328" y="14397"/>
                </a:cubicBezTo>
              </a:path>
              <a:path w="1353" h="870">
                <a:moveTo>
                  <a:pt x="13242" y="14753"/>
                </a:moveTo>
                <a:cubicBezTo>
                  <a:pt x="13268" y="14753"/>
                  <a:pt x="13292" y="14752"/>
                  <a:pt x="13318" y="14748"/>
                </a:cubicBezTo>
                <a:cubicBezTo>
                  <a:pt x="13348" y="14743"/>
                  <a:pt x="13378" y="14736"/>
                  <a:pt x="13408" y="14730"/>
                </a:cubicBezTo>
              </a:path>
              <a:path w="1353" h="870">
                <a:moveTo>
                  <a:pt x="13157" y="15257"/>
                </a:moveTo>
                <a:cubicBezTo>
                  <a:pt x="13173" y="15255"/>
                  <a:pt x="13184" y="15249"/>
                  <a:pt x="13199" y="15243"/>
                </a:cubicBezTo>
                <a:cubicBezTo>
                  <a:pt x="13236" y="15228"/>
                  <a:pt x="13271" y="15209"/>
                  <a:pt x="13309" y="15197"/>
                </a:cubicBezTo>
                <a:cubicBezTo>
                  <a:pt x="13340" y="15187"/>
                  <a:pt x="13372" y="15179"/>
                  <a:pt x="13403" y="15169"/>
                </a:cubicBezTo>
              </a:path>
              <a:path w="1353" h="870">
                <a:moveTo>
                  <a:pt x="13318" y="14439"/>
                </a:moveTo>
                <a:cubicBezTo>
                  <a:pt x="13328" y="14435"/>
                  <a:pt x="13351" y="14426"/>
                  <a:pt x="13361" y="14420"/>
                </a:cubicBezTo>
                <a:cubicBezTo>
                  <a:pt x="13381" y="14408"/>
                  <a:pt x="13403" y="14398"/>
                  <a:pt x="13427" y="14392"/>
                </a:cubicBezTo>
                <a:cubicBezTo>
                  <a:pt x="13447" y="14388"/>
                  <a:pt x="13455" y="14386"/>
                  <a:pt x="13470" y="14388"/>
                </a:cubicBezTo>
              </a:path>
              <a:path w="1353" h="870">
                <a:moveTo>
                  <a:pt x="13940" y="14517"/>
                </a:moveTo>
                <a:cubicBezTo>
                  <a:pt x="13938" y="14500"/>
                  <a:pt x="13944" y="14494"/>
                  <a:pt x="13930" y="14480"/>
                </a:cubicBezTo>
                <a:cubicBezTo>
                  <a:pt x="13908" y="14458"/>
                  <a:pt x="13887" y="14461"/>
                  <a:pt x="13859" y="14466"/>
                </a:cubicBezTo>
                <a:cubicBezTo>
                  <a:pt x="13806" y="14475"/>
                  <a:pt x="13779" y="14501"/>
                  <a:pt x="13745" y="14540"/>
                </a:cubicBezTo>
                <a:cubicBezTo>
                  <a:pt x="13691" y="14602"/>
                  <a:pt x="13669" y="14673"/>
                  <a:pt x="13693" y="14753"/>
                </a:cubicBezTo>
                <a:cubicBezTo>
                  <a:pt x="13709" y="14807"/>
                  <a:pt x="13740" y="14825"/>
                  <a:pt x="13774" y="14864"/>
                </a:cubicBezTo>
                <a:cubicBezTo>
                  <a:pt x="13803" y="14897"/>
                  <a:pt x="13825" y="14936"/>
                  <a:pt x="13845" y="14975"/>
                </a:cubicBezTo>
                <a:cubicBezTo>
                  <a:pt x="13866" y="15015"/>
                  <a:pt x="13869" y="15045"/>
                  <a:pt x="13869" y="15090"/>
                </a:cubicBezTo>
                <a:cubicBezTo>
                  <a:pt x="13869" y="15126"/>
                  <a:pt x="13868" y="15144"/>
                  <a:pt x="13845" y="15173"/>
                </a:cubicBezTo>
                <a:cubicBezTo>
                  <a:pt x="13822" y="15202"/>
                  <a:pt x="13774" y="15208"/>
                  <a:pt x="13740" y="15210"/>
                </a:cubicBezTo>
                <a:cubicBezTo>
                  <a:pt x="13683" y="15214"/>
                  <a:pt x="13621" y="15211"/>
                  <a:pt x="13565" y="15206"/>
                </a:cubicBezTo>
              </a:path>
              <a:path w="1353" h="870">
                <a:moveTo>
                  <a:pt x="14395" y="14457"/>
                </a:moveTo>
                <a:cubicBezTo>
                  <a:pt x="14364" y="14463"/>
                  <a:pt x="14329" y="14468"/>
                  <a:pt x="14300" y="14480"/>
                </a:cubicBezTo>
                <a:cubicBezTo>
                  <a:pt x="14280" y="14488"/>
                  <a:pt x="14213" y="14528"/>
                  <a:pt x="14205" y="14549"/>
                </a:cubicBezTo>
                <a:cubicBezTo>
                  <a:pt x="14195" y="14576"/>
                  <a:pt x="14222" y="14634"/>
                  <a:pt x="14234" y="14656"/>
                </a:cubicBezTo>
                <a:cubicBezTo>
                  <a:pt x="14264" y="14712"/>
                  <a:pt x="14298" y="14761"/>
                  <a:pt x="14334" y="14813"/>
                </a:cubicBezTo>
                <a:cubicBezTo>
                  <a:pt x="14366" y="14859"/>
                  <a:pt x="14392" y="14911"/>
                  <a:pt x="14419" y="14961"/>
                </a:cubicBezTo>
                <a:cubicBezTo>
                  <a:pt x="14441" y="15002"/>
                  <a:pt x="14460" y="15045"/>
                  <a:pt x="14471" y="15090"/>
                </a:cubicBezTo>
                <a:cubicBezTo>
                  <a:pt x="14478" y="15120"/>
                  <a:pt x="14480" y="15153"/>
                  <a:pt x="14457" y="15178"/>
                </a:cubicBezTo>
                <a:cubicBezTo>
                  <a:pt x="14432" y="15205"/>
                  <a:pt x="14393" y="15195"/>
                  <a:pt x="14362" y="15197"/>
                </a:cubicBezTo>
                <a:cubicBezTo>
                  <a:pt x="14325" y="15200"/>
                  <a:pt x="14312" y="15195"/>
                  <a:pt x="14277" y="151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848040" y="5915160"/>
            <a:ext cx="1185840" cy="942840"/>
          </a:xfrm>
          <a:custGeom>
            <a:avLst/>
            <a:gdLst/>
            <a:ahLst/>
            <a:rect l="l" t="t" r="r" b="b"/>
            <a:pathLst>
              <a:path w="3294" h="2618">
                <a:moveTo>
                  <a:pt x="9745" y="17189"/>
                </a:moveTo>
                <a:cubicBezTo>
                  <a:pt x="9748" y="17196"/>
                  <a:pt x="9755" y="17186"/>
                  <a:pt x="9759" y="17193"/>
                </a:cubicBezTo>
                <a:cubicBezTo>
                  <a:pt x="9796" y="17265"/>
                  <a:pt x="9807" y="17343"/>
                  <a:pt x="9811" y="17424"/>
                </a:cubicBezTo>
                <a:cubicBezTo>
                  <a:pt x="9818" y="17550"/>
                  <a:pt x="9806" y="17679"/>
                  <a:pt x="9792" y="17804"/>
                </a:cubicBezTo>
                <a:cubicBezTo>
                  <a:pt x="9781" y="17901"/>
                  <a:pt x="9761" y="17998"/>
                  <a:pt x="9754" y="18095"/>
                </a:cubicBezTo>
                <a:cubicBezTo>
                  <a:pt x="9748" y="18168"/>
                  <a:pt x="9706" y="18425"/>
                  <a:pt x="9754" y="18492"/>
                </a:cubicBezTo>
                <a:cubicBezTo>
                  <a:pt x="9760" y="18500"/>
                  <a:pt x="9759" y="18497"/>
                  <a:pt x="9769" y="18506"/>
                </a:cubicBezTo>
                <a:cubicBezTo>
                  <a:pt x="9792" y="18528"/>
                  <a:pt x="9876" y="18555"/>
                  <a:pt x="9906" y="18566"/>
                </a:cubicBezTo>
                <a:cubicBezTo>
                  <a:pt x="10001" y="18600"/>
                  <a:pt x="10098" y="18624"/>
                  <a:pt x="10191" y="18659"/>
                </a:cubicBezTo>
                <a:cubicBezTo>
                  <a:pt x="10342" y="18716"/>
                  <a:pt x="10488" y="18768"/>
                  <a:pt x="10646" y="18802"/>
                </a:cubicBezTo>
                <a:cubicBezTo>
                  <a:pt x="10772" y="18829"/>
                  <a:pt x="10903" y="18847"/>
                  <a:pt x="11031" y="18862"/>
                </a:cubicBezTo>
                <a:cubicBezTo>
                  <a:pt x="11160" y="18877"/>
                  <a:pt x="11290" y="18890"/>
                  <a:pt x="11420" y="18899"/>
                </a:cubicBezTo>
                <a:cubicBezTo>
                  <a:pt x="11535" y="18907"/>
                  <a:pt x="11651" y="18908"/>
                  <a:pt x="11766" y="18894"/>
                </a:cubicBezTo>
                <a:cubicBezTo>
                  <a:pt x="11885" y="18879"/>
                  <a:pt x="11997" y="18852"/>
                  <a:pt x="12113" y="18820"/>
                </a:cubicBezTo>
                <a:cubicBezTo>
                  <a:pt x="12290" y="18771"/>
                  <a:pt x="12465" y="18701"/>
                  <a:pt x="12630" y="18622"/>
                </a:cubicBezTo>
                <a:cubicBezTo>
                  <a:pt x="12720" y="18579"/>
                  <a:pt x="12807" y="18528"/>
                  <a:pt x="12891" y="18474"/>
                </a:cubicBezTo>
                <a:cubicBezTo>
                  <a:pt x="12941" y="18442"/>
                  <a:pt x="12989" y="18402"/>
                  <a:pt x="13033" y="18367"/>
                </a:cubicBezTo>
                <a:cubicBezTo>
                  <a:pt x="13035" y="18366"/>
                  <a:pt x="13036" y="18364"/>
                  <a:pt x="13038" y="18363"/>
                </a:cubicBezTo>
              </a:path>
              <a:path w="3294" h="2618">
                <a:moveTo>
                  <a:pt x="12559" y="17147"/>
                </a:moveTo>
                <a:cubicBezTo>
                  <a:pt x="12559" y="17142"/>
                  <a:pt x="12559" y="17138"/>
                  <a:pt x="12559" y="17133"/>
                </a:cubicBezTo>
                <a:cubicBezTo>
                  <a:pt x="12552" y="17149"/>
                  <a:pt x="12555" y="17139"/>
                  <a:pt x="12559" y="17156"/>
                </a:cubicBezTo>
                <a:cubicBezTo>
                  <a:pt x="12579" y="17232"/>
                  <a:pt x="12591" y="17311"/>
                  <a:pt x="12606" y="17388"/>
                </a:cubicBezTo>
                <a:cubicBezTo>
                  <a:pt x="12650" y="17607"/>
                  <a:pt x="12700" y="17827"/>
                  <a:pt x="12734" y="18048"/>
                </a:cubicBezTo>
                <a:cubicBezTo>
                  <a:pt x="12747" y="18131"/>
                  <a:pt x="12759" y="18215"/>
                  <a:pt x="12768" y="18298"/>
                </a:cubicBezTo>
                <a:cubicBezTo>
                  <a:pt x="12772" y="18334"/>
                  <a:pt x="12778" y="18361"/>
                  <a:pt x="12787" y="18395"/>
                </a:cubicBezTo>
              </a:path>
              <a:path w="3294" h="2618">
                <a:moveTo>
                  <a:pt x="11330" y="16292"/>
                </a:moveTo>
                <a:cubicBezTo>
                  <a:pt x="11335" y="16291"/>
                  <a:pt x="11337" y="16277"/>
                  <a:pt x="11339" y="16297"/>
                </a:cubicBezTo>
                <a:cubicBezTo>
                  <a:pt x="11343" y="16347"/>
                  <a:pt x="11340" y="16400"/>
                  <a:pt x="11335" y="16449"/>
                </a:cubicBezTo>
                <a:cubicBezTo>
                  <a:pt x="11330" y="16493"/>
                  <a:pt x="11326" y="16539"/>
                  <a:pt x="11330" y="16583"/>
                </a:cubicBezTo>
                <a:cubicBezTo>
                  <a:pt x="11335" y="16610"/>
                  <a:pt x="11336" y="16618"/>
                  <a:pt x="11344" y="16634"/>
                </a:cubicBezTo>
              </a:path>
              <a:path w="3294" h="2618">
                <a:moveTo>
                  <a:pt x="11202" y="16606"/>
                </a:moveTo>
                <a:cubicBezTo>
                  <a:pt x="11204" y="16616"/>
                  <a:pt x="11203" y="16616"/>
                  <a:pt x="11211" y="16625"/>
                </a:cubicBezTo>
                <a:cubicBezTo>
                  <a:pt x="11225" y="16640"/>
                  <a:pt x="11245" y="16640"/>
                  <a:pt x="11259" y="16653"/>
                </a:cubicBezTo>
                <a:cubicBezTo>
                  <a:pt x="11278" y="16671"/>
                  <a:pt x="11295" y="16691"/>
                  <a:pt x="11316" y="16708"/>
                </a:cubicBezTo>
                <a:cubicBezTo>
                  <a:pt x="11340" y="16728"/>
                  <a:pt x="11365" y="16750"/>
                  <a:pt x="11391" y="16768"/>
                </a:cubicBezTo>
                <a:cubicBezTo>
                  <a:pt x="11405" y="16777"/>
                  <a:pt x="11424" y="16790"/>
                  <a:pt x="11439" y="16796"/>
                </a:cubicBezTo>
                <a:cubicBezTo>
                  <a:pt x="11446" y="16799"/>
                  <a:pt x="11455" y="16800"/>
                  <a:pt x="11463" y="16800"/>
                </a:cubicBezTo>
                <a:cubicBezTo>
                  <a:pt x="11474" y="16800"/>
                  <a:pt x="11488" y="16796"/>
                  <a:pt x="11496" y="16787"/>
                </a:cubicBezTo>
                <a:cubicBezTo>
                  <a:pt x="11512" y="16770"/>
                  <a:pt x="11525" y="16750"/>
                  <a:pt x="11539" y="16731"/>
                </a:cubicBezTo>
                <a:cubicBezTo>
                  <a:pt x="11563" y="16698"/>
                  <a:pt x="11589" y="16662"/>
                  <a:pt x="11619" y="16634"/>
                </a:cubicBezTo>
                <a:cubicBezTo>
                  <a:pt x="11635" y="16622"/>
                  <a:pt x="11639" y="16620"/>
                  <a:pt x="11648" y="1661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3238560" y="4753080"/>
            <a:ext cx="2406600" cy="1154160"/>
          </a:xfrm>
          <a:custGeom>
            <a:avLst/>
            <a:gdLst/>
            <a:ahLst/>
            <a:rect l="l" t="t" r="r" b="b"/>
            <a:pathLst>
              <a:path w="6687" h="3208">
                <a:moveTo>
                  <a:pt x="8212" y="13057"/>
                </a:moveTo>
                <a:cubicBezTo>
                  <a:pt x="8279" y="13064"/>
                  <a:pt x="8346" y="13077"/>
                  <a:pt x="8416" y="13080"/>
                </a:cubicBezTo>
                <a:cubicBezTo>
                  <a:pt x="8923" y="13104"/>
                  <a:pt x="9432" y="13055"/>
                  <a:pt x="9935" y="13117"/>
                </a:cubicBezTo>
                <a:cubicBezTo>
                  <a:pt x="10145" y="13143"/>
                  <a:pt x="10355" y="13136"/>
                  <a:pt x="10566" y="13126"/>
                </a:cubicBezTo>
                <a:cubicBezTo>
                  <a:pt x="10792" y="13115"/>
                  <a:pt x="11012" y="13090"/>
                  <a:pt x="11240" y="13089"/>
                </a:cubicBezTo>
                <a:cubicBezTo>
                  <a:pt x="11485" y="13088"/>
                  <a:pt x="11731" y="13096"/>
                  <a:pt x="11975" y="13107"/>
                </a:cubicBezTo>
                <a:cubicBezTo>
                  <a:pt x="12500" y="13131"/>
                  <a:pt x="13025" y="13135"/>
                  <a:pt x="13551" y="13135"/>
                </a:cubicBezTo>
                <a:cubicBezTo>
                  <a:pt x="13741" y="13135"/>
                  <a:pt x="13930" y="13128"/>
                  <a:pt x="14120" y="13117"/>
                </a:cubicBezTo>
                <a:cubicBezTo>
                  <a:pt x="14250" y="13110"/>
                  <a:pt x="14395" y="13083"/>
                  <a:pt x="14519" y="13117"/>
                </a:cubicBezTo>
                <a:cubicBezTo>
                  <a:pt x="14543" y="13123"/>
                  <a:pt x="14613" y="13155"/>
                  <a:pt x="14628" y="13177"/>
                </a:cubicBezTo>
                <a:cubicBezTo>
                  <a:pt x="14646" y="13203"/>
                  <a:pt x="14635" y="13223"/>
                  <a:pt x="14647" y="13274"/>
                </a:cubicBezTo>
                <a:cubicBezTo>
                  <a:pt x="14694" y="13476"/>
                  <a:pt x="14666" y="13754"/>
                  <a:pt x="14670" y="13962"/>
                </a:cubicBezTo>
                <a:cubicBezTo>
                  <a:pt x="14673" y="14133"/>
                  <a:pt x="14689" y="14301"/>
                  <a:pt x="14694" y="14471"/>
                </a:cubicBezTo>
                <a:cubicBezTo>
                  <a:pt x="14704" y="14829"/>
                  <a:pt x="14866" y="15678"/>
                  <a:pt x="14737" y="15996"/>
                </a:cubicBezTo>
                <a:cubicBezTo>
                  <a:pt x="14718" y="16043"/>
                  <a:pt x="14749" y="16037"/>
                  <a:pt x="14708" y="16066"/>
                </a:cubicBezTo>
                <a:cubicBezTo>
                  <a:pt x="14645" y="16111"/>
                  <a:pt x="14351" y="16067"/>
                  <a:pt x="14281" y="16075"/>
                </a:cubicBezTo>
                <a:cubicBezTo>
                  <a:pt x="14075" y="16100"/>
                  <a:pt x="13870" y="16142"/>
                  <a:pt x="13669" y="16190"/>
                </a:cubicBezTo>
                <a:cubicBezTo>
                  <a:pt x="13272" y="16284"/>
                  <a:pt x="12861" y="16276"/>
                  <a:pt x="12454" y="16255"/>
                </a:cubicBezTo>
                <a:cubicBezTo>
                  <a:pt x="12190" y="16242"/>
                  <a:pt x="11927" y="16228"/>
                  <a:pt x="11662" y="16227"/>
                </a:cubicBezTo>
                <a:cubicBezTo>
                  <a:pt x="11245" y="16225"/>
                  <a:pt x="10835" y="16219"/>
                  <a:pt x="10419" y="16177"/>
                </a:cubicBezTo>
                <a:cubicBezTo>
                  <a:pt x="10274" y="16162"/>
                  <a:pt x="10127" y="16147"/>
                  <a:pt x="9982" y="16130"/>
                </a:cubicBezTo>
                <a:cubicBezTo>
                  <a:pt x="9337" y="16054"/>
                  <a:pt x="8695" y="16063"/>
                  <a:pt x="8051" y="1604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614920" y="1725480"/>
            <a:ext cx="1114560" cy="3605400"/>
          </a:xfrm>
          <a:custGeom>
            <a:avLst/>
            <a:gdLst/>
            <a:ahLst/>
            <a:rect l="l" t="t" r="r" b="b"/>
            <a:pathLst>
              <a:path w="3095" h="10017">
                <a:moveTo>
                  <a:pt x="18690" y="9830"/>
                </a:moveTo>
                <a:cubicBezTo>
                  <a:pt x="18682" y="9828"/>
                  <a:pt x="18674" y="9828"/>
                  <a:pt x="18666" y="9826"/>
                </a:cubicBezTo>
                <a:cubicBezTo>
                  <a:pt x="18650" y="9823"/>
                  <a:pt x="18638" y="9816"/>
                  <a:pt x="18623" y="9812"/>
                </a:cubicBezTo>
                <a:cubicBezTo>
                  <a:pt x="18610" y="9808"/>
                  <a:pt x="18588" y="9800"/>
                  <a:pt x="18576" y="9798"/>
                </a:cubicBezTo>
                <a:cubicBezTo>
                  <a:pt x="18492" y="9785"/>
                  <a:pt x="18400" y="9800"/>
                  <a:pt x="18315" y="9793"/>
                </a:cubicBezTo>
                <a:cubicBezTo>
                  <a:pt x="18286" y="9791"/>
                  <a:pt x="18257" y="9786"/>
                  <a:pt x="18229" y="9784"/>
                </a:cubicBezTo>
                <a:cubicBezTo>
                  <a:pt x="18200" y="9782"/>
                  <a:pt x="18174" y="9772"/>
                  <a:pt x="18144" y="9770"/>
                </a:cubicBezTo>
                <a:cubicBezTo>
                  <a:pt x="18072" y="9765"/>
                  <a:pt x="17997" y="9770"/>
                  <a:pt x="17926" y="9775"/>
                </a:cubicBezTo>
                <a:cubicBezTo>
                  <a:pt x="17896" y="9777"/>
                  <a:pt x="17866" y="9779"/>
                  <a:pt x="17836" y="9779"/>
                </a:cubicBezTo>
                <a:cubicBezTo>
                  <a:pt x="17789" y="9779"/>
                  <a:pt x="17739" y="9774"/>
                  <a:pt x="17693" y="9784"/>
                </a:cubicBezTo>
                <a:cubicBezTo>
                  <a:pt x="17677" y="9787"/>
                  <a:pt x="17650" y="9791"/>
                  <a:pt x="17636" y="9798"/>
                </a:cubicBezTo>
                <a:cubicBezTo>
                  <a:pt x="17623" y="9804"/>
                  <a:pt x="17614" y="9806"/>
                  <a:pt x="17603" y="9812"/>
                </a:cubicBezTo>
                <a:cubicBezTo>
                  <a:pt x="17601" y="9813"/>
                  <a:pt x="17600" y="9815"/>
                  <a:pt x="17598" y="9816"/>
                </a:cubicBezTo>
                <a:cubicBezTo>
                  <a:pt x="17617" y="9816"/>
                  <a:pt x="17636" y="9816"/>
                  <a:pt x="17655" y="9816"/>
                </a:cubicBezTo>
              </a:path>
              <a:path w="3095" h="10017">
                <a:moveTo>
                  <a:pt x="17546" y="9835"/>
                </a:moveTo>
                <a:cubicBezTo>
                  <a:pt x="17556" y="9832"/>
                  <a:pt x="17559" y="9837"/>
                  <a:pt x="17565" y="9830"/>
                </a:cubicBezTo>
                <a:cubicBezTo>
                  <a:pt x="17592" y="9801"/>
                  <a:pt x="17609" y="9752"/>
                  <a:pt x="17617" y="9715"/>
                </a:cubicBezTo>
                <a:cubicBezTo>
                  <a:pt x="17621" y="9697"/>
                  <a:pt x="17622" y="9683"/>
                  <a:pt x="17622" y="9664"/>
                </a:cubicBezTo>
                <a:cubicBezTo>
                  <a:pt x="17623" y="9643"/>
                  <a:pt x="17622" y="9624"/>
                  <a:pt x="17617" y="9604"/>
                </a:cubicBezTo>
                <a:cubicBezTo>
                  <a:pt x="17612" y="9584"/>
                  <a:pt x="17606" y="9565"/>
                  <a:pt x="17594" y="9548"/>
                </a:cubicBezTo>
                <a:cubicBezTo>
                  <a:pt x="17581" y="9530"/>
                  <a:pt x="17565" y="9522"/>
                  <a:pt x="17551" y="9507"/>
                </a:cubicBezTo>
                <a:cubicBezTo>
                  <a:pt x="17533" y="9488"/>
                  <a:pt x="17526" y="9475"/>
                  <a:pt x="17503" y="9460"/>
                </a:cubicBezTo>
                <a:cubicBezTo>
                  <a:pt x="17490" y="9451"/>
                  <a:pt x="17467" y="9440"/>
                  <a:pt x="17451" y="9437"/>
                </a:cubicBezTo>
                <a:cubicBezTo>
                  <a:pt x="17413" y="9431"/>
                  <a:pt x="17360" y="9434"/>
                  <a:pt x="17323" y="9442"/>
                </a:cubicBezTo>
                <a:cubicBezTo>
                  <a:pt x="17307" y="9445"/>
                  <a:pt x="17292" y="9453"/>
                  <a:pt x="17280" y="9465"/>
                </a:cubicBezTo>
                <a:cubicBezTo>
                  <a:pt x="17266" y="9479"/>
                  <a:pt x="17253" y="9498"/>
                  <a:pt x="17238" y="9511"/>
                </a:cubicBezTo>
                <a:cubicBezTo>
                  <a:pt x="17218" y="9528"/>
                  <a:pt x="17213" y="9541"/>
                  <a:pt x="17200" y="9562"/>
                </a:cubicBezTo>
                <a:cubicBezTo>
                  <a:pt x="17190" y="9579"/>
                  <a:pt x="17175" y="9590"/>
                  <a:pt x="17167" y="9608"/>
                </a:cubicBezTo>
                <a:cubicBezTo>
                  <a:pt x="17160" y="9624"/>
                  <a:pt x="17150" y="9656"/>
                  <a:pt x="17148" y="9673"/>
                </a:cubicBezTo>
                <a:cubicBezTo>
                  <a:pt x="17143" y="9716"/>
                  <a:pt x="17129" y="9839"/>
                  <a:pt x="17152" y="9876"/>
                </a:cubicBezTo>
                <a:cubicBezTo>
                  <a:pt x="17166" y="9899"/>
                  <a:pt x="17194" y="9928"/>
                  <a:pt x="17214" y="9946"/>
                </a:cubicBezTo>
                <a:cubicBezTo>
                  <a:pt x="17236" y="9966"/>
                  <a:pt x="17268" y="9985"/>
                  <a:pt x="17295" y="9997"/>
                </a:cubicBezTo>
                <a:cubicBezTo>
                  <a:pt x="17310" y="10004"/>
                  <a:pt x="17321" y="10005"/>
                  <a:pt x="17337" y="10006"/>
                </a:cubicBezTo>
                <a:cubicBezTo>
                  <a:pt x="17372" y="10008"/>
                  <a:pt x="17418" y="10013"/>
                  <a:pt x="17451" y="10001"/>
                </a:cubicBezTo>
                <a:cubicBezTo>
                  <a:pt x="17475" y="9992"/>
                  <a:pt x="17487" y="9977"/>
                  <a:pt x="17508" y="9964"/>
                </a:cubicBezTo>
                <a:cubicBezTo>
                  <a:pt x="17531" y="9950"/>
                  <a:pt x="17545" y="9932"/>
                  <a:pt x="17565" y="9913"/>
                </a:cubicBezTo>
                <a:cubicBezTo>
                  <a:pt x="17584" y="9894"/>
                  <a:pt x="17594" y="9869"/>
                  <a:pt x="17603" y="9844"/>
                </a:cubicBezTo>
                <a:cubicBezTo>
                  <a:pt x="17611" y="9822"/>
                  <a:pt x="17613" y="9801"/>
                  <a:pt x="17617" y="9779"/>
                </a:cubicBezTo>
              </a:path>
              <a:path w="3095" h="10017">
                <a:moveTo>
                  <a:pt x="15714" y="9803"/>
                </a:moveTo>
                <a:cubicBezTo>
                  <a:pt x="15674" y="9803"/>
                  <a:pt x="15636" y="9803"/>
                  <a:pt x="15601" y="9812"/>
                </a:cubicBezTo>
                <a:cubicBezTo>
                  <a:pt x="15599" y="9812"/>
                  <a:pt x="15598" y="9812"/>
                  <a:pt x="15596" y="9812"/>
                </a:cubicBezTo>
                <a:cubicBezTo>
                  <a:pt x="15606" y="9814"/>
                  <a:pt x="15626" y="9820"/>
                  <a:pt x="15643" y="9821"/>
                </a:cubicBezTo>
                <a:cubicBezTo>
                  <a:pt x="15687" y="9822"/>
                  <a:pt x="15728" y="9821"/>
                  <a:pt x="15771" y="9812"/>
                </a:cubicBezTo>
                <a:cubicBezTo>
                  <a:pt x="15824" y="9800"/>
                  <a:pt x="15877" y="9787"/>
                  <a:pt x="15928" y="9770"/>
                </a:cubicBezTo>
                <a:cubicBezTo>
                  <a:pt x="15991" y="9749"/>
                  <a:pt x="16042" y="9742"/>
                  <a:pt x="16108" y="9742"/>
                </a:cubicBezTo>
                <a:cubicBezTo>
                  <a:pt x="16250" y="9742"/>
                  <a:pt x="16393" y="9740"/>
                  <a:pt x="16535" y="9747"/>
                </a:cubicBezTo>
                <a:cubicBezTo>
                  <a:pt x="16576" y="9749"/>
                  <a:pt x="16618" y="9751"/>
                  <a:pt x="16659" y="9752"/>
                </a:cubicBezTo>
                <a:cubicBezTo>
                  <a:pt x="16699" y="9753"/>
                  <a:pt x="16733" y="9752"/>
                  <a:pt x="16768" y="9742"/>
                </a:cubicBezTo>
                <a:cubicBezTo>
                  <a:pt x="16782" y="9738"/>
                  <a:pt x="16797" y="9737"/>
                  <a:pt x="16811" y="9733"/>
                </a:cubicBezTo>
              </a:path>
              <a:path w="3095" h="10017">
                <a:moveTo>
                  <a:pt x="16806" y="9562"/>
                </a:moveTo>
                <a:cubicBezTo>
                  <a:pt x="16805" y="9574"/>
                  <a:pt x="16797" y="9568"/>
                  <a:pt x="16806" y="9581"/>
                </a:cubicBezTo>
                <a:cubicBezTo>
                  <a:pt x="16814" y="9592"/>
                  <a:pt x="16824" y="9603"/>
                  <a:pt x="16834" y="9613"/>
                </a:cubicBezTo>
                <a:cubicBezTo>
                  <a:pt x="16855" y="9633"/>
                  <a:pt x="16882" y="9647"/>
                  <a:pt x="16906" y="9664"/>
                </a:cubicBezTo>
                <a:cubicBezTo>
                  <a:pt x="16937" y="9687"/>
                  <a:pt x="16965" y="9711"/>
                  <a:pt x="17000" y="9729"/>
                </a:cubicBezTo>
                <a:cubicBezTo>
                  <a:pt x="17030" y="9744"/>
                  <a:pt x="17058" y="9759"/>
                  <a:pt x="17086" y="9779"/>
                </a:cubicBezTo>
                <a:cubicBezTo>
                  <a:pt x="17106" y="9793"/>
                  <a:pt x="17112" y="9803"/>
                  <a:pt x="17114" y="9826"/>
                </a:cubicBezTo>
                <a:cubicBezTo>
                  <a:pt x="17117" y="9858"/>
                  <a:pt x="17096" y="9883"/>
                  <a:pt x="17076" y="9904"/>
                </a:cubicBezTo>
                <a:cubicBezTo>
                  <a:pt x="17043" y="9939"/>
                  <a:pt x="17010" y="9971"/>
                  <a:pt x="16972" y="10001"/>
                </a:cubicBezTo>
                <a:cubicBezTo>
                  <a:pt x="16951" y="10018"/>
                  <a:pt x="16935" y="10038"/>
                  <a:pt x="16915" y="10057"/>
                </a:cubicBezTo>
              </a:path>
              <a:path w="3095" h="10017">
                <a:moveTo>
                  <a:pt x="15828" y="4792"/>
                </a:moveTo>
                <a:cubicBezTo>
                  <a:pt x="15839" y="4797"/>
                  <a:pt x="15839" y="4824"/>
                  <a:pt x="15871" y="4834"/>
                </a:cubicBezTo>
                <a:cubicBezTo>
                  <a:pt x="15904" y="4845"/>
                  <a:pt x="15945" y="4846"/>
                  <a:pt x="15980" y="4852"/>
                </a:cubicBezTo>
                <a:cubicBezTo>
                  <a:pt x="16117" y="4874"/>
                  <a:pt x="16264" y="4885"/>
                  <a:pt x="16403" y="4889"/>
                </a:cubicBezTo>
                <a:cubicBezTo>
                  <a:pt x="16563" y="4893"/>
                  <a:pt x="16733" y="4870"/>
                  <a:pt x="16891" y="4894"/>
                </a:cubicBezTo>
                <a:cubicBezTo>
                  <a:pt x="16931" y="4900"/>
                  <a:pt x="16971" y="4912"/>
                  <a:pt x="17010" y="4922"/>
                </a:cubicBezTo>
                <a:cubicBezTo>
                  <a:pt x="17034" y="4928"/>
                  <a:pt x="17074" y="4937"/>
                  <a:pt x="17095" y="4949"/>
                </a:cubicBezTo>
                <a:cubicBezTo>
                  <a:pt x="17129" y="4968"/>
                  <a:pt x="17142" y="4994"/>
                  <a:pt x="17167" y="5019"/>
                </a:cubicBezTo>
                <a:cubicBezTo>
                  <a:pt x="17192" y="5044"/>
                  <a:pt x="17228" y="5071"/>
                  <a:pt x="17242" y="5102"/>
                </a:cubicBezTo>
                <a:cubicBezTo>
                  <a:pt x="17247" y="5114"/>
                  <a:pt x="17248" y="5129"/>
                  <a:pt x="17252" y="5143"/>
                </a:cubicBezTo>
                <a:cubicBezTo>
                  <a:pt x="17262" y="5177"/>
                  <a:pt x="17260" y="5219"/>
                  <a:pt x="17266" y="5254"/>
                </a:cubicBezTo>
                <a:cubicBezTo>
                  <a:pt x="17278" y="5325"/>
                  <a:pt x="17285" y="5400"/>
                  <a:pt x="17290" y="5472"/>
                </a:cubicBezTo>
                <a:cubicBezTo>
                  <a:pt x="17296" y="5559"/>
                  <a:pt x="17296" y="5648"/>
                  <a:pt x="17299" y="5735"/>
                </a:cubicBezTo>
                <a:cubicBezTo>
                  <a:pt x="17303" y="5851"/>
                  <a:pt x="17305" y="5966"/>
                  <a:pt x="17309" y="6082"/>
                </a:cubicBezTo>
                <a:cubicBezTo>
                  <a:pt x="17318" y="6365"/>
                  <a:pt x="17316" y="6649"/>
                  <a:pt x="17314" y="6932"/>
                </a:cubicBezTo>
                <a:cubicBezTo>
                  <a:pt x="17313" y="7131"/>
                  <a:pt x="17304" y="7329"/>
                  <a:pt x="17304" y="7528"/>
                </a:cubicBezTo>
                <a:cubicBezTo>
                  <a:pt x="17304" y="7752"/>
                  <a:pt x="17286" y="7976"/>
                  <a:pt x="17290" y="8199"/>
                </a:cubicBezTo>
                <a:cubicBezTo>
                  <a:pt x="17293" y="8397"/>
                  <a:pt x="17315" y="8604"/>
                  <a:pt x="17337" y="8800"/>
                </a:cubicBezTo>
                <a:cubicBezTo>
                  <a:pt x="17341" y="8839"/>
                  <a:pt x="17352" y="8879"/>
                  <a:pt x="17356" y="8920"/>
                </a:cubicBezTo>
                <a:cubicBezTo>
                  <a:pt x="17364" y="9010"/>
                  <a:pt x="17364" y="9104"/>
                  <a:pt x="17371" y="9192"/>
                </a:cubicBezTo>
              </a:path>
              <a:path w="3095" h="10017">
                <a:moveTo>
                  <a:pt x="17167" y="8850"/>
                </a:moveTo>
                <a:cubicBezTo>
                  <a:pt x="17180" y="8871"/>
                  <a:pt x="17182" y="8876"/>
                  <a:pt x="17190" y="8901"/>
                </a:cubicBezTo>
                <a:cubicBezTo>
                  <a:pt x="17225" y="9007"/>
                  <a:pt x="17242" y="9118"/>
                  <a:pt x="17271" y="9225"/>
                </a:cubicBezTo>
                <a:cubicBezTo>
                  <a:pt x="17283" y="9272"/>
                  <a:pt x="17301" y="9305"/>
                  <a:pt x="17328" y="9345"/>
                </a:cubicBezTo>
                <a:cubicBezTo>
                  <a:pt x="17337" y="9359"/>
                  <a:pt x="17340" y="9364"/>
                  <a:pt x="17352" y="9368"/>
                </a:cubicBezTo>
                <a:cubicBezTo>
                  <a:pt x="17382" y="9353"/>
                  <a:pt x="17383" y="9349"/>
                  <a:pt x="17399" y="9313"/>
                </a:cubicBezTo>
                <a:cubicBezTo>
                  <a:pt x="17428" y="9249"/>
                  <a:pt x="17449" y="9176"/>
                  <a:pt x="17470" y="9109"/>
                </a:cubicBezTo>
                <a:cubicBezTo>
                  <a:pt x="17496" y="9025"/>
                  <a:pt x="17511" y="8938"/>
                  <a:pt x="17537" y="8855"/>
                </a:cubicBezTo>
                <a:cubicBezTo>
                  <a:pt x="17546" y="8826"/>
                  <a:pt x="17556" y="8798"/>
                  <a:pt x="17570" y="8772"/>
                </a:cubicBezTo>
              </a:path>
              <a:path w="3095" h="10017">
                <a:moveTo>
                  <a:pt x="15885" y="14790"/>
                </a:moveTo>
                <a:cubicBezTo>
                  <a:pt x="15927" y="14785"/>
                  <a:pt x="15964" y="14769"/>
                  <a:pt x="16013" y="14771"/>
                </a:cubicBezTo>
                <a:cubicBezTo>
                  <a:pt x="16197" y="14778"/>
                  <a:pt x="16368" y="14805"/>
                  <a:pt x="16554" y="14799"/>
                </a:cubicBezTo>
                <a:cubicBezTo>
                  <a:pt x="16719" y="14794"/>
                  <a:pt x="16883" y="14798"/>
                  <a:pt x="17048" y="14785"/>
                </a:cubicBezTo>
                <a:cubicBezTo>
                  <a:pt x="17102" y="14781"/>
                  <a:pt x="17156" y="14773"/>
                  <a:pt x="17209" y="14757"/>
                </a:cubicBezTo>
                <a:cubicBezTo>
                  <a:pt x="17226" y="14752"/>
                  <a:pt x="17252" y="14753"/>
                  <a:pt x="17266" y="14744"/>
                </a:cubicBezTo>
                <a:cubicBezTo>
                  <a:pt x="17310" y="14716"/>
                  <a:pt x="17313" y="14678"/>
                  <a:pt x="17323" y="14633"/>
                </a:cubicBezTo>
                <a:cubicBezTo>
                  <a:pt x="17352" y="14501"/>
                  <a:pt x="17317" y="14327"/>
                  <a:pt x="17309" y="14194"/>
                </a:cubicBezTo>
                <a:cubicBezTo>
                  <a:pt x="17292" y="13910"/>
                  <a:pt x="17290" y="13628"/>
                  <a:pt x="17290" y="13343"/>
                </a:cubicBezTo>
                <a:cubicBezTo>
                  <a:pt x="17290" y="13071"/>
                  <a:pt x="17304" y="12805"/>
                  <a:pt x="17314" y="12534"/>
                </a:cubicBezTo>
                <a:cubicBezTo>
                  <a:pt x="17335" y="11988"/>
                  <a:pt x="17287" y="11438"/>
                  <a:pt x="17328" y="10893"/>
                </a:cubicBezTo>
                <a:cubicBezTo>
                  <a:pt x="17342" y="10707"/>
                  <a:pt x="17342" y="10479"/>
                  <a:pt x="17342" y="10311"/>
                </a:cubicBezTo>
                <a:cubicBezTo>
                  <a:pt x="17342" y="10297"/>
                  <a:pt x="17342" y="10367"/>
                  <a:pt x="17342" y="10353"/>
                </a:cubicBezTo>
              </a:path>
              <a:path w="3095" h="10017">
                <a:moveTo>
                  <a:pt x="17337" y="10251"/>
                </a:moveTo>
                <a:cubicBezTo>
                  <a:pt x="17339" y="10244"/>
                  <a:pt x="17339" y="10235"/>
                  <a:pt x="17342" y="10228"/>
                </a:cubicBezTo>
                <a:cubicBezTo>
                  <a:pt x="17342" y="10222"/>
                  <a:pt x="17342" y="10221"/>
                  <a:pt x="17342" y="10232"/>
                </a:cubicBezTo>
                <a:cubicBezTo>
                  <a:pt x="17340" y="10274"/>
                  <a:pt x="17332" y="10307"/>
                  <a:pt x="17323" y="10348"/>
                </a:cubicBezTo>
                <a:cubicBezTo>
                  <a:pt x="17308" y="10414"/>
                  <a:pt x="17291" y="10479"/>
                  <a:pt x="17266" y="10542"/>
                </a:cubicBezTo>
                <a:cubicBezTo>
                  <a:pt x="17240" y="10608"/>
                  <a:pt x="17221" y="10672"/>
                  <a:pt x="17190" y="10736"/>
                </a:cubicBezTo>
                <a:cubicBezTo>
                  <a:pt x="17178" y="10761"/>
                  <a:pt x="17166" y="10787"/>
                  <a:pt x="17152" y="10810"/>
                </a:cubicBezTo>
                <a:cubicBezTo>
                  <a:pt x="17157" y="10785"/>
                  <a:pt x="17164" y="10761"/>
                  <a:pt x="17171" y="10736"/>
                </a:cubicBezTo>
                <a:cubicBezTo>
                  <a:pt x="17192" y="10659"/>
                  <a:pt x="17208" y="10581"/>
                  <a:pt x="17233" y="10505"/>
                </a:cubicBezTo>
                <a:cubicBezTo>
                  <a:pt x="17254" y="10441"/>
                  <a:pt x="17274" y="10374"/>
                  <a:pt x="17299" y="10311"/>
                </a:cubicBezTo>
                <a:cubicBezTo>
                  <a:pt x="17308" y="10288"/>
                  <a:pt x="17319" y="10229"/>
                  <a:pt x="17342" y="10214"/>
                </a:cubicBezTo>
                <a:cubicBezTo>
                  <a:pt x="17351" y="10209"/>
                  <a:pt x="17354" y="10208"/>
                  <a:pt x="17361" y="10209"/>
                </a:cubicBezTo>
                <a:cubicBezTo>
                  <a:pt x="17373" y="10229"/>
                  <a:pt x="17387" y="10249"/>
                  <a:pt x="17394" y="10274"/>
                </a:cubicBezTo>
                <a:cubicBezTo>
                  <a:pt x="17407" y="10321"/>
                  <a:pt x="17414" y="10379"/>
                  <a:pt x="17418" y="10427"/>
                </a:cubicBezTo>
                <a:cubicBezTo>
                  <a:pt x="17423" y="10493"/>
                  <a:pt x="17433" y="10559"/>
                  <a:pt x="17446" y="10625"/>
                </a:cubicBezTo>
                <a:cubicBezTo>
                  <a:pt x="17456" y="10678"/>
                  <a:pt x="17471" y="10733"/>
                  <a:pt x="17494" y="10782"/>
                </a:cubicBezTo>
                <a:cubicBezTo>
                  <a:pt x="17510" y="10816"/>
                  <a:pt x="17534" y="10842"/>
                  <a:pt x="17551" y="1087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2035080" y="3335400"/>
            <a:ext cx="1117800" cy="1938240"/>
          </a:xfrm>
          <a:custGeom>
            <a:avLst/>
            <a:gdLst/>
            <a:ahLst/>
            <a:rect l="l" t="t" r="r" b="b"/>
            <a:pathLst>
              <a:path w="3105" h="5382">
                <a:moveTo>
                  <a:pt x="5658" y="10048"/>
                </a:moveTo>
                <a:cubicBezTo>
                  <a:pt x="5656" y="10056"/>
                  <a:pt x="5655" y="10063"/>
                  <a:pt x="5653" y="10071"/>
                </a:cubicBezTo>
                <a:cubicBezTo>
                  <a:pt x="5669" y="10072"/>
                  <a:pt x="5681" y="10073"/>
                  <a:pt x="5696" y="10076"/>
                </a:cubicBezTo>
                <a:cubicBezTo>
                  <a:pt x="5710" y="10079"/>
                  <a:pt x="5725" y="10082"/>
                  <a:pt x="5739" y="10085"/>
                </a:cubicBezTo>
                <a:cubicBezTo>
                  <a:pt x="5757" y="10088"/>
                  <a:pt x="5778" y="10093"/>
                  <a:pt x="5796" y="10094"/>
                </a:cubicBezTo>
                <a:cubicBezTo>
                  <a:pt x="5818" y="10096"/>
                  <a:pt x="5841" y="10097"/>
                  <a:pt x="5862" y="10103"/>
                </a:cubicBezTo>
                <a:cubicBezTo>
                  <a:pt x="5880" y="10108"/>
                  <a:pt x="5897" y="10116"/>
                  <a:pt x="5914" y="10122"/>
                </a:cubicBezTo>
                <a:cubicBezTo>
                  <a:pt x="5938" y="10130"/>
                  <a:pt x="5957" y="10145"/>
                  <a:pt x="5981" y="10150"/>
                </a:cubicBezTo>
                <a:cubicBezTo>
                  <a:pt x="6037" y="10161"/>
                  <a:pt x="6105" y="10148"/>
                  <a:pt x="6161" y="10145"/>
                </a:cubicBezTo>
                <a:cubicBezTo>
                  <a:pt x="6278" y="10138"/>
                  <a:pt x="6444" y="10121"/>
                  <a:pt x="6560" y="10150"/>
                </a:cubicBezTo>
              </a:path>
              <a:path w="3105" h="5382">
                <a:moveTo>
                  <a:pt x="6920" y="9854"/>
                </a:moveTo>
                <a:cubicBezTo>
                  <a:pt x="6903" y="9858"/>
                  <a:pt x="6889" y="9858"/>
                  <a:pt x="6873" y="9868"/>
                </a:cubicBezTo>
                <a:cubicBezTo>
                  <a:pt x="6850" y="9882"/>
                  <a:pt x="6837" y="9892"/>
                  <a:pt x="6811" y="9900"/>
                </a:cubicBezTo>
                <a:cubicBezTo>
                  <a:pt x="6787" y="9907"/>
                  <a:pt x="6762" y="9910"/>
                  <a:pt x="6740" y="9923"/>
                </a:cubicBezTo>
                <a:cubicBezTo>
                  <a:pt x="6709" y="9941"/>
                  <a:pt x="6683" y="9965"/>
                  <a:pt x="6655" y="9988"/>
                </a:cubicBezTo>
                <a:cubicBezTo>
                  <a:pt x="6627" y="10011"/>
                  <a:pt x="6607" y="10040"/>
                  <a:pt x="6583" y="10067"/>
                </a:cubicBezTo>
                <a:cubicBezTo>
                  <a:pt x="6559" y="10093"/>
                  <a:pt x="6544" y="10123"/>
                  <a:pt x="6527" y="10154"/>
                </a:cubicBezTo>
                <a:cubicBezTo>
                  <a:pt x="6514" y="10177"/>
                  <a:pt x="6503" y="10207"/>
                  <a:pt x="6498" y="10233"/>
                </a:cubicBezTo>
                <a:cubicBezTo>
                  <a:pt x="6493" y="10260"/>
                  <a:pt x="6490" y="10288"/>
                  <a:pt x="6493" y="10316"/>
                </a:cubicBezTo>
                <a:cubicBezTo>
                  <a:pt x="6496" y="10343"/>
                  <a:pt x="6507" y="10370"/>
                  <a:pt x="6517" y="10395"/>
                </a:cubicBezTo>
                <a:cubicBezTo>
                  <a:pt x="6535" y="10437"/>
                  <a:pt x="6555" y="10462"/>
                  <a:pt x="6593" y="10487"/>
                </a:cubicBezTo>
                <a:cubicBezTo>
                  <a:pt x="6621" y="10505"/>
                  <a:pt x="6652" y="10510"/>
                  <a:pt x="6683" y="10520"/>
                </a:cubicBezTo>
                <a:cubicBezTo>
                  <a:pt x="6715" y="10530"/>
                  <a:pt x="6744" y="10529"/>
                  <a:pt x="6778" y="10529"/>
                </a:cubicBezTo>
                <a:cubicBezTo>
                  <a:pt x="6804" y="10529"/>
                  <a:pt x="6828" y="10527"/>
                  <a:pt x="6854" y="10524"/>
                </a:cubicBezTo>
                <a:cubicBezTo>
                  <a:pt x="6896" y="10520"/>
                  <a:pt x="6939" y="10507"/>
                  <a:pt x="6973" y="10478"/>
                </a:cubicBezTo>
                <a:cubicBezTo>
                  <a:pt x="6996" y="10458"/>
                  <a:pt x="7021" y="10445"/>
                  <a:pt x="7044" y="10427"/>
                </a:cubicBezTo>
                <a:cubicBezTo>
                  <a:pt x="7067" y="10409"/>
                  <a:pt x="7083" y="10384"/>
                  <a:pt x="7096" y="10358"/>
                </a:cubicBezTo>
                <a:cubicBezTo>
                  <a:pt x="7110" y="10331"/>
                  <a:pt x="7121" y="10304"/>
                  <a:pt x="7129" y="10275"/>
                </a:cubicBezTo>
                <a:cubicBezTo>
                  <a:pt x="7138" y="10242"/>
                  <a:pt x="7134" y="10207"/>
                  <a:pt x="7134" y="10173"/>
                </a:cubicBezTo>
                <a:cubicBezTo>
                  <a:pt x="7134" y="10131"/>
                  <a:pt x="7134" y="10094"/>
                  <a:pt x="7120" y="10053"/>
                </a:cubicBezTo>
                <a:cubicBezTo>
                  <a:pt x="7099" y="9993"/>
                  <a:pt x="7053" y="9955"/>
                  <a:pt x="6996" y="9932"/>
                </a:cubicBezTo>
                <a:cubicBezTo>
                  <a:pt x="6945" y="9912"/>
                  <a:pt x="6896" y="9904"/>
                  <a:pt x="6844" y="9919"/>
                </a:cubicBezTo>
              </a:path>
              <a:path w="3105" h="5382">
                <a:moveTo>
                  <a:pt x="6688" y="9267"/>
                </a:moveTo>
                <a:cubicBezTo>
                  <a:pt x="6693" y="9285"/>
                  <a:pt x="6700" y="9300"/>
                  <a:pt x="6707" y="9318"/>
                </a:cubicBezTo>
                <a:cubicBezTo>
                  <a:pt x="6721" y="9352"/>
                  <a:pt x="6728" y="9389"/>
                  <a:pt x="6740" y="9424"/>
                </a:cubicBezTo>
                <a:cubicBezTo>
                  <a:pt x="6755" y="9467"/>
                  <a:pt x="6769" y="9510"/>
                  <a:pt x="6783" y="9553"/>
                </a:cubicBezTo>
                <a:cubicBezTo>
                  <a:pt x="6797" y="9596"/>
                  <a:pt x="6816" y="9633"/>
                  <a:pt x="6835" y="9674"/>
                </a:cubicBezTo>
                <a:cubicBezTo>
                  <a:pt x="6849" y="9704"/>
                  <a:pt x="6859" y="9725"/>
                  <a:pt x="6878" y="9752"/>
                </a:cubicBezTo>
                <a:cubicBezTo>
                  <a:pt x="6884" y="9761"/>
                  <a:pt x="6896" y="9785"/>
                  <a:pt x="6906" y="9789"/>
                </a:cubicBezTo>
                <a:cubicBezTo>
                  <a:pt x="6913" y="9792"/>
                  <a:pt x="6934" y="9790"/>
                  <a:pt x="6939" y="9785"/>
                </a:cubicBezTo>
                <a:cubicBezTo>
                  <a:pt x="6954" y="9770"/>
                  <a:pt x="6967" y="9729"/>
                  <a:pt x="6973" y="9711"/>
                </a:cubicBezTo>
                <a:cubicBezTo>
                  <a:pt x="6991" y="9654"/>
                  <a:pt x="7009" y="9599"/>
                  <a:pt x="7034" y="9544"/>
                </a:cubicBezTo>
                <a:cubicBezTo>
                  <a:pt x="7058" y="9490"/>
                  <a:pt x="7078" y="9438"/>
                  <a:pt x="7096" y="9382"/>
                </a:cubicBezTo>
                <a:cubicBezTo>
                  <a:pt x="7104" y="9357"/>
                  <a:pt x="7107" y="9349"/>
                  <a:pt x="7110" y="9332"/>
                </a:cubicBezTo>
              </a:path>
              <a:path w="3105" h="5382">
                <a:moveTo>
                  <a:pt x="8757" y="14518"/>
                </a:moveTo>
                <a:cubicBezTo>
                  <a:pt x="8738" y="14522"/>
                  <a:pt x="8719" y="14528"/>
                  <a:pt x="8700" y="14532"/>
                </a:cubicBezTo>
                <a:cubicBezTo>
                  <a:pt x="8649" y="14542"/>
                  <a:pt x="8599" y="14552"/>
                  <a:pt x="8548" y="14560"/>
                </a:cubicBezTo>
                <a:cubicBezTo>
                  <a:pt x="8483" y="14571"/>
                  <a:pt x="8418" y="14577"/>
                  <a:pt x="8353" y="14583"/>
                </a:cubicBezTo>
                <a:cubicBezTo>
                  <a:pt x="8096" y="14606"/>
                  <a:pt x="7832" y="14636"/>
                  <a:pt x="7575" y="14648"/>
                </a:cubicBezTo>
                <a:cubicBezTo>
                  <a:pt x="7449" y="14654"/>
                  <a:pt x="7322" y="14648"/>
                  <a:pt x="7196" y="14648"/>
                </a:cubicBezTo>
                <a:cubicBezTo>
                  <a:pt x="7178" y="14545"/>
                  <a:pt x="7154" y="14444"/>
                  <a:pt x="7129" y="14342"/>
                </a:cubicBezTo>
                <a:cubicBezTo>
                  <a:pt x="7109" y="14259"/>
                  <a:pt x="7083" y="14179"/>
                  <a:pt x="7058" y="14097"/>
                </a:cubicBezTo>
                <a:cubicBezTo>
                  <a:pt x="7015" y="13956"/>
                  <a:pt x="6987" y="13811"/>
                  <a:pt x="6977" y="13663"/>
                </a:cubicBezTo>
                <a:cubicBezTo>
                  <a:pt x="6962" y="13449"/>
                  <a:pt x="6974" y="13230"/>
                  <a:pt x="6968" y="13016"/>
                </a:cubicBezTo>
                <a:cubicBezTo>
                  <a:pt x="6966" y="12931"/>
                  <a:pt x="6961" y="12847"/>
                  <a:pt x="6954" y="12762"/>
                </a:cubicBezTo>
                <a:cubicBezTo>
                  <a:pt x="6921" y="12349"/>
                  <a:pt x="6924" y="11941"/>
                  <a:pt x="6939" y="11527"/>
                </a:cubicBezTo>
                <a:cubicBezTo>
                  <a:pt x="6942" y="11444"/>
                  <a:pt x="6947" y="11361"/>
                  <a:pt x="6949" y="11278"/>
                </a:cubicBezTo>
                <a:cubicBezTo>
                  <a:pt x="6950" y="11203"/>
                  <a:pt x="6950" y="11129"/>
                  <a:pt x="6939" y="11056"/>
                </a:cubicBezTo>
                <a:cubicBezTo>
                  <a:pt x="6937" y="11045"/>
                  <a:pt x="6937" y="11058"/>
                  <a:pt x="6935" y="11047"/>
                </a:cubicBezTo>
                <a:cubicBezTo>
                  <a:pt x="6935" y="11056"/>
                  <a:pt x="6935" y="11059"/>
                  <a:pt x="6935" y="11065"/>
                </a:cubicBezTo>
              </a:path>
              <a:path w="3105" h="5382">
                <a:moveTo>
                  <a:pt x="6655" y="11324"/>
                </a:moveTo>
                <a:cubicBezTo>
                  <a:pt x="6657" y="11288"/>
                  <a:pt x="6664" y="11271"/>
                  <a:pt x="6688" y="11241"/>
                </a:cubicBezTo>
                <a:cubicBezTo>
                  <a:pt x="6722" y="11198"/>
                  <a:pt x="6757" y="11167"/>
                  <a:pt x="6797" y="11130"/>
                </a:cubicBezTo>
                <a:cubicBezTo>
                  <a:pt x="6843" y="11088"/>
                  <a:pt x="6891" y="11050"/>
                  <a:pt x="6935" y="11005"/>
                </a:cubicBezTo>
                <a:cubicBezTo>
                  <a:pt x="6960" y="10979"/>
                  <a:pt x="6984" y="10949"/>
                  <a:pt x="7011" y="10926"/>
                </a:cubicBezTo>
                <a:cubicBezTo>
                  <a:pt x="7024" y="10915"/>
                  <a:pt x="7027" y="10917"/>
                  <a:pt x="7039" y="10912"/>
                </a:cubicBezTo>
                <a:cubicBezTo>
                  <a:pt x="7051" y="10927"/>
                  <a:pt x="7062" y="10939"/>
                  <a:pt x="7067" y="10959"/>
                </a:cubicBezTo>
                <a:cubicBezTo>
                  <a:pt x="7079" y="11003"/>
                  <a:pt x="7086" y="11048"/>
                  <a:pt x="7091" y="11093"/>
                </a:cubicBezTo>
                <a:cubicBezTo>
                  <a:pt x="7098" y="11153"/>
                  <a:pt x="7108" y="11209"/>
                  <a:pt x="7120" y="11268"/>
                </a:cubicBezTo>
                <a:cubicBezTo>
                  <a:pt x="7129" y="11317"/>
                  <a:pt x="7131" y="11332"/>
                  <a:pt x="7148" y="1136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321080" y="4102200"/>
            <a:ext cx="235080" cy="664920"/>
          </a:xfrm>
          <a:custGeom>
            <a:avLst/>
            <a:gdLst/>
            <a:ahLst/>
            <a:rect l="l" t="t" r="r" b="b"/>
            <a:pathLst>
              <a:path w="651" h="1849">
                <a:moveTo>
                  <a:pt x="12293" y="12197"/>
                </a:moveTo>
                <a:cubicBezTo>
                  <a:pt x="12281" y="12185"/>
                  <a:pt x="12279" y="12178"/>
                  <a:pt x="12269" y="12164"/>
                </a:cubicBezTo>
                <a:cubicBezTo>
                  <a:pt x="12257" y="12147"/>
                  <a:pt x="12256" y="12131"/>
                  <a:pt x="12246" y="12114"/>
                </a:cubicBezTo>
                <a:cubicBezTo>
                  <a:pt x="12238" y="12099"/>
                  <a:pt x="12223" y="12088"/>
                  <a:pt x="12208" y="12081"/>
                </a:cubicBezTo>
                <a:cubicBezTo>
                  <a:pt x="12193" y="12073"/>
                  <a:pt x="12171" y="12077"/>
                  <a:pt x="12155" y="12077"/>
                </a:cubicBezTo>
                <a:cubicBezTo>
                  <a:pt x="12134" y="12077"/>
                  <a:pt x="12116" y="12083"/>
                  <a:pt x="12099" y="12095"/>
                </a:cubicBezTo>
                <a:cubicBezTo>
                  <a:pt x="12079" y="12110"/>
                  <a:pt x="12065" y="12120"/>
                  <a:pt x="12051" y="12141"/>
                </a:cubicBezTo>
                <a:cubicBezTo>
                  <a:pt x="12038" y="12161"/>
                  <a:pt x="12026" y="12184"/>
                  <a:pt x="12018" y="12206"/>
                </a:cubicBezTo>
                <a:cubicBezTo>
                  <a:pt x="12006" y="12240"/>
                  <a:pt x="12004" y="12273"/>
                  <a:pt x="12004" y="12308"/>
                </a:cubicBezTo>
                <a:cubicBezTo>
                  <a:pt x="12004" y="12333"/>
                  <a:pt x="12002" y="12358"/>
                  <a:pt x="12008" y="12382"/>
                </a:cubicBezTo>
                <a:cubicBezTo>
                  <a:pt x="12013" y="12399"/>
                  <a:pt x="12030" y="12419"/>
                  <a:pt x="12042" y="12433"/>
                </a:cubicBezTo>
                <a:cubicBezTo>
                  <a:pt x="12052" y="12445"/>
                  <a:pt x="12074" y="12457"/>
                  <a:pt x="12089" y="12460"/>
                </a:cubicBezTo>
                <a:cubicBezTo>
                  <a:pt x="12136" y="12468"/>
                  <a:pt x="12218" y="12468"/>
                  <a:pt x="12260" y="12451"/>
                </a:cubicBezTo>
                <a:cubicBezTo>
                  <a:pt x="12278" y="12444"/>
                  <a:pt x="12294" y="12437"/>
                  <a:pt x="12312" y="12428"/>
                </a:cubicBezTo>
                <a:cubicBezTo>
                  <a:pt x="12328" y="12420"/>
                  <a:pt x="12350" y="12405"/>
                  <a:pt x="12364" y="12391"/>
                </a:cubicBezTo>
                <a:cubicBezTo>
                  <a:pt x="12377" y="12378"/>
                  <a:pt x="12394" y="12353"/>
                  <a:pt x="12397" y="12335"/>
                </a:cubicBezTo>
                <a:cubicBezTo>
                  <a:pt x="12401" y="12311"/>
                  <a:pt x="12402" y="12287"/>
                  <a:pt x="12402" y="12262"/>
                </a:cubicBezTo>
                <a:cubicBezTo>
                  <a:pt x="12402" y="12236"/>
                  <a:pt x="12404" y="12212"/>
                  <a:pt x="12397" y="12188"/>
                </a:cubicBezTo>
                <a:cubicBezTo>
                  <a:pt x="12390" y="12161"/>
                  <a:pt x="12378" y="12150"/>
                  <a:pt x="12350" y="12146"/>
                </a:cubicBezTo>
                <a:cubicBezTo>
                  <a:pt x="12333" y="12146"/>
                  <a:pt x="12328" y="12146"/>
                  <a:pt x="12317" y="12146"/>
                </a:cubicBezTo>
              </a:path>
              <a:path w="651" h="1849">
                <a:moveTo>
                  <a:pt x="12189" y="12585"/>
                </a:moveTo>
                <a:cubicBezTo>
                  <a:pt x="12189" y="12650"/>
                  <a:pt x="12193" y="12714"/>
                  <a:pt x="12193" y="12779"/>
                </a:cubicBezTo>
                <a:cubicBezTo>
                  <a:pt x="12193" y="12818"/>
                  <a:pt x="12199" y="12860"/>
                  <a:pt x="12203" y="12899"/>
                </a:cubicBezTo>
                <a:cubicBezTo>
                  <a:pt x="12207" y="12936"/>
                  <a:pt x="12211" y="12973"/>
                  <a:pt x="12212" y="13010"/>
                </a:cubicBezTo>
                <a:cubicBezTo>
                  <a:pt x="12213" y="13051"/>
                  <a:pt x="12227" y="13090"/>
                  <a:pt x="12231" y="13130"/>
                </a:cubicBezTo>
                <a:cubicBezTo>
                  <a:pt x="12233" y="13146"/>
                  <a:pt x="12238" y="13158"/>
                  <a:pt x="12241" y="13172"/>
                </a:cubicBezTo>
                <a:cubicBezTo>
                  <a:pt x="12245" y="13190"/>
                  <a:pt x="12239" y="13205"/>
                  <a:pt x="12246" y="13223"/>
                </a:cubicBezTo>
                <a:cubicBezTo>
                  <a:pt x="12250" y="13232"/>
                  <a:pt x="12251" y="13235"/>
                  <a:pt x="12255" y="13241"/>
                </a:cubicBezTo>
              </a:path>
              <a:path w="651" h="1849">
                <a:moveTo>
                  <a:pt x="12293" y="11393"/>
                </a:moveTo>
                <a:cubicBezTo>
                  <a:pt x="12293" y="11407"/>
                  <a:pt x="12296" y="11418"/>
                  <a:pt x="12298" y="11430"/>
                </a:cubicBezTo>
                <a:cubicBezTo>
                  <a:pt x="12302" y="11457"/>
                  <a:pt x="12304" y="11485"/>
                  <a:pt x="12307" y="11513"/>
                </a:cubicBezTo>
                <a:cubicBezTo>
                  <a:pt x="12313" y="11561"/>
                  <a:pt x="12321" y="11608"/>
                  <a:pt x="12326" y="11656"/>
                </a:cubicBezTo>
                <a:cubicBezTo>
                  <a:pt x="12330" y="11690"/>
                  <a:pt x="12332" y="11724"/>
                  <a:pt x="12336" y="11758"/>
                </a:cubicBezTo>
                <a:cubicBezTo>
                  <a:pt x="12339" y="11784"/>
                  <a:pt x="12344" y="11809"/>
                  <a:pt x="12345" y="11836"/>
                </a:cubicBezTo>
                <a:cubicBezTo>
                  <a:pt x="12345" y="11854"/>
                  <a:pt x="12346" y="11878"/>
                  <a:pt x="12350" y="11896"/>
                </a:cubicBezTo>
                <a:cubicBezTo>
                  <a:pt x="12352" y="11906"/>
                  <a:pt x="12358" y="11917"/>
                  <a:pt x="12360" y="11929"/>
                </a:cubicBezTo>
              </a:path>
              <a:path w="651" h="1849">
                <a:moveTo>
                  <a:pt x="12174" y="11804"/>
                </a:moveTo>
                <a:cubicBezTo>
                  <a:pt x="12174" y="11819"/>
                  <a:pt x="12176" y="11832"/>
                  <a:pt x="12179" y="11846"/>
                </a:cubicBezTo>
                <a:cubicBezTo>
                  <a:pt x="12185" y="11872"/>
                  <a:pt x="12198" y="11899"/>
                  <a:pt x="12208" y="11924"/>
                </a:cubicBezTo>
                <a:cubicBezTo>
                  <a:pt x="12221" y="11955"/>
                  <a:pt x="12240" y="11982"/>
                  <a:pt x="12255" y="12012"/>
                </a:cubicBezTo>
                <a:cubicBezTo>
                  <a:pt x="12271" y="12044"/>
                  <a:pt x="12290" y="12071"/>
                  <a:pt x="12312" y="12100"/>
                </a:cubicBezTo>
                <a:cubicBezTo>
                  <a:pt x="12329" y="12122"/>
                  <a:pt x="12345" y="12151"/>
                  <a:pt x="12374" y="12160"/>
                </a:cubicBezTo>
                <a:cubicBezTo>
                  <a:pt x="12388" y="12164"/>
                  <a:pt x="12412" y="12169"/>
                  <a:pt x="12426" y="12160"/>
                </a:cubicBezTo>
                <a:cubicBezTo>
                  <a:pt x="12452" y="12143"/>
                  <a:pt x="12482" y="12089"/>
                  <a:pt x="12497" y="12063"/>
                </a:cubicBezTo>
                <a:cubicBezTo>
                  <a:pt x="12533" y="12003"/>
                  <a:pt x="12561" y="11936"/>
                  <a:pt x="12592" y="11873"/>
                </a:cubicBezTo>
                <a:cubicBezTo>
                  <a:pt x="12612" y="11834"/>
                  <a:pt x="12625" y="11808"/>
                  <a:pt x="12654" y="1177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4314960" y="2389320"/>
            <a:ext cx="160200" cy="546120"/>
          </a:xfrm>
          <a:custGeom>
            <a:avLst/>
            <a:gdLst/>
            <a:ahLst/>
            <a:rect l="l" t="t" r="r" b="b"/>
            <a:pathLst>
              <a:path w="447" h="1517">
                <a:moveTo>
                  <a:pt x="12364" y="7376"/>
                </a:moveTo>
                <a:cubicBezTo>
                  <a:pt x="12361" y="7367"/>
                  <a:pt x="12362" y="7362"/>
                  <a:pt x="12355" y="7353"/>
                </a:cubicBezTo>
                <a:cubicBezTo>
                  <a:pt x="12346" y="7342"/>
                  <a:pt x="12335" y="7332"/>
                  <a:pt x="12326" y="7320"/>
                </a:cubicBezTo>
                <a:cubicBezTo>
                  <a:pt x="12313" y="7303"/>
                  <a:pt x="12301" y="7292"/>
                  <a:pt x="12284" y="7279"/>
                </a:cubicBezTo>
                <a:cubicBezTo>
                  <a:pt x="12258" y="7258"/>
                  <a:pt x="12240" y="7256"/>
                  <a:pt x="12208" y="7256"/>
                </a:cubicBezTo>
                <a:cubicBezTo>
                  <a:pt x="12181" y="7256"/>
                  <a:pt x="12153" y="7255"/>
                  <a:pt x="12127" y="7260"/>
                </a:cubicBezTo>
                <a:cubicBezTo>
                  <a:pt x="12105" y="7264"/>
                  <a:pt x="12076" y="7277"/>
                  <a:pt x="12061" y="7293"/>
                </a:cubicBezTo>
                <a:cubicBezTo>
                  <a:pt x="12043" y="7313"/>
                  <a:pt x="12026" y="7344"/>
                  <a:pt x="12013" y="7367"/>
                </a:cubicBezTo>
                <a:cubicBezTo>
                  <a:pt x="11996" y="7398"/>
                  <a:pt x="11987" y="7414"/>
                  <a:pt x="11985" y="7450"/>
                </a:cubicBezTo>
                <a:cubicBezTo>
                  <a:pt x="11983" y="7484"/>
                  <a:pt x="11981" y="7523"/>
                  <a:pt x="11989" y="7556"/>
                </a:cubicBezTo>
                <a:cubicBezTo>
                  <a:pt x="11994" y="7577"/>
                  <a:pt x="12011" y="7602"/>
                  <a:pt x="12027" y="7616"/>
                </a:cubicBezTo>
                <a:cubicBezTo>
                  <a:pt x="12049" y="7635"/>
                  <a:pt x="12086" y="7638"/>
                  <a:pt x="12113" y="7639"/>
                </a:cubicBezTo>
                <a:cubicBezTo>
                  <a:pt x="12146" y="7640"/>
                  <a:pt x="12197" y="7648"/>
                  <a:pt x="12227" y="7635"/>
                </a:cubicBezTo>
                <a:cubicBezTo>
                  <a:pt x="12250" y="7625"/>
                  <a:pt x="12274" y="7617"/>
                  <a:pt x="12298" y="7607"/>
                </a:cubicBezTo>
                <a:cubicBezTo>
                  <a:pt x="12317" y="7599"/>
                  <a:pt x="12335" y="7590"/>
                  <a:pt x="12350" y="7575"/>
                </a:cubicBezTo>
                <a:cubicBezTo>
                  <a:pt x="12369" y="7557"/>
                  <a:pt x="12379" y="7536"/>
                  <a:pt x="12393" y="7515"/>
                </a:cubicBezTo>
                <a:cubicBezTo>
                  <a:pt x="12410" y="7489"/>
                  <a:pt x="12418" y="7461"/>
                  <a:pt x="12426" y="7431"/>
                </a:cubicBezTo>
                <a:cubicBezTo>
                  <a:pt x="12433" y="7405"/>
                  <a:pt x="12431" y="7380"/>
                  <a:pt x="12431" y="7353"/>
                </a:cubicBezTo>
                <a:cubicBezTo>
                  <a:pt x="12431" y="7336"/>
                  <a:pt x="12428" y="7315"/>
                  <a:pt x="12412" y="7307"/>
                </a:cubicBezTo>
                <a:cubicBezTo>
                  <a:pt x="12406" y="7307"/>
                  <a:pt x="12399" y="7307"/>
                  <a:pt x="12393" y="7307"/>
                </a:cubicBezTo>
              </a:path>
              <a:path w="447" h="1517">
                <a:moveTo>
                  <a:pt x="12198" y="7783"/>
                </a:moveTo>
                <a:cubicBezTo>
                  <a:pt x="12198" y="7872"/>
                  <a:pt x="12158" y="8074"/>
                  <a:pt x="12203" y="8148"/>
                </a:cubicBezTo>
                <a:cubicBezTo>
                  <a:pt x="12207" y="8151"/>
                  <a:pt x="12208" y="8153"/>
                  <a:pt x="12212" y="8152"/>
                </a:cubicBezTo>
              </a:path>
              <a:path w="447" h="1517">
                <a:moveTo>
                  <a:pt x="12265" y="6636"/>
                </a:moveTo>
                <a:cubicBezTo>
                  <a:pt x="12265" y="6669"/>
                  <a:pt x="12266" y="6701"/>
                  <a:pt x="12269" y="6733"/>
                </a:cubicBezTo>
                <a:cubicBezTo>
                  <a:pt x="12272" y="6770"/>
                  <a:pt x="12275" y="6804"/>
                  <a:pt x="12279" y="6840"/>
                </a:cubicBezTo>
                <a:cubicBezTo>
                  <a:pt x="12283" y="6875"/>
                  <a:pt x="12287" y="6911"/>
                  <a:pt x="12288" y="6946"/>
                </a:cubicBezTo>
                <a:cubicBezTo>
                  <a:pt x="12289" y="6985"/>
                  <a:pt x="12288" y="7023"/>
                  <a:pt x="12288" y="7062"/>
                </a:cubicBezTo>
              </a:path>
              <a:path w="447" h="1517">
                <a:moveTo>
                  <a:pt x="12132" y="6951"/>
                </a:moveTo>
                <a:cubicBezTo>
                  <a:pt x="12132" y="6966"/>
                  <a:pt x="12135" y="6978"/>
                  <a:pt x="12136" y="6992"/>
                </a:cubicBezTo>
                <a:cubicBezTo>
                  <a:pt x="12138" y="7009"/>
                  <a:pt x="12149" y="7052"/>
                  <a:pt x="12155" y="7066"/>
                </a:cubicBezTo>
                <a:cubicBezTo>
                  <a:pt x="12167" y="7094"/>
                  <a:pt x="12188" y="7122"/>
                  <a:pt x="12203" y="7149"/>
                </a:cubicBezTo>
                <a:cubicBezTo>
                  <a:pt x="12213" y="7167"/>
                  <a:pt x="12229" y="7196"/>
                  <a:pt x="12246" y="7209"/>
                </a:cubicBezTo>
                <a:cubicBezTo>
                  <a:pt x="12261" y="7221"/>
                  <a:pt x="12274" y="7236"/>
                  <a:pt x="12293" y="7237"/>
                </a:cubicBezTo>
                <a:cubicBezTo>
                  <a:pt x="12302" y="7237"/>
                  <a:pt x="12330" y="7241"/>
                  <a:pt x="12336" y="7233"/>
                </a:cubicBezTo>
                <a:cubicBezTo>
                  <a:pt x="12348" y="7218"/>
                  <a:pt x="12356" y="7191"/>
                  <a:pt x="12364" y="7173"/>
                </a:cubicBezTo>
                <a:cubicBezTo>
                  <a:pt x="12380" y="7137"/>
                  <a:pt x="12385" y="7107"/>
                  <a:pt x="12397" y="7071"/>
                </a:cubicBezTo>
                <a:cubicBezTo>
                  <a:pt x="12407" y="7043"/>
                  <a:pt x="12412" y="7026"/>
                  <a:pt x="12412" y="6997"/>
                </a:cubicBezTo>
                <a:cubicBezTo>
                  <a:pt x="12412" y="6980"/>
                  <a:pt x="12414" y="6988"/>
                  <a:pt x="12426" y="69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644920" y="3570120"/>
            <a:ext cx="493560" cy="252720"/>
          </a:xfrm>
          <a:custGeom>
            <a:avLst/>
            <a:gdLst/>
            <a:ahLst/>
            <a:rect l="l" t="t" r="r" b="b"/>
            <a:pathLst>
              <a:path w="1368" h="699">
                <a:moveTo>
                  <a:pt x="8715" y="10195"/>
                </a:moveTo>
                <a:cubicBezTo>
                  <a:pt x="8711" y="10196"/>
                  <a:pt x="8700" y="10207"/>
                  <a:pt x="8691" y="10209"/>
                </a:cubicBezTo>
                <a:cubicBezTo>
                  <a:pt x="8420" y="10252"/>
                  <a:pt x="8102" y="10214"/>
                  <a:pt x="7828" y="10214"/>
                </a:cubicBezTo>
                <a:cubicBezTo>
                  <a:pt x="7797" y="10214"/>
                  <a:pt x="7772" y="10218"/>
                  <a:pt x="7742" y="10223"/>
                </a:cubicBezTo>
                <a:cubicBezTo>
                  <a:pt x="7685" y="10233"/>
                  <a:pt x="7629" y="10232"/>
                  <a:pt x="7571" y="10232"/>
                </a:cubicBezTo>
                <a:cubicBezTo>
                  <a:pt x="7497" y="10232"/>
                  <a:pt x="7422" y="10232"/>
                  <a:pt x="7348" y="10232"/>
                </a:cubicBezTo>
                <a:cubicBezTo>
                  <a:pt x="7362" y="10223"/>
                  <a:pt x="7377" y="10215"/>
                  <a:pt x="7391" y="10205"/>
                </a:cubicBezTo>
                <a:cubicBezTo>
                  <a:pt x="7419" y="10185"/>
                  <a:pt x="7450" y="10161"/>
                  <a:pt x="7472" y="10135"/>
                </a:cubicBezTo>
                <a:cubicBezTo>
                  <a:pt x="7497" y="10106"/>
                  <a:pt x="7515" y="10074"/>
                  <a:pt x="7543" y="10047"/>
                </a:cubicBezTo>
                <a:cubicBezTo>
                  <a:pt x="7560" y="10031"/>
                  <a:pt x="7580" y="10014"/>
                  <a:pt x="7600" y="10001"/>
                </a:cubicBezTo>
                <a:cubicBezTo>
                  <a:pt x="7623" y="9986"/>
                  <a:pt x="7648" y="9969"/>
                  <a:pt x="7671" y="9955"/>
                </a:cubicBezTo>
                <a:cubicBezTo>
                  <a:pt x="7683" y="9947"/>
                  <a:pt x="7701" y="9932"/>
                  <a:pt x="7714" y="9927"/>
                </a:cubicBezTo>
                <a:cubicBezTo>
                  <a:pt x="7723" y="9923"/>
                  <a:pt x="7734" y="9926"/>
                  <a:pt x="7742" y="9923"/>
                </a:cubicBezTo>
                <a:cubicBezTo>
                  <a:pt x="7734" y="9925"/>
                  <a:pt x="7730" y="9914"/>
                  <a:pt x="7723" y="9918"/>
                </a:cubicBezTo>
                <a:cubicBezTo>
                  <a:pt x="7709" y="9927"/>
                  <a:pt x="7702" y="9939"/>
                  <a:pt x="7690" y="9950"/>
                </a:cubicBezTo>
                <a:cubicBezTo>
                  <a:pt x="7673" y="9966"/>
                  <a:pt x="7661" y="9978"/>
                  <a:pt x="7647" y="9997"/>
                </a:cubicBezTo>
                <a:cubicBezTo>
                  <a:pt x="7631" y="10019"/>
                  <a:pt x="7614" y="10038"/>
                  <a:pt x="7595" y="10057"/>
                </a:cubicBezTo>
                <a:cubicBezTo>
                  <a:pt x="7572" y="10080"/>
                  <a:pt x="7552" y="10103"/>
                  <a:pt x="7529" y="10126"/>
                </a:cubicBezTo>
                <a:cubicBezTo>
                  <a:pt x="7515" y="10140"/>
                  <a:pt x="7504" y="10154"/>
                  <a:pt x="7491" y="10168"/>
                </a:cubicBezTo>
                <a:cubicBezTo>
                  <a:pt x="7480" y="10180"/>
                  <a:pt x="7469" y="10182"/>
                  <a:pt x="7458" y="10191"/>
                </a:cubicBezTo>
                <a:cubicBezTo>
                  <a:pt x="7449" y="10199"/>
                  <a:pt x="7442" y="10206"/>
                  <a:pt x="7434" y="10214"/>
                </a:cubicBezTo>
                <a:cubicBezTo>
                  <a:pt x="7424" y="10224"/>
                  <a:pt x="7411" y="10235"/>
                  <a:pt x="7405" y="10246"/>
                </a:cubicBezTo>
                <a:cubicBezTo>
                  <a:pt x="7402" y="10252"/>
                  <a:pt x="7394" y="10266"/>
                  <a:pt x="7396" y="10274"/>
                </a:cubicBezTo>
                <a:cubicBezTo>
                  <a:pt x="7398" y="10282"/>
                  <a:pt x="7404" y="10286"/>
                  <a:pt x="7410" y="10292"/>
                </a:cubicBezTo>
                <a:cubicBezTo>
                  <a:pt x="7421" y="10303"/>
                  <a:pt x="7428" y="10296"/>
                  <a:pt x="7439" y="10302"/>
                </a:cubicBezTo>
                <a:cubicBezTo>
                  <a:pt x="7453" y="10310"/>
                  <a:pt x="7463" y="10315"/>
                  <a:pt x="7477" y="10325"/>
                </a:cubicBezTo>
                <a:cubicBezTo>
                  <a:pt x="7492" y="10335"/>
                  <a:pt x="7503" y="10347"/>
                  <a:pt x="7519" y="10357"/>
                </a:cubicBezTo>
                <a:cubicBezTo>
                  <a:pt x="7536" y="10368"/>
                  <a:pt x="7560" y="10385"/>
                  <a:pt x="7576" y="10394"/>
                </a:cubicBezTo>
                <a:cubicBezTo>
                  <a:pt x="7594" y="10404"/>
                  <a:pt x="7616" y="10409"/>
                  <a:pt x="7633" y="10422"/>
                </a:cubicBezTo>
                <a:cubicBezTo>
                  <a:pt x="7686" y="10462"/>
                  <a:pt x="7726" y="10519"/>
                  <a:pt x="7766" y="10570"/>
                </a:cubicBezTo>
                <a:cubicBezTo>
                  <a:pt x="7773" y="10579"/>
                  <a:pt x="7785" y="10592"/>
                  <a:pt x="7795" y="10602"/>
                </a:cubicBezTo>
                <a:cubicBezTo>
                  <a:pt x="7798" y="10605"/>
                  <a:pt x="7805" y="10603"/>
                  <a:pt x="7809" y="10607"/>
                </a:cubicBezTo>
                <a:cubicBezTo>
                  <a:pt x="7811" y="10610"/>
                  <a:pt x="7812" y="10613"/>
                  <a:pt x="7814" y="106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2478240" y="1735200"/>
            <a:ext cx="668160" cy="1766880"/>
          </a:xfrm>
          <a:custGeom>
            <a:avLst/>
            <a:gdLst/>
            <a:ahLst/>
            <a:rect l="l" t="t" r="r" b="b"/>
            <a:pathLst>
              <a:path w="1857" h="4910">
                <a:moveTo>
                  <a:pt x="6936" y="9729"/>
                </a:moveTo>
                <a:cubicBezTo>
                  <a:pt x="6938" y="9526"/>
                  <a:pt x="6945" y="9326"/>
                  <a:pt x="6945" y="9123"/>
                </a:cubicBezTo>
                <a:cubicBezTo>
                  <a:pt x="6945" y="8920"/>
                  <a:pt x="6943" y="8716"/>
                  <a:pt x="6936" y="8513"/>
                </a:cubicBezTo>
                <a:cubicBezTo>
                  <a:pt x="6932" y="8394"/>
                  <a:pt x="6923" y="8276"/>
                  <a:pt x="6921" y="8157"/>
                </a:cubicBezTo>
                <a:cubicBezTo>
                  <a:pt x="6918" y="7984"/>
                  <a:pt x="6909" y="7812"/>
                  <a:pt x="6902" y="7639"/>
                </a:cubicBezTo>
                <a:cubicBezTo>
                  <a:pt x="6897" y="7524"/>
                  <a:pt x="6896" y="7409"/>
                  <a:pt x="6893" y="7293"/>
                </a:cubicBezTo>
                <a:cubicBezTo>
                  <a:pt x="6881" y="6839"/>
                  <a:pt x="6882" y="6382"/>
                  <a:pt x="6888" y="5929"/>
                </a:cubicBezTo>
                <a:cubicBezTo>
                  <a:pt x="6892" y="5654"/>
                  <a:pt x="6888" y="5370"/>
                  <a:pt x="6907" y="5102"/>
                </a:cubicBezTo>
                <a:cubicBezTo>
                  <a:pt x="6910" y="5057"/>
                  <a:pt x="6906" y="5007"/>
                  <a:pt x="6917" y="4963"/>
                </a:cubicBezTo>
                <a:cubicBezTo>
                  <a:pt x="6924" y="4935"/>
                  <a:pt x="6919" y="4893"/>
                  <a:pt x="6940" y="4880"/>
                </a:cubicBezTo>
                <a:cubicBezTo>
                  <a:pt x="7006" y="4839"/>
                  <a:pt x="7206" y="4901"/>
                  <a:pt x="7277" y="4903"/>
                </a:cubicBezTo>
                <a:cubicBezTo>
                  <a:pt x="7411" y="4907"/>
                  <a:pt x="7533" y="4887"/>
                  <a:pt x="7662" y="4875"/>
                </a:cubicBezTo>
                <a:cubicBezTo>
                  <a:pt x="7735" y="4868"/>
                  <a:pt x="7808" y="4857"/>
                  <a:pt x="7880" y="4852"/>
                </a:cubicBezTo>
                <a:cubicBezTo>
                  <a:pt x="7954" y="4847"/>
                  <a:pt x="8030" y="4845"/>
                  <a:pt x="8103" y="4843"/>
                </a:cubicBezTo>
                <a:cubicBezTo>
                  <a:pt x="8180" y="4841"/>
                  <a:pt x="8255" y="4841"/>
                  <a:pt x="8331" y="4834"/>
                </a:cubicBezTo>
                <a:cubicBezTo>
                  <a:pt x="8364" y="4831"/>
                  <a:pt x="8391" y="4821"/>
                  <a:pt x="8426" y="4820"/>
                </a:cubicBezTo>
                <a:cubicBezTo>
                  <a:pt x="8489" y="4817"/>
                  <a:pt x="8549" y="4829"/>
                  <a:pt x="8611" y="4829"/>
                </a:cubicBezTo>
                <a:cubicBezTo>
                  <a:pt x="8655" y="4829"/>
                  <a:pt x="8696" y="4825"/>
                  <a:pt x="8739" y="4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4302000" y="2374920"/>
            <a:ext cx="235080" cy="582480"/>
          </a:xfrm>
          <a:custGeom>
            <a:avLst/>
            <a:gdLst/>
            <a:ahLst/>
            <a:rect l="l" t="t" r="r" b="b"/>
            <a:pathLst>
              <a:path w="649" h="1617">
                <a:moveTo>
                  <a:pt x="12339" y="6597"/>
                </a:moveTo>
                <a:cubicBezTo>
                  <a:pt x="12334" y="6601"/>
                  <a:pt x="12325" y="6592"/>
                  <a:pt x="12322" y="6601"/>
                </a:cubicBezTo>
                <a:cubicBezTo>
                  <a:pt x="12319" y="6610"/>
                  <a:pt x="12319" y="6630"/>
                  <a:pt x="12318" y="6638"/>
                </a:cubicBezTo>
                <a:cubicBezTo>
                  <a:pt x="12312" y="6708"/>
                  <a:pt x="12318" y="6782"/>
                  <a:pt x="12322" y="6851"/>
                </a:cubicBezTo>
                <a:cubicBezTo>
                  <a:pt x="12323" y="6872"/>
                  <a:pt x="12325" y="6892"/>
                  <a:pt x="12326" y="6913"/>
                </a:cubicBezTo>
                <a:cubicBezTo>
                  <a:pt x="12329" y="6962"/>
                  <a:pt x="12326" y="7012"/>
                  <a:pt x="12330" y="7060"/>
                </a:cubicBezTo>
                <a:cubicBezTo>
                  <a:pt x="12332" y="7089"/>
                  <a:pt x="12329" y="7120"/>
                  <a:pt x="12335" y="7146"/>
                </a:cubicBezTo>
                <a:cubicBezTo>
                  <a:pt x="12338" y="7157"/>
                  <a:pt x="12338" y="7163"/>
                  <a:pt x="12339" y="7175"/>
                </a:cubicBezTo>
                <a:cubicBezTo>
                  <a:pt x="12340" y="7195"/>
                  <a:pt x="12339" y="7216"/>
                  <a:pt x="12339" y="7237"/>
                </a:cubicBezTo>
                <a:cubicBezTo>
                  <a:pt x="12328" y="7236"/>
                  <a:pt x="12313" y="7240"/>
                  <a:pt x="12305" y="7233"/>
                </a:cubicBezTo>
                <a:cubicBezTo>
                  <a:pt x="12300" y="7229"/>
                  <a:pt x="12288" y="7204"/>
                  <a:pt x="12284" y="7196"/>
                </a:cubicBezTo>
                <a:cubicBezTo>
                  <a:pt x="12272" y="7174"/>
                  <a:pt x="12270" y="7159"/>
                  <a:pt x="12250" y="7142"/>
                </a:cubicBezTo>
                <a:cubicBezTo>
                  <a:pt x="12233" y="7128"/>
                  <a:pt x="12212" y="7117"/>
                  <a:pt x="12196" y="7101"/>
                </a:cubicBezTo>
                <a:cubicBezTo>
                  <a:pt x="12183" y="7088"/>
                  <a:pt x="12175" y="7078"/>
                  <a:pt x="12166" y="7064"/>
                </a:cubicBezTo>
                <a:cubicBezTo>
                  <a:pt x="12159" y="7052"/>
                  <a:pt x="12159" y="7048"/>
                  <a:pt x="12154" y="7036"/>
                </a:cubicBezTo>
                <a:cubicBezTo>
                  <a:pt x="12154" y="7031"/>
                  <a:pt x="12153" y="7029"/>
                  <a:pt x="12149" y="7027"/>
                </a:cubicBezTo>
                <a:cubicBezTo>
                  <a:pt x="12157" y="7032"/>
                  <a:pt x="12168" y="7039"/>
                  <a:pt x="12179" y="7048"/>
                </a:cubicBezTo>
                <a:cubicBezTo>
                  <a:pt x="12194" y="7059"/>
                  <a:pt x="12207" y="7072"/>
                  <a:pt x="12221" y="7085"/>
                </a:cubicBezTo>
                <a:cubicBezTo>
                  <a:pt x="12243" y="7105"/>
                  <a:pt x="12262" y="7122"/>
                  <a:pt x="12288" y="7138"/>
                </a:cubicBezTo>
                <a:cubicBezTo>
                  <a:pt x="12302" y="7147"/>
                  <a:pt x="12317" y="7153"/>
                  <a:pt x="12330" y="7163"/>
                </a:cubicBezTo>
                <a:cubicBezTo>
                  <a:pt x="12340" y="7170"/>
                  <a:pt x="12348" y="7182"/>
                  <a:pt x="12360" y="7187"/>
                </a:cubicBezTo>
                <a:cubicBezTo>
                  <a:pt x="12369" y="7191"/>
                  <a:pt x="12375" y="7189"/>
                  <a:pt x="12385" y="7191"/>
                </a:cubicBezTo>
                <a:cubicBezTo>
                  <a:pt x="12395" y="7193"/>
                  <a:pt x="12392" y="7193"/>
                  <a:pt x="12402" y="7196"/>
                </a:cubicBezTo>
                <a:cubicBezTo>
                  <a:pt x="12404" y="7197"/>
                  <a:pt x="12407" y="7202"/>
                  <a:pt x="12415" y="7200"/>
                </a:cubicBezTo>
                <a:cubicBezTo>
                  <a:pt x="12428" y="7197"/>
                  <a:pt x="12422" y="7204"/>
                  <a:pt x="12432" y="7191"/>
                </a:cubicBezTo>
                <a:cubicBezTo>
                  <a:pt x="12441" y="7179"/>
                  <a:pt x="12452" y="7155"/>
                  <a:pt x="12457" y="7142"/>
                </a:cubicBezTo>
                <a:cubicBezTo>
                  <a:pt x="12465" y="7121"/>
                  <a:pt x="12474" y="7101"/>
                  <a:pt x="12486" y="7081"/>
                </a:cubicBezTo>
                <a:cubicBezTo>
                  <a:pt x="12494" y="7069"/>
                  <a:pt x="12505" y="7062"/>
                  <a:pt x="12516" y="7052"/>
                </a:cubicBezTo>
                <a:cubicBezTo>
                  <a:pt x="12524" y="7044"/>
                  <a:pt x="12523" y="7046"/>
                  <a:pt x="12528" y="7044"/>
                </a:cubicBezTo>
              </a:path>
              <a:path w="649" h="1617">
                <a:moveTo>
                  <a:pt x="12410" y="7286"/>
                </a:moveTo>
                <a:cubicBezTo>
                  <a:pt x="12409" y="7260"/>
                  <a:pt x="12411" y="7262"/>
                  <a:pt x="12394" y="7249"/>
                </a:cubicBezTo>
                <a:cubicBezTo>
                  <a:pt x="12386" y="7243"/>
                  <a:pt x="12380" y="7240"/>
                  <a:pt x="12368" y="7237"/>
                </a:cubicBezTo>
                <a:cubicBezTo>
                  <a:pt x="12353" y="7234"/>
                  <a:pt x="12338" y="7233"/>
                  <a:pt x="12322" y="7233"/>
                </a:cubicBezTo>
                <a:cubicBezTo>
                  <a:pt x="12271" y="7232"/>
                  <a:pt x="12233" y="7240"/>
                  <a:pt x="12187" y="7261"/>
                </a:cubicBezTo>
                <a:cubicBezTo>
                  <a:pt x="12147" y="7279"/>
                  <a:pt x="12116" y="7304"/>
                  <a:pt x="12082" y="7327"/>
                </a:cubicBezTo>
                <a:cubicBezTo>
                  <a:pt x="12069" y="7336"/>
                  <a:pt x="12055" y="7343"/>
                  <a:pt x="12048" y="7356"/>
                </a:cubicBezTo>
                <a:cubicBezTo>
                  <a:pt x="12043" y="7364"/>
                  <a:pt x="12038" y="7379"/>
                  <a:pt x="12036" y="7388"/>
                </a:cubicBezTo>
                <a:cubicBezTo>
                  <a:pt x="12031" y="7406"/>
                  <a:pt x="12029" y="7424"/>
                  <a:pt x="12027" y="7442"/>
                </a:cubicBezTo>
                <a:cubicBezTo>
                  <a:pt x="12025" y="7464"/>
                  <a:pt x="12027" y="7486"/>
                  <a:pt x="12032" y="7507"/>
                </a:cubicBezTo>
                <a:cubicBezTo>
                  <a:pt x="12037" y="7528"/>
                  <a:pt x="12047" y="7534"/>
                  <a:pt x="12057" y="7552"/>
                </a:cubicBezTo>
                <a:cubicBezTo>
                  <a:pt x="12069" y="7572"/>
                  <a:pt x="12081" y="7581"/>
                  <a:pt x="12103" y="7589"/>
                </a:cubicBezTo>
                <a:cubicBezTo>
                  <a:pt x="12118" y="7595"/>
                  <a:pt x="12146" y="7608"/>
                  <a:pt x="12162" y="7610"/>
                </a:cubicBezTo>
                <a:cubicBezTo>
                  <a:pt x="12215" y="7617"/>
                  <a:pt x="12332" y="7628"/>
                  <a:pt x="12381" y="7606"/>
                </a:cubicBezTo>
                <a:cubicBezTo>
                  <a:pt x="12399" y="7598"/>
                  <a:pt x="12414" y="7584"/>
                  <a:pt x="12427" y="7569"/>
                </a:cubicBezTo>
                <a:cubicBezTo>
                  <a:pt x="12441" y="7553"/>
                  <a:pt x="12457" y="7532"/>
                  <a:pt x="12465" y="7511"/>
                </a:cubicBezTo>
                <a:cubicBezTo>
                  <a:pt x="12472" y="7493"/>
                  <a:pt x="12478" y="7475"/>
                  <a:pt x="12486" y="7458"/>
                </a:cubicBezTo>
                <a:cubicBezTo>
                  <a:pt x="12496" y="7437"/>
                  <a:pt x="12495" y="7424"/>
                  <a:pt x="12495" y="7401"/>
                </a:cubicBezTo>
                <a:cubicBezTo>
                  <a:pt x="12495" y="7379"/>
                  <a:pt x="12497" y="7356"/>
                  <a:pt x="12491" y="7335"/>
                </a:cubicBezTo>
                <a:cubicBezTo>
                  <a:pt x="12487" y="7320"/>
                  <a:pt x="12476" y="7307"/>
                  <a:pt x="12469" y="7294"/>
                </a:cubicBezTo>
                <a:cubicBezTo>
                  <a:pt x="12461" y="7280"/>
                  <a:pt x="12456" y="7261"/>
                  <a:pt x="12444" y="7249"/>
                </a:cubicBezTo>
                <a:cubicBezTo>
                  <a:pt x="12432" y="7238"/>
                  <a:pt x="12421" y="7228"/>
                  <a:pt x="12410" y="7216"/>
                </a:cubicBezTo>
                <a:cubicBezTo>
                  <a:pt x="12400" y="7206"/>
                  <a:pt x="12391" y="7193"/>
                  <a:pt x="12377" y="7187"/>
                </a:cubicBezTo>
                <a:cubicBezTo>
                  <a:pt x="12362" y="7181"/>
                  <a:pt x="12346" y="7183"/>
                  <a:pt x="12330" y="7183"/>
                </a:cubicBezTo>
                <a:cubicBezTo>
                  <a:pt x="12285" y="7182"/>
                  <a:pt x="12248" y="7191"/>
                  <a:pt x="12204" y="7200"/>
                </a:cubicBezTo>
                <a:cubicBezTo>
                  <a:pt x="12171" y="7206"/>
                  <a:pt x="12146" y="7220"/>
                  <a:pt x="12116" y="7233"/>
                </a:cubicBezTo>
                <a:cubicBezTo>
                  <a:pt x="12092" y="7244"/>
                  <a:pt x="12071" y="7257"/>
                  <a:pt x="12048" y="7269"/>
                </a:cubicBezTo>
                <a:cubicBezTo>
                  <a:pt x="12022" y="7282"/>
                  <a:pt x="12010" y="7298"/>
                  <a:pt x="11994" y="7323"/>
                </a:cubicBezTo>
                <a:cubicBezTo>
                  <a:pt x="11981" y="7344"/>
                  <a:pt x="11970" y="7368"/>
                  <a:pt x="11964" y="7392"/>
                </a:cubicBezTo>
                <a:cubicBezTo>
                  <a:pt x="11958" y="7419"/>
                  <a:pt x="11952" y="7438"/>
                  <a:pt x="11952" y="7466"/>
                </a:cubicBezTo>
                <a:cubicBezTo>
                  <a:pt x="11952" y="7489"/>
                  <a:pt x="11956" y="7514"/>
                  <a:pt x="11973" y="7532"/>
                </a:cubicBezTo>
                <a:cubicBezTo>
                  <a:pt x="11991" y="7551"/>
                  <a:pt x="12024" y="7567"/>
                  <a:pt x="12048" y="7577"/>
                </a:cubicBezTo>
                <a:cubicBezTo>
                  <a:pt x="12091" y="7596"/>
                  <a:pt x="12141" y="7589"/>
                  <a:pt x="12187" y="7589"/>
                </a:cubicBezTo>
                <a:cubicBezTo>
                  <a:pt x="12221" y="7589"/>
                  <a:pt x="12265" y="7597"/>
                  <a:pt x="12297" y="7585"/>
                </a:cubicBezTo>
                <a:cubicBezTo>
                  <a:pt x="12322" y="7575"/>
                  <a:pt x="12344" y="7553"/>
                  <a:pt x="12368" y="7540"/>
                </a:cubicBezTo>
                <a:cubicBezTo>
                  <a:pt x="12391" y="7527"/>
                  <a:pt x="12409" y="7507"/>
                  <a:pt x="12427" y="7487"/>
                </a:cubicBezTo>
                <a:cubicBezTo>
                  <a:pt x="12441" y="7472"/>
                  <a:pt x="12452" y="7459"/>
                  <a:pt x="12457" y="7438"/>
                </a:cubicBezTo>
                <a:cubicBezTo>
                  <a:pt x="12461" y="7422"/>
                  <a:pt x="12463" y="7408"/>
                  <a:pt x="12465" y="7392"/>
                </a:cubicBezTo>
                <a:cubicBezTo>
                  <a:pt x="12468" y="7362"/>
                  <a:pt x="12474" y="7305"/>
                  <a:pt x="12461" y="7278"/>
                </a:cubicBezTo>
                <a:cubicBezTo>
                  <a:pt x="12457" y="7269"/>
                  <a:pt x="12444" y="7247"/>
                  <a:pt x="12436" y="7241"/>
                </a:cubicBezTo>
                <a:cubicBezTo>
                  <a:pt x="12422" y="7231"/>
                  <a:pt x="12389" y="7221"/>
                  <a:pt x="12373" y="7220"/>
                </a:cubicBezTo>
                <a:cubicBezTo>
                  <a:pt x="12337" y="7218"/>
                  <a:pt x="12302" y="7223"/>
                  <a:pt x="12267" y="7224"/>
                </a:cubicBezTo>
                <a:cubicBezTo>
                  <a:pt x="12234" y="7225"/>
                  <a:pt x="12184" y="7225"/>
                  <a:pt x="12158" y="7249"/>
                </a:cubicBezTo>
                <a:cubicBezTo>
                  <a:pt x="12147" y="7259"/>
                  <a:pt x="12142" y="7264"/>
                  <a:pt x="12137" y="7274"/>
                </a:cubicBezTo>
              </a:path>
              <a:path w="649" h="1617">
                <a:moveTo>
                  <a:pt x="12364" y="7794"/>
                </a:moveTo>
                <a:cubicBezTo>
                  <a:pt x="12352" y="7788"/>
                  <a:pt x="12359" y="7794"/>
                  <a:pt x="12356" y="7778"/>
                </a:cubicBezTo>
                <a:cubicBezTo>
                  <a:pt x="12354" y="7770"/>
                  <a:pt x="12353" y="7805"/>
                  <a:pt x="12352" y="7811"/>
                </a:cubicBezTo>
                <a:cubicBezTo>
                  <a:pt x="12345" y="7837"/>
                  <a:pt x="12347" y="7862"/>
                  <a:pt x="12347" y="7889"/>
                </a:cubicBezTo>
                <a:cubicBezTo>
                  <a:pt x="12347" y="7946"/>
                  <a:pt x="12347" y="8004"/>
                  <a:pt x="12347" y="8061"/>
                </a:cubicBezTo>
                <a:cubicBezTo>
                  <a:pt x="12335" y="8054"/>
                  <a:pt x="12336" y="8047"/>
                  <a:pt x="12330" y="8028"/>
                </a:cubicBezTo>
                <a:cubicBezTo>
                  <a:pt x="12318" y="7992"/>
                  <a:pt x="12325" y="7959"/>
                  <a:pt x="12322" y="7922"/>
                </a:cubicBezTo>
                <a:cubicBezTo>
                  <a:pt x="12318" y="7864"/>
                  <a:pt x="12318" y="7807"/>
                  <a:pt x="12309" y="7749"/>
                </a:cubicBezTo>
                <a:cubicBezTo>
                  <a:pt x="12306" y="7727"/>
                  <a:pt x="12299" y="7706"/>
                  <a:pt x="12297" y="7684"/>
                </a:cubicBezTo>
                <a:cubicBezTo>
                  <a:pt x="12283" y="7695"/>
                  <a:pt x="12282" y="7702"/>
                  <a:pt x="12280" y="7725"/>
                </a:cubicBezTo>
                <a:cubicBezTo>
                  <a:pt x="12271" y="7849"/>
                  <a:pt x="12280" y="7977"/>
                  <a:pt x="12280" y="8102"/>
                </a:cubicBezTo>
                <a:cubicBezTo>
                  <a:pt x="12292" y="8104"/>
                  <a:pt x="12288" y="8104"/>
                  <a:pt x="12288" y="8086"/>
                </a:cubicBezTo>
                <a:cubicBezTo>
                  <a:pt x="12288" y="8049"/>
                  <a:pt x="12293" y="8012"/>
                  <a:pt x="12293" y="7975"/>
                </a:cubicBezTo>
                <a:cubicBezTo>
                  <a:pt x="12293" y="7923"/>
                  <a:pt x="12293" y="7775"/>
                  <a:pt x="12293" y="7827"/>
                </a:cubicBezTo>
                <a:cubicBezTo>
                  <a:pt x="12293" y="7913"/>
                  <a:pt x="12293" y="8000"/>
                  <a:pt x="12293" y="8086"/>
                </a:cubicBezTo>
              </a:path>
              <a:path w="649" h="1617">
                <a:moveTo>
                  <a:pt x="12356" y="6638"/>
                </a:moveTo>
                <a:cubicBezTo>
                  <a:pt x="12356" y="6788"/>
                  <a:pt x="12360" y="6939"/>
                  <a:pt x="12360" y="7089"/>
                </a:cubicBezTo>
                <a:cubicBezTo>
                  <a:pt x="12360" y="7142"/>
                  <a:pt x="12354" y="7201"/>
                  <a:pt x="12364" y="7253"/>
                </a:cubicBezTo>
                <a:cubicBezTo>
                  <a:pt x="12366" y="7261"/>
                  <a:pt x="12366" y="7269"/>
                  <a:pt x="12368" y="7278"/>
                </a:cubicBezTo>
                <a:cubicBezTo>
                  <a:pt x="12368" y="7279"/>
                  <a:pt x="12368" y="7281"/>
                  <a:pt x="12368" y="7282"/>
                </a:cubicBezTo>
                <a:cubicBezTo>
                  <a:pt x="12362" y="7279"/>
                  <a:pt x="12353" y="7283"/>
                  <a:pt x="12347" y="7278"/>
                </a:cubicBezTo>
                <a:cubicBezTo>
                  <a:pt x="12340" y="7272"/>
                  <a:pt x="12333" y="7261"/>
                  <a:pt x="12326" y="7253"/>
                </a:cubicBezTo>
                <a:cubicBezTo>
                  <a:pt x="12316" y="7242"/>
                  <a:pt x="12312" y="7224"/>
                  <a:pt x="12301" y="7212"/>
                </a:cubicBezTo>
                <a:cubicBezTo>
                  <a:pt x="12289" y="7199"/>
                  <a:pt x="12273" y="7190"/>
                  <a:pt x="12259" y="7179"/>
                </a:cubicBezTo>
                <a:cubicBezTo>
                  <a:pt x="12243" y="7166"/>
                  <a:pt x="12231" y="7155"/>
                  <a:pt x="12217" y="7142"/>
                </a:cubicBezTo>
                <a:cubicBezTo>
                  <a:pt x="12206" y="7132"/>
                  <a:pt x="12197" y="7124"/>
                  <a:pt x="12183" y="7118"/>
                </a:cubicBezTo>
                <a:cubicBezTo>
                  <a:pt x="12174" y="7115"/>
                  <a:pt x="12163" y="7113"/>
                  <a:pt x="12154" y="7109"/>
                </a:cubicBezTo>
                <a:cubicBezTo>
                  <a:pt x="12144" y="7105"/>
                  <a:pt x="12138" y="7103"/>
                  <a:pt x="12128" y="7101"/>
                </a:cubicBezTo>
                <a:cubicBezTo>
                  <a:pt x="12127" y="7101"/>
                  <a:pt x="12125" y="7101"/>
                  <a:pt x="12124" y="7101"/>
                </a:cubicBezTo>
                <a:cubicBezTo>
                  <a:pt x="12137" y="7105"/>
                  <a:pt x="12145" y="7105"/>
                  <a:pt x="12158" y="7114"/>
                </a:cubicBezTo>
                <a:cubicBezTo>
                  <a:pt x="12173" y="7125"/>
                  <a:pt x="12183" y="7135"/>
                  <a:pt x="12200" y="7142"/>
                </a:cubicBezTo>
                <a:cubicBezTo>
                  <a:pt x="12220" y="7150"/>
                  <a:pt x="12239" y="7163"/>
                  <a:pt x="12259" y="7171"/>
                </a:cubicBezTo>
                <a:cubicBezTo>
                  <a:pt x="12281" y="7180"/>
                  <a:pt x="12304" y="7181"/>
                  <a:pt x="12326" y="7191"/>
                </a:cubicBezTo>
                <a:cubicBezTo>
                  <a:pt x="12346" y="7200"/>
                  <a:pt x="12365" y="7208"/>
                  <a:pt x="12385" y="7216"/>
                </a:cubicBezTo>
                <a:cubicBezTo>
                  <a:pt x="12393" y="7219"/>
                  <a:pt x="12405" y="7224"/>
                  <a:pt x="12415" y="7228"/>
                </a:cubicBezTo>
                <a:cubicBezTo>
                  <a:pt x="12427" y="7233"/>
                  <a:pt x="12430" y="7236"/>
                  <a:pt x="12444" y="7237"/>
                </a:cubicBezTo>
                <a:cubicBezTo>
                  <a:pt x="12451" y="7237"/>
                  <a:pt x="12458" y="7237"/>
                  <a:pt x="12465" y="7237"/>
                </a:cubicBezTo>
                <a:cubicBezTo>
                  <a:pt x="12467" y="7218"/>
                  <a:pt x="12470" y="7209"/>
                  <a:pt x="12478" y="7191"/>
                </a:cubicBezTo>
                <a:cubicBezTo>
                  <a:pt x="12484" y="7178"/>
                  <a:pt x="12490" y="7161"/>
                  <a:pt x="12499" y="7150"/>
                </a:cubicBezTo>
                <a:cubicBezTo>
                  <a:pt x="12510" y="7137"/>
                  <a:pt x="12520" y="7127"/>
                  <a:pt x="12528" y="7114"/>
                </a:cubicBezTo>
                <a:cubicBezTo>
                  <a:pt x="12540" y="7095"/>
                  <a:pt x="12552" y="7076"/>
                  <a:pt x="12562" y="7056"/>
                </a:cubicBezTo>
                <a:cubicBezTo>
                  <a:pt x="12573" y="7033"/>
                  <a:pt x="12593" y="7016"/>
                  <a:pt x="12600" y="6991"/>
                </a:cubicBezTo>
                <a:cubicBezTo>
                  <a:pt x="12602" y="6983"/>
                  <a:pt x="12607" y="6971"/>
                  <a:pt x="12600" y="6982"/>
                </a:cubicBezTo>
                <a:cubicBezTo>
                  <a:pt x="12595" y="6990"/>
                  <a:pt x="12591" y="7002"/>
                  <a:pt x="12587" y="7011"/>
                </a:cubicBezTo>
              </a:path>
              <a:path w="649" h="1617">
                <a:moveTo>
                  <a:pt x="12491" y="7204"/>
                </a:moveTo>
                <a:cubicBezTo>
                  <a:pt x="12484" y="7202"/>
                  <a:pt x="12476" y="7202"/>
                  <a:pt x="12469" y="7200"/>
                </a:cubicBezTo>
                <a:cubicBezTo>
                  <a:pt x="12456" y="7197"/>
                  <a:pt x="12446" y="7196"/>
                  <a:pt x="12432" y="7196"/>
                </a:cubicBezTo>
                <a:cubicBezTo>
                  <a:pt x="12378" y="7195"/>
                  <a:pt x="12320" y="7192"/>
                  <a:pt x="12267" y="7200"/>
                </a:cubicBezTo>
                <a:cubicBezTo>
                  <a:pt x="12225" y="7207"/>
                  <a:pt x="12196" y="7229"/>
                  <a:pt x="12158" y="7245"/>
                </a:cubicBezTo>
                <a:cubicBezTo>
                  <a:pt x="12124" y="7259"/>
                  <a:pt x="12102" y="7274"/>
                  <a:pt x="12074" y="7298"/>
                </a:cubicBezTo>
                <a:cubicBezTo>
                  <a:pt x="12056" y="7313"/>
                  <a:pt x="12038" y="7333"/>
                  <a:pt x="12023" y="7347"/>
                </a:cubicBezTo>
                <a:cubicBezTo>
                  <a:pt x="12006" y="7363"/>
                  <a:pt x="12001" y="7380"/>
                  <a:pt x="11994" y="7401"/>
                </a:cubicBezTo>
                <a:cubicBezTo>
                  <a:pt x="11986" y="7425"/>
                  <a:pt x="11989" y="7449"/>
                  <a:pt x="11989" y="7474"/>
                </a:cubicBezTo>
                <a:cubicBezTo>
                  <a:pt x="11989" y="7495"/>
                  <a:pt x="11987" y="7517"/>
                  <a:pt x="11998" y="7536"/>
                </a:cubicBezTo>
                <a:cubicBezTo>
                  <a:pt x="12012" y="7561"/>
                  <a:pt x="12037" y="7569"/>
                  <a:pt x="12061" y="7577"/>
                </a:cubicBezTo>
                <a:cubicBezTo>
                  <a:pt x="12091" y="7587"/>
                  <a:pt x="12119" y="7597"/>
                  <a:pt x="12149" y="7606"/>
                </a:cubicBezTo>
                <a:cubicBezTo>
                  <a:pt x="12182" y="7616"/>
                  <a:pt x="12215" y="7625"/>
                  <a:pt x="12250" y="7626"/>
                </a:cubicBezTo>
                <a:cubicBezTo>
                  <a:pt x="12286" y="7627"/>
                  <a:pt x="12336" y="7634"/>
                  <a:pt x="12368" y="7618"/>
                </a:cubicBezTo>
                <a:cubicBezTo>
                  <a:pt x="12387" y="7609"/>
                  <a:pt x="12397" y="7597"/>
                  <a:pt x="12410" y="7581"/>
                </a:cubicBezTo>
                <a:cubicBezTo>
                  <a:pt x="12421" y="7567"/>
                  <a:pt x="12428" y="7551"/>
                  <a:pt x="12436" y="7536"/>
                </a:cubicBezTo>
                <a:cubicBezTo>
                  <a:pt x="12448" y="7515"/>
                  <a:pt x="12458" y="7497"/>
                  <a:pt x="12465" y="7474"/>
                </a:cubicBezTo>
                <a:cubicBezTo>
                  <a:pt x="12471" y="7453"/>
                  <a:pt x="12483" y="7431"/>
                  <a:pt x="12486" y="7409"/>
                </a:cubicBezTo>
                <a:cubicBezTo>
                  <a:pt x="12490" y="7376"/>
                  <a:pt x="12493" y="7322"/>
                  <a:pt x="12482" y="7290"/>
                </a:cubicBezTo>
                <a:cubicBezTo>
                  <a:pt x="12477" y="7274"/>
                  <a:pt x="12459" y="7261"/>
                  <a:pt x="12444" y="7257"/>
                </a:cubicBezTo>
                <a:cubicBezTo>
                  <a:pt x="12426" y="7252"/>
                  <a:pt x="12402" y="7259"/>
                  <a:pt x="12385" y="7261"/>
                </a:cubicBezTo>
              </a:path>
              <a:path w="649" h="1617">
                <a:moveTo>
                  <a:pt x="12330" y="7827"/>
                </a:moveTo>
                <a:cubicBezTo>
                  <a:pt x="12338" y="7827"/>
                  <a:pt x="12344" y="7825"/>
                  <a:pt x="12347" y="7831"/>
                </a:cubicBezTo>
                <a:cubicBezTo>
                  <a:pt x="12412" y="7944"/>
                  <a:pt x="12347" y="8335"/>
                  <a:pt x="12347" y="8205"/>
                </a:cubicBezTo>
                <a:cubicBezTo>
                  <a:pt x="12347" y="8201"/>
                  <a:pt x="12347" y="8196"/>
                  <a:pt x="12347" y="8192"/>
                </a:cubicBezTo>
                <a:cubicBezTo>
                  <a:pt x="12347" y="8066"/>
                  <a:pt x="12347" y="7941"/>
                  <a:pt x="12347" y="7815"/>
                </a:cubicBezTo>
                <a:cubicBezTo>
                  <a:pt x="12341" y="7846"/>
                  <a:pt x="12335" y="7871"/>
                  <a:pt x="12335" y="7905"/>
                </a:cubicBezTo>
                <a:cubicBezTo>
                  <a:pt x="12334" y="7954"/>
                  <a:pt x="12331" y="8005"/>
                  <a:pt x="12339" y="8053"/>
                </a:cubicBezTo>
                <a:cubicBezTo>
                  <a:pt x="12342" y="8064"/>
                  <a:pt x="12344" y="8075"/>
                  <a:pt x="12347" y="80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5753160" y="5276880"/>
            <a:ext cx="547560" cy="79200"/>
          </a:xfrm>
          <a:custGeom>
            <a:avLst/>
            <a:gdLst/>
            <a:ahLst/>
            <a:rect l="l" t="t" r="r" b="b"/>
            <a:pathLst>
              <a:path w="1521" h="218">
                <a:moveTo>
                  <a:pt x="15979" y="14873"/>
                </a:moveTo>
                <a:cubicBezTo>
                  <a:pt x="15991" y="14874"/>
                  <a:pt x="16002" y="14877"/>
                  <a:pt x="16013" y="14877"/>
                </a:cubicBezTo>
                <a:cubicBezTo>
                  <a:pt x="16062" y="14879"/>
                  <a:pt x="16077" y="14866"/>
                  <a:pt x="16118" y="14845"/>
                </a:cubicBezTo>
                <a:cubicBezTo>
                  <a:pt x="16172" y="14817"/>
                  <a:pt x="16223" y="14820"/>
                  <a:pt x="16282" y="14820"/>
                </a:cubicBezTo>
                <a:cubicBezTo>
                  <a:pt x="16540" y="14820"/>
                  <a:pt x="16799" y="14823"/>
                  <a:pt x="17057" y="14812"/>
                </a:cubicBezTo>
                <a:cubicBezTo>
                  <a:pt x="17160" y="14808"/>
                  <a:pt x="17276" y="14829"/>
                  <a:pt x="17377" y="14808"/>
                </a:cubicBezTo>
                <a:cubicBezTo>
                  <a:pt x="17423" y="14799"/>
                  <a:pt x="17441" y="14790"/>
                  <a:pt x="17486" y="14812"/>
                </a:cubicBezTo>
                <a:cubicBezTo>
                  <a:pt x="17495" y="14816"/>
                  <a:pt x="17486" y="14814"/>
                  <a:pt x="17494" y="14820"/>
                </a:cubicBezTo>
                <a:cubicBezTo>
                  <a:pt x="17464" y="14774"/>
                  <a:pt x="17422" y="14721"/>
                  <a:pt x="17385" y="14693"/>
                </a:cubicBezTo>
                <a:cubicBezTo>
                  <a:pt x="17330" y="14651"/>
                  <a:pt x="17170" y="14662"/>
                  <a:pt x="17111" y="14660"/>
                </a:cubicBezTo>
                <a:cubicBezTo>
                  <a:pt x="17068" y="14660"/>
                  <a:pt x="17024" y="14660"/>
                  <a:pt x="16981" y="14660"/>
                </a:cubicBezTo>
              </a:path>
            </a:pathLst>
          </a:custGeom>
          <a:noFill/>
          <a:ln cap="rnd" w="28440">
            <a:solidFill>
              <a:srgbClr val="ff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42" name=""/>
          <p:cNvSpPr/>
          <p:nvPr/>
        </p:nvSpPr>
        <p:spPr>
          <a:xfrm>
            <a:off x="5605560" y="1754280"/>
            <a:ext cx="1141200" cy="2228760"/>
          </a:xfrm>
          <a:custGeom>
            <a:avLst/>
            <a:gdLst/>
            <a:ahLst/>
            <a:rect l="l" t="t" r="r" b="b"/>
            <a:pathLst>
              <a:path w="3170" h="6191">
                <a:moveTo>
                  <a:pt x="15937" y="4886"/>
                </a:moveTo>
                <a:cubicBezTo>
                  <a:pt x="15954" y="4886"/>
                  <a:pt x="15962" y="4886"/>
                  <a:pt x="15979" y="4886"/>
                </a:cubicBezTo>
                <a:cubicBezTo>
                  <a:pt x="16079" y="4886"/>
                  <a:pt x="16187" y="4875"/>
                  <a:pt x="16286" y="4890"/>
                </a:cubicBezTo>
                <a:cubicBezTo>
                  <a:pt x="16312" y="4894"/>
                  <a:pt x="16336" y="4900"/>
                  <a:pt x="16362" y="4902"/>
                </a:cubicBezTo>
                <a:cubicBezTo>
                  <a:pt x="16417" y="4906"/>
                  <a:pt x="16472" y="4897"/>
                  <a:pt x="16526" y="4906"/>
                </a:cubicBezTo>
                <a:cubicBezTo>
                  <a:pt x="16549" y="4910"/>
                  <a:pt x="16571" y="4915"/>
                  <a:pt x="16594" y="4918"/>
                </a:cubicBezTo>
                <a:cubicBezTo>
                  <a:pt x="16629" y="4922"/>
                  <a:pt x="16664" y="4930"/>
                  <a:pt x="16699" y="4939"/>
                </a:cubicBezTo>
                <a:cubicBezTo>
                  <a:pt x="16725" y="4946"/>
                  <a:pt x="16752" y="4954"/>
                  <a:pt x="16779" y="4959"/>
                </a:cubicBezTo>
                <a:cubicBezTo>
                  <a:pt x="16803" y="4963"/>
                  <a:pt x="16827" y="4967"/>
                  <a:pt x="16850" y="4972"/>
                </a:cubicBezTo>
                <a:cubicBezTo>
                  <a:pt x="16872" y="4977"/>
                  <a:pt x="16891" y="4986"/>
                  <a:pt x="16913" y="4988"/>
                </a:cubicBezTo>
                <a:cubicBezTo>
                  <a:pt x="16935" y="4990"/>
                  <a:pt x="16951" y="4997"/>
                  <a:pt x="16972" y="5000"/>
                </a:cubicBezTo>
                <a:cubicBezTo>
                  <a:pt x="16992" y="5003"/>
                  <a:pt x="17011" y="5005"/>
                  <a:pt x="17031" y="5009"/>
                </a:cubicBezTo>
                <a:cubicBezTo>
                  <a:pt x="17051" y="5013"/>
                  <a:pt x="17069" y="5013"/>
                  <a:pt x="17090" y="5013"/>
                </a:cubicBezTo>
                <a:cubicBezTo>
                  <a:pt x="17108" y="5013"/>
                  <a:pt x="17128" y="5008"/>
                  <a:pt x="17145" y="5009"/>
                </a:cubicBezTo>
                <a:cubicBezTo>
                  <a:pt x="17162" y="5010"/>
                  <a:pt x="17178" y="5013"/>
                  <a:pt x="17195" y="5013"/>
                </a:cubicBezTo>
                <a:cubicBezTo>
                  <a:pt x="17215" y="5013"/>
                  <a:pt x="17216" y="5011"/>
                  <a:pt x="17225" y="5021"/>
                </a:cubicBezTo>
                <a:cubicBezTo>
                  <a:pt x="17225" y="5025"/>
                  <a:pt x="17225" y="5029"/>
                  <a:pt x="17225" y="5033"/>
                </a:cubicBezTo>
              </a:path>
              <a:path w="3170" h="6191">
                <a:moveTo>
                  <a:pt x="15928" y="4873"/>
                </a:moveTo>
                <a:cubicBezTo>
                  <a:pt x="15942" y="4873"/>
                  <a:pt x="15951" y="4877"/>
                  <a:pt x="15966" y="4877"/>
                </a:cubicBezTo>
                <a:cubicBezTo>
                  <a:pt x="16189" y="4881"/>
                  <a:pt x="16399" y="4881"/>
                  <a:pt x="16615" y="4943"/>
                </a:cubicBezTo>
                <a:cubicBezTo>
                  <a:pt x="16644" y="4951"/>
                  <a:pt x="16665" y="4966"/>
                  <a:pt x="16695" y="4972"/>
                </a:cubicBezTo>
                <a:cubicBezTo>
                  <a:pt x="16777" y="4989"/>
                  <a:pt x="16857" y="4990"/>
                  <a:pt x="16939" y="5009"/>
                </a:cubicBezTo>
                <a:cubicBezTo>
                  <a:pt x="17001" y="5023"/>
                  <a:pt x="17064" y="5045"/>
                  <a:pt x="17120" y="5058"/>
                </a:cubicBezTo>
                <a:cubicBezTo>
                  <a:pt x="17148" y="5065"/>
                  <a:pt x="17183" y="5075"/>
                  <a:pt x="17212" y="5078"/>
                </a:cubicBezTo>
                <a:cubicBezTo>
                  <a:pt x="17236" y="5081"/>
                  <a:pt x="17260" y="5076"/>
                  <a:pt x="17284" y="5078"/>
                </a:cubicBezTo>
                <a:cubicBezTo>
                  <a:pt x="17281" y="5205"/>
                  <a:pt x="17273" y="5329"/>
                  <a:pt x="17263" y="5456"/>
                </a:cubicBezTo>
                <a:cubicBezTo>
                  <a:pt x="17246" y="5661"/>
                  <a:pt x="17238" y="5861"/>
                  <a:pt x="17238" y="6067"/>
                </a:cubicBezTo>
                <a:cubicBezTo>
                  <a:pt x="17238" y="6315"/>
                  <a:pt x="17253" y="6554"/>
                  <a:pt x="17271" y="6801"/>
                </a:cubicBezTo>
                <a:cubicBezTo>
                  <a:pt x="17289" y="7050"/>
                  <a:pt x="17272" y="7302"/>
                  <a:pt x="17288" y="7552"/>
                </a:cubicBezTo>
                <a:cubicBezTo>
                  <a:pt x="17296" y="7667"/>
                  <a:pt x="17303" y="7786"/>
                  <a:pt x="17318" y="7900"/>
                </a:cubicBezTo>
                <a:cubicBezTo>
                  <a:pt x="17328" y="7976"/>
                  <a:pt x="17343" y="8049"/>
                  <a:pt x="17347" y="8126"/>
                </a:cubicBezTo>
                <a:cubicBezTo>
                  <a:pt x="17352" y="8241"/>
                  <a:pt x="17351" y="8356"/>
                  <a:pt x="17360" y="8470"/>
                </a:cubicBezTo>
                <a:cubicBezTo>
                  <a:pt x="17371" y="8615"/>
                  <a:pt x="17374" y="8768"/>
                  <a:pt x="17381" y="8909"/>
                </a:cubicBezTo>
                <a:cubicBezTo>
                  <a:pt x="17386" y="9007"/>
                  <a:pt x="17389" y="9106"/>
                  <a:pt x="17389" y="9205"/>
                </a:cubicBezTo>
                <a:cubicBezTo>
                  <a:pt x="17389" y="9264"/>
                  <a:pt x="17441" y="9392"/>
                  <a:pt x="17393" y="9356"/>
                </a:cubicBezTo>
                <a:cubicBezTo>
                  <a:pt x="17382" y="9348"/>
                  <a:pt x="17357" y="9277"/>
                  <a:pt x="17351" y="9262"/>
                </a:cubicBezTo>
                <a:cubicBezTo>
                  <a:pt x="17339" y="9231"/>
                  <a:pt x="17333" y="9196"/>
                  <a:pt x="17322" y="9164"/>
                </a:cubicBezTo>
                <a:cubicBezTo>
                  <a:pt x="17279" y="9040"/>
                  <a:pt x="17238" y="8913"/>
                  <a:pt x="17191" y="8795"/>
                </a:cubicBezTo>
                <a:cubicBezTo>
                  <a:pt x="17201" y="8817"/>
                  <a:pt x="17216" y="8838"/>
                  <a:pt x="17225" y="8860"/>
                </a:cubicBezTo>
                <a:cubicBezTo>
                  <a:pt x="17287" y="9008"/>
                  <a:pt x="17302" y="9174"/>
                  <a:pt x="17368" y="9320"/>
                </a:cubicBezTo>
                <a:cubicBezTo>
                  <a:pt x="17373" y="9332"/>
                  <a:pt x="17409" y="9418"/>
                  <a:pt x="17423" y="9418"/>
                </a:cubicBezTo>
                <a:cubicBezTo>
                  <a:pt x="17463" y="9417"/>
                  <a:pt x="17458" y="9379"/>
                  <a:pt x="17473" y="9348"/>
                </a:cubicBezTo>
                <a:cubicBezTo>
                  <a:pt x="17544" y="9204"/>
                  <a:pt x="17559" y="9006"/>
                  <a:pt x="17612" y="8852"/>
                </a:cubicBezTo>
                <a:cubicBezTo>
                  <a:pt x="17622" y="8823"/>
                  <a:pt x="17634" y="8786"/>
                  <a:pt x="17646" y="8758"/>
                </a:cubicBezTo>
                <a:cubicBezTo>
                  <a:pt x="17649" y="8751"/>
                  <a:pt x="17643" y="8781"/>
                  <a:pt x="17646" y="8774"/>
                </a:cubicBezTo>
              </a:path>
              <a:path w="3170" h="6191">
                <a:moveTo>
                  <a:pt x="17528" y="9512"/>
                </a:moveTo>
                <a:cubicBezTo>
                  <a:pt x="17496" y="9513"/>
                  <a:pt x="17462" y="9505"/>
                  <a:pt x="17435" y="9525"/>
                </a:cubicBezTo>
                <a:cubicBezTo>
                  <a:pt x="17416" y="9539"/>
                  <a:pt x="17404" y="9556"/>
                  <a:pt x="17389" y="9574"/>
                </a:cubicBezTo>
                <a:cubicBezTo>
                  <a:pt x="17371" y="9596"/>
                  <a:pt x="17352" y="9613"/>
                  <a:pt x="17334" y="9635"/>
                </a:cubicBezTo>
                <a:cubicBezTo>
                  <a:pt x="17305" y="9669"/>
                  <a:pt x="17275" y="9706"/>
                  <a:pt x="17254" y="9746"/>
                </a:cubicBezTo>
                <a:cubicBezTo>
                  <a:pt x="17239" y="9774"/>
                  <a:pt x="17225" y="9813"/>
                  <a:pt x="17217" y="9845"/>
                </a:cubicBezTo>
                <a:cubicBezTo>
                  <a:pt x="17211" y="9868"/>
                  <a:pt x="17207" y="9904"/>
                  <a:pt x="17212" y="9927"/>
                </a:cubicBezTo>
                <a:cubicBezTo>
                  <a:pt x="17221" y="9970"/>
                  <a:pt x="17249" y="10001"/>
                  <a:pt x="17284" y="10025"/>
                </a:cubicBezTo>
                <a:cubicBezTo>
                  <a:pt x="17302" y="10038"/>
                  <a:pt x="17318" y="10043"/>
                  <a:pt x="17339" y="10050"/>
                </a:cubicBezTo>
                <a:cubicBezTo>
                  <a:pt x="17370" y="10061"/>
                  <a:pt x="17395" y="10061"/>
                  <a:pt x="17427" y="10062"/>
                </a:cubicBezTo>
                <a:cubicBezTo>
                  <a:pt x="17455" y="10063"/>
                  <a:pt x="17468" y="10060"/>
                  <a:pt x="17490" y="10041"/>
                </a:cubicBezTo>
                <a:cubicBezTo>
                  <a:pt x="17513" y="10021"/>
                  <a:pt x="17528" y="9986"/>
                  <a:pt x="17541" y="9959"/>
                </a:cubicBezTo>
                <a:cubicBezTo>
                  <a:pt x="17554" y="9934"/>
                  <a:pt x="17562" y="9908"/>
                  <a:pt x="17570" y="9881"/>
                </a:cubicBezTo>
                <a:cubicBezTo>
                  <a:pt x="17576" y="9860"/>
                  <a:pt x="17584" y="9838"/>
                  <a:pt x="17587" y="9816"/>
                </a:cubicBezTo>
                <a:cubicBezTo>
                  <a:pt x="17590" y="9794"/>
                  <a:pt x="17591" y="9772"/>
                  <a:pt x="17591" y="9750"/>
                </a:cubicBezTo>
                <a:cubicBezTo>
                  <a:pt x="17592" y="9724"/>
                  <a:pt x="17598" y="9688"/>
                  <a:pt x="17587" y="9664"/>
                </a:cubicBezTo>
                <a:cubicBezTo>
                  <a:pt x="17578" y="9644"/>
                  <a:pt x="17564" y="9629"/>
                  <a:pt x="17549" y="9619"/>
                </a:cubicBezTo>
                <a:cubicBezTo>
                  <a:pt x="17529" y="9605"/>
                  <a:pt x="17510" y="9601"/>
                  <a:pt x="17486" y="9598"/>
                </a:cubicBezTo>
                <a:cubicBezTo>
                  <a:pt x="17432" y="9591"/>
                  <a:pt x="17335" y="9586"/>
                  <a:pt x="17284" y="9607"/>
                </a:cubicBezTo>
                <a:cubicBezTo>
                  <a:pt x="17258" y="9618"/>
                  <a:pt x="17227" y="9639"/>
                  <a:pt x="17204" y="9656"/>
                </a:cubicBezTo>
                <a:cubicBezTo>
                  <a:pt x="17177" y="9676"/>
                  <a:pt x="17147" y="9700"/>
                  <a:pt x="17132" y="9730"/>
                </a:cubicBezTo>
                <a:cubicBezTo>
                  <a:pt x="17100" y="9795"/>
                  <a:pt x="17131" y="9865"/>
                  <a:pt x="17162" y="9923"/>
                </a:cubicBezTo>
                <a:cubicBezTo>
                  <a:pt x="17179" y="9954"/>
                  <a:pt x="17196" y="9972"/>
                  <a:pt x="17221" y="9996"/>
                </a:cubicBezTo>
                <a:cubicBezTo>
                  <a:pt x="17241" y="10015"/>
                  <a:pt x="17260" y="10031"/>
                  <a:pt x="17284" y="10041"/>
                </a:cubicBezTo>
                <a:cubicBezTo>
                  <a:pt x="17324" y="10057"/>
                  <a:pt x="17388" y="10055"/>
                  <a:pt x="17431" y="10050"/>
                </a:cubicBezTo>
                <a:cubicBezTo>
                  <a:pt x="17452" y="10048"/>
                  <a:pt x="17471" y="10040"/>
                  <a:pt x="17490" y="10033"/>
                </a:cubicBezTo>
                <a:cubicBezTo>
                  <a:pt x="17507" y="10027"/>
                  <a:pt x="17526" y="10019"/>
                  <a:pt x="17541" y="10009"/>
                </a:cubicBezTo>
                <a:cubicBezTo>
                  <a:pt x="17559" y="9997"/>
                  <a:pt x="17573" y="9984"/>
                  <a:pt x="17587" y="9968"/>
                </a:cubicBezTo>
                <a:cubicBezTo>
                  <a:pt x="17605" y="9947"/>
                  <a:pt x="17618" y="9912"/>
                  <a:pt x="17625" y="9886"/>
                </a:cubicBezTo>
                <a:cubicBezTo>
                  <a:pt x="17632" y="9862"/>
                  <a:pt x="17634" y="9837"/>
                  <a:pt x="17637" y="9812"/>
                </a:cubicBezTo>
                <a:cubicBezTo>
                  <a:pt x="17639" y="9799"/>
                  <a:pt x="17642" y="9789"/>
                  <a:pt x="17642" y="9775"/>
                </a:cubicBezTo>
                <a:cubicBezTo>
                  <a:pt x="17642" y="9771"/>
                  <a:pt x="17642" y="9769"/>
                  <a:pt x="17637" y="9771"/>
                </a:cubicBezTo>
                <a:cubicBezTo>
                  <a:pt x="17646" y="9781"/>
                  <a:pt x="17639" y="9795"/>
                  <a:pt x="17654" y="9804"/>
                </a:cubicBezTo>
                <a:cubicBezTo>
                  <a:pt x="17669" y="9813"/>
                  <a:pt x="17680" y="9809"/>
                  <a:pt x="17696" y="9812"/>
                </a:cubicBezTo>
                <a:cubicBezTo>
                  <a:pt x="17753" y="9821"/>
                  <a:pt x="17816" y="9815"/>
                  <a:pt x="17873" y="9820"/>
                </a:cubicBezTo>
                <a:cubicBezTo>
                  <a:pt x="17913" y="9824"/>
                  <a:pt x="17955" y="9825"/>
                  <a:pt x="17995" y="9832"/>
                </a:cubicBezTo>
                <a:cubicBezTo>
                  <a:pt x="18049" y="9841"/>
                  <a:pt x="18100" y="9858"/>
                  <a:pt x="18155" y="9861"/>
                </a:cubicBezTo>
                <a:cubicBezTo>
                  <a:pt x="18179" y="9862"/>
                  <a:pt x="18203" y="9864"/>
                  <a:pt x="18227" y="9865"/>
                </a:cubicBezTo>
                <a:cubicBezTo>
                  <a:pt x="18329" y="9868"/>
                  <a:pt x="18429" y="9865"/>
                  <a:pt x="18530" y="9873"/>
                </a:cubicBezTo>
                <a:cubicBezTo>
                  <a:pt x="18589" y="9878"/>
                  <a:pt x="18648" y="9879"/>
                  <a:pt x="18707" y="9873"/>
                </a:cubicBezTo>
                <a:cubicBezTo>
                  <a:pt x="18717" y="9872"/>
                  <a:pt x="18725" y="9869"/>
                  <a:pt x="18736" y="9869"/>
                </a:cubicBezTo>
                <a:cubicBezTo>
                  <a:pt x="18740" y="9869"/>
                  <a:pt x="18741" y="9869"/>
                  <a:pt x="18740" y="9873"/>
                </a:cubicBezTo>
              </a:path>
              <a:path w="3170" h="6191">
                <a:moveTo>
                  <a:pt x="15571" y="9799"/>
                </a:moveTo>
                <a:cubicBezTo>
                  <a:pt x="15574" y="9802"/>
                  <a:pt x="15576" y="9816"/>
                  <a:pt x="15583" y="9820"/>
                </a:cubicBezTo>
                <a:cubicBezTo>
                  <a:pt x="15613" y="9836"/>
                  <a:pt x="15640" y="9835"/>
                  <a:pt x="15672" y="9836"/>
                </a:cubicBezTo>
                <a:cubicBezTo>
                  <a:pt x="15739" y="9838"/>
                  <a:pt x="15804" y="9832"/>
                  <a:pt x="15870" y="9820"/>
                </a:cubicBezTo>
                <a:cubicBezTo>
                  <a:pt x="15920" y="9811"/>
                  <a:pt x="15966" y="9796"/>
                  <a:pt x="16017" y="9795"/>
                </a:cubicBezTo>
                <a:cubicBezTo>
                  <a:pt x="16137" y="9793"/>
                  <a:pt x="16264" y="9786"/>
                  <a:pt x="16383" y="9799"/>
                </a:cubicBezTo>
                <a:cubicBezTo>
                  <a:pt x="16413" y="9802"/>
                  <a:pt x="16440" y="9807"/>
                  <a:pt x="16471" y="9808"/>
                </a:cubicBezTo>
                <a:cubicBezTo>
                  <a:pt x="16524" y="9809"/>
                  <a:pt x="16571" y="9819"/>
                  <a:pt x="16623" y="9824"/>
                </a:cubicBezTo>
                <a:cubicBezTo>
                  <a:pt x="16748" y="9837"/>
                  <a:pt x="16880" y="9824"/>
                  <a:pt x="17006" y="9824"/>
                </a:cubicBezTo>
                <a:cubicBezTo>
                  <a:pt x="17002" y="9819"/>
                  <a:pt x="17005" y="9805"/>
                  <a:pt x="16998" y="9799"/>
                </a:cubicBezTo>
                <a:cubicBezTo>
                  <a:pt x="16984" y="9787"/>
                  <a:pt x="16967" y="9780"/>
                  <a:pt x="16951" y="9771"/>
                </a:cubicBezTo>
                <a:cubicBezTo>
                  <a:pt x="16925" y="9756"/>
                  <a:pt x="16907" y="9744"/>
                  <a:pt x="16884" y="9726"/>
                </a:cubicBezTo>
                <a:cubicBezTo>
                  <a:pt x="16870" y="9715"/>
                  <a:pt x="16855" y="9705"/>
                  <a:pt x="16842" y="9693"/>
                </a:cubicBezTo>
                <a:cubicBezTo>
                  <a:pt x="16835" y="9686"/>
                  <a:pt x="16823" y="9675"/>
                  <a:pt x="16817" y="9668"/>
                </a:cubicBezTo>
                <a:cubicBezTo>
                  <a:pt x="16812" y="9662"/>
                  <a:pt x="16806" y="9657"/>
                  <a:pt x="16804" y="9652"/>
                </a:cubicBezTo>
                <a:cubicBezTo>
                  <a:pt x="16797" y="9637"/>
                  <a:pt x="16778" y="9617"/>
                  <a:pt x="16791" y="9607"/>
                </a:cubicBezTo>
                <a:cubicBezTo>
                  <a:pt x="16797" y="9602"/>
                  <a:pt x="16793" y="9607"/>
                  <a:pt x="16800" y="9611"/>
                </a:cubicBezTo>
                <a:cubicBezTo>
                  <a:pt x="16822" y="9622"/>
                  <a:pt x="16837" y="9648"/>
                  <a:pt x="16855" y="9664"/>
                </a:cubicBezTo>
                <a:cubicBezTo>
                  <a:pt x="16883" y="9688"/>
                  <a:pt x="16916" y="9703"/>
                  <a:pt x="16947" y="9722"/>
                </a:cubicBezTo>
                <a:cubicBezTo>
                  <a:pt x="16993" y="9751"/>
                  <a:pt x="17039" y="9777"/>
                  <a:pt x="17086" y="9804"/>
                </a:cubicBezTo>
                <a:cubicBezTo>
                  <a:pt x="17103" y="9814"/>
                  <a:pt x="17120" y="9826"/>
                  <a:pt x="17137" y="9836"/>
                </a:cubicBezTo>
                <a:cubicBezTo>
                  <a:pt x="17139" y="9837"/>
                  <a:pt x="17160" y="9852"/>
                  <a:pt x="17162" y="9853"/>
                </a:cubicBezTo>
                <a:cubicBezTo>
                  <a:pt x="17167" y="9858"/>
                  <a:pt x="17167" y="9864"/>
                  <a:pt x="17170" y="9869"/>
                </a:cubicBezTo>
                <a:cubicBezTo>
                  <a:pt x="17173" y="9873"/>
                  <a:pt x="17182" y="9874"/>
                  <a:pt x="17183" y="9881"/>
                </a:cubicBezTo>
                <a:cubicBezTo>
                  <a:pt x="17185" y="9899"/>
                  <a:pt x="17182" y="9903"/>
                  <a:pt x="17174" y="9914"/>
                </a:cubicBezTo>
                <a:cubicBezTo>
                  <a:pt x="17164" y="9928"/>
                  <a:pt x="17149" y="9932"/>
                  <a:pt x="17137" y="9943"/>
                </a:cubicBezTo>
                <a:cubicBezTo>
                  <a:pt x="17119" y="9960"/>
                  <a:pt x="17103" y="9977"/>
                  <a:pt x="17082" y="9992"/>
                </a:cubicBezTo>
                <a:cubicBezTo>
                  <a:pt x="17061" y="10007"/>
                  <a:pt x="17036" y="10023"/>
                  <a:pt x="17014" y="10037"/>
                </a:cubicBezTo>
                <a:cubicBezTo>
                  <a:pt x="16993" y="10051"/>
                  <a:pt x="16971" y="10061"/>
                  <a:pt x="16951" y="10078"/>
                </a:cubicBezTo>
                <a:cubicBezTo>
                  <a:pt x="16939" y="10089"/>
                  <a:pt x="16926" y="10103"/>
                  <a:pt x="16913" y="10115"/>
                </a:cubicBezTo>
                <a:cubicBezTo>
                  <a:pt x="16900" y="10127"/>
                  <a:pt x="16891" y="10135"/>
                  <a:pt x="16884" y="10152"/>
                </a:cubicBezTo>
                <a:cubicBezTo>
                  <a:pt x="16879" y="10164"/>
                  <a:pt x="16870" y="10187"/>
                  <a:pt x="16867" y="10201"/>
                </a:cubicBezTo>
                <a:cubicBezTo>
                  <a:pt x="16867" y="10206"/>
                  <a:pt x="16867" y="10207"/>
                  <a:pt x="16871" y="10206"/>
                </a:cubicBezTo>
              </a:path>
              <a:path w="3170" h="6191">
                <a:moveTo>
                  <a:pt x="17217" y="10850"/>
                </a:moveTo>
                <a:cubicBezTo>
                  <a:pt x="17208" y="10860"/>
                  <a:pt x="17203" y="10864"/>
                  <a:pt x="17195" y="10874"/>
                </a:cubicBezTo>
                <a:cubicBezTo>
                  <a:pt x="17188" y="10883"/>
                  <a:pt x="17182" y="10895"/>
                  <a:pt x="17179" y="10907"/>
                </a:cubicBezTo>
                <a:cubicBezTo>
                  <a:pt x="17178" y="10912"/>
                  <a:pt x="17180" y="10918"/>
                  <a:pt x="17179" y="10923"/>
                </a:cubicBezTo>
                <a:cubicBezTo>
                  <a:pt x="17191" y="10917"/>
                  <a:pt x="17208" y="10918"/>
                  <a:pt x="17221" y="10907"/>
                </a:cubicBezTo>
                <a:cubicBezTo>
                  <a:pt x="17239" y="10892"/>
                  <a:pt x="17267" y="10862"/>
                  <a:pt x="17280" y="10841"/>
                </a:cubicBezTo>
                <a:cubicBezTo>
                  <a:pt x="17305" y="10803"/>
                  <a:pt x="17331" y="10759"/>
                  <a:pt x="17351" y="10718"/>
                </a:cubicBezTo>
                <a:cubicBezTo>
                  <a:pt x="17371" y="10676"/>
                  <a:pt x="17396" y="10638"/>
                  <a:pt x="17414" y="10595"/>
                </a:cubicBezTo>
                <a:cubicBezTo>
                  <a:pt x="17432" y="10552"/>
                  <a:pt x="17448" y="10509"/>
                  <a:pt x="17461" y="10464"/>
                </a:cubicBezTo>
                <a:cubicBezTo>
                  <a:pt x="17471" y="10431"/>
                  <a:pt x="17478" y="10398"/>
                  <a:pt x="17490" y="10366"/>
                </a:cubicBezTo>
                <a:cubicBezTo>
                  <a:pt x="17499" y="10341"/>
                  <a:pt x="17505" y="10316"/>
                  <a:pt x="17515" y="10292"/>
                </a:cubicBezTo>
                <a:cubicBezTo>
                  <a:pt x="17525" y="10268"/>
                  <a:pt x="17525" y="10256"/>
                  <a:pt x="17528" y="10230"/>
                </a:cubicBezTo>
                <a:cubicBezTo>
                  <a:pt x="17529" y="10220"/>
                  <a:pt x="17530" y="10211"/>
                  <a:pt x="17532" y="10201"/>
                </a:cubicBezTo>
                <a:cubicBezTo>
                  <a:pt x="17533" y="10195"/>
                  <a:pt x="17530" y="10215"/>
                  <a:pt x="17532" y="10210"/>
                </a:cubicBezTo>
                <a:cubicBezTo>
                  <a:pt x="17531" y="10233"/>
                  <a:pt x="17529" y="10256"/>
                  <a:pt x="17528" y="10279"/>
                </a:cubicBezTo>
                <a:cubicBezTo>
                  <a:pt x="17527" y="10296"/>
                  <a:pt x="17533" y="10330"/>
                  <a:pt x="17524" y="10341"/>
                </a:cubicBezTo>
                <a:cubicBezTo>
                  <a:pt x="17519" y="10346"/>
                  <a:pt x="17513" y="10341"/>
                  <a:pt x="17507" y="10345"/>
                </a:cubicBezTo>
                <a:cubicBezTo>
                  <a:pt x="17484" y="10360"/>
                  <a:pt x="17476" y="10381"/>
                  <a:pt x="17465" y="10407"/>
                </a:cubicBezTo>
                <a:cubicBezTo>
                  <a:pt x="17452" y="10440"/>
                  <a:pt x="17439" y="10473"/>
                  <a:pt x="17423" y="10505"/>
                </a:cubicBezTo>
                <a:cubicBezTo>
                  <a:pt x="17402" y="10548"/>
                  <a:pt x="17384" y="10591"/>
                  <a:pt x="17360" y="10632"/>
                </a:cubicBezTo>
                <a:cubicBezTo>
                  <a:pt x="17333" y="10677"/>
                  <a:pt x="17295" y="10717"/>
                  <a:pt x="17271" y="10763"/>
                </a:cubicBezTo>
                <a:cubicBezTo>
                  <a:pt x="17256" y="10792"/>
                  <a:pt x="17253" y="10800"/>
                  <a:pt x="17229" y="10821"/>
                </a:cubicBezTo>
                <a:cubicBezTo>
                  <a:pt x="17210" y="10851"/>
                  <a:pt x="17221" y="10834"/>
                  <a:pt x="17233" y="10813"/>
                </a:cubicBezTo>
                <a:cubicBezTo>
                  <a:pt x="17256" y="10772"/>
                  <a:pt x="17271" y="10729"/>
                  <a:pt x="17288" y="10685"/>
                </a:cubicBezTo>
                <a:cubicBezTo>
                  <a:pt x="17321" y="10601"/>
                  <a:pt x="17357" y="10518"/>
                  <a:pt x="17381" y="10431"/>
                </a:cubicBezTo>
                <a:cubicBezTo>
                  <a:pt x="17390" y="10398"/>
                  <a:pt x="17400" y="10371"/>
                  <a:pt x="17402" y="10337"/>
                </a:cubicBezTo>
                <a:cubicBezTo>
                  <a:pt x="17402" y="10322"/>
                  <a:pt x="17402" y="10318"/>
                  <a:pt x="17402" y="10308"/>
                </a:cubicBezTo>
                <a:cubicBezTo>
                  <a:pt x="17391" y="10306"/>
                  <a:pt x="17417" y="10272"/>
                  <a:pt x="17389" y="10320"/>
                </a:cubicBezTo>
                <a:cubicBezTo>
                  <a:pt x="17364" y="10364"/>
                  <a:pt x="17348" y="10414"/>
                  <a:pt x="17326" y="10460"/>
                </a:cubicBezTo>
                <a:cubicBezTo>
                  <a:pt x="17294" y="10526"/>
                  <a:pt x="17256" y="10587"/>
                  <a:pt x="17217" y="10649"/>
                </a:cubicBezTo>
                <a:cubicBezTo>
                  <a:pt x="17194" y="10685"/>
                  <a:pt x="17171" y="10726"/>
                  <a:pt x="17158" y="10767"/>
                </a:cubicBezTo>
                <a:cubicBezTo>
                  <a:pt x="17155" y="10778"/>
                  <a:pt x="17158" y="10766"/>
                  <a:pt x="17153" y="10776"/>
                </a:cubicBezTo>
                <a:cubicBezTo>
                  <a:pt x="17172" y="10736"/>
                  <a:pt x="17192" y="10698"/>
                  <a:pt x="17208" y="10657"/>
                </a:cubicBezTo>
                <a:cubicBezTo>
                  <a:pt x="17240" y="10578"/>
                  <a:pt x="17272" y="10499"/>
                  <a:pt x="17301" y="10419"/>
                </a:cubicBezTo>
                <a:cubicBezTo>
                  <a:pt x="17323" y="10359"/>
                  <a:pt x="17348" y="10301"/>
                  <a:pt x="17372" y="10242"/>
                </a:cubicBezTo>
                <a:cubicBezTo>
                  <a:pt x="17379" y="10225"/>
                  <a:pt x="17381" y="10214"/>
                  <a:pt x="17385" y="10197"/>
                </a:cubicBezTo>
                <a:cubicBezTo>
                  <a:pt x="17375" y="10222"/>
                  <a:pt x="17368" y="10249"/>
                  <a:pt x="17360" y="10275"/>
                </a:cubicBezTo>
                <a:cubicBezTo>
                  <a:pt x="17348" y="10316"/>
                  <a:pt x="17338" y="10357"/>
                  <a:pt x="17326" y="10398"/>
                </a:cubicBezTo>
                <a:cubicBezTo>
                  <a:pt x="17312" y="10449"/>
                  <a:pt x="17291" y="10497"/>
                  <a:pt x="17271" y="10546"/>
                </a:cubicBezTo>
                <a:cubicBezTo>
                  <a:pt x="17263" y="10565"/>
                  <a:pt x="17264" y="10575"/>
                  <a:pt x="17263" y="10595"/>
                </a:cubicBezTo>
                <a:cubicBezTo>
                  <a:pt x="17274" y="10584"/>
                  <a:pt x="17279" y="10588"/>
                  <a:pt x="17288" y="10575"/>
                </a:cubicBezTo>
                <a:cubicBezTo>
                  <a:pt x="17312" y="10542"/>
                  <a:pt x="17320" y="10498"/>
                  <a:pt x="17334" y="10460"/>
                </a:cubicBezTo>
                <a:cubicBezTo>
                  <a:pt x="17348" y="10422"/>
                  <a:pt x="17356" y="10383"/>
                  <a:pt x="17368" y="10345"/>
                </a:cubicBezTo>
                <a:cubicBezTo>
                  <a:pt x="17375" y="10323"/>
                  <a:pt x="17385" y="10293"/>
                  <a:pt x="17398" y="10275"/>
                </a:cubicBezTo>
                <a:cubicBezTo>
                  <a:pt x="17405" y="10265"/>
                  <a:pt x="17408" y="10270"/>
                  <a:pt x="17414" y="10263"/>
                </a:cubicBezTo>
                <a:cubicBezTo>
                  <a:pt x="17423" y="10279"/>
                  <a:pt x="17429" y="10287"/>
                  <a:pt x="17435" y="10308"/>
                </a:cubicBezTo>
                <a:cubicBezTo>
                  <a:pt x="17447" y="10348"/>
                  <a:pt x="17457" y="10390"/>
                  <a:pt x="17465" y="10431"/>
                </a:cubicBezTo>
                <a:cubicBezTo>
                  <a:pt x="17477" y="10493"/>
                  <a:pt x="17491" y="10552"/>
                  <a:pt x="17511" y="10612"/>
                </a:cubicBezTo>
                <a:cubicBezTo>
                  <a:pt x="17528" y="10663"/>
                  <a:pt x="17549" y="10710"/>
                  <a:pt x="17570" y="10759"/>
                </a:cubicBezTo>
                <a:cubicBezTo>
                  <a:pt x="17583" y="10789"/>
                  <a:pt x="17598" y="10812"/>
                  <a:pt x="17616" y="10837"/>
                </a:cubicBezTo>
                <a:cubicBezTo>
                  <a:pt x="17618" y="10838"/>
                  <a:pt x="17619" y="10840"/>
                  <a:pt x="17621" y="10841"/>
                </a:cubicBezTo>
                <a:cubicBezTo>
                  <a:pt x="17613" y="10819"/>
                  <a:pt x="17605" y="10795"/>
                  <a:pt x="17595" y="10772"/>
                </a:cubicBezTo>
                <a:cubicBezTo>
                  <a:pt x="17573" y="10720"/>
                  <a:pt x="17554" y="10668"/>
                  <a:pt x="17532" y="10616"/>
                </a:cubicBezTo>
                <a:cubicBezTo>
                  <a:pt x="17512" y="10570"/>
                  <a:pt x="17496" y="10526"/>
                  <a:pt x="17469" y="10484"/>
                </a:cubicBezTo>
                <a:cubicBezTo>
                  <a:pt x="17454" y="10461"/>
                  <a:pt x="17442" y="10442"/>
                  <a:pt x="17423" y="10423"/>
                </a:cubicBezTo>
                <a:cubicBezTo>
                  <a:pt x="17420" y="10416"/>
                  <a:pt x="17420" y="10414"/>
                  <a:pt x="17414" y="10415"/>
                </a:cubicBezTo>
                <a:cubicBezTo>
                  <a:pt x="17423" y="10455"/>
                  <a:pt x="17435" y="10495"/>
                  <a:pt x="17448" y="10534"/>
                </a:cubicBezTo>
                <a:cubicBezTo>
                  <a:pt x="17466" y="10588"/>
                  <a:pt x="17480" y="10642"/>
                  <a:pt x="17503" y="10694"/>
                </a:cubicBezTo>
                <a:cubicBezTo>
                  <a:pt x="17526" y="10748"/>
                  <a:pt x="17548" y="10803"/>
                  <a:pt x="17570" y="10858"/>
                </a:cubicBezTo>
                <a:cubicBezTo>
                  <a:pt x="17587" y="10899"/>
                  <a:pt x="17605" y="10941"/>
                  <a:pt x="17621" y="10981"/>
                </a:cubicBezTo>
                <a:cubicBezTo>
                  <a:pt x="17632" y="11008"/>
                  <a:pt x="17650" y="11037"/>
                  <a:pt x="17659" y="11063"/>
                </a:cubicBezTo>
                <a:cubicBezTo>
                  <a:pt x="17661" y="11068"/>
                  <a:pt x="17650" y="11044"/>
                  <a:pt x="17650" y="110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2360520" y="3544920"/>
            <a:ext cx="765360" cy="291960"/>
          </a:xfrm>
          <a:custGeom>
            <a:avLst/>
            <a:gdLst/>
            <a:ahLst/>
            <a:rect l="l" t="t" r="r" b="b"/>
            <a:pathLst>
              <a:path w="2124" h="813">
                <a:moveTo>
                  <a:pt x="7454" y="10329"/>
                </a:moveTo>
                <a:cubicBezTo>
                  <a:pt x="7461" y="10313"/>
                  <a:pt x="7459" y="10305"/>
                  <a:pt x="7471" y="10288"/>
                </a:cubicBezTo>
                <a:cubicBezTo>
                  <a:pt x="7484" y="10269"/>
                  <a:pt x="7498" y="10253"/>
                  <a:pt x="7513" y="10235"/>
                </a:cubicBezTo>
                <a:cubicBezTo>
                  <a:pt x="7536" y="10207"/>
                  <a:pt x="7557" y="10170"/>
                  <a:pt x="7581" y="10144"/>
                </a:cubicBezTo>
                <a:cubicBezTo>
                  <a:pt x="7612" y="10111"/>
                  <a:pt x="7646" y="10080"/>
                  <a:pt x="7673" y="10042"/>
                </a:cubicBezTo>
                <a:cubicBezTo>
                  <a:pt x="7700" y="10003"/>
                  <a:pt x="7730" y="9969"/>
                  <a:pt x="7758" y="9931"/>
                </a:cubicBezTo>
                <a:cubicBezTo>
                  <a:pt x="7774" y="9909"/>
                  <a:pt x="7790" y="9886"/>
                  <a:pt x="7808" y="9866"/>
                </a:cubicBezTo>
                <a:cubicBezTo>
                  <a:pt x="7815" y="9859"/>
                  <a:pt x="7823" y="9852"/>
                  <a:pt x="7829" y="9845"/>
                </a:cubicBezTo>
                <a:cubicBezTo>
                  <a:pt x="7819" y="9855"/>
                  <a:pt x="7810" y="9864"/>
                  <a:pt x="7800" y="9874"/>
                </a:cubicBezTo>
                <a:cubicBezTo>
                  <a:pt x="7780" y="9895"/>
                  <a:pt x="7765" y="9914"/>
                  <a:pt x="7749" y="9939"/>
                </a:cubicBezTo>
                <a:cubicBezTo>
                  <a:pt x="7732" y="9965"/>
                  <a:pt x="7719" y="9991"/>
                  <a:pt x="7703" y="10017"/>
                </a:cubicBezTo>
                <a:cubicBezTo>
                  <a:pt x="7688" y="10041"/>
                  <a:pt x="7669" y="10060"/>
                  <a:pt x="7652" y="10083"/>
                </a:cubicBezTo>
                <a:cubicBezTo>
                  <a:pt x="7623" y="10122"/>
                  <a:pt x="7596" y="10161"/>
                  <a:pt x="7564" y="10198"/>
                </a:cubicBezTo>
                <a:cubicBezTo>
                  <a:pt x="7555" y="10209"/>
                  <a:pt x="7549" y="10222"/>
                  <a:pt x="7539" y="10231"/>
                </a:cubicBezTo>
                <a:cubicBezTo>
                  <a:pt x="7532" y="10237"/>
                  <a:pt x="7521" y="10240"/>
                  <a:pt x="7513" y="10247"/>
                </a:cubicBezTo>
                <a:cubicBezTo>
                  <a:pt x="7498" y="10260"/>
                  <a:pt x="7490" y="10264"/>
                  <a:pt x="7475" y="10272"/>
                </a:cubicBezTo>
                <a:cubicBezTo>
                  <a:pt x="7463" y="10278"/>
                  <a:pt x="7460" y="10270"/>
                  <a:pt x="7450" y="10280"/>
                </a:cubicBezTo>
                <a:cubicBezTo>
                  <a:pt x="7439" y="10291"/>
                  <a:pt x="7444" y="10300"/>
                  <a:pt x="7437" y="10309"/>
                </a:cubicBezTo>
                <a:cubicBezTo>
                  <a:pt x="7446" y="10300"/>
                  <a:pt x="7446" y="10302"/>
                  <a:pt x="7454" y="10292"/>
                </a:cubicBezTo>
                <a:cubicBezTo>
                  <a:pt x="7488" y="10254"/>
                  <a:pt x="7512" y="10210"/>
                  <a:pt x="7543" y="10169"/>
                </a:cubicBezTo>
                <a:cubicBezTo>
                  <a:pt x="7559" y="10147"/>
                  <a:pt x="7574" y="10126"/>
                  <a:pt x="7589" y="10103"/>
                </a:cubicBezTo>
                <a:cubicBezTo>
                  <a:pt x="7601" y="10085"/>
                  <a:pt x="7606" y="10068"/>
                  <a:pt x="7614" y="10050"/>
                </a:cubicBezTo>
                <a:cubicBezTo>
                  <a:pt x="7614" y="10049"/>
                  <a:pt x="7614" y="10047"/>
                  <a:pt x="7614" y="10046"/>
                </a:cubicBezTo>
                <a:cubicBezTo>
                  <a:pt x="7602" y="10057"/>
                  <a:pt x="7593" y="10066"/>
                  <a:pt x="7581" y="10079"/>
                </a:cubicBezTo>
                <a:cubicBezTo>
                  <a:pt x="7559" y="10103"/>
                  <a:pt x="7537" y="10127"/>
                  <a:pt x="7513" y="10149"/>
                </a:cubicBezTo>
                <a:cubicBezTo>
                  <a:pt x="7487" y="10173"/>
                  <a:pt x="7459" y="10194"/>
                  <a:pt x="7433" y="10218"/>
                </a:cubicBezTo>
                <a:cubicBezTo>
                  <a:pt x="7420" y="10230"/>
                  <a:pt x="7408" y="10243"/>
                  <a:pt x="7395" y="10255"/>
                </a:cubicBezTo>
                <a:cubicBezTo>
                  <a:pt x="7411" y="10245"/>
                  <a:pt x="7429" y="10233"/>
                  <a:pt x="7446" y="10222"/>
                </a:cubicBezTo>
                <a:cubicBezTo>
                  <a:pt x="7492" y="10192"/>
                  <a:pt x="7535" y="10161"/>
                  <a:pt x="7576" y="10124"/>
                </a:cubicBezTo>
                <a:cubicBezTo>
                  <a:pt x="7592" y="10110"/>
                  <a:pt x="7606" y="10096"/>
                  <a:pt x="7623" y="10083"/>
                </a:cubicBezTo>
                <a:cubicBezTo>
                  <a:pt x="7627" y="10079"/>
                  <a:pt x="7627" y="10078"/>
                  <a:pt x="7631" y="10079"/>
                </a:cubicBezTo>
                <a:cubicBezTo>
                  <a:pt x="7620" y="10091"/>
                  <a:pt x="7610" y="10103"/>
                  <a:pt x="7598" y="10116"/>
                </a:cubicBezTo>
                <a:cubicBezTo>
                  <a:pt x="7576" y="10139"/>
                  <a:pt x="7554" y="10161"/>
                  <a:pt x="7530" y="10181"/>
                </a:cubicBezTo>
                <a:cubicBezTo>
                  <a:pt x="7506" y="10201"/>
                  <a:pt x="7481" y="10217"/>
                  <a:pt x="7454" y="10231"/>
                </a:cubicBezTo>
                <a:cubicBezTo>
                  <a:pt x="7447" y="10234"/>
                  <a:pt x="7446" y="10236"/>
                  <a:pt x="7442" y="10235"/>
                </a:cubicBezTo>
                <a:cubicBezTo>
                  <a:pt x="7454" y="10217"/>
                  <a:pt x="7463" y="10205"/>
                  <a:pt x="7480" y="10185"/>
                </a:cubicBezTo>
                <a:cubicBezTo>
                  <a:pt x="7521" y="10136"/>
                  <a:pt x="7564" y="10089"/>
                  <a:pt x="7606" y="10042"/>
                </a:cubicBezTo>
                <a:cubicBezTo>
                  <a:pt x="7621" y="10025"/>
                  <a:pt x="7633" y="10012"/>
                  <a:pt x="7648" y="9997"/>
                </a:cubicBezTo>
                <a:cubicBezTo>
                  <a:pt x="7641" y="10005"/>
                  <a:pt x="7632" y="10020"/>
                  <a:pt x="7623" y="10030"/>
                </a:cubicBezTo>
                <a:cubicBezTo>
                  <a:pt x="7605" y="10050"/>
                  <a:pt x="7585" y="10069"/>
                  <a:pt x="7568" y="10091"/>
                </a:cubicBezTo>
                <a:cubicBezTo>
                  <a:pt x="7554" y="10109"/>
                  <a:pt x="7535" y="10126"/>
                  <a:pt x="7522" y="10144"/>
                </a:cubicBezTo>
                <a:cubicBezTo>
                  <a:pt x="7510" y="10160"/>
                  <a:pt x="7503" y="10178"/>
                  <a:pt x="7492" y="10194"/>
                </a:cubicBezTo>
                <a:cubicBezTo>
                  <a:pt x="7486" y="10202"/>
                  <a:pt x="7483" y="10206"/>
                  <a:pt x="7480" y="10214"/>
                </a:cubicBezTo>
                <a:cubicBezTo>
                  <a:pt x="7478" y="10219"/>
                  <a:pt x="7476" y="10219"/>
                  <a:pt x="7475" y="10231"/>
                </a:cubicBezTo>
                <a:cubicBezTo>
                  <a:pt x="7474" y="10251"/>
                  <a:pt x="7480" y="10256"/>
                  <a:pt x="7492" y="10272"/>
                </a:cubicBezTo>
                <a:cubicBezTo>
                  <a:pt x="7500" y="10282"/>
                  <a:pt x="7520" y="10297"/>
                  <a:pt x="7530" y="10304"/>
                </a:cubicBezTo>
                <a:cubicBezTo>
                  <a:pt x="7546" y="10315"/>
                  <a:pt x="7561" y="10325"/>
                  <a:pt x="7576" y="10337"/>
                </a:cubicBezTo>
                <a:cubicBezTo>
                  <a:pt x="7606" y="10361"/>
                  <a:pt x="7623" y="10383"/>
                  <a:pt x="7644" y="10415"/>
                </a:cubicBezTo>
                <a:cubicBezTo>
                  <a:pt x="7658" y="10436"/>
                  <a:pt x="7667" y="10460"/>
                  <a:pt x="7682" y="10481"/>
                </a:cubicBezTo>
                <a:cubicBezTo>
                  <a:pt x="7694" y="10498"/>
                  <a:pt x="7699" y="10512"/>
                  <a:pt x="7711" y="10526"/>
                </a:cubicBezTo>
                <a:cubicBezTo>
                  <a:pt x="7716" y="10532"/>
                  <a:pt x="7723" y="10536"/>
                  <a:pt x="7728" y="10542"/>
                </a:cubicBezTo>
                <a:cubicBezTo>
                  <a:pt x="7724" y="10533"/>
                  <a:pt x="7728" y="10535"/>
                  <a:pt x="7724" y="10526"/>
                </a:cubicBezTo>
                <a:cubicBezTo>
                  <a:pt x="7708" y="10493"/>
                  <a:pt x="7688" y="10463"/>
                  <a:pt x="7669" y="10432"/>
                </a:cubicBezTo>
                <a:cubicBezTo>
                  <a:pt x="7649" y="10397"/>
                  <a:pt x="7632" y="10363"/>
                  <a:pt x="7610" y="10329"/>
                </a:cubicBezTo>
                <a:cubicBezTo>
                  <a:pt x="7600" y="10314"/>
                  <a:pt x="7587" y="10302"/>
                  <a:pt x="7576" y="10288"/>
                </a:cubicBezTo>
                <a:cubicBezTo>
                  <a:pt x="7585" y="10307"/>
                  <a:pt x="7595" y="10326"/>
                  <a:pt x="7606" y="10345"/>
                </a:cubicBezTo>
                <a:cubicBezTo>
                  <a:pt x="7633" y="10392"/>
                  <a:pt x="7656" y="10444"/>
                  <a:pt x="7686" y="10489"/>
                </a:cubicBezTo>
                <a:cubicBezTo>
                  <a:pt x="7714" y="10530"/>
                  <a:pt x="7745" y="10568"/>
                  <a:pt x="7774" y="10608"/>
                </a:cubicBezTo>
                <a:cubicBezTo>
                  <a:pt x="7789" y="10629"/>
                  <a:pt x="7795" y="10636"/>
                  <a:pt x="7812" y="10653"/>
                </a:cubicBezTo>
                <a:cubicBezTo>
                  <a:pt x="7809" y="10642"/>
                  <a:pt x="7817" y="10639"/>
                  <a:pt x="7812" y="10628"/>
                </a:cubicBezTo>
                <a:cubicBezTo>
                  <a:pt x="7791" y="10582"/>
                  <a:pt x="7760" y="10538"/>
                  <a:pt x="7736" y="10493"/>
                </a:cubicBezTo>
                <a:cubicBezTo>
                  <a:pt x="7715" y="10452"/>
                  <a:pt x="7692" y="10413"/>
                  <a:pt x="7669" y="10374"/>
                </a:cubicBezTo>
                <a:cubicBezTo>
                  <a:pt x="7666" y="10370"/>
                  <a:pt x="7644" y="10339"/>
                  <a:pt x="7656" y="10350"/>
                </a:cubicBezTo>
                <a:cubicBezTo>
                  <a:pt x="7668" y="10361"/>
                  <a:pt x="7677" y="10385"/>
                  <a:pt x="7686" y="10399"/>
                </a:cubicBezTo>
                <a:cubicBezTo>
                  <a:pt x="7693" y="10411"/>
                  <a:pt x="7697" y="10424"/>
                  <a:pt x="7703" y="10436"/>
                </a:cubicBezTo>
                <a:cubicBezTo>
                  <a:pt x="7705" y="10441"/>
                  <a:pt x="7701" y="10431"/>
                  <a:pt x="7703" y="10436"/>
                </a:cubicBezTo>
                <a:cubicBezTo>
                  <a:pt x="7690" y="10418"/>
                  <a:pt x="7676" y="10402"/>
                  <a:pt x="7665" y="10382"/>
                </a:cubicBezTo>
                <a:cubicBezTo>
                  <a:pt x="7657" y="10368"/>
                  <a:pt x="7644" y="10348"/>
                  <a:pt x="7640" y="10333"/>
                </a:cubicBezTo>
                <a:cubicBezTo>
                  <a:pt x="7634" y="10312"/>
                  <a:pt x="7629" y="10289"/>
                  <a:pt x="7644" y="10272"/>
                </a:cubicBezTo>
                <a:cubicBezTo>
                  <a:pt x="7657" y="10257"/>
                  <a:pt x="7686" y="10261"/>
                  <a:pt x="7703" y="10259"/>
                </a:cubicBezTo>
                <a:cubicBezTo>
                  <a:pt x="7736" y="10254"/>
                  <a:pt x="7770" y="10255"/>
                  <a:pt x="7804" y="10251"/>
                </a:cubicBezTo>
                <a:cubicBezTo>
                  <a:pt x="7834" y="10247"/>
                  <a:pt x="7862" y="10242"/>
                  <a:pt x="7892" y="10239"/>
                </a:cubicBezTo>
                <a:cubicBezTo>
                  <a:pt x="7919" y="10236"/>
                  <a:pt x="7949" y="10232"/>
                  <a:pt x="7976" y="10231"/>
                </a:cubicBezTo>
                <a:cubicBezTo>
                  <a:pt x="8111" y="10225"/>
                  <a:pt x="8269" y="10214"/>
                  <a:pt x="8402" y="10239"/>
                </a:cubicBezTo>
                <a:cubicBezTo>
                  <a:pt x="8435" y="10245"/>
                  <a:pt x="8469" y="10256"/>
                  <a:pt x="8503" y="10259"/>
                </a:cubicBezTo>
                <a:cubicBezTo>
                  <a:pt x="8538" y="10262"/>
                  <a:pt x="8583" y="10263"/>
                  <a:pt x="8617" y="10255"/>
                </a:cubicBezTo>
                <a:cubicBezTo>
                  <a:pt x="8629" y="10252"/>
                  <a:pt x="8631" y="10244"/>
                  <a:pt x="8646" y="10243"/>
                </a:cubicBezTo>
                <a:cubicBezTo>
                  <a:pt x="8657" y="10242"/>
                  <a:pt x="8671" y="10247"/>
                  <a:pt x="8680" y="10247"/>
                </a:cubicBezTo>
              </a:path>
              <a:path w="2124" h="813">
                <a:moveTo>
                  <a:pt x="6877" y="9952"/>
                </a:moveTo>
                <a:cubicBezTo>
                  <a:pt x="6864" y="9946"/>
                  <a:pt x="6858" y="9944"/>
                  <a:pt x="6844" y="9939"/>
                </a:cubicBezTo>
                <a:cubicBezTo>
                  <a:pt x="6825" y="9932"/>
                  <a:pt x="6809" y="9930"/>
                  <a:pt x="6789" y="9931"/>
                </a:cubicBezTo>
                <a:cubicBezTo>
                  <a:pt x="6762" y="9932"/>
                  <a:pt x="6738" y="9935"/>
                  <a:pt x="6713" y="9948"/>
                </a:cubicBezTo>
                <a:cubicBezTo>
                  <a:pt x="6679" y="9965"/>
                  <a:pt x="6657" y="10000"/>
                  <a:pt x="6637" y="10030"/>
                </a:cubicBezTo>
                <a:cubicBezTo>
                  <a:pt x="6599" y="10088"/>
                  <a:pt x="6572" y="10133"/>
                  <a:pt x="6562" y="10202"/>
                </a:cubicBezTo>
                <a:cubicBezTo>
                  <a:pt x="6555" y="10245"/>
                  <a:pt x="6553" y="10290"/>
                  <a:pt x="6562" y="10333"/>
                </a:cubicBezTo>
                <a:cubicBezTo>
                  <a:pt x="6571" y="10377"/>
                  <a:pt x="6592" y="10406"/>
                  <a:pt x="6625" y="10436"/>
                </a:cubicBezTo>
                <a:cubicBezTo>
                  <a:pt x="6660" y="10468"/>
                  <a:pt x="6695" y="10486"/>
                  <a:pt x="6738" y="10505"/>
                </a:cubicBezTo>
                <a:cubicBezTo>
                  <a:pt x="6774" y="10521"/>
                  <a:pt x="6821" y="10543"/>
                  <a:pt x="6861" y="10546"/>
                </a:cubicBezTo>
                <a:cubicBezTo>
                  <a:pt x="6895" y="10548"/>
                  <a:pt x="6948" y="10542"/>
                  <a:pt x="6979" y="10530"/>
                </a:cubicBezTo>
                <a:cubicBezTo>
                  <a:pt x="7020" y="10514"/>
                  <a:pt x="7068" y="10475"/>
                  <a:pt x="7101" y="10448"/>
                </a:cubicBezTo>
                <a:cubicBezTo>
                  <a:pt x="7146" y="10411"/>
                  <a:pt x="7204" y="10345"/>
                  <a:pt x="7227" y="10292"/>
                </a:cubicBezTo>
                <a:cubicBezTo>
                  <a:pt x="7243" y="10255"/>
                  <a:pt x="7247" y="10216"/>
                  <a:pt x="7248" y="10177"/>
                </a:cubicBezTo>
                <a:cubicBezTo>
                  <a:pt x="7249" y="10139"/>
                  <a:pt x="7242" y="10111"/>
                  <a:pt x="7235" y="10075"/>
                </a:cubicBezTo>
                <a:cubicBezTo>
                  <a:pt x="7227" y="10037"/>
                  <a:pt x="7204" y="9999"/>
                  <a:pt x="7172" y="9976"/>
                </a:cubicBezTo>
                <a:cubicBezTo>
                  <a:pt x="7146" y="9957"/>
                  <a:pt x="7118" y="9947"/>
                  <a:pt x="7088" y="9935"/>
                </a:cubicBezTo>
                <a:cubicBezTo>
                  <a:pt x="7021" y="9909"/>
                  <a:pt x="6974" y="9906"/>
                  <a:pt x="6903" y="9907"/>
                </a:cubicBezTo>
                <a:cubicBezTo>
                  <a:pt x="6857" y="9908"/>
                  <a:pt x="6820" y="9912"/>
                  <a:pt x="6781" y="9939"/>
                </a:cubicBezTo>
                <a:cubicBezTo>
                  <a:pt x="6738" y="9968"/>
                  <a:pt x="6710" y="10005"/>
                  <a:pt x="6680" y="10046"/>
                </a:cubicBezTo>
                <a:cubicBezTo>
                  <a:pt x="6651" y="10085"/>
                  <a:pt x="6633" y="10133"/>
                  <a:pt x="6625" y="10181"/>
                </a:cubicBezTo>
                <a:cubicBezTo>
                  <a:pt x="6624" y="10193"/>
                  <a:pt x="6622" y="10206"/>
                  <a:pt x="6621" y="10218"/>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049480" y="1754280"/>
            <a:ext cx="1042920" cy="1900080"/>
          </a:xfrm>
          <a:custGeom>
            <a:avLst/>
            <a:gdLst/>
            <a:ahLst/>
            <a:rect l="l" t="t" r="r" b="b"/>
            <a:pathLst>
              <a:path w="2894" h="5276">
                <a:moveTo>
                  <a:pt x="8587" y="4878"/>
                </a:moveTo>
                <a:cubicBezTo>
                  <a:pt x="8544" y="4877"/>
                  <a:pt x="8502" y="4873"/>
                  <a:pt x="8457" y="4874"/>
                </a:cubicBezTo>
                <a:cubicBezTo>
                  <a:pt x="8309" y="4878"/>
                  <a:pt x="8162" y="4889"/>
                  <a:pt x="8014" y="4891"/>
                </a:cubicBezTo>
                <a:cubicBezTo>
                  <a:pt x="7878" y="4892"/>
                  <a:pt x="7756" y="4908"/>
                  <a:pt x="7623" y="4923"/>
                </a:cubicBezTo>
                <a:cubicBezTo>
                  <a:pt x="7455" y="4941"/>
                  <a:pt x="7278" y="4971"/>
                  <a:pt x="7109" y="4977"/>
                </a:cubicBezTo>
                <a:cubicBezTo>
                  <a:pt x="7059" y="4979"/>
                  <a:pt x="7013" y="4969"/>
                  <a:pt x="6966" y="4964"/>
                </a:cubicBezTo>
                <a:cubicBezTo>
                  <a:pt x="6954" y="4963"/>
                  <a:pt x="6942" y="4966"/>
                  <a:pt x="6928" y="4964"/>
                </a:cubicBezTo>
                <a:cubicBezTo>
                  <a:pt x="6915" y="4962"/>
                  <a:pt x="6917" y="4957"/>
                  <a:pt x="6911" y="4956"/>
                </a:cubicBezTo>
                <a:cubicBezTo>
                  <a:pt x="6910" y="4956"/>
                  <a:pt x="6908" y="4956"/>
                  <a:pt x="6907" y="4956"/>
                </a:cubicBezTo>
                <a:cubicBezTo>
                  <a:pt x="6902" y="5061"/>
                  <a:pt x="6895" y="5163"/>
                  <a:pt x="6894" y="5268"/>
                </a:cubicBezTo>
                <a:cubicBezTo>
                  <a:pt x="6892" y="5460"/>
                  <a:pt x="6905" y="5650"/>
                  <a:pt x="6903" y="5842"/>
                </a:cubicBezTo>
                <a:cubicBezTo>
                  <a:pt x="6901" y="6028"/>
                  <a:pt x="6890" y="6213"/>
                  <a:pt x="6890" y="6400"/>
                </a:cubicBezTo>
                <a:cubicBezTo>
                  <a:pt x="6890" y="6869"/>
                  <a:pt x="6883" y="7339"/>
                  <a:pt x="6907" y="7807"/>
                </a:cubicBezTo>
                <a:cubicBezTo>
                  <a:pt x="6913" y="7935"/>
                  <a:pt x="6915" y="8063"/>
                  <a:pt x="6932" y="8188"/>
                </a:cubicBezTo>
                <a:cubicBezTo>
                  <a:pt x="6942" y="8258"/>
                  <a:pt x="6953" y="8330"/>
                  <a:pt x="6962" y="8401"/>
                </a:cubicBezTo>
                <a:cubicBezTo>
                  <a:pt x="6973" y="8492"/>
                  <a:pt x="6978" y="8580"/>
                  <a:pt x="6979" y="8672"/>
                </a:cubicBezTo>
                <a:cubicBezTo>
                  <a:pt x="6984" y="9051"/>
                  <a:pt x="6974" y="9429"/>
                  <a:pt x="6974" y="9808"/>
                </a:cubicBezTo>
                <a:cubicBezTo>
                  <a:pt x="6974" y="9812"/>
                  <a:pt x="6974" y="9813"/>
                  <a:pt x="6974" y="9816"/>
                </a:cubicBezTo>
                <a:cubicBezTo>
                  <a:pt x="6963" y="9800"/>
                  <a:pt x="6941" y="9807"/>
                  <a:pt x="6924" y="9771"/>
                </a:cubicBezTo>
                <a:cubicBezTo>
                  <a:pt x="6859" y="9634"/>
                  <a:pt x="6774" y="9501"/>
                  <a:pt x="6717" y="9361"/>
                </a:cubicBezTo>
                <a:cubicBezTo>
                  <a:pt x="6707" y="9336"/>
                  <a:pt x="6702" y="9308"/>
                  <a:pt x="6692" y="9283"/>
                </a:cubicBezTo>
                <a:cubicBezTo>
                  <a:pt x="6714" y="9348"/>
                  <a:pt x="6733" y="9415"/>
                  <a:pt x="6764" y="9480"/>
                </a:cubicBezTo>
                <a:cubicBezTo>
                  <a:pt x="6821" y="9603"/>
                  <a:pt x="6881" y="9727"/>
                  <a:pt x="6945" y="9845"/>
                </a:cubicBezTo>
                <a:cubicBezTo>
                  <a:pt x="6949" y="9852"/>
                  <a:pt x="6949" y="9854"/>
                  <a:pt x="6953" y="9857"/>
                </a:cubicBezTo>
                <a:cubicBezTo>
                  <a:pt x="6958" y="9848"/>
                  <a:pt x="6969" y="9830"/>
                  <a:pt x="6974" y="9820"/>
                </a:cubicBezTo>
                <a:cubicBezTo>
                  <a:pt x="6990" y="9790"/>
                  <a:pt x="7009" y="9765"/>
                  <a:pt x="7025" y="9734"/>
                </a:cubicBezTo>
                <a:cubicBezTo>
                  <a:pt x="7080" y="9623"/>
                  <a:pt x="7137" y="9520"/>
                  <a:pt x="7197" y="9414"/>
                </a:cubicBezTo>
                <a:cubicBezTo>
                  <a:pt x="7215" y="9382"/>
                  <a:pt x="7231" y="9350"/>
                  <a:pt x="7248" y="9320"/>
                </a:cubicBezTo>
                <a:cubicBezTo>
                  <a:pt x="7248" y="9316"/>
                  <a:pt x="7248" y="9315"/>
                  <a:pt x="7252" y="9316"/>
                </a:cubicBezTo>
              </a:path>
              <a:path w="2894" h="5276">
                <a:moveTo>
                  <a:pt x="5934" y="10083"/>
                </a:moveTo>
                <a:cubicBezTo>
                  <a:pt x="5925" y="10080"/>
                  <a:pt x="5919" y="10080"/>
                  <a:pt x="5909" y="10075"/>
                </a:cubicBezTo>
                <a:cubicBezTo>
                  <a:pt x="5901" y="10071"/>
                  <a:pt x="5901" y="10069"/>
                  <a:pt x="5892" y="10067"/>
                </a:cubicBezTo>
                <a:cubicBezTo>
                  <a:pt x="5859" y="10060"/>
                  <a:pt x="5824" y="10070"/>
                  <a:pt x="5791" y="10062"/>
                </a:cubicBezTo>
                <a:cubicBezTo>
                  <a:pt x="5772" y="10058"/>
                  <a:pt x="5752" y="10055"/>
                  <a:pt x="5732" y="10054"/>
                </a:cubicBezTo>
                <a:cubicBezTo>
                  <a:pt x="5718" y="10053"/>
                  <a:pt x="5710" y="10051"/>
                  <a:pt x="5698" y="10050"/>
                </a:cubicBezTo>
                <a:cubicBezTo>
                  <a:pt x="5697" y="10050"/>
                  <a:pt x="5695" y="10050"/>
                  <a:pt x="5694" y="10050"/>
                </a:cubicBezTo>
                <a:cubicBezTo>
                  <a:pt x="5727" y="10051"/>
                  <a:pt x="5758" y="10058"/>
                  <a:pt x="5791" y="10058"/>
                </a:cubicBezTo>
                <a:cubicBezTo>
                  <a:pt x="5886" y="10059"/>
                  <a:pt x="5982" y="10057"/>
                  <a:pt x="6077" y="10054"/>
                </a:cubicBezTo>
                <a:cubicBezTo>
                  <a:pt x="6117" y="10053"/>
                  <a:pt x="6161" y="10051"/>
                  <a:pt x="6200" y="10062"/>
                </a:cubicBezTo>
                <a:cubicBezTo>
                  <a:pt x="6234" y="10071"/>
                  <a:pt x="6266" y="10075"/>
                  <a:pt x="6301" y="10079"/>
                </a:cubicBezTo>
                <a:cubicBezTo>
                  <a:pt x="6329" y="10082"/>
                  <a:pt x="6357" y="10089"/>
                  <a:pt x="6385" y="10091"/>
                </a:cubicBezTo>
                <a:cubicBezTo>
                  <a:pt x="6443" y="10095"/>
                  <a:pt x="6513" y="10099"/>
                  <a:pt x="6570" y="10087"/>
                </a:cubicBezTo>
                <a:cubicBezTo>
                  <a:pt x="6585" y="10084"/>
                  <a:pt x="6600" y="10081"/>
                  <a:pt x="6616" y="10079"/>
                </a:cubicBezTo>
                <a:cubicBezTo>
                  <a:pt x="6623" y="10078"/>
                  <a:pt x="6622" y="10077"/>
                  <a:pt x="6633" y="10075"/>
                </a:cubicBezTo>
                <a:cubicBezTo>
                  <a:pt x="6634" y="10075"/>
                  <a:pt x="6636" y="10075"/>
                  <a:pt x="6637" y="10075"/>
                </a:cubicBezTo>
                <a:cubicBezTo>
                  <a:pt x="6637" y="10084"/>
                  <a:pt x="6644" y="10130"/>
                  <a:pt x="6633" y="10136"/>
                </a:cubicBezTo>
                <a:cubicBezTo>
                  <a:pt x="6626" y="10140"/>
                  <a:pt x="6607" y="10139"/>
                  <a:pt x="6600" y="10140"/>
                </a:cubicBezTo>
                <a:cubicBezTo>
                  <a:pt x="6540" y="10146"/>
                  <a:pt x="6478" y="10139"/>
                  <a:pt x="6418" y="10144"/>
                </a:cubicBezTo>
                <a:cubicBezTo>
                  <a:pt x="6361" y="10149"/>
                  <a:pt x="6303" y="10144"/>
                  <a:pt x="6246" y="10149"/>
                </a:cubicBezTo>
                <a:cubicBezTo>
                  <a:pt x="6152" y="10157"/>
                  <a:pt x="6052" y="10150"/>
                  <a:pt x="5959" y="10144"/>
                </a:cubicBezTo>
                <a:cubicBezTo>
                  <a:pt x="5925" y="10142"/>
                  <a:pt x="5891" y="10141"/>
                  <a:pt x="5858" y="10140"/>
                </a:cubicBezTo>
                <a:cubicBezTo>
                  <a:pt x="5840" y="10140"/>
                  <a:pt x="5816" y="10131"/>
                  <a:pt x="5799" y="10136"/>
                </a:cubicBezTo>
                <a:cubicBezTo>
                  <a:pt x="5794" y="10136"/>
                  <a:pt x="5792" y="10137"/>
                  <a:pt x="5795" y="10144"/>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325760" y="4100400"/>
            <a:ext cx="225720" cy="657360"/>
          </a:xfrm>
          <a:custGeom>
            <a:avLst/>
            <a:gdLst/>
            <a:ahLst/>
            <a:rect l="l" t="t" r="r" b="b"/>
            <a:pathLst>
              <a:path w="628" h="1826">
                <a:moveTo>
                  <a:pt x="12398" y="11391"/>
                </a:moveTo>
                <a:cubicBezTo>
                  <a:pt x="12398" y="11551"/>
                  <a:pt x="12394" y="11711"/>
                  <a:pt x="12394" y="11871"/>
                </a:cubicBezTo>
                <a:cubicBezTo>
                  <a:pt x="12394" y="11903"/>
                  <a:pt x="12422" y="12109"/>
                  <a:pt x="12389" y="12138"/>
                </a:cubicBezTo>
                <a:cubicBezTo>
                  <a:pt x="12383" y="12143"/>
                  <a:pt x="12364" y="12144"/>
                  <a:pt x="12356" y="12142"/>
                </a:cubicBezTo>
                <a:cubicBezTo>
                  <a:pt x="12341" y="12138"/>
                  <a:pt x="12333" y="12122"/>
                  <a:pt x="12322" y="12113"/>
                </a:cubicBezTo>
                <a:cubicBezTo>
                  <a:pt x="12308" y="12102"/>
                  <a:pt x="12293" y="12093"/>
                  <a:pt x="12280" y="12080"/>
                </a:cubicBezTo>
                <a:cubicBezTo>
                  <a:pt x="12260" y="12060"/>
                  <a:pt x="12242" y="12041"/>
                  <a:pt x="12225" y="12019"/>
                </a:cubicBezTo>
                <a:cubicBezTo>
                  <a:pt x="12210" y="11999"/>
                  <a:pt x="12197" y="11978"/>
                  <a:pt x="12183" y="11957"/>
                </a:cubicBezTo>
                <a:cubicBezTo>
                  <a:pt x="12177" y="11948"/>
                  <a:pt x="12172" y="11937"/>
                  <a:pt x="12166" y="11929"/>
                </a:cubicBezTo>
                <a:cubicBezTo>
                  <a:pt x="12182" y="11943"/>
                  <a:pt x="12190" y="11955"/>
                  <a:pt x="12204" y="11970"/>
                </a:cubicBezTo>
                <a:cubicBezTo>
                  <a:pt x="12225" y="11994"/>
                  <a:pt x="12246" y="12019"/>
                  <a:pt x="12267" y="12043"/>
                </a:cubicBezTo>
                <a:cubicBezTo>
                  <a:pt x="12297" y="12077"/>
                  <a:pt x="12327" y="12112"/>
                  <a:pt x="12352" y="12150"/>
                </a:cubicBezTo>
                <a:cubicBezTo>
                  <a:pt x="12367" y="12172"/>
                  <a:pt x="12379" y="12192"/>
                  <a:pt x="12402" y="12207"/>
                </a:cubicBezTo>
                <a:cubicBezTo>
                  <a:pt x="12418" y="12217"/>
                  <a:pt x="12424" y="12221"/>
                  <a:pt x="12436" y="12203"/>
                </a:cubicBezTo>
                <a:cubicBezTo>
                  <a:pt x="12455" y="12174"/>
                  <a:pt x="12465" y="12138"/>
                  <a:pt x="12482" y="12109"/>
                </a:cubicBezTo>
                <a:cubicBezTo>
                  <a:pt x="12500" y="12080"/>
                  <a:pt x="12527" y="12058"/>
                  <a:pt x="12545" y="12027"/>
                </a:cubicBezTo>
                <a:cubicBezTo>
                  <a:pt x="12565" y="11992"/>
                  <a:pt x="12589" y="11959"/>
                  <a:pt x="12608" y="11924"/>
                </a:cubicBezTo>
                <a:cubicBezTo>
                  <a:pt x="12620" y="11901"/>
                  <a:pt x="12635" y="11872"/>
                  <a:pt x="12642" y="11847"/>
                </a:cubicBezTo>
                <a:cubicBezTo>
                  <a:pt x="12642" y="11843"/>
                  <a:pt x="12642" y="11838"/>
                  <a:pt x="12642" y="11834"/>
                </a:cubicBezTo>
                <a:cubicBezTo>
                  <a:pt x="12638" y="11848"/>
                  <a:pt x="12638" y="11866"/>
                  <a:pt x="12634" y="11879"/>
                </a:cubicBezTo>
                <a:cubicBezTo>
                  <a:pt x="12631" y="11890"/>
                  <a:pt x="12625" y="11897"/>
                  <a:pt x="12621" y="11908"/>
                </a:cubicBezTo>
              </a:path>
              <a:path w="628" h="1826">
                <a:moveTo>
                  <a:pt x="12444" y="12146"/>
                </a:moveTo>
                <a:cubicBezTo>
                  <a:pt x="12441" y="12140"/>
                  <a:pt x="12442" y="12137"/>
                  <a:pt x="12436" y="12130"/>
                </a:cubicBezTo>
                <a:cubicBezTo>
                  <a:pt x="12430" y="12123"/>
                  <a:pt x="12413" y="12104"/>
                  <a:pt x="12406" y="12101"/>
                </a:cubicBezTo>
                <a:cubicBezTo>
                  <a:pt x="12387" y="12092"/>
                  <a:pt x="12364" y="12089"/>
                  <a:pt x="12343" y="12089"/>
                </a:cubicBezTo>
                <a:cubicBezTo>
                  <a:pt x="12290" y="12088"/>
                  <a:pt x="12202" y="12073"/>
                  <a:pt x="12154" y="12097"/>
                </a:cubicBezTo>
                <a:cubicBezTo>
                  <a:pt x="12127" y="12110"/>
                  <a:pt x="12099" y="12128"/>
                  <a:pt x="12078" y="12150"/>
                </a:cubicBezTo>
                <a:cubicBezTo>
                  <a:pt x="12058" y="12170"/>
                  <a:pt x="12029" y="12210"/>
                  <a:pt x="12019" y="12236"/>
                </a:cubicBezTo>
                <a:cubicBezTo>
                  <a:pt x="12010" y="12259"/>
                  <a:pt x="12009" y="12309"/>
                  <a:pt x="12019" y="12331"/>
                </a:cubicBezTo>
                <a:cubicBezTo>
                  <a:pt x="12033" y="12362"/>
                  <a:pt x="12059" y="12400"/>
                  <a:pt x="12086" y="12421"/>
                </a:cubicBezTo>
                <a:cubicBezTo>
                  <a:pt x="12128" y="12454"/>
                  <a:pt x="12176" y="12473"/>
                  <a:pt x="12229" y="12474"/>
                </a:cubicBezTo>
                <a:cubicBezTo>
                  <a:pt x="12267" y="12475"/>
                  <a:pt x="12308" y="12477"/>
                  <a:pt x="12343" y="12458"/>
                </a:cubicBezTo>
                <a:cubicBezTo>
                  <a:pt x="12381" y="12438"/>
                  <a:pt x="12415" y="12406"/>
                  <a:pt x="12440" y="12372"/>
                </a:cubicBezTo>
                <a:cubicBezTo>
                  <a:pt x="12461" y="12344"/>
                  <a:pt x="12482" y="12300"/>
                  <a:pt x="12486" y="12265"/>
                </a:cubicBezTo>
                <a:cubicBezTo>
                  <a:pt x="12488" y="12247"/>
                  <a:pt x="12489" y="12216"/>
                  <a:pt x="12482" y="12199"/>
                </a:cubicBezTo>
                <a:cubicBezTo>
                  <a:pt x="12477" y="12188"/>
                  <a:pt x="12461" y="12147"/>
                  <a:pt x="12448" y="12142"/>
                </a:cubicBezTo>
                <a:cubicBezTo>
                  <a:pt x="12427" y="12134"/>
                  <a:pt x="12401" y="12136"/>
                  <a:pt x="12381" y="12146"/>
                </a:cubicBezTo>
                <a:cubicBezTo>
                  <a:pt x="12375" y="12150"/>
                  <a:pt x="12370" y="12154"/>
                  <a:pt x="12364" y="12158"/>
                </a:cubicBezTo>
              </a:path>
              <a:path w="628" h="1826">
                <a:moveTo>
                  <a:pt x="12246" y="12605"/>
                </a:moveTo>
                <a:cubicBezTo>
                  <a:pt x="12247" y="12595"/>
                  <a:pt x="12246" y="12580"/>
                  <a:pt x="12250" y="12572"/>
                </a:cubicBezTo>
                <a:cubicBezTo>
                  <a:pt x="12255" y="12563"/>
                  <a:pt x="12259" y="12558"/>
                  <a:pt x="12263" y="12548"/>
                </a:cubicBezTo>
                <a:cubicBezTo>
                  <a:pt x="12263" y="12620"/>
                  <a:pt x="12265" y="12690"/>
                  <a:pt x="12272" y="12761"/>
                </a:cubicBezTo>
                <a:cubicBezTo>
                  <a:pt x="12282" y="12862"/>
                  <a:pt x="12271" y="12968"/>
                  <a:pt x="12276" y="13069"/>
                </a:cubicBezTo>
                <a:cubicBezTo>
                  <a:pt x="12277" y="13100"/>
                  <a:pt x="12279" y="13129"/>
                  <a:pt x="12288" y="13159"/>
                </a:cubicBezTo>
                <a:cubicBezTo>
                  <a:pt x="12292" y="13173"/>
                  <a:pt x="12295" y="13185"/>
                  <a:pt x="12297" y="13200"/>
                </a:cubicBezTo>
                <a:cubicBezTo>
                  <a:pt x="12297" y="13205"/>
                  <a:pt x="12297" y="13211"/>
                  <a:pt x="12297" y="1321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382840" y="3909960"/>
            <a:ext cx="774720" cy="1389240"/>
          </a:xfrm>
          <a:custGeom>
            <a:avLst/>
            <a:gdLst/>
            <a:ahLst/>
            <a:rect l="l" t="t" r="r" b="b"/>
            <a:pathLst>
              <a:path w="2148" h="3857">
                <a:moveTo>
                  <a:pt x="6621" y="11445"/>
                </a:moveTo>
                <a:cubicBezTo>
                  <a:pt x="6626" y="11442"/>
                  <a:pt x="6619" y="11435"/>
                  <a:pt x="6629" y="11432"/>
                </a:cubicBezTo>
                <a:cubicBezTo>
                  <a:pt x="6653" y="11425"/>
                  <a:pt x="6657" y="11426"/>
                  <a:pt x="6680" y="11408"/>
                </a:cubicBezTo>
                <a:cubicBezTo>
                  <a:pt x="6723" y="11375"/>
                  <a:pt x="6759" y="11330"/>
                  <a:pt x="6789" y="11285"/>
                </a:cubicBezTo>
                <a:cubicBezTo>
                  <a:pt x="6818" y="11241"/>
                  <a:pt x="6849" y="11198"/>
                  <a:pt x="6877" y="11153"/>
                </a:cubicBezTo>
                <a:cubicBezTo>
                  <a:pt x="6902" y="11113"/>
                  <a:pt x="6920" y="11069"/>
                  <a:pt x="6945" y="11030"/>
                </a:cubicBezTo>
                <a:cubicBezTo>
                  <a:pt x="6966" y="10997"/>
                  <a:pt x="6988" y="10963"/>
                  <a:pt x="7012" y="10932"/>
                </a:cubicBezTo>
                <a:cubicBezTo>
                  <a:pt x="7025" y="10915"/>
                  <a:pt x="7038" y="10897"/>
                  <a:pt x="7050" y="10879"/>
                </a:cubicBezTo>
                <a:cubicBezTo>
                  <a:pt x="7057" y="10868"/>
                  <a:pt x="7051" y="10863"/>
                  <a:pt x="7067" y="10862"/>
                </a:cubicBezTo>
                <a:cubicBezTo>
                  <a:pt x="7090" y="10861"/>
                  <a:pt x="7080" y="10872"/>
                  <a:pt x="7088" y="10883"/>
                </a:cubicBezTo>
                <a:cubicBezTo>
                  <a:pt x="7098" y="10897"/>
                  <a:pt x="7100" y="10923"/>
                  <a:pt x="7105" y="10940"/>
                </a:cubicBezTo>
                <a:cubicBezTo>
                  <a:pt x="7117" y="10978"/>
                  <a:pt x="7131" y="11011"/>
                  <a:pt x="7147" y="11047"/>
                </a:cubicBezTo>
                <a:cubicBezTo>
                  <a:pt x="7159" y="11074"/>
                  <a:pt x="7171" y="11099"/>
                  <a:pt x="7185" y="11125"/>
                </a:cubicBezTo>
                <a:cubicBezTo>
                  <a:pt x="7201" y="11154"/>
                  <a:pt x="7215" y="11193"/>
                  <a:pt x="7235" y="11219"/>
                </a:cubicBezTo>
                <a:cubicBezTo>
                  <a:pt x="7249" y="11238"/>
                  <a:pt x="7269" y="11252"/>
                  <a:pt x="7282" y="11272"/>
                </a:cubicBezTo>
                <a:cubicBezTo>
                  <a:pt x="7290" y="11284"/>
                  <a:pt x="7292" y="11299"/>
                  <a:pt x="7303" y="11309"/>
                </a:cubicBezTo>
                <a:cubicBezTo>
                  <a:pt x="7312" y="11317"/>
                  <a:pt x="7316" y="11311"/>
                  <a:pt x="7324" y="11317"/>
                </a:cubicBezTo>
                <a:cubicBezTo>
                  <a:pt x="7328" y="11317"/>
                  <a:pt x="7330" y="11317"/>
                  <a:pt x="7328" y="11322"/>
                </a:cubicBezTo>
              </a:path>
              <a:path w="2148" h="3857">
                <a:moveTo>
                  <a:pt x="6987" y="11149"/>
                </a:moveTo>
                <a:cubicBezTo>
                  <a:pt x="6987" y="11337"/>
                  <a:pt x="7000" y="11523"/>
                  <a:pt x="7000" y="11711"/>
                </a:cubicBezTo>
                <a:cubicBezTo>
                  <a:pt x="7000" y="11914"/>
                  <a:pt x="6987" y="12115"/>
                  <a:pt x="6987" y="12318"/>
                </a:cubicBezTo>
                <a:cubicBezTo>
                  <a:pt x="6987" y="12443"/>
                  <a:pt x="6997" y="12566"/>
                  <a:pt x="7000" y="12691"/>
                </a:cubicBezTo>
                <a:cubicBezTo>
                  <a:pt x="7005" y="12892"/>
                  <a:pt x="7002" y="13090"/>
                  <a:pt x="7016" y="13290"/>
                </a:cubicBezTo>
                <a:cubicBezTo>
                  <a:pt x="7027" y="13445"/>
                  <a:pt x="7050" y="13599"/>
                  <a:pt x="7063" y="13754"/>
                </a:cubicBezTo>
                <a:cubicBezTo>
                  <a:pt x="7070" y="13839"/>
                  <a:pt x="7085" y="13925"/>
                  <a:pt x="7101" y="14008"/>
                </a:cubicBezTo>
                <a:cubicBezTo>
                  <a:pt x="7114" y="14074"/>
                  <a:pt x="7132" y="14139"/>
                  <a:pt x="7143" y="14205"/>
                </a:cubicBezTo>
                <a:cubicBezTo>
                  <a:pt x="7152" y="14263"/>
                  <a:pt x="7156" y="14323"/>
                  <a:pt x="7160" y="14381"/>
                </a:cubicBezTo>
                <a:cubicBezTo>
                  <a:pt x="7167" y="14471"/>
                  <a:pt x="7150" y="14571"/>
                  <a:pt x="7181" y="14656"/>
                </a:cubicBezTo>
                <a:cubicBezTo>
                  <a:pt x="7193" y="14688"/>
                  <a:pt x="7178" y="14699"/>
                  <a:pt x="7210" y="14718"/>
                </a:cubicBezTo>
                <a:cubicBezTo>
                  <a:pt x="7254" y="14744"/>
                  <a:pt x="7401" y="14710"/>
                  <a:pt x="7450" y="14705"/>
                </a:cubicBezTo>
                <a:cubicBezTo>
                  <a:pt x="7503" y="14700"/>
                  <a:pt x="7550" y="14689"/>
                  <a:pt x="7602" y="14676"/>
                </a:cubicBezTo>
                <a:cubicBezTo>
                  <a:pt x="7636" y="14667"/>
                  <a:pt x="7668" y="14653"/>
                  <a:pt x="7703" y="14648"/>
                </a:cubicBezTo>
                <a:cubicBezTo>
                  <a:pt x="7808" y="14633"/>
                  <a:pt x="7927" y="14638"/>
                  <a:pt x="8031" y="14656"/>
                </a:cubicBezTo>
                <a:cubicBezTo>
                  <a:pt x="8087" y="14666"/>
                  <a:pt x="8141" y="14690"/>
                  <a:pt x="8195" y="14697"/>
                </a:cubicBezTo>
                <a:cubicBezTo>
                  <a:pt x="8346" y="14716"/>
                  <a:pt x="8685" y="14692"/>
                  <a:pt x="8743" y="1467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1119240" y="6116760"/>
            <a:ext cx="2154240" cy="563400"/>
          </a:xfrm>
          <a:custGeom>
            <a:avLst/>
            <a:gdLst/>
            <a:ahLst/>
            <a:rect l="l" t="t" r="r" b="b"/>
            <a:pathLst>
              <a:path w="5984" h="1567">
                <a:moveTo>
                  <a:pt x="3117" y="17199"/>
                </a:moveTo>
                <a:cubicBezTo>
                  <a:pt x="3114" y="17190"/>
                  <a:pt x="3110" y="17189"/>
                  <a:pt x="3109" y="17174"/>
                </a:cubicBezTo>
                <a:cubicBezTo>
                  <a:pt x="3108" y="17157"/>
                  <a:pt x="3115" y="17160"/>
                  <a:pt x="3117" y="17154"/>
                </a:cubicBezTo>
                <a:cubicBezTo>
                  <a:pt x="3127" y="17173"/>
                  <a:pt x="3135" y="17192"/>
                  <a:pt x="3138" y="17219"/>
                </a:cubicBezTo>
                <a:cubicBezTo>
                  <a:pt x="3146" y="17282"/>
                  <a:pt x="3139" y="17345"/>
                  <a:pt x="3142" y="17408"/>
                </a:cubicBezTo>
                <a:cubicBezTo>
                  <a:pt x="3147" y="17516"/>
                  <a:pt x="3147" y="17624"/>
                  <a:pt x="3147" y="17732"/>
                </a:cubicBezTo>
                <a:cubicBezTo>
                  <a:pt x="3147" y="17856"/>
                  <a:pt x="3193" y="18086"/>
                  <a:pt x="3142" y="18204"/>
                </a:cubicBezTo>
                <a:cubicBezTo>
                  <a:pt x="3142" y="18209"/>
                  <a:pt x="3141" y="18211"/>
                  <a:pt x="3134" y="18208"/>
                </a:cubicBezTo>
              </a:path>
              <a:path w="5984" h="1567">
                <a:moveTo>
                  <a:pt x="3736" y="17125"/>
                </a:moveTo>
                <a:cubicBezTo>
                  <a:pt x="3724" y="17146"/>
                  <a:pt x="3712" y="17161"/>
                  <a:pt x="3702" y="17191"/>
                </a:cubicBezTo>
                <a:cubicBezTo>
                  <a:pt x="3675" y="17274"/>
                  <a:pt x="3661" y="17361"/>
                  <a:pt x="3639" y="17445"/>
                </a:cubicBezTo>
                <a:cubicBezTo>
                  <a:pt x="3579" y="17667"/>
                  <a:pt x="3498" y="17883"/>
                  <a:pt x="3437" y="18105"/>
                </a:cubicBezTo>
                <a:cubicBezTo>
                  <a:pt x="3436" y="18110"/>
                  <a:pt x="3421" y="18150"/>
                  <a:pt x="3420" y="18154"/>
                </a:cubicBezTo>
                <a:cubicBezTo>
                  <a:pt x="3427" y="18101"/>
                  <a:pt x="3433" y="18047"/>
                  <a:pt x="3446" y="17994"/>
                </a:cubicBezTo>
                <a:cubicBezTo>
                  <a:pt x="3487" y="17825"/>
                  <a:pt x="3524" y="17646"/>
                  <a:pt x="3606" y="17490"/>
                </a:cubicBezTo>
                <a:cubicBezTo>
                  <a:pt x="3630" y="17444"/>
                  <a:pt x="3633" y="17460"/>
                  <a:pt x="3665" y="17441"/>
                </a:cubicBezTo>
                <a:cubicBezTo>
                  <a:pt x="3698" y="17501"/>
                  <a:pt x="3719" y="17548"/>
                  <a:pt x="3728" y="17621"/>
                </a:cubicBezTo>
                <a:cubicBezTo>
                  <a:pt x="3743" y="17741"/>
                  <a:pt x="3751" y="17862"/>
                  <a:pt x="3766" y="17982"/>
                </a:cubicBezTo>
                <a:cubicBezTo>
                  <a:pt x="3773" y="18041"/>
                  <a:pt x="3781" y="18101"/>
                  <a:pt x="3795" y="18159"/>
                </a:cubicBezTo>
                <a:cubicBezTo>
                  <a:pt x="3796" y="18163"/>
                  <a:pt x="3798" y="18167"/>
                  <a:pt x="3799" y="18171"/>
                </a:cubicBezTo>
                <a:cubicBezTo>
                  <a:pt x="3824" y="18123"/>
                  <a:pt x="3829" y="18071"/>
                  <a:pt x="3837" y="18011"/>
                </a:cubicBezTo>
                <a:cubicBezTo>
                  <a:pt x="3857" y="17855"/>
                  <a:pt x="3872" y="17699"/>
                  <a:pt x="3900" y="17543"/>
                </a:cubicBezTo>
                <a:cubicBezTo>
                  <a:pt x="3923" y="17413"/>
                  <a:pt x="3964" y="17290"/>
                  <a:pt x="4006" y="17166"/>
                </a:cubicBezTo>
                <a:cubicBezTo>
                  <a:pt x="4012" y="17148"/>
                  <a:pt x="4017" y="17131"/>
                  <a:pt x="4023" y="17113"/>
                </a:cubicBezTo>
              </a:path>
              <a:path w="5984" h="1567">
                <a:moveTo>
                  <a:pt x="4204" y="17363"/>
                </a:moveTo>
                <a:cubicBezTo>
                  <a:pt x="4204" y="17463"/>
                  <a:pt x="4194" y="17559"/>
                  <a:pt x="4183" y="17658"/>
                </a:cubicBezTo>
                <a:cubicBezTo>
                  <a:pt x="4172" y="17751"/>
                  <a:pt x="4157" y="17844"/>
                  <a:pt x="4153" y="17937"/>
                </a:cubicBezTo>
                <a:cubicBezTo>
                  <a:pt x="4151" y="17972"/>
                  <a:pt x="4153" y="18008"/>
                  <a:pt x="4153" y="18044"/>
                </a:cubicBezTo>
              </a:path>
              <a:path w="5984" h="1567">
                <a:moveTo>
                  <a:pt x="4145" y="17453"/>
                </a:moveTo>
                <a:cubicBezTo>
                  <a:pt x="4157" y="17398"/>
                  <a:pt x="4180" y="17377"/>
                  <a:pt x="4225" y="17342"/>
                </a:cubicBezTo>
                <a:cubicBezTo>
                  <a:pt x="4277" y="17301"/>
                  <a:pt x="4336" y="17271"/>
                  <a:pt x="4401" y="17256"/>
                </a:cubicBezTo>
                <a:cubicBezTo>
                  <a:pt x="4449" y="17248"/>
                  <a:pt x="4463" y="17246"/>
                  <a:pt x="4494" y="17240"/>
                </a:cubicBezTo>
              </a:path>
              <a:path w="5984" h="1567">
                <a:moveTo>
                  <a:pt x="4928" y="17252"/>
                </a:moveTo>
                <a:cubicBezTo>
                  <a:pt x="4922" y="17297"/>
                  <a:pt x="4910" y="17338"/>
                  <a:pt x="4903" y="17383"/>
                </a:cubicBezTo>
                <a:cubicBezTo>
                  <a:pt x="4875" y="17549"/>
                  <a:pt x="4846" y="17714"/>
                  <a:pt x="4818" y="17880"/>
                </a:cubicBezTo>
                <a:cubicBezTo>
                  <a:pt x="4807" y="17942"/>
                  <a:pt x="4791" y="18002"/>
                  <a:pt x="4780" y="18064"/>
                </a:cubicBezTo>
                <a:cubicBezTo>
                  <a:pt x="4779" y="18074"/>
                  <a:pt x="4777" y="18083"/>
                  <a:pt x="4776" y="18093"/>
                </a:cubicBezTo>
              </a:path>
              <a:path w="5984" h="1567">
                <a:moveTo>
                  <a:pt x="4877" y="17264"/>
                </a:moveTo>
                <a:cubicBezTo>
                  <a:pt x="4898" y="17258"/>
                  <a:pt x="4920" y="17250"/>
                  <a:pt x="4940" y="17240"/>
                </a:cubicBezTo>
                <a:cubicBezTo>
                  <a:pt x="4986" y="17216"/>
                  <a:pt x="5034" y="17189"/>
                  <a:pt x="5084" y="17174"/>
                </a:cubicBezTo>
                <a:cubicBezTo>
                  <a:pt x="5119" y="17167"/>
                  <a:pt x="5128" y="17164"/>
                  <a:pt x="5151" y="17162"/>
                </a:cubicBezTo>
              </a:path>
              <a:path w="5984" h="1567">
                <a:moveTo>
                  <a:pt x="4713" y="17716"/>
                </a:moveTo>
                <a:cubicBezTo>
                  <a:pt x="4706" y="17725"/>
                  <a:pt x="4703" y="17726"/>
                  <a:pt x="4700" y="17736"/>
                </a:cubicBezTo>
                <a:cubicBezTo>
                  <a:pt x="4742" y="17736"/>
                  <a:pt x="4763" y="17723"/>
                  <a:pt x="4802" y="17707"/>
                </a:cubicBezTo>
                <a:cubicBezTo>
                  <a:pt x="4869" y="17679"/>
                  <a:pt x="4936" y="17652"/>
                  <a:pt x="5004" y="17625"/>
                </a:cubicBezTo>
              </a:path>
              <a:path w="5984" h="1567">
                <a:moveTo>
                  <a:pt x="4722" y="17982"/>
                </a:moveTo>
                <a:cubicBezTo>
                  <a:pt x="4706" y="17986"/>
                  <a:pt x="4729" y="18005"/>
                  <a:pt x="4738" y="18007"/>
                </a:cubicBezTo>
                <a:cubicBezTo>
                  <a:pt x="4800" y="18022"/>
                  <a:pt x="4867" y="18004"/>
                  <a:pt x="4928" y="17994"/>
                </a:cubicBezTo>
              </a:path>
              <a:path w="5984" h="1567">
                <a:moveTo>
                  <a:pt x="5286" y="17314"/>
                </a:moveTo>
                <a:cubicBezTo>
                  <a:pt x="5286" y="17302"/>
                  <a:pt x="5285" y="17299"/>
                  <a:pt x="5290" y="17293"/>
                </a:cubicBezTo>
                <a:cubicBezTo>
                  <a:pt x="5306" y="17292"/>
                  <a:pt x="5318" y="17273"/>
                  <a:pt x="5332" y="17305"/>
                </a:cubicBezTo>
                <a:cubicBezTo>
                  <a:pt x="5357" y="17365"/>
                  <a:pt x="5353" y="17443"/>
                  <a:pt x="5353" y="17506"/>
                </a:cubicBezTo>
                <a:cubicBezTo>
                  <a:pt x="5354" y="17595"/>
                  <a:pt x="5341" y="17678"/>
                  <a:pt x="5324" y="17765"/>
                </a:cubicBezTo>
                <a:cubicBezTo>
                  <a:pt x="5315" y="17810"/>
                  <a:pt x="5308" y="17812"/>
                  <a:pt x="5290" y="17843"/>
                </a:cubicBezTo>
                <a:cubicBezTo>
                  <a:pt x="5260" y="17798"/>
                  <a:pt x="5248" y="17739"/>
                  <a:pt x="5244" y="17683"/>
                </a:cubicBezTo>
                <a:cubicBezTo>
                  <a:pt x="5237" y="17580"/>
                  <a:pt x="5266" y="17486"/>
                  <a:pt x="5315" y="17396"/>
                </a:cubicBezTo>
                <a:cubicBezTo>
                  <a:pt x="5357" y="17320"/>
                  <a:pt x="5424" y="17249"/>
                  <a:pt x="5496" y="17199"/>
                </a:cubicBezTo>
                <a:cubicBezTo>
                  <a:pt x="5522" y="17181"/>
                  <a:pt x="5545" y="17176"/>
                  <a:pt x="5572" y="17166"/>
                </a:cubicBezTo>
                <a:cubicBezTo>
                  <a:pt x="5580" y="17220"/>
                  <a:pt x="5559" y="17262"/>
                  <a:pt x="5526" y="17305"/>
                </a:cubicBezTo>
                <a:cubicBezTo>
                  <a:pt x="5487" y="17357"/>
                  <a:pt x="5440" y="17405"/>
                  <a:pt x="5399" y="17457"/>
                </a:cubicBezTo>
                <a:cubicBezTo>
                  <a:pt x="5359" y="17508"/>
                  <a:pt x="5333" y="17564"/>
                  <a:pt x="5298" y="17617"/>
                </a:cubicBezTo>
                <a:cubicBezTo>
                  <a:pt x="5281" y="17642"/>
                  <a:pt x="5276" y="17664"/>
                  <a:pt x="5265" y="17691"/>
                </a:cubicBezTo>
                <a:cubicBezTo>
                  <a:pt x="5261" y="17702"/>
                  <a:pt x="5255" y="17707"/>
                  <a:pt x="5252" y="17720"/>
                </a:cubicBezTo>
                <a:cubicBezTo>
                  <a:pt x="5252" y="17724"/>
                  <a:pt x="5252" y="17725"/>
                  <a:pt x="5252" y="17728"/>
                </a:cubicBezTo>
                <a:cubicBezTo>
                  <a:pt x="5278" y="17730"/>
                  <a:pt x="5290" y="17732"/>
                  <a:pt x="5315" y="17744"/>
                </a:cubicBezTo>
                <a:cubicBezTo>
                  <a:pt x="5357" y="17765"/>
                  <a:pt x="5393" y="17792"/>
                  <a:pt x="5429" y="17822"/>
                </a:cubicBezTo>
                <a:cubicBezTo>
                  <a:pt x="5473" y="17858"/>
                  <a:pt x="5512" y="17897"/>
                  <a:pt x="5559" y="17929"/>
                </a:cubicBezTo>
                <a:cubicBezTo>
                  <a:pt x="5595" y="17954"/>
                  <a:pt x="5628" y="17976"/>
                  <a:pt x="5665" y="17999"/>
                </a:cubicBezTo>
                <a:cubicBezTo>
                  <a:pt x="5669" y="18002"/>
                  <a:pt x="5673" y="18004"/>
                  <a:pt x="5677" y="18007"/>
                </a:cubicBezTo>
              </a:path>
              <a:path w="5984" h="1567">
                <a:moveTo>
                  <a:pt x="6010" y="17232"/>
                </a:moveTo>
                <a:cubicBezTo>
                  <a:pt x="6010" y="17236"/>
                  <a:pt x="6006" y="17254"/>
                  <a:pt x="6006" y="17264"/>
                </a:cubicBezTo>
                <a:cubicBezTo>
                  <a:pt x="6005" y="17299"/>
                  <a:pt x="5998" y="17329"/>
                  <a:pt x="5993" y="17363"/>
                </a:cubicBezTo>
                <a:cubicBezTo>
                  <a:pt x="5986" y="17418"/>
                  <a:pt x="5977" y="17472"/>
                  <a:pt x="5968" y="17527"/>
                </a:cubicBezTo>
                <a:cubicBezTo>
                  <a:pt x="5955" y="17605"/>
                  <a:pt x="5945" y="17682"/>
                  <a:pt x="5938" y="17761"/>
                </a:cubicBezTo>
                <a:cubicBezTo>
                  <a:pt x="5933" y="17820"/>
                  <a:pt x="5934" y="17878"/>
                  <a:pt x="5934" y="17937"/>
                </a:cubicBezTo>
                <a:cubicBezTo>
                  <a:pt x="5934" y="17962"/>
                  <a:pt x="5934" y="17986"/>
                  <a:pt x="5934" y="18011"/>
                </a:cubicBezTo>
              </a:path>
              <a:path w="5984" h="1567">
                <a:moveTo>
                  <a:pt x="5926" y="17162"/>
                </a:moveTo>
                <a:cubicBezTo>
                  <a:pt x="5919" y="17161"/>
                  <a:pt x="5919" y="17160"/>
                  <a:pt x="5913" y="17158"/>
                </a:cubicBezTo>
                <a:cubicBezTo>
                  <a:pt x="5916" y="17141"/>
                  <a:pt x="5918" y="17136"/>
                  <a:pt x="5938" y="17129"/>
                </a:cubicBezTo>
                <a:cubicBezTo>
                  <a:pt x="5989" y="17111"/>
                  <a:pt x="6045" y="17098"/>
                  <a:pt x="6098" y="17088"/>
                </a:cubicBezTo>
                <a:cubicBezTo>
                  <a:pt x="6160" y="17076"/>
                  <a:pt x="6221" y="17069"/>
                  <a:pt x="6284" y="17068"/>
                </a:cubicBezTo>
              </a:path>
              <a:path w="5984" h="1567">
                <a:moveTo>
                  <a:pt x="5934" y="17597"/>
                </a:moveTo>
                <a:cubicBezTo>
                  <a:pt x="5920" y="17603"/>
                  <a:pt x="5909" y="17610"/>
                  <a:pt x="5896" y="17613"/>
                </a:cubicBezTo>
                <a:cubicBezTo>
                  <a:pt x="5936" y="17604"/>
                  <a:pt x="5977" y="17586"/>
                  <a:pt x="6018" y="17576"/>
                </a:cubicBezTo>
                <a:cubicBezTo>
                  <a:pt x="6078" y="17562"/>
                  <a:pt x="6136" y="17546"/>
                  <a:pt x="6195" y="17527"/>
                </a:cubicBezTo>
              </a:path>
              <a:path w="5984" h="1567">
                <a:moveTo>
                  <a:pt x="6726" y="17203"/>
                </a:moveTo>
                <a:cubicBezTo>
                  <a:pt x="6726" y="17201"/>
                  <a:pt x="6731" y="17170"/>
                  <a:pt x="6730" y="17170"/>
                </a:cubicBezTo>
                <a:cubicBezTo>
                  <a:pt x="6712" y="17177"/>
                  <a:pt x="6697" y="17212"/>
                  <a:pt x="6688" y="17228"/>
                </a:cubicBezTo>
                <a:cubicBezTo>
                  <a:pt x="6645" y="17307"/>
                  <a:pt x="6605" y="17387"/>
                  <a:pt x="6570" y="17470"/>
                </a:cubicBezTo>
                <a:cubicBezTo>
                  <a:pt x="6519" y="17592"/>
                  <a:pt x="6479" y="17717"/>
                  <a:pt x="6440" y="17843"/>
                </a:cubicBezTo>
                <a:cubicBezTo>
                  <a:pt x="6419" y="17910"/>
                  <a:pt x="6395" y="17978"/>
                  <a:pt x="6385" y="18048"/>
                </a:cubicBezTo>
                <a:cubicBezTo>
                  <a:pt x="6385" y="18051"/>
                  <a:pt x="6385" y="18053"/>
                  <a:pt x="6385" y="18056"/>
                </a:cubicBezTo>
                <a:cubicBezTo>
                  <a:pt x="6399" y="18023"/>
                  <a:pt x="6408" y="17976"/>
                  <a:pt x="6418" y="17937"/>
                </a:cubicBezTo>
                <a:cubicBezTo>
                  <a:pt x="6442" y="17837"/>
                  <a:pt x="6469" y="17738"/>
                  <a:pt x="6494" y="17638"/>
                </a:cubicBezTo>
                <a:cubicBezTo>
                  <a:pt x="6519" y="17537"/>
                  <a:pt x="6544" y="17436"/>
                  <a:pt x="6578" y="17338"/>
                </a:cubicBezTo>
                <a:cubicBezTo>
                  <a:pt x="6594" y="17291"/>
                  <a:pt x="6609" y="17261"/>
                  <a:pt x="6637" y="17223"/>
                </a:cubicBezTo>
                <a:cubicBezTo>
                  <a:pt x="6666" y="17254"/>
                  <a:pt x="6676" y="17275"/>
                  <a:pt x="6688" y="17322"/>
                </a:cubicBezTo>
                <a:cubicBezTo>
                  <a:pt x="6709" y="17403"/>
                  <a:pt x="6732" y="17481"/>
                  <a:pt x="6760" y="17560"/>
                </a:cubicBezTo>
                <a:cubicBezTo>
                  <a:pt x="6784" y="17628"/>
                  <a:pt x="6800" y="17697"/>
                  <a:pt x="6823" y="17765"/>
                </a:cubicBezTo>
                <a:cubicBezTo>
                  <a:pt x="6831" y="17789"/>
                  <a:pt x="6845" y="17829"/>
                  <a:pt x="6835" y="17855"/>
                </a:cubicBezTo>
                <a:cubicBezTo>
                  <a:pt x="6831" y="17858"/>
                  <a:pt x="6827" y="17860"/>
                  <a:pt x="6823" y="17863"/>
                </a:cubicBezTo>
                <a:cubicBezTo>
                  <a:pt x="6784" y="17853"/>
                  <a:pt x="6751" y="17841"/>
                  <a:pt x="6713" y="17822"/>
                </a:cubicBezTo>
                <a:cubicBezTo>
                  <a:pt x="6651" y="17791"/>
                  <a:pt x="6592" y="17745"/>
                  <a:pt x="6524" y="17728"/>
                </a:cubicBezTo>
                <a:cubicBezTo>
                  <a:pt x="6508" y="17724"/>
                  <a:pt x="6504" y="17723"/>
                  <a:pt x="6494" y="17724"/>
                </a:cubicBezTo>
              </a:path>
              <a:path w="5984" h="1567">
                <a:moveTo>
                  <a:pt x="7522" y="17121"/>
                </a:moveTo>
                <a:cubicBezTo>
                  <a:pt x="7506" y="17117"/>
                  <a:pt x="7488" y="17111"/>
                  <a:pt x="7471" y="17109"/>
                </a:cubicBezTo>
                <a:cubicBezTo>
                  <a:pt x="7428" y="17104"/>
                  <a:pt x="7383" y="17116"/>
                  <a:pt x="7345" y="17137"/>
                </a:cubicBezTo>
                <a:cubicBezTo>
                  <a:pt x="7283" y="17171"/>
                  <a:pt x="7224" y="17226"/>
                  <a:pt x="7181" y="17281"/>
                </a:cubicBezTo>
                <a:cubicBezTo>
                  <a:pt x="7089" y="17397"/>
                  <a:pt x="7026" y="17536"/>
                  <a:pt x="7008" y="17683"/>
                </a:cubicBezTo>
                <a:cubicBezTo>
                  <a:pt x="6997" y="17773"/>
                  <a:pt x="6990" y="17887"/>
                  <a:pt x="7071" y="17949"/>
                </a:cubicBezTo>
                <a:cubicBezTo>
                  <a:pt x="7151" y="18010"/>
                  <a:pt x="7261" y="17984"/>
                  <a:pt x="7345" y="17949"/>
                </a:cubicBezTo>
                <a:cubicBezTo>
                  <a:pt x="7369" y="17937"/>
                  <a:pt x="7392" y="17924"/>
                  <a:pt x="7416" y="17912"/>
                </a:cubicBezTo>
              </a:path>
              <a:path w="5984" h="1567">
                <a:moveTo>
                  <a:pt x="7896" y="17133"/>
                </a:moveTo>
                <a:cubicBezTo>
                  <a:pt x="7883" y="17156"/>
                  <a:pt x="7876" y="17173"/>
                  <a:pt x="7867" y="17199"/>
                </a:cubicBezTo>
                <a:cubicBezTo>
                  <a:pt x="7845" y="17258"/>
                  <a:pt x="7838" y="17320"/>
                  <a:pt x="7833" y="17383"/>
                </a:cubicBezTo>
                <a:cubicBezTo>
                  <a:pt x="7826" y="17466"/>
                  <a:pt x="7829" y="17550"/>
                  <a:pt x="7829" y="17634"/>
                </a:cubicBezTo>
                <a:cubicBezTo>
                  <a:pt x="7829" y="17702"/>
                  <a:pt x="7829" y="17771"/>
                  <a:pt x="7829" y="17839"/>
                </a:cubicBezTo>
              </a:path>
              <a:path w="5984" h="1567">
                <a:moveTo>
                  <a:pt x="7783" y="17207"/>
                </a:moveTo>
                <a:cubicBezTo>
                  <a:pt x="7826" y="17164"/>
                  <a:pt x="7871" y="17125"/>
                  <a:pt x="7922" y="17092"/>
                </a:cubicBezTo>
                <a:cubicBezTo>
                  <a:pt x="7985" y="17051"/>
                  <a:pt x="8051" y="17018"/>
                  <a:pt x="8124" y="16998"/>
                </a:cubicBezTo>
                <a:cubicBezTo>
                  <a:pt x="8135" y="16995"/>
                  <a:pt x="8147" y="16993"/>
                  <a:pt x="8158" y="16990"/>
                </a:cubicBezTo>
              </a:path>
              <a:path w="5984" h="1567">
                <a:moveTo>
                  <a:pt x="7736" y="17535"/>
                </a:moveTo>
                <a:cubicBezTo>
                  <a:pt x="7766" y="17535"/>
                  <a:pt x="7784" y="17520"/>
                  <a:pt x="7812" y="17511"/>
                </a:cubicBezTo>
                <a:cubicBezTo>
                  <a:pt x="7857" y="17498"/>
                  <a:pt x="7871" y="17495"/>
                  <a:pt x="7901" y="17486"/>
                </a:cubicBezTo>
              </a:path>
              <a:path w="5984" h="1567">
                <a:moveTo>
                  <a:pt x="7774" y="17908"/>
                </a:moveTo>
                <a:cubicBezTo>
                  <a:pt x="7808" y="17915"/>
                  <a:pt x="7845" y="17912"/>
                  <a:pt x="7880" y="17912"/>
                </a:cubicBezTo>
                <a:cubicBezTo>
                  <a:pt x="7939" y="17912"/>
                  <a:pt x="7997" y="17912"/>
                  <a:pt x="8056" y="17912"/>
                </a:cubicBezTo>
              </a:path>
              <a:path w="5984" h="1567">
                <a:moveTo>
                  <a:pt x="8844" y="17051"/>
                </a:moveTo>
                <a:cubicBezTo>
                  <a:pt x="8813" y="17053"/>
                  <a:pt x="8800" y="17061"/>
                  <a:pt x="8768" y="17072"/>
                </a:cubicBezTo>
                <a:cubicBezTo>
                  <a:pt x="8691" y="17098"/>
                  <a:pt x="8624" y="17125"/>
                  <a:pt x="8562" y="17178"/>
                </a:cubicBezTo>
                <a:cubicBezTo>
                  <a:pt x="8517" y="17217"/>
                  <a:pt x="8478" y="17266"/>
                  <a:pt x="8520" y="17322"/>
                </a:cubicBezTo>
                <a:cubicBezTo>
                  <a:pt x="8559" y="17375"/>
                  <a:pt x="8626" y="17386"/>
                  <a:pt x="8680" y="17416"/>
                </a:cubicBezTo>
                <a:cubicBezTo>
                  <a:pt x="8725" y="17441"/>
                  <a:pt x="8774" y="17475"/>
                  <a:pt x="8789" y="17527"/>
                </a:cubicBezTo>
                <a:cubicBezTo>
                  <a:pt x="8805" y="17582"/>
                  <a:pt x="8785" y="17636"/>
                  <a:pt x="8747" y="17675"/>
                </a:cubicBezTo>
                <a:cubicBezTo>
                  <a:pt x="8700" y="17723"/>
                  <a:pt x="8658" y="17729"/>
                  <a:pt x="8595" y="17732"/>
                </a:cubicBezTo>
              </a:path>
              <a:path w="5984" h="1567">
                <a:moveTo>
                  <a:pt x="3694" y="18548"/>
                </a:moveTo>
                <a:cubicBezTo>
                  <a:pt x="3709" y="18548"/>
                  <a:pt x="3724" y="18555"/>
                  <a:pt x="3740" y="18556"/>
                </a:cubicBezTo>
                <a:cubicBezTo>
                  <a:pt x="3892" y="18561"/>
                  <a:pt x="4023" y="18525"/>
                  <a:pt x="4170" y="18491"/>
                </a:cubicBezTo>
                <a:cubicBezTo>
                  <a:pt x="4469" y="18421"/>
                  <a:pt x="4771" y="18357"/>
                  <a:pt x="5075" y="18319"/>
                </a:cubicBezTo>
                <a:cubicBezTo>
                  <a:pt x="5598" y="18254"/>
                  <a:pt x="6129" y="18235"/>
                  <a:pt x="6654" y="18191"/>
                </a:cubicBezTo>
                <a:cubicBezTo>
                  <a:pt x="7359" y="18132"/>
                  <a:pt x="8069" y="18128"/>
                  <a:pt x="8760" y="17958"/>
                </a:cubicBezTo>
                <a:cubicBezTo>
                  <a:pt x="8848" y="17937"/>
                  <a:pt x="8934" y="17912"/>
                  <a:pt x="9021" y="17888"/>
                </a:cubicBezTo>
                <a:cubicBezTo>
                  <a:pt x="9000" y="17870"/>
                  <a:pt x="9111" y="17864"/>
                  <a:pt x="9084" y="17867"/>
                </a:cubicBezTo>
                <a:cubicBezTo>
                  <a:pt x="8972" y="17880"/>
                  <a:pt x="8873" y="17918"/>
                  <a:pt x="8764" y="17949"/>
                </a:cubicBezTo>
                <a:cubicBezTo>
                  <a:pt x="8629" y="17987"/>
                  <a:pt x="8492" y="18020"/>
                  <a:pt x="8355" y="18052"/>
                </a:cubicBezTo>
                <a:cubicBezTo>
                  <a:pt x="8166" y="18096"/>
                  <a:pt x="7977" y="18137"/>
                  <a:pt x="7787" y="18175"/>
                </a:cubicBezTo>
                <a:cubicBezTo>
                  <a:pt x="7215" y="18288"/>
                  <a:pt x="6615" y="18340"/>
                  <a:pt x="6035" y="18388"/>
                </a:cubicBezTo>
                <a:cubicBezTo>
                  <a:pt x="5607" y="18424"/>
                  <a:pt x="5179" y="18445"/>
                  <a:pt x="4751" y="18474"/>
                </a:cubicBezTo>
                <a:cubicBezTo>
                  <a:pt x="4525" y="18490"/>
                  <a:pt x="4299" y="18518"/>
                  <a:pt x="4073" y="18524"/>
                </a:cubicBezTo>
                <a:cubicBezTo>
                  <a:pt x="3817" y="18531"/>
                  <a:pt x="3557" y="18526"/>
                  <a:pt x="3302" y="18507"/>
                </a:cubicBezTo>
                <a:cubicBezTo>
                  <a:pt x="3302" y="18506"/>
                  <a:pt x="3302" y="18504"/>
                  <a:pt x="3302" y="18503"/>
                </a:cubicBezTo>
                <a:cubicBezTo>
                  <a:pt x="3399" y="18495"/>
                  <a:pt x="3496" y="18484"/>
                  <a:pt x="3593" y="18474"/>
                </a:cubicBezTo>
                <a:cubicBezTo>
                  <a:pt x="4435" y="18390"/>
                  <a:pt x="5279" y="18335"/>
                  <a:pt x="6124" y="18286"/>
                </a:cubicBezTo>
                <a:cubicBezTo>
                  <a:pt x="6732" y="18250"/>
                  <a:pt x="7337" y="18193"/>
                  <a:pt x="7943" y="18134"/>
                </a:cubicBezTo>
                <a:cubicBezTo>
                  <a:pt x="8218" y="18107"/>
                  <a:pt x="8495" y="18088"/>
                  <a:pt x="8764" y="18031"/>
                </a:cubicBezTo>
                <a:cubicBezTo>
                  <a:pt x="8819" y="18020"/>
                  <a:pt x="8834" y="18017"/>
                  <a:pt x="8869" y="18007"/>
                </a:cubicBezTo>
                <a:cubicBezTo>
                  <a:pt x="8841" y="17991"/>
                  <a:pt x="8910" y="17964"/>
                  <a:pt x="8878" y="17962"/>
                </a:cubicBezTo>
                <a:cubicBezTo>
                  <a:pt x="8615" y="17949"/>
                  <a:pt x="8340" y="18020"/>
                  <a:pt x="8082" y="18060"/>
                </a:cubicBezTo>
                <a:cubicBezTo>
                  <a:pt x="7870" y="18093"/>
                  <a:pt x="7658" y="18119"/>
                  <a:pt x="7446" y="18146"/>
                </a:cubicBezTo>
                <a:cubicBezTo>
                  <a:pt x="7139" y="18185"/>
                  <a:pt x="6832" y="18225"/>
                  <a:pt x="6524" y="18261"/>
                </a:cubicBezTo>
                <a:cubicBezTo>
                  <a:pt x="5726" y="18355"/>
                  <a:pt x="4927" y="18422"/>
                  <a:pt x="4124" y="18446"/>
                </a:cubicBezTo>
                <a:cubicBezTo>
                  <a:pt x="3963" y="18451"/>
                  <a:pt x="3804" y="18461"/>
                  <a:pt x="3648" y="18491"/>
                </a:cubicBezTo>
                <a:cubicBezTo>
                  <a:pt x="3641" y="18494"/>
                  <a:pt x="3634" y="18496"/>
                  <a:pt x="3627" y="18499"/>
                </a:cubicBezTo>
                <a:cubicBezTo>
                  <a:pt x="3652" y="18502"/>
                  <a:pt x="3661" y="18514"/>
                  <a:pt x="3686" y="18515"/>
                </a:cubicBezTo>
                <a:cubicBezTo>
                  <a:pt x="4193" y="18532"/>
                  <a:pt x="4718" y="18437"/>
                  <a:pt x="5223" y="18392"/>
                </a:cubicBezTo>
                <a:cubicBezTo>
                  <a:pt x="5489" y="18368"/>
                  <a:pt x="5756" y="18343"/>
                  <a:pt x="6023" y="18327"/>
                </a:cubicBezTo>
                <a:cubicBezTo>
                  <a:pt x="6868" y="18277"/>
                  <a:pt x="7690" y="18200"/>
                  <a:pt x="8528" y="18089"/>
                </a:cubicBezTo>
              </a:path>
              <a:path w="5984" h="1567">
                <a:moveTo>
                  <a:pt x="4835" y="18011"/>
                </a:moveTo>
                <a:cubicBezTo>
                  <a:pt x="4826" y="18013"/>
                  <a:pt x="4821" y="18015"/>
                  <a:pt x="4814" y="18023"/>
                </a:cubicBezTo>
                <a:cubicBezTo>
                  <a:pt x="4809" y="18029"/>
                  <a:pt x="4808" y="18034"/>
                  <a:pt x="4814" y="18040"/>
                </a:cubicBezTo>
                <a:cubicBezTo>
                  <a:pt x="4824" y="18051"/>
                  <a:pt x="4840" y="18046"/>
                  <a:pt x="4852" y="18048"/>
                </a:cubicBezTo>
                <a:cubicBezTo>
                  <a:pt x="4874" y="18052"/>
                  <a:pt x="4896" y="18052"/>
                  <a:pt x="4919" y="18052"/>
                </a:cubicBezTo>
                <a:cubicBezTo>
                  <a:pt x="4942" y="18052"/>
                  <a:pt x="4964" y="18054"/>
                  <a:pt x="4987" y="18056"/>
                </a:cubicBezTo>
                <a:cubicBezTo>
                  <a:pt x="5007" y="18058"/>
                  <a:pt x="5026" y="18060"/>
                  <a:pt x="5046" y="18060"/>
                </a:cubicBezTo>
                <a:cubicBezTo>
                  <a:pt x="5067" y="18060"/>
                  <a:pt x="5085" y="18070"/>
                  <a:pt x="5105" y="18072"/>
                </a:cubicBezTo>
                <a:cubicBezTo>
                  <a:pt x="5118" y="18073"/>
                  <a:pt x="5124" y="18077"/>
                  <a:pt x="5138" y="18077"/>
                </a:cubicBezTo>
                <a:cubicBezTo>
                  <a:pt x="5152" y="18077"/>
                  <a:pt x="5210" y="18071"/>
                  <a:pt x="5214" y="18081"/>
                </a:cubicBezTo>
                <a:cubicBezTo>
                  <a:pt x="5214" y="18084"/>
                  <a:pt x="5214" y="18086"/>
                  <a:pt x="5214" y="18089"/>
                </a:cubicBezTo>
              </a:path>
              <a:path w="5984" h="1567">
                <a:moveTo>
                  <a:pt x="4936" y="17576"/>
                </a:moveTo>
                <a:cubicBezTo>
                  <a:pt x="4941" y="17573"/>
                  <a:pt x="4952" y="17565"/>
                  <a:pt x="4957" y="17564"/>
                </a:cubicBezTo>
                <a:cubicBezTo>
                  <a:pt x="4971" y="17561"/>
                  <a:pt x="4985" y="17557"/>
                  <a:pt x="4999" y="17552"/>
                </a:cubicBezTo>
                <a:cubicBezTo>
                  <a:pt x="5022" y="17545"/>
                  <a:pt x="5044" y="17539"/>
                  <a:pt x="5067" y="17531"/>
                </a:cubicBezTo>
                <a:cubicBezTo>
                  <a:pt x="5079" y="17527"/>
                  <a:pt x="5083" y="17526"/>
                  <a:pt x="5092" y="17527"/>
                </a:cubicBezTo>
              </a:path>
              <a:path w="5984" h="1567">
                <a:moveTo>
                  <a:pt x="4199" y="17371"/>
                </a:moveTo>
                <a:cubicBezTo>
                  <a:pt x="4192" y="17370"/>
                  <a:pt x="4184" y="17366"/>
                  <a:pt x="4170" y="17371"/>
                </a:cubicBezTo>
                <a:cubicBezTo>
                  <a:pt x="4156" y="17376"/>
                  <a:pt x="4147" y="17382"/>
                  <a:pt x="4136" y="17392"/>
                </a:cubicBezTo>
                <a:cubicBezTo>
                  <a:pt x="4124" y="17402"/>
                  <a:pt x="4110" y="17409"/>
                  <a:pt x="4098" y="17420"/>
                </a:cubicBezTo>
                <a:cubicBezTo>
                  <a:pt x="4081" y="17435"/>
                  <a:pt x="4059" y="17445"/>
                  <a:pt x="4044" y="17461"/>
                </a:cubicBezTo>
                <a:cubicBezTo>
                  <a:pt x="4028" y="17478"/>
                  <a:pt x="4013" y="17491"/>
                  <a:pt x="3997" y="17506"/>
                </a:cubicBezTo>
                <a:cubicBezTo>
                  <a:pt x="3984" y="17518"/>
                  <a:pt x="3966" y="17529"/>
                  <a:pt x="3955" y="17539"/>
                </a:cubicBezTo>
                <a:cubicBezTo>
                  <a:pt x="3951" y="17543"/>
                  <a:pt x="3950" y="17544"/>
                  <a:pt x="3947" y="17547"/>
                </a:cubicBezTo>
                <a:cubicBezTo>
                  <a:pt x="3974" y="17545"/>
                  <a:pt x="3989" y="17541"/>
                  <a:pt x="4014" y="17527"/>
                </a:cubicBezTo>
                <a:cubicBezTo>
                  <a:pt x="4047" y="17509"/>
                  <a:pt x="4077" y="17491"/>
                  <a:pt x="4107" y="17470"/>
                </a:cubicBezTo>
                <a:cubicBezTo>
                  <a:pt x="4146" y="17442"/>
                  <a:pt x="4190" y="17419"/>
                  <a:pt x="4233" y="17396"/>
                </a:cubicBezTo>
                <a:cubicBezTo>
                  <a:pt x="4271" y="17376"/>
                  <a:pt x="4312" y="17359"/>
                  <a:pt x="4351" y="17342"/>
                </a:cubicBezTo>
                <a:cubicBezTo>
                  <a:pt x="4386" y="17326"/>
                  <a:pt x="4424" y="17314"/>
                  <a:pt x="4460" y="17301"/>
                </a:cubicBezTo>
                <a:cubicBezTo>
                  <a:pt x="4467" y="17298"/>
                  <a:pt x="4474" y="17296"/>
                  <a:pt x="4481" y="17293"/>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278400" y="3921120"/>
            <a:ext cx="5040" cy="1362240"/>
          </a:xfrm>
          <a:custGeom>
            <a:avLst/>
            <a:gdLst/>
            <a:ahLst/>
            <a:rect l="l" t="t" r="r" b="b"/>
            <a:pathLst>
              <a:path w="10" h="3786">
                <a:moveTo>
                  <a:pt x="17442" y="10891"/>
                </a:moveTo>
                <a:cubicBezTo>
                  <a:pt x="17442" y="11474"/>
                  <a:pt x="17447" y="12055"/>
                  <a:pt x="17447" y="12638"/>
                </a:cubicBezTo>
                <a:cubicBezTo>
                  <a:pt x="17447" y="12905"/>
                  <a:pt x="17451" y="13171"/>
                  <a:pt x="17451" y="13438"/>
                </a:cubicBezTo>
                <a:cubicBezTo>
                  <a:pt x="17451" y="13851"/>
                  <a:pt x="17451" y="14263"/>
                  <a:pt x="17451" y="1467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221520" y="3867120"/>
            <a:ext cx="42840" cy="1228680"/>
          </a:xfrm>
          <a:custGeom>
            <a:avLst/>
            <a:gdLst/>
            <a:ahLst/>
            <a:rect l="l" t="t" r="r" b="b"/>
            <a:pathLst>
              <a:path w="119" h="3414">
                <a:moveTo>
                  <a:pt x="17400" y="14156"/>
                </a:moveTo>
                <a:cubicBezTo>
                  <a:pt x="17398" y="13990"/>
                  <a:pt x="17388" y="13825"/>
                  <a:pt x="17383" y="13659"/>
                </a:cubicBezTo>
                <a:cubicBezTo>
                  <a:pt x="17381" y="13583"/>
                  <a:pt x="17377" y="13506"/>
                  <a:pt x="17371" y="13430"/>
                </a:cubicBezTo>
                <a:cubicBezTo>
                  <a:pt x="17366" y="13363"/>
                  <a:pt x="17359" y="13296"/>
                  <a:pt x="17350" y="13229"/>
                </a:cubicBezTo>
                <a:cubicBezTo>
                  <a:pt x="17341" y="13160"/>
                  <a:pt x="17334" y="13094"/>
                  <a:pt x="17329" y="13024"/>
                </a:cubicBezTo>
                <a:cubicBezTo>
                  <a:pt x="17317" y="12869"/>
                  <a:pt x="17299" y="12720"/>
                  <a:pt x="17299" y="12564"/>
                </a:cubicBezTo>
                <a:cubicBezTo>
                  <a:pt x="17299" y="12455"/>
                  <a:pt x="17299" y="12348"/>
                  <a:pt x="17291" y="12240"/>
                </a:cubicBezTo>
                <a:cubicBezTo>
                  <a:pt x="17284" y="12149"/>
                  <a:pt x="17283" y="12056"/>
                  <a:pt x="17282" y="11965"/>
                </a:cubicBezTo>
                <a:cubicBezTo>
                  <a:pt x="17279" y="11669"/>
                  <a:pt x="17244" y="11339"/>
                  <a:pt x="17291" y="11047"/>
                </a:cubicBezTo>
                <a:cubicBezTo>
                  <a:pt x="17296" y="11017"/>
                  <a:pt x="17304" y="10990"/>
                  <a:pt x="17312" y="10961"/>
                </a:cubicBezTo>
                <a:cubicBezTo>
                  <a:pt x="17325" y="10911"/>
                  <a:pt x="17329" y="10860"/>
                  <a:pt x="17346" y="10813"/>
                </a:cubicBezTo>
                <a:cubicBezTo>
                  <a:pt x="17353" y="10795"/>
                  <a:pt x="17366" y="10772"/>
                  <a:pt x="17371" y="10756"/>
                </a:cubicBezTo>
                <a:cubicBezTo>
                  <a:pt x="17371" y="10749"/>
                  <a:pt x="17371" y="10747"/>
                  <a:pt x="17371" y="10743"/>
                </a:cubicBezTo>
                <a:cubicBezTo>
                  <a:pt x="17370" y="10796"/>
                  <a:pt x="17366" y="10843"/>
                  <a:pt x="17362" y="10895"/>
                </a:cubicBezTo>
                <a:cubicBezTo>
                  <a:pt x="17357" y="10959"/>
                  <a:pt x="17357" y="11023"/>
                  <a:pt x="17354" y="11088"/>
                </a:cubicBezTo>
                <a:cubicBezTo>
                  <a:pt x="17350" y="11171"/>
                  <a:pt x="17347" y="11255"/>
                  <a:pt x="17341" y="11338"/>
                </a:cubicBezTo>
                <a:cubicBezTo>
                  <a:pt x="17335" y="11428"/>
                  <a:pt x="17322" y="11516"/>
                  <a:pt x="17320" y="11605"/>
                </a:cubicBezTo>
                <a:cubicBezTo>
                  <a:pt x="17315" y="11809"/>
                  <a:pt x="17325" y="12012"/>
                  <a:pt x="17325" y="12216"/>
                </a:cubicBezTo>
                <a:cubicBezTo>
                  <a:pt x="17325" y="12338"/>
                  <a:pt x="17324" y="12459"/>
                  <a:pt x="17333" y="12581"/>
                </a:cubicBezTo>
                <a:cubicBezTo>
                  <a:pt x="17344" y="12721"/>
                  <a:pt x="17334" y="12863"/>
                  <a:pt x="17350" y="13003"/>
                </a:cubicBezTo>
                <a:cubicBezTo>
                  <a:pt x="17370" y="13177"/>
                  <a:pt x="17367" y="13349"/>
                  <a:pt x="17367" y="13524"/>
                </a:cubicBezTo>
                <a:cubicBezTo>
                  <a:pt x="17367" y="13665"/>
                  <a:pt x="17371" y="13805"/>
                  <a:pt x="17371" y="1394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Ich Glaube mir fehlt noch etwas..</a:t>
            </a:r>
            <a:endParaRPr b="0" lang="en-US" sz="4000" spc="-1" strike="noStrike">
              <a:solidFill>
                <a:srgbClr val="dfdef6"/>
              </a:solidFill>
              <a:latin typeface="Arial"/>
            </a:endParaRPr>
          </a:p>
        </p:txBody>
      </p:sp>
      <p:sp>
        <p:nvSpPr>
          <p:cNvPr id="7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nn Zellen (Komponenten) nur die Interfaces der anderen Zellen (Komponenten) kennen, wie kann ich den überhaupt jemals eine Instanz einer anderen Zelle bekommen bzw, wie füge ich das alles zusammen ? Wo ist der Anfang ? Wo ist das M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51">
                                            <p:txEl>
                                              <p:pRg st="0" end="0"/>
                                            </p:txEl>
                                          </p:spTgt>
                                        </p:tgtEl>
                                        <p:attrNameLst>
                                          <p:attrName>style.visibility</p:attrName>
                                        </p:attrNameLst>
                                      </p:cBhvr>
                                      <p:to>
                                        <p:strVal val="visible"/>
                                      </p:to>
                                    </p:set>
                                    <p:animEffect filter="blinds(horizontal)" transition="in">
                                      <p:cBhvr additive="repl">
                                        <p:cTn id="184" dur="500"/>
                                        <p:tgtEl>
                                          <p:spTgt spid="7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iel des Vortrages</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Relativ kurz zu beschreiben, wie ich von der Anforderung an eine zu implementierende Applikation zur Benutzung des Microkernels gekommen b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Jetzt kommt der Microkernel ins Spiel ! </a:t>
            </a:r>
            <a:endParaRPr b="0" lang="en-US" sz="4000" spc="-1" strike="noStrike">
              <a:solidFill>
                <a:srgbClr val="dfdef6"/>
              </a:solidFill>
              <a:latin typeface="Arial"/>
            </a:endParaRPr>
          </a:p>
        </p:txBody>
      </p:sp>
      <p:sp>
        <p:nvSpPr>
          <p:cNvPr id="75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Microkernel weiß zu welchem welche Klasse welches Interface implementiert.</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as weiß er über eine Konfiguration (z.B. aus der App Config)</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nn man jetzt eine Instanz eines Interfaces benötigt, dann fragt man einfach nur den Microkernel und man bekommt eine Instanz zu dem geforderten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53">
                                            <p:txEl>
                                              <p:pRg st="0" end="0"/>
                                            </p:txEl>
                                          </p:spTgt>
                                        </p:tgtEl>
                                        <p:attrNameLst>
                                          <p:attrName>style.visibility</p:attrName>
                                        </p:attrNameLst>
                                      </p:cBhvr>
                                      <p:to>
                                        <p:strVal val="visible"/>
                                      </p:to>
                                    </p:set>
                                    <p:animEffect filter="blinds(horizontal)" transition="in">
                                      <p:cBhvr additive="repl">
                                        <p:cTn id="191" dur="500"/>
                                        <p:tgtEl>
                                          <p:spTgt spid="75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53">
                                            <p:txEl>
                                              <p:pRg st="1" end="1"/>
                                            </p:txEl>
                                          </p:spTgt>
                                        </p:tgtEl>
                                        <p:attrNameLst>
                                          <p:attrName>style.visibility</p:attrName>
                                        </p:attrNameLst>
                                      </p:cBhvr>
                                      <p:to>
                                        <p:strVal val="visible"/>
                                      </p:to>
                                    </p:set>
                                    <p:animEffect filter="blinds(horizontal)" transition="in">
                                      <p:cBhvr additive="repl">
                                        <p:cTn id="196" dur="500"/>
                                        <p:tgtEl>
                                          <p:spTgt spid="75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53">
                                            <p:txEl>
                                              <p:pRg st="2" end="2"/>
                                            </p:txEl>
                                          </p:spTgt>
                                        </p:tgtEl>
                                        <p:attrNameLst>
                                          <p:attrName>style.visibility</p:attrName>
                                        </p:attrNameLst>
                                      </p:cBhvr>
                                      <p:to>
                                        <p:strVal val="visible"/>
                                      </p:to>
                                    </p:set>
                                    <p:animEffect filter="blinds(horizontal)" transition="in">
                                      <p:cBhvr additive="repl">
                                        <p:cTn id="201" dur="500"/>
                                        <p:tgtEl>
                                          <p:spTgt spid="7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dfdef6"/>
                </a:solidFill>
                <a:latin typeface="Arial"/>
              </a:rPr>
              <a:t>Das Schichtenmodell – Die Fragen...</a:t>
            </a:r>
            <a:endParaRPr b="0" lang="en-US" sz="3600" spc="-1" strike="noStrike">
              <a:solidFill>
                <a:srgbClr val="dfdef6"/>
              </a:solidFill>
              <a:latin typeface="Arial"/>
            </a:endParaRPr>
          </a:p>
        </p:txBody>
      </p:sp>
      <p:sp>
        <p:nvSpPr>
          <p:cNvPr id="755"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8000"/>
          </a:bodyPr>
          <a:p>
            <a:pPr marL="301680" indent="-3016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instanziert wen ?</a:t>
            </a:r>
            <a:endParaRPr b="0" lang="en-US" sz="3200" spc="-1" strike="noStrike">
              <a:solidFill>
                <a:srgbClr val="ffffff"/>
              </a:solidFill>
              <a:latin typeface="Arial"/>
            </a:endParaRPr>
          </a:p>
          <a:p>
            <a:pPr marL="301680" indent="-3016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steckt das Ganze zusammen ?</a:t>
            </a:r>
            <a:endParaRPr b="0" lang="en-US" sz="3200" spc="-1" strike="noStrike">
              <a:solidFill>
                <a:srgbClr val="ffffff"/>
              </a:solidFill>
              <a:latin typeface="Arial"/>
            </a:endParaRPr>
          </a:p>
          <a:p>
            <a:pPr marL="301680" indent="-3016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uß ich die Interfaces durch Schichten durchreichen ?</a:t>
            </a:r>
            <a:endParaRPr b="0" lang="en-US" sz="3200" spc="-1" strike="noStrike">
              <a:solidFill>
                <a:srgbClr val="ffffff"/>
              </a:solidFill>
              <a:latin typeface="Arial"/>
            </a:endParaRPr>
          </a:p>
          <a:p>
            <a:pPr marL="301680" indent="-3016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tausche ich Schichten/Bestandteile aus, so daß ich das Ganze testen kann ?</a:t>
            </a:r>
            <a:endParaRPr b="0" lang="en-US" sz="3200" spc="-1" strike="noStrike">
              <a:solidFill>
                <a:srgbClr val="ffffff"/>
              </a:solidFill>
              <a:latin typeface="Arial"/>
            </a:endParaRPr>
          </a:p>
          <a:p>
            <a:pPr marL="301680" indent="-3016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entwickle ich parallel ?</a:t>
            </a:r>
            <a:endParaRPr b="0" lang="en-US" sz="3200" spc="-1" strike="noStrike">
              <a:solidFill>
                <a:srgbClr val="ffffff"/>
              </a:solidFill>
              <a:latin typeface="Arial"/>
            </a:endParaRPr>
          </a:p>
          <a:p>
            <a:pPr marL="301680" indent="-3016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ann definiere ich die Interfaces ?</a:t>
            </a:r>
            <a:endParaRPr b="0" lang="en-US" sz="3200" spc="-1" strike="noStrike">
              <a:solidFill>
                <a:srgbClr val="ffffff"/>
              </a:solidFill>
              <a:latin typeface="Arial"/>
            </a:endParaRPr>
          </a:p>
          <a:p>
            <a:pPr marL="301680" indent="-3016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kann ich Bestandteile einfach austausch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755">
                                            <p:txEl>
                                              <p:pRg st="0" end="0"/>
                                            </p:txEl>
                                          </p:spTgt>
                                        </p:tgtEl>
                                        <p:attrNameLst>
                                          <p:attrName>style.visibility</p:attrName>
                                        </p:attrNameLst>
                                      </p:cBhvr>
                                      <p:to>
                                        <p:strVal val="visible"/>
                                      </p:to>
                                    </p:set>
                                    <p:animEffect filter="checkerboard(across)" transition="in">
                                      <p:cBhvr additive="repl">
                                        <p:cTn id="208" dur="500"/>
                                        <p:tgtEl>
                                          <p:spTgt spid="755">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755">
                                            <p:txEl>
                                              <p:pRg st="1" end="1"/>
                                            </p:txEl>
                                          </p:spTgt>
                                        </p:tgtEl>
                                        <p:attrNameLst>
                                          <p:attrName>style.visibility</p:attrName>
                                        </p:attrNameLst>
                                      </p:cBhvr>
                                      <p:to>
                                        <p:strVal val="visible"/>
                                      </p:to>
                                    </p:set>
                                    <p:animEffect filter="blinds(horizontal)" transition="in">
                                      <p:cBhvr additive="repl">
                                        <p:cTn id="213" dur="500"/>
                                        <p:tgtEl>
                                          <p:spTgt spid="755">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55">
                                            <p:txEl>
                                              <p:pRg st="2" end="2"/>
                                            </p:txEl>
                                          </p:spTgt>
                                        </p:tgtEl>
                                        <p:attrNameLst>
                                          <p:attrName>style.visibility</p:attrName>
                                        </p:attrNameLst>
                                      </p:cBhvr>
                                      <p:to>
                                        <p:strVal val="visible"/>
                                      </p:to>
                                    </p:set>
                                    <p:animEffect filter="blinds(horizontal)" transition="in">
                                      <p:cBhvr additive="repl">
                                        <p:cTn id="218" dur="500"/>
                                        <p:tgtEl>
                                          <p:spTgt spid="755">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55">
                                            <p:txEl>
                                              <p:pRg st="3" end="3"/>
                                            </p:txEl>
                                          </p:spTgt>
                                        </p:tgtEl>
                                        <p:attrNameLst>
                                          <p:attrName>style.visibility</p:attrName>
                                        </p:attrNameLst>
                                      </p:cBhvr>
                                      <p:to>
                                        <p:strVal val="visible"/>
                                      </p:to>
                                    </p:set>
                                    <p:animEffect filter="blinds(horizontal)" transition="in">
                                      <p:cBhvr additive="repl">
                                        <p:cTn id="223" dur="500"/>
                                        <p:tgtEl>
                                          <p:spTgt spid="755">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55">
                                            <p:txEl>
                                              <p:pRg st="4" end="4"/>
                                            </p:txEl>
                                          </p:spTgt>
                                        </p:tgtEl>
                                        <p:attrNameLst>
                                          <p:attrName>style.visibility</p:attrName>
                                        </p:attrNameLst>
                                      </p:cBhvr>
                                      <p:to>
                                        <p:strVal val="visible"/>
                                      </p:to>
                                    </p:set>
                                    <p:animEffect filter="blinds(horizontal)" transition="in">
                                      <p:cBhvr additive="repl">
                                        <p:cTn id="228" dur="500"/>
                                        <p:tgtEl>
                                          <p:spTgt spid="755">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5">
                                            <p:txEl>
                                              <p:pRg st="5" end="5"/>
                                            </p:txEl>
                                          </p:spTgt>
                                        </p:tgtEl>
                                        <p:attrNameLst>
                                          <p:attrName>style.visibility</p:attrName>
                                        </p:attrNameLst>
                                      </p:cBhvr>
                                      <p:to>
                                        <p:strVal val="visible"/>
                                      </p:to>
                                    </p:set>
                                    <p:animEffect filter="blinds(horizontal)" transition="in">
                                      <p:cBhvr additive="repl">
                                        <p:cTn id="233" dur="500"/>
                                        <p:tgtEl>
                                          <p:spTgt spid="755">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55">
                                            <p:txEl>
                                              <p:pRg st="6" end="6"/>
                                            </p:txEl>
                                          </p:spTgt>
                                        </p:tgtEl>
                                        <p:attrNameLst>
                                          <p:attrName>style.visibility</p:attrName>
                                        </p:attrNameLst>
                                      </p:cBhvr>
                                      <p:to>
                                        <p:strVal val="visible"/>
                                      </p:to>
                                    </p:set>
                                    <p:animEffect filter="blinds(horizontal)" transition="in">
                                      <p:cBhvr additive="repl">
                                        <p:cTn id="238" dur="500"/>
                                        <p:tgtEl>
                                          <p:spTgt spid="7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ie Lösung reppelte sich von ganz alleine auf:</a:t>
            </a:r>
            <a:endParaRPr b="0" lang="en-US" sz="4000" spc="-1" strike="noStrike">
              <a:solidFill>
                <a:srgbClr val="dfdef6"/>
              </a:solidFill>
              <a:latin typeface="Arial"/>
            </a:endParaRPr>
          </a:p>
        </p:txBody>
      </p:sp>
      <p:sp>
        <p:nvSpPr>
          <p:cNvPr id="7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er instanziert wen ?</a:t>
            </a:r>
            <a:endParaRPr b="0" lang="en-US" sz="36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Ok, es muß immer noch einen Host geben mit einem Main, dieser holt sich über den Microkernel die Business Logik Komponente und startet diese. Die Business Logik benötigt ein Portal und mehrere Adapter. Diese werden ebenfalls über den Microkernel instanziert und so fort. So baut sich die Application auf und alles ohne new*.</a:t>
            </a:r>
            <a:endParaRPr b="0" lang="en-US" sz="3200" spc="-1" strike="noStrike">
              <a:solidFill>
                <a:srgbClr val="ffffff"/>
              </a:solidFill>
              <a:latin typeface="Arial"/>
            </a:endParaRPr>
          </a:p>
        </p:txBody>
      </p:sp>
      <p:sp>
        <p:nvSpPr>
          <p:cNvPr id="758" name=""/>
          <p:cNvSpPr/>
          <p:nvPr/>
        </p:nvSpPr>
        <p:spPr>
          <a:xfrm>
            <a:off x="527040" y="6113520"/>
            <a:ext cx="84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ur standard Datentypen werden mit new erzeugt. DataSets gehören auch daz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757">
                                            <p:txEl>
                                              <p:pRg st="0" end="0"/>
                                            </p:txEl>
                                          </p:spTgt>
                                        </p:tgtEl>
                                        <p:attrNameLst>
                                          <p:attrName>style.visibility</p:attrName>
                                        </p:attrNameLst>
                                      </p:cBhvr>
                                      <p:to>
                                        <p:strVal val="visible"/>
                                      </p:to>
                                    </p:set>
                                    <p:animEffect filter="blinds(horizontal)" transition="in">
                                      <p:cBhvr additive="repl">
                                        <p:cTn id="245" dur="500"/>
                                        <p:tgtEl>
                                          <p:spTgt spid="75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57">
                                            <p:txEl>
                                              <p:pRg st="1" end="1"/>
                                            </p:txEl>
                                          </p:spTgt>
                                        </p:tgtEl>
                                        <p:attrNameLst>
                                          <p:attrName>style.visibility</p:attrName>
                                        </p:attrNameLst>
                                      </p:cBhvr>
                                      <p:to>
                                        <p:strVal val="visible"/>
                                      </p:to>
                                    </p:set>
                                    <p:animEffect filter="blinds(horizontal)" transition="in">
                                      <p:cBhvr additive="repl">
                                        <p:cTn id="250"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er steckt das Ganze zusammen ?</a:t>
            </a:r>
            <a:endParaRPr b="0" lang="en-US" sz="36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Application selber fängt an sich zusammenzubauen.</a:t>
            </a:r>
            <a:endParaRPr b="0" lang="en-US" sz="32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Muß ich die Interfaces durch Schichten durchreichen ?</a:t>
            </a:r>
            <a:endParaRPr b="0" lang="en-US" sz="36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Nein, über den Microkernel komme ich immer an Instanz eines Interfaces he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257" dur="500"/>
                                        <p:tgtEl>
                                          <p:spTgt spid="76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60">
                                            <p:txEl>
                                              <p:pRg st="1" end="1"/>
                                            </p:txEl>
                                          </p:spTgt>
                                        </p:tgtEl>
                                        <p:attrNameLst>
                                          <p:attrName>style.visibility</p:attrName>
                                        </p:attrNameLst>
                                      </p:cBhvr>
                                      <p:to>
                                        <p:strVal val="visible"/>
                                      </p:to>
                                    </p:set>
                                    <p:animEffect filter="blinds(horizontal)" transition="in">
                                      <p:cBhvr additive="repl">
                                        <p:cTn id="262" dur="500"/>
                                        <p:tgtEl>
                                          <p:spTgt spid="760">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60">
                                            <p:txEl>
                                              <p:pRg st="2" end="2"/>
                                            </p:txEl>
                                          </p:spTgt>
                                        </p:tgtEl>
                                        <p:attrNameLst>
                                          <p:attrName>style.visibility</p:attrName>
                                        </p:attrNameLst>
                                      </p:cBhvr>
                                      <p:to>
                                        <p:strVal val="visible"/>
                                      </p:to>
                                    </p:set>
                                    <p:animEffect filter="blinds(horizontal)" transition="in">
                                      <p:cBhvr additive="repl">
                                        <p:cTn id="267" dur="500"/>
                                        <p:tgtEl>
                                          <p:spTgt spid="760">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60">
                                            <p:txEl>
                                              <p:pRg st="3" end="3"/>
                                            </p:txEl>
                                          </p:spTgt>
                                        </p:tgtEl>
                                        <p:attrNameLst>
                                          <p:attrName>style.visibility</p:attrName>
                                        </p:attrNameLst>
                                      </p:cBhvr>
                                      <p:to>
                                        <p:strVal val="visible"/>
                                      </p:to>
                                    </p:set>
                                    <p:animEffect filter="blinds(horizontal)" transition="in">
                                      <p:cBhvr additive="repl">
                                        <p:cTn id="272" dur="500"/>
                                        <p:tgtEl>
                                          <p:spTgt spid="7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ie tausche ich Schichten/Bestandteile aus, so daß ich das Ganze testen kann ?</a:t>
            </a:r>
            <a:endParaRPr b="0" lang="en-US" sz="36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ch kann anstatt der realen Implementierung mir Instanzen über </a:t>
            </a:r>
            <a:br>
              <a:rPr sz="3200"/>
            </a:br>
            <a:r>
              <a:rPr b="0" lang="de-DE" sz="3200" spc="-1" strike="noStrike">
                <a:solidFill>
                  <a:srgbClr val="ffffff"/>
                </a:solidFill>
                <a:latin typeface="Arial"/>
              </a:rPr>
              <a:t>den Microkernel geben lassen, die das geforderte Interface implementieren, aber nur zu Testzwecken da si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762">
                                            <p:txEl>
                                              <p:pRg st="0" end="0"/>
                                            </p:txEl>
                                          </p:spTgt>
                                        </p:tgtEl>
                                        <p:attrNameLst>
                                          <p:attrName>style.visibility</p:attrName>
                                        </p:attrNameLst>
                                      </p:cBhvr>
                                      <p:to>
                                        <p:strVal val="visible"/>
                                      </p:to>
                                    </p:set>
                                    <p:animEffect filter="blinds(horizontal)" transition="in">
                                      <p:cBhvr additive="repl">
                                        <p:cTn id="279" dur="500"/>
                                        <p:tgtEl>
                                          <p:spTgt spid="7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762">
                                            <p:txEl>
                                              <p:pRg st="1" end="1"/>
                                            </p:txEl>
                                          </p:spTgt>
                                        </p:tgtEl>
                                        <p:attrNameLst>
                                          <p:attrName>style.visibility</p:attrName>
                                        </p:attrNameLst>
                                      </p:cBhvr>
                                      <p:to>
                                        <p:strVal val="visible"/>
                                      </p:to>
                                    </p:set>
                                    <p:animEffect filter="blinds(horizontal)" transition="in">
                                      <p:cBhvr additive="repl">
                                        <p:cTn id="284" dur="500"/>
                                        <p:tgtEl>
                                          <p:spTgt spid="7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Wie entwickle ich parallel ?</a:t>
            </a:r>
            <a:endParaRPr b="0" lang="en-US" sz="4000" spc="-1" strike="noStrike">
              <a:solidFill>
                <a:srgbClr val="ffffff"/>
              </a:solidFill>
              <a:latin typeface="Arial"/>
            </a:endParaRPr>
          </a:p>
          <a:p>
            <a:pPr lvl="1" marL="743040" indent="-285840">
              <a:lnSpc>
                <a:spcPct val="90000"/>
              </a:lnSpc>
              <a:spcBef>
                <a:spcPts val="9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enn man jetzt noch den Contract First Design Ansatz fährt, sich also über die Schnittstellen vor der Implementierung Gedanken macht, dann können Entwickler unabhängig gegen die jeweiligen Interfaces entwickel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764">
                                            <p:txEl>
                                              <p:pRg st="0" end="0"/>
                                            </p:txEl>
                                          </p:spTgt>
                                        </p:tgtEl>
                                        <p:attrNameLst>
                                          <p:attrName>style.visibility</p:attrName>
                                        </p:attrNameLst>
                                      </p:cBhvr>
                                      <p:to>
                                        <p:strVal val="visible"/>
                                      </p:to>
                                    </p:set>
                                    <p:animEffect filter="blinds(horizontal)" transition="in">
                                      <p:cBhvr additive="repl">
                                        <p:cTn id="291" dur="500"/>
                                        <p:tgtEl>
                                          <p:spTgt spid="7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764">
                                            <p:txEl>
                                              <p:pRg st="1" end="1"/>
                                            </p:txEl>
                                          </p:spTgt>
                                        </p:tgtEl>
                                        <p:attrNameLst>
                                          <p:attrName>style.visibility</p:attrName>
                                        </p:attrNameLst>
                                      </p:cBhvr>
                                      <p:to>
                                        <p:strVal val="visible"/>
                                      </p:to>
                                    </p:set>
                                    <p:animEffect filter="blinds(horizontal)" transition="in">
                                      <p:cBhvr additive="repl">
                                        <p:cTn id="296" dur="500"/>
                                        <p:tgtEl>
                                          <p:spTgt spid="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ann definiere ich die Interfaces ?</a:t>
            </a:r>
            <a:endParaRPr b="0" lang="en-US" sz="36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Frage ist schon durch das Contract First Design beantwortet worden. Zuerst das Interface, dann die Implemetierung.</a:t>
            </a:r>
            <a:endParaRPr b="0" lang="en-US" sz="3200" spc="-1" strike="noStrike">
              <a:solidFill>
                <a:srgbClr val="ffffff"/>
              </a:solidFill>
              <a:latin typeface="Arial"/>
            </a:endParaRPr>
          </a:p>
          <a:p>
            <a:pPr marL="343080" indent="-343080">
              <a:lnSpc>
                <a:spcPct val="8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ie kann ich Bestandteile einfach austauschen ?</a:t>
            </a:r>
            <a:endParaRPr b="0" lang="en-US" sz="36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Microkernel hat ein konfigurierbares Mapping zwischen Interface(s) und implementierender Klasse, die on the fly ausgetauscht werden kann.</a:t>
            </a:r>
            <a:endParaRPr b="0" lang="en-US" sz="3200" spc="-1" strike="noStrike">
              <a:solidFill>
                <a:srgbClr val="ffffff"/>
              </a:solidFill>
              <a:latin typeface="Arial"/>
            </a:endParaRPr>
          </a:p>
          <a:p>
            <a:pPr lvl="2" marL="114300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766">
                                            <p:txEl>
                                              <p:pRg st="0" end="0"/>
                                            </p:txEl>
                                          </p:spTgt>
                                        </p:tgtEl>
                                        <p:attrNameLst>
                                          <p:attrName>style.visibility</p:attrName>
                                        </p:attrNameLst>
                                      </p:cBhvr>
                                      <p:to>
                                        <p:strVal val="visible"/>
                                      </p:to>
                                    </p:set>
                                    <p:animEffect filter="blinds(horizontal)" transition="in">
                                      <p:cBhvr additive="repl">
                                        <p:cTn id="303" dur="500"/>
                                        <p:tgtEl>
                                          <p:spTgt spid="76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766">
                                            <p:txEl>
                                              <p:pRg st="1" end="1"/>
                                            </p:txEl>
                                          </p:spTgt>
                                        </p:tgtEl>
                                        <p:attrNameLst>
                                          <p:attrName>style.visibility</p:attrName>
                                        </p:attrNameLst>
                                      </p:cBhvr>
                                      <p:to>
                                        <p:strVal val="visible"/>
                                      </p:to>
                                    </p:set>
                                    <p:animEffect filter="blinds(horizontal)" transition="in">
                                      <p:cBhvr additive="repl">
                                        <p:cTn id="308" dur="500"/>
                                        <p:tgtEl>
                                          <p:spTgt spid="766">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766">
                                            <p:txEl>
                                              <p:pRg st="2" end="2"/>
                                            </p:txEl>
                                          </p:spTgt>
                                        </p:tgtEl>
                                        <p:attrNameLst>
                                          <p:attrName>style.visibility</p:attrName>
                                        </p:attrNameLst>
                                      </p:cBhvr>
                                      <p:to>
                                        <p:strVal val="visible"/>
                                      </p:to>
                                    </p:set>
                                    <p:animEffect filter="blinds(horizontal)" transition="in">
                                      <p:cBhvr additive="repl">
                                        <p:cTn id="313" dur="500"/>
                                        <p:tgtEl>
                                          <p:spTgt spid="76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66">
                                            <p:txEl>
                                              <p:pRg st="3" end="3"/>
                                            </p:txEl>
                                          </p:spTgt>
                                        </p:tgtEl>
                                        <p:attrNameLst>
                                          <p:attrName>style.visibility</p:attrName>
                                        </p:attrNameLst>
                                      </p:cBhvr>
                                      <p:to>
                                        <p:strVal val="visible"/>
                                      </p:to>
                                    </p:set>
                                    <p:animEffect filter="blinds(horizontal)" transition="in">
                                      <p:cBhvr additive="repl">
                                        <p:cTn id="318" dur="500"/>
                                        <p:tgtEl>
                                          <p:spTgt spid="7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App-Config 1/2</a:t>
            </a:r>
            <a:endParaRPr b="0" lang="en-US" sz="4400" spc="-1" strike="noStrike">
              <a:solidFill>
                <a:srgbClr val="dfdef6"/>
              </a:solidFill>
              <a:latin typeface="Arial"/>
            </a:endParaRPr>
          </a:p>
        </p:txBody>
      </p:sp>
      <p:sp>
        <p:nvSpPr>
          <p:cNvPr id="7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t;configuration&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configSection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section name=„microkernel“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type=„dnp.microkernel.ConfigSectionHandler, dnp.microkernel“ /&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configSection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microkernel&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reference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local keyType=„</a:t>
            </a:r>
            <a:r>
              <a:rPr b="1" lang="de-DE" sz="1800" spc="-1" strike="noStrike">
                <a:solidFill>
                  <a:srgbClr val="ffffff"/>
                </a:solidFill>
                <a:latin typeface="Arial"/>
              </a:rPr>
              <a:t>MyInterfaces.IBerichtswesen</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assembly=„</a:t>
            </a:r>
            <a:r>
              <a:rPr b="1" lang="de-DE" sz="1800" spc="-1" strike="noStrike">
                <a:solidFill>
                  <a:srgbClr val="ffffff"/>
                </a:solidFill>
                <a:latin typeface="Arial"/>
              </a:rPr>
              <a:t>MyImplementation</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implementationType=„</a:t>
            </a:r>
            <a:r>
              <a:rPr b="1" lang="de-DE" sz="1800" spc="-1" strike="noStrike">
                <a:solidFill>
                  <a:srgbClr val="ffffff"/>
                </a:solidFill>
                <a:latin typeface="Arial"/>
              </a:rPr>
              <a:t>MyImplementation.BerichtswesenEinfach</a:t>
            </a:r>
            <a:r>
              <a:rPr b="0" lang="de-DE" sz="1800" spc="-1" strike="noStrike">
                <a:solidFill>
                  <a:srgbClr val="ffffff"/>
                </a:solidFill>
                <a:latin typeface="Arial"/>
              </a:rPr>
              <a:t>“&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local&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reference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microkernel&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t;/configuration&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App Config 2/2</a:t>
            </a:r>
            <a:endParaRPr b="0" lang="en-US" sz="4400" spc="-1" strike="noStrike">
              <a:solidFill>
                <a:srgbClr val="dfdef6"/>
              </a:solidFill>
              <a:latin typeface="Arial"/>
            </a:endParaRPr>
          </a:p>
        </p:txBody>
      </p:sp>
      <p:sp>
        <p:nvSpPr>
          <p:cNvPr id="7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1000"/>
          </a:bodyPr>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microkerne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eferences&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 keyType=„MyInterfaces.IBerichtswese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ssembly=„MyImplementatio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implementationType=„</a:t>
            </a:r>
            <a:r>
              <a:rPr b="1" lang="de-DE" sz="1600" spc="-1" strike="noStrike">
                <a:solidFill>
                  <a:srgbClr val="ffffff"/>
                </a:solidFill>
                <a:latin typeface="Arial"/>
              </a:rPr>
              <a:t>MyImplementation.BerichtswesenEinfach</a:t>
            </a:r>
            <a:r>
              <a:rPr b="0" lang="de-DE" sz="1600" spc="-1" strike="noStrike">
                <a:solidFill>
                  <a:srgbClr val="ffffff"/>
                </a:solidFill>
                <a:latin typeface="Arial"/>
              </a:rPr>
              <a:t>“&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 name=„</a:t>
            </a:r>
            <a:r>
              <a:rPr b="1" lang="de-DE" sz="1600" spc="-1" strike="noStrike">
                <a:solidFill>
                  <a:srgbClr val="ffffff"/>
                </a:solidFill>
                <a:latin typeface="Arial"/>
              </a:rPr>
              <a:t>Abteilungsserver\Sachbearbeiter</a:t>
            </a:r>
            <a:r>
              <a:rPr b="0" lang="de-DE" sz="1600" spc="-1" strike="noStrike">
                <a:solidFill>
                  <a:srgbClr val="ffffff"/>
                </a:solidFill>
                <a:latin typeface="Arial"/>
              </a:rPr>
              <a:t>“ /&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 keyType=„MyInterfaces.IBerichtswese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ssembly=„MyImplementatio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implementationType=„</a:t>
            </a:r>
            <a:r>
              <a:rPr b="1" lang="de-DE" sz="1600" spc="-1" strike="noStrike">
                <a:solidFill>
                  <a:srgbClr val="ffffff"/>
                </a:solidFill>
                <a:latin typeface="Arial"/>
              </a:rPr>
              <a:t>MyImplementation.BerichtswesenDetailiert</a:t>
            </a:r>
            <a:r>
              <a:rPr b="0" lang="de-DE" sz="1600" spc="-1" strike="noStrike">
                <a:solidFill>
                  <a:srgbClr val="ffffff"/>
                </a:solidFill>
                <a:latin typeface="Arial"/>
              </a:rPr>
              <a:t>“&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 name=„</a:t>
            </a:r>
            <a:r>
              <a:rPr b="1" lang="de-DE" sz="1600" spc="-1" strike="noStrike">
                <a:solidFill>
                  <a:srgbClr val="ffffff"/>
                </a:solidFill>
                <a:latin typeface="Arial"/>
              </a:rPr>
              <a:t>Abteilungsserver\Abteilungsleiter</a:t>
            </a:r>
            <a:r>
              <a:rPr b="0" lang="de-DE" sz="1600" spc="-1" strike="noStrike">
                <a:solidFill>
                  <a:srgbClr val="ffffff"/>
                </a:solidFill>
                <a:latin typeface="Arial"/>
              </a:rPr>
              <a:t>“ /&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eferences&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microkerne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configuration&g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Benutzung des Microkernels</a:t>
            </a:r>
            <a:endParaRPr b="0" lang="en-US" sz="4400" spc="-1" strike="noStrike">
              <a:solidFill>
                <a:srgbClr val="dfdef6"/>
              </a:solidFill>
              <a:latin typeface="Arial"/>
            </a:endParaRPr>
          </a:p>
        </p:txBody>
      </p:sp>
      <p:sp>
        <p:nvSpPr>
          <p:cNvPr id="7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Herkömmlich</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Class1 _clas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_class = new Class1() as IClass1;</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it Microkernel</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Class1 _class1;</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_class = dnp.microkernel.ObjectFactory</a:t>
            </a:r>
            <a:br>
              <a:rPr sz="2800"/>
            </a:br>
            <a:r>
              <a:rPr b="0" lang="de-DE" sz="2800" spc="-1" strike="noStrike">
                <a:solidFill>
                  <a:srgbClr val="ffffff"/>
                </a:solidFill>
                <a:latin typeface="Arial"/>
              </a:rPr>
              <a:t>              .CreateInstance( typeof( IClass1 ) ) </a:t>
            </a:r>
            <a:br>
              <a:rPr sz="2800"/>
            </a:br>
            <a:r>
              <a:rPr b="0" lang="de-DE" sz="2800" spc="-1" strike="noStrike">
                <a:solidFill>
                  <a:srgbClr val="ffffff"/>
                </a:solidFill>
                <a:latin typeface="Arial"/>
              </a:rPr>
              <a:t>              as IClass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772">
                                            <p:txEl>
                                              <p:pRg st="0" end="0"/>
                                            </p:txEl>
                                          </p:spTgt>
                                        </p:tgtEl>
                                        <p:attrNameLst>
                                          <p:attrName>style.visibility</p:attrName>
                                        </p:attrNameLst>
                                      </p:cBhvr>
                                      <p:to>
                                        <p:strVal val="visible"/>
                                      </p:to>
                                    </p:set>
                                    <p:animEffect filter="blinds(horizontal)" transition="in">
                                      <p:cBhvr additive="repl">
                                        <p:cTn id="325" dur="500"/>
                                        <p:tgtEl>
                                          <p:spTgt spid="772">
                                            <p:txEl>
                                              <p:pRg st="0" end="0"/>
                                            </p:txEl>
                                          </p:spTgt>
                                        </p:tgtEl>
                                      </p:cBhvr>
                                    </p:animEffect>
                                  </p:childTnLst>
                                </p:cTn>
                              </p:par>
                              <p:par>
                                <p:cTn id="326" nodeType="withEffect" fill="hold" presetClass="entr" presetID="3" presetSubtype="10">
                                  <p:stCondLst>
                                    <p:cond delay="0"/>
                                  </p:stCondLst>
                                  <p:childTnLst>
                                    <p:set>
                                      <p:cBhvr>
                                        <p:cTn id="327" dur="1" fill="hold">
                                          <p:stCondLst>
                                            <p:cond delay="0"/>
                                          </p:stCondLst>
                                        </p:cTn>
                                        <p:tgtEl>
                                          <p:spTgt spid="772">
                                            <p:txEl>
                                              <p:pRg st="1" end="1"/>
                                            </p:txEl>
                                          </p:spTgt>
                                        </p:tgtEl>
                                        <p:attrNameLst>
                                          <p:attrName>style.visibility</p:attrName>
                                        </p:attrNameLst>
                                      </p:cBhvr>
                                      <p:to>
                                        <p:strVal val="visible"/>
                                      </p:to>
                                    </p:set>
                                    <p:animEffect filter="blinds(horizontal)" transition="in">
                                      <p:cBhvr additive="repl">
                                        <p:cTn id="328" dur="500"/>
                                        <p:tgtEl>
                                          <p:spTgt spid="772">
                                            <p:txEl>
                                              <p:pRg st="1" end="1"/>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772">
                                            <p:txEl>
                                              <p:pRg st="2" end="2"/>
                                            </p:txEl>
                                          </p:spTgt>
                                        </p:tgtEl>
                                        <p:attrNameLst>
                                          <p:attrName>style.visibility</p:attrName>
                                        </p:attrNameLst>
                                      </p:cBhvr>
                                      <p:to>
                                        <p:strVal val="visible"/>
                                      </p:to>
                                    </p:set>
                                    <p:animEffect filter="blinds(horizontal)" transition="in">
                                      <p:cBhvr additive="repl">
                                        <p:cTn id="331" dur="500"/>
                                        <p:tgtEl>
                                          <p:spTgt spid="772">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772">
                                            <p:txEl>
                                              <p:pRg st="4" end="4"/>
                                            </p:txEl>
                                          </p:spTgt>
                                        </p:tgtEl>
                                        <p:attrNameLst>
                                          <p:attrName>style.visibility</p:attrName>
                                        </p:attrNameLst>
                                      </p:cBhvr>
                                      <p:to>
                                        <p:strVal val="visible"/>
                                      </p:to>
                                    </p:set>
                                    <p:animEffect filter="blinds(horizontal)" transition="in">
                                      <p:cBhvr additive="repl">
                                        <p:cTn id="336" dur="500"/>
                                        <p:tgtEl>
                                          <p:spTgt spid="772">
                                            <p:txEl>
                                              <p:pRg st="4" end="4"/>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772">
                                            <p:txEl>
                                              <p:pRg st="5" end="5"/>
                                            </p:txEl>
                                          </p:spTgt>
                                        </p:tgtEl>
                                        <p:attrNameLst>
                                          <p:attrName>style.visibility</p:attrName>
                                        </p:attrNameLst>
                                      </p:cBhvr>
                                      <p:to>
                                        <p:strVal val="visible"/>
                                      </p:to>
                                    </p:set>
                                    <p:animEffect filter="blinds(horizontal)" transition="in">
                                      <p:cBhvr additive="repl">
                                        <p:cTn id="339" dur="500"/>
                                        <p:tgtEl>
                                          <p:spTgt spid="772">
                                            <p:txEl>
                                              <p:pRg st="5" end="5"/>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772">
                                            <p:txEl>
                                              <p:pRg st="6" end="6"/>
                                            </p:txEl>
                                          </p:spTgt>
                                        </p:tgtEl>
                                        <p:attrNameLst>
                                          <p:attrName>style.visibility</p:attrName>
                                        </p:attrNameLst>
                                      </p:cBhvr>
                                      <p:to>
                                        <p:strVal val="visible"/>
                                      </p:to>
                                    </p:set>
                                    <p:animEffect filter="blinds(horizontal)" transition="in">
                                      <p:cBhvr additive="repl">
                                        <p:cTn id="342" dur="500"/>
                                        <p:tgtEl>
                                          <p:spTgt spid="7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u meiner Person...</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ndreas Bräse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pl. Ing. der technischen Informatik (FH)</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Freiberuflicher Software Entwickler mit Schwerpunkt auf .NET basierter Software Entwicklung</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Beschäftigung mit dem Microkernel seit dem September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19">
                                            <p:txEl>
                                              <p:pRg st="0" end="0"/>
                                            </p:txEl>
                                          </p:spTgt>
                                        </p:tgtEl>
                                        <p:attrNameLst>
                                          <p:attrName>style.visibility</p:attrName>
                                        </p:attrNameLst>
                                      </p:cBhvr>
                                      <p:to>
                                        <p:strVal val="visible"/>
                                      </p:to>
                                    </p:set>
                                    <p:animEffect filter="blinds(horizontal)" transition="in">
                                      <p:cBhvr additive="repl">
                                        <p:cTn id="14" dur="500"/>
                                        <p:tgtEl>
                                          <p:spTgt spid="51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19">
                                            <p:txEl>
                                              <p:pRg st="1" end="1"/>
                                            </p:txEl>
                                          </p:spTgt>
                                        </p:tgtEl>
                                        <p:attrNameLst>
                                          <p:attrName>style.visibility</p:attrName>
                                        </p:attrNameLst>
                                      </p:cBhvr>
                                      <p:to>
                                        <p:strVal val="visible"/>
                                      </p:to>
                                    </p:set>
                                    <p:animEffect filter="blinds(horizontal)" transition="in">
                                      <p:cBhvr additive="repl">
                                        <p:cTn id="19" dur="500"/>
                                        <p:tgtEl>
                                          <p:spTgt spid="51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9">
                                            <p:txEl>
                                              <p:pRg st="2" end="2"/>
                                            </p:txEl>
                                          </p:spTgt>
                                        </p:tgtEl>
                                        <p:attrNameLst>
                                          <p:attrName>style.visibility</p:attrName>
                                        </p:attrNameLst>
                                      </p:cBhvr>
                                      <p:to>
                                        <p:strVal val="visible"/>
                                      </p:to>
                                    </p:set>
                                    <p:animEffect filter="blinds(horizontal)" transition="in">
                                      <p:cBhvr additive="repl">
                                        <p:cTn id="24" dur="500"/>
                                        <p:tgtEl>
                                          <p:spTgt spid="519">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19">
                                            <p:txEl>
                                              <p:pRg st="3" end="3"/>
                                            </p:txEl>
                                          </p:spTgt>
                                        </p:tgtEl>
                                        <p:attrNameLst>
                                          <p:attrName>style.visibility</p:attrName>
                                        </p:attrNameLst>
                                      </p:cBhvr>
                                      <p:to>
                                        <p:strVal val="visible"/>
                                      </p:to>
                                    </p:set>
                                    <p:animEffect filter="blinds(horizontal)" transition="in">
                                      <p:cBhvr additive="repl">
                                        <p:cTn id="29" dur="500"/>
                                        <p:tgtEl>
                                          <p:spTgt spid="5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Die Anforderungen...</a:t>
            </a:r>
            <a:endParaRPr b="0" lang="en-US" sz="4400" spc="-1" strike="noStrike">
              <a:solidFill>
                <a:srgbClr val="dfdef6"/>
              </a:solidFill>
              <a:latin typeface="Arial"/>
            </a:endParaRPr>
          </a:p>
        </p:txBody>
      </p:sp>
      <p:sp>
        <p:nvSpPr>
          <p:cNvPr id="7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muß austauschbar sei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5" name=""/>
          <p:cNvSpPr/>
          <p:nvPr/>
        </p:nvSpPr>
        <p:spPr>
          <a:xfrm>
            <a:off x="612720" y="1684440"/>
            <a:ext cx="260280" cy="804600"/>
          </a:xfrm>
          <a:custGeom>
            <a:avLst/>
            <a:gdLst/>
            <a:ahLst/>
            <a:rect l="l" t="t" r="r" b="b"/>
            <a:pathLst>
              <a:path w="722" h="2238">
                <a:moveTo>
                  <a:pt x="1739" y="5060"/>
                </a:moveTo>
                <a:cubicBezTo>
                  <a:pt x="1739" y="5063"/>
                  <a:pt x="1725" y="5047"/>
                  <a:pt x="1739" y="5079"/>
                </a:cubicBezTo>
                <a:cubicBezTo>
                  <a:pt x="1753" y="5113"/>
                  <a:pt x="1764" y="5148"/>
                  <a:pt x="1773" y="5185"/>
                </a:cubicBezTo>
                <a:cubicBezTo>
                  <a:pt x="1795" y="5269"/>
                  <a:pt x="1803" y="5367"/>
                  <a:pt x="1834" y="5448"/>
                </a:cubicBezTo>
                <a:cubicBezTo>
                  <a:pt x="1846" y="5479"/>
                  <a:pt x="1853" y="5516"/>
                  <a:pt x="1868" y="5546"/>
                </a:cubicBezTo>
                <a:cubicBezTo>
                  <a:pt x="1877" y="5564"/>
                  <a:pt x="1896" y="5578"/>
                  <a:pt x="1910" y="5592"/>
                </a:cubicBezTo>
                <a:cubicBezTo>
                  <a:pt x="1912" y="5592"/>
                  <a:pt x="1913" y="5592"/>
                  <a:pt x="1915" y="5592"/>
                </a:cubicBezTo>
                <a:cubicBezTo>
                  <a:pt x="1923" y="5582"/>
                  <a:pt x="1943" y="5563"/>
                  <a:pt x="1953" y="5546"/>
                </a:cubicBezTo>
                <a:cubicBezTo>
                  <a:pt x="1986" y="5492"/>
                  <a:pt x="2014" y="5436"/>
                  <a:pt x="2043" y="5379"/>
                </a:cubicBezTo>
                <a:cubicBezTo>
                  <a:pt x="2102" y="5263"/>
                  <a:pt x="2155" y="5144"/>
                  <a:pt x="2214" y="5028"/>
                </a:cubicBezTo>
                <a:cubicBezTo>
                  <a:pt x="2266" y="4926"/>
                  <a:pt x="2321" y="4821"/>
                  <a:pt x="2385" y="4727"/>
                </a:cubicBezTo>
                <a:cubicBezTo>
                  <a:pt x="2398" y="4710"/>
                  <a:pt x="2410" y="4694"/>
                  <a:pt x="2423" y="4677"/>
                </a:cubicBezTo>
              </a:path>
              <a:path w="722" h="2238">
                <a:moveTo>
                  <a:pt x="1792" y="6530"/>
                </a:moveTo>
                <a:cubicBezTo>
                  <a:pt x="1783" y="6511"/>
                  <a:pt x="1772" y="6491"/>
                  <a:pt x="1763" y="6470"/>
                </a:cubicBezTo>
                <a:cubicBezTo>
                  <a:pt x="1748" y="6434"/>
                  <a:pt x="1728" y="6411"/>
                  <a:pt x="1706" y="6382"/>
                </a:cubicBezTo>
                <a:cubicBezTo>
                  <a:pt x="1703" y="6378"/>
                  <a:pt x="1701" y="6377"/>
                  <a:pt x="1702" y="6373"/>
                </a:cubicBezTo>
                <a:cubicBezTo>
                  <a:pt x="1702" y="6466"/>
                  <a:pt x="1711" y="6551"/>
                  <a:pt x="1735" y="6641"/>
                </a:cubicBezTo>
                <a:cubicBezTo>
                  <a:pt x="1753" y="6708"/>
                  <a:pt x="1774" y="6780"/>
                  <a:pt x="1801" y="6844"/>
                </a:cubicBezTo>
                <a:cubicBezTo>
                  <a:pt x="1812" y="6870"/>
                  <a:pt x="1833" y="6905"/>
                  <a:pt x="1863" y="6914"/>
                </a:cubicBezTo>
                <a:cubicBezTo>
                  <a:pt x="1895" y="6924"/>
                  <a:pt x="1919" y="6898"/>
                  <a:pt x="1939" y="6877"/>
                </a:cubicBezTo>
                <a:cubicBezTo>
                  <a:pt x="2001" y="6812"/>
                  <a:pt x="2038" y="6733"/>
                  <a:pt x="2081" y="6655"/>
                </a:cubicBezTo>
                <a:cubicBezTo>
                  <a:pt x="2142" y="6543"/>
                  <a:pt x="2189" y="6425"/>
                  <a:pt x="2257" y="6317"/>
                </a:cubicBezTo>
                <a:cubicBezTo>
                  <a:pt x="2302" y="6251"/>
                  <a:pt x="2316" y="6230"/>
                  <a:pt x="2347" y="6188"/>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6880" y="2855880"/>
            <a:ext cx="291960" cy="693720"/>
          </a:xfrm>
          <a:custGeom>
            <a:avLst/>
            <a:gdLst/>
            <a:ahLst/>
            <a:rect l="l" t="t" r="r" b="b"/>
            <a:pathLst>
              <a:path w="812" h="1924">
                <a:moveTo>
                  <a:pt x="1659" y="8074"/>
                </a:moveTo>
                <a:cubicBezTo>
                  <a:pt x="1664" y="8062"/>
                  <a:pt x="1680" y="8044"/>
                  <a:pt x="1683" y="8032"/>
                </a:cubicBezTo>
                <a:cubicBezTo>
                  <a:pt x="1689" y="8006"/>
                  <a:pt x="1684" y="8006"/>
                  <a:pt x="1697" y="7986"/>
                </a:cubicBezTo>
                <a:cubicBezTo>
                  <a:pt x="1699" y="7986"/>
                  <a:pt x="1700" y="7986"/>
                  <a:pt x="1702" y="7986"/>
                </a:cubicBezTo>
                <a:cubicBezTo>
                  <a:pt x="1708" y="7997"/>
                  <a:pt x="1720" y="8014"/>
                  <a:pt x="1725" y="8032"/>
                </a:cubicBezTo>
                <a:cubicBezTo>
                  <a:pt x="1737" y="8077"/>
                  <a:pt x="1745" y="8125"/>
                  <a:pt x="1754" y="8171"/>
                </a:cubicBezTo>
                <a:cubicBezTo>
                  <a:pt x="1767" y="8240"/>
                  <a:pt x="1785" y="8312"/>
                  <a:pt x="1806" y="8379"/>
                </a:cubicBezTo>
                <a:cubicBezTo>
                  <a:pt x="1824" y="8434"/>
                  <a:pt x="1843" y="8495"/>
                  <a:pt x="1872" y="8545"/>
                </a:cubicBezTo>
                <a:cubicBezTo>
                  <a:pt x="1885" y="8568"/>
                  <a:pt x="1914" y="8601"/>
                  <a:pt x="1944" y="8592"/>
                </a:cubicBezTo>
                <a:cubicBezTo>
                  <a:pt x="2004" y="8575"/>
                  <a:pt x="2030" y="8508"/>
                  <a:pt x="2062" y="8462"/>
                </a:cubicBezTo>
                <a:cubicBezTo>
                  <a:pt x="2116" y="8385"/>
                  <a:pt x="2159" y="8302"/>
                  <a:pt x="2214" y="8226"/>
                </a:cubicBezTo>
                <a:cubicBezTo>
                  <a:pt x="2273" y="8145"/>
                  <a:pt x="2329" y="8058"/>
                  <a:pt x="2394" y="7981"/>
                </a:cubicBezTo>
                <a:cubicBezTo>
                  <a:pt x="2408" y="7966"/>
                  <a:pt x="2423" y="7950"/>
                  <a:pt x="2437" y="7935"/>
                </a:cubicBezTo>
              </a:path>
              <a:path w="812" h="1924">
                <a:moveTo>
                  <a:pt x="1744" y="9317"/>
                </a:moveTo>
                <a:cubicBezTo>
                  <a:pt x="1744" y="9299"/>
                  <a:pt x="1744" y="9280"/>
                  <a:pt x="1744" y="9262"/>
                </a:cubicBezTo>
                <a:cubicBezTo>
                  <a:pt x="1749" y="9285"/>
                  <a:pt x="1757" y="9308"/>
                  <a:pt x="1763" y="9331"/>
                </a:cubicBezTo>
                <a:cubicBezTo>
                  <a:pt x="1775" y="9375"/>
                  <a:pt x="1792" y="9414"/>
                  <a:pt x="1806" y="9456"/>
                </a:cubicBezTo>
                <a:cubicBezTo>
                  <a:pt x="1824" y="9509"/>
                  <a:pt x="1844" y="9561"/>
                  <a:pt x="1863" y="9613"/>
                </a:cubicBezTo>
                <a:cubicBezTo>
                  <a:pt x="1891" y="9689"/>
                  <a:pt x="1917" y="9754"/>
                  <a:pt x="1963" y="9821"/>
                </a:cubicBezTo>
                <a:cubicBezTo>
                  <a:pt x="1981" y="9847"/>
                  <a:pt x="1989" y="9858"/>
                  <a:pt x="2019" y="9853"/>
                </a:cubicBezTo>
                <a:cubicBezTo>
                  <a:pt x="2060" y="9846"/>
                  <a:pt x="2112" y="9735"/>
                  <a:pt x="2129" y="9705"/>
                </a:cubicBezTo>
                <a:cubicBezTo>
                  <a:pt x="2191" y="9595"/>
                  <a:pt x="2246" y="9484"/>
                  <a:pt x="2314" y="9377"/>
                </a:cubicBezTo>
                <a:cubicBezTo>
                  <a:pt x="2360" y="9304"/>
                  <a:pt x="2405" y="9258"/>
                  <a:pt x="2470" y="9202"/>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631800" y="5132520"/>
            <a:ext cx="282600" cy="792000"/>
          </a:xfrm>
          <a:custGeom>
            <a:avLst/>
            <a:gdLst/>
            <a:ahLst/>
            <a:rect l="l" t="t" r="r" b="b"/>
            <a:pathLst>
              <a:path w="784" h="2197">
                <a:moveTo>
                  <a:pt x="1773" y="14258"/>
                </a:moveTo>
                <a:cubicBezTo>
                  <a:pt x="1775" y="14283"/>
                  <a:pt x="1774" y="14304"/>
                  <a:pt x="1782" y="14328"/>
                </a:cubicBezTo>
                <a:cubicBezTo>
                  <a:pt x="1791" y="14356"/>
                  <a:pt x="1802" y="14383"/>
                  <a:pt x="1811" y="14411"/>
                </a:cubicBezTo>
                <a:cubicBezTo>
                  <a:pt x="1826" y="14457"/>
                  <a:pt x="1837" y="14504"/>
                  <a:pt x="1853" y="14549"/>
                </a:cubicBezTo>
                <a:cubicBezTo>
                  <a:pt x="1879" y="14620"/>
                  <a:pt x="1903" y="14691"/>
                  <a:pt x="1929" y="14762"/>
                </a:cubicBezTo>
                <a:cubicBezTo>
                  <a:pt x="1958" y="14841"/>
                  <a:pt x="1998" y="14915"/>
                  <a:pt x="2029" y="14993"/>
                </a:cubicBezTo>
                <a:cubicBezTo>
                  <a:pt x="2043" y="15029"/>
                  <a:pt x="2058" y="15065"/>
                  <a:pt x="2072" y="15100"/>
                </a:cubicBezTo>
                <a:cubicBezTo>
                  <a:pt x="2077" y="15112"/>
                  <a:pt x="2083" y="15120"/>
                  <a:pt x="2091" y="15127"/>
                </a:cubicBezTo>
                <a:cubicBezTo>
                  <a:pt x="2095" y="15127"/>
                  <a:pt x="2097" y="15127"/>
                  <a:pt x="2100" y="15127"/>
                </a:cubicBezTo>
                <a:cubicBezTo>
                  <a:pt x="2121" y="15102"/>
                  <a:pt x="2134" y="15080"/>
                  <a:pt x="2148" y="15049"/>
                </a:cubicBezTo>
                <a:cubicBezTo>
                  <a:pt x="2222" y="14889"/>
                  <a:pt x="2309" y="14734"/>
                  <a:pt x="2413" y="14591"/>
                </a:cubicBezTo>
                <a:cubicBezTo>
                  <a:pt x="2474" y="14514"/>
                  <a:pt x="2494" y="14489"/>
                  <a:pt x="2537" y="14439"/>
                </a:cubicBezTo>
              </a:path>
              <a:path w="784" h="2197">
                <a:moveTo>
                  <a:pt x="1754" y="15719"/>
                </a:moveTo>
                <a:cubicBezTo>
                  <a:pt x="1757" y="15726"/>
                  <a:pt x="1752" y="15707"/>
                  <a:pt x="1754" y="15714"/>
                </a:cubicBezTo>
                <a:cubicBezTo>
                  <a:pt x="1759" y="15732"/>
                  <a:pt x="1764" y="15751"/>
                  <a:pt x="1768" y="15770"/>
                </a:cubicBezTo>
                <a:cubicBezTo>
                  <a:pt x="1778" y="15815"/>
                  <a:pt x="1788" y="15860"/>
                  <a:pt x="1801" y="15904"/>
                </a:cubicBezTo>
                <a:cubicBezTo>
                  <a:pt x="1814" y="15950"/>
                  <a:pt x="1835" y="15989"/>
                  <a:pt x="1853" y="16033"/>
                </a:cubicBezTo>
                <a:cubicBezTo>
                  <a:pt x="1882" y="16104"/>
                  <a:pt x="1918" y="16174"/>
                  <a:pt x="1944" y="16246"/>
                </a:cubicBezTo>
                <a:cubicBezTo>
                  <a:pt x="1961" y="16293"/>
                  <a:pt x="1983" y="16339"/>
                  <a:pt x="2005" y="16385"/>
                </a:cubicBezTo>
                <a:cubicBezTo>
                  <a:pt x="2014" y="16404"/>
                  <a:pt x="2028" y="16418"/>
                  <a:pt x="2038" y="16435"/>
                </a:cubicBezTo>
                <a:cubicBezTo>
                  <a:pt x="2042" y="16447"/>
                  <a:pt x="2042" y="16449"/>
                  <a:pt x="2048" y="16454"/>
                </a:cubicBezTo>
                <a:cubicBezTo>
                  <a:pt x="2052" y="16449"/>
                  <a:pt x="2062" y="16444"/>
                  <a:pt x="2067" y="16431"/>
                </a:cubicBezTo>
                <a:cubicBezTo>
                  <a:pt x="2077" y="16407"/>
                  <a:pt x="2082" y="16381"/>
                  <a:pt x="2091" y="16357"/>
                </a:cubicBezTo>
                <a:cubicBezTo>
                  <a:pt x="2112" y="16304"/>
                  <a:pt x="2145" y="16251"/>
                  <a:pt x="2171" y="16200"/>
                </a:cubicBezTo>
                <a:cubicBezTo>
                  <a:pt x="2218" y="16107"/>
                  <a:pt x="2273" y="16012"/>
                  <a:pt x="2333" y="15927"/>
                </a:cubicBezTo>
                <a:cubicBezTo>
                  <a:pt x="2376" y="15866"/>
                  <a:pt x="2426" y="15811"/>
                  <a:pt x="2475" y="15756"/>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11280" y="3995640"/>
            <a:ext cx="333360" cy="460440"/>
          </a:xfrm>
          <a:custGeom>
            <a:avLst/>
            <a:gdLst/>
            <a:ahLst/>
            <a:rect l="l" t="t" r="r" b="b"/>
            <a:pathLst>
              <a:path w="926" h="1277">
                <a:moveTo>
                  <a:pt x="1787" y="11725"/>
                </a:moveTo>
                <a:cubicBezTo>
                  <a:pt x="1780" y="11718"/>
                  <a:pt x="1771" y="11705"/>
                  <a:pt x="1763" y="11698"/>
                </a:cubicBezTo>
                <a:cubicBezTo>
                  <a:pt x="1747" y="11684"/>
                  <a:pt x="1724" y="11668"/>
                  <a:pt x="1711" y="11651"/>
                </a:cubicBezTo>
                <a:cubicBezTo>
                  <a:pt x="1705" y="11643"/>
                  <a:pt x="1704" y="11632"/>
                  <a:pt x="1697" y="11624"/>
                </a:cubicBezTo>
                <a:cubicBezTo>
                  <a:pt x="1706" y="11639"/>
                  <a:pt x="1713" y="11645"/>
                  <a:pt x="1721" y="11661"/>
                </a:cubicBezTo>
                <a:cubicBezTo>
                  <a:pt x="1744" y="11706"/>
                  <a:pt x="1763" y="11752"/>
                  <a:pt x="1782" y="11799"/>
                </a:cubicBezTo>
                <a:cubicBezTo>
                  <a:pt x="1806" y="11859"/>
                  <a:pt x="1827" y="11920"/>
                  <a:pt x="1853" y="11980"/>
                </a:cubicBezTo>
                <a:cubicBezTo>
                  <a:pt x="1877" y="12037"/>
                  <a:pt x="1907" y="12090"/>
                  <a:pt x="1934" y="12146"/>
                </a:cubicBezTo>
                <a:cubicBezTo>
                  <a:pt x="1957" y="12195"/>
                  <a:pt x="1978" y="12245"/>
                  <a:pt x="2000" y="12294"/>
                </a:cubicBezTo>
                <a:cubicBezTo>
                  <a:pt x="2011" y="12318"/>
                  <a:pt x="2018" y="12343"/>
                  <a:pt x="2034" y="12363"/>
                </a:cubicBezTo>
                <a:cubicBezTo>
                  <a:pt x="2039" y="12369"/>
                  <a:pt x="2050" y="12374"/>
                  <a:pt x="2053" y="12377"/>
                </a:cubicBezTo>
                <a:cubicBezTo>
                  <a:pt x="2058" y="12366"/>
                  <a:pt x="2063" y="12357"/>
                  <a:pt x="2067" y="12345"/>
                </a:cubicBezTo>
                <a:cubicBezTo>
                  <a:pt x="2077" y="12316"/>
                  <a:pt x="2084" y="12287"/>
                  <a:pt x="2091" y="12257"/>
                </a:cubicBezTo>
                <a:cubicBezTo>
                  <a:pt x="2129" y="12101"/>
                  <a:pt x="2171" y="11953"/>
                  <a:pt x="2233" y="11804"/>
                </a:cubicBezTo>
                <a:cubicBezTo>
                  <a:pt x="2288" y="11671"/>
                  <a:pt x="2357" y="11541"/>
                  <a:pt x="2428" y="11416"/>
                </a:cubicBezTo>
                <a:cubicBezTo>
                  <a:pt x="2476" y="11332"/>
                  <a:pt x="2522" y="11247"/>
                  <a:pt x="2575" y="11166"/>
                </a:cubicBezTo>
                <a:cubicBezTo>
                  <a:pt x="2599" y="11130"/>
                  <a:pt x="2604" y="11121"/>
                  <a:pt x="2622" y="11101"/>
                </a:cubicBezTo>
              </a:path>
            </a:pathLst>
          </a:custGeom>
          <a:noFill/>
          <a:ln cap="rnd" w="3816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Ist das alles ?</a:t>
            </a: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ein, mann kann das soweit treiben, daß jede Klasse ein Interface bekommt.</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durch kann jede Klasse durch Testklassen ausgetauscht werden und die Applikation kann zu einem hohen Maße testbar gemacht werden.</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r Microkernel kann Singletons verwalten, was auch zu einer besseren Testbarkeit führt, da der Feind des Regression Tests an einer Stelle die Existenz entzogen werden kann.</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Über den Microkernel können auch Objekte geliefert werden, die sich in einem anderen Prozess oder Rechner befinden. Der Anfordernde weiß nichts dav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780">
                                            <p:txEl>
                                              <p:pRg st="0" end="0"/>
                                            </p:txEl>
                                          </p:spTgt>
                                        </p:tgtEl>
                                        <p:attrNameLst>
                                          <p:attrName>style.visibility</p:attrName>
                                        </p:attrNameLst>
                                      </p:cBhvr>
                                      <p:to>
                                        <p:strVal val="visible"/>
                                      </p:to>
                                    </p:set>
                                    <p:animEffect filter="blinds(horizontal)" transition="in">
                                      <p:cBhvr additive="repl">
                                        <p:cTn id="349" dur="500"/>
                                        <p:tgtEl>
                                          <p:spTgt spid="78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780">
                                            <p:txEl>
                                              <p:pRg st="1" end="1"/>
                                            </p:txEl>
                                          </p:spTgt>
                                        </p:tgtEl>
                                        <p:attrNameLst>
                                          <p:attrName>style.visibility</p:attrName>
                                        </p:attrNameLst>
                                      </p:cBhvr>
                                      <p:to>
                                        <p:strVal val="visible"/>
                                      </p:to>
                                    </p:set>
                                    <p:animEffect filter="blinds(horizontal)" transition="in">
                                      <p:cBhvr additive="repl">
                                        <p:cTn id="354" dur="500"/>
                                        <p:tgtEl>
                                          <p:spTgt spid="78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780">
                                            <p:txEl>
                                              <p:pRg st="2" end="2"/>
                                            </p:txEl>
                                          </p:spTgt>
                                        </p:tgtEl>
                                        <p:attrNameLst>
                                          <p:attrName>style.visibility</p:attrName>
                                        </p:attrNameLst>
                                      </p:cBhvr>
                                      <p:to>
                                        <p:strVal val="visible"/>
                                      </p:to>
                                    </p:set>
                                    <p:animEffect filter="blinds(horizontal)" transition="in">
                                      <p:cBhvr additive="repl">
                                        <p:cTn id="359" dur="500"/>
                                        <p:tgtEl>
                                          <p:spTgt spid="78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780">
                                            <p:txEl>
                                              <p:pRg st="3" end="3"/>
                                            </p:txEl>
                                          </p:spTgt>
                                        </p:tgtEl>
                                        <p:attrNameLst>
                                          <p:attrName>style.visibility</p:attrName>
                                        </p:attrNameLst>
                                      </p:cBhvr>
                                      <p:to>
                                        <p:strVal val="visible"/>
                                      </p:to>
                                    </p:set>
                                    <p:animEffect filter="blinds(horizontal)" transition="in">
                                      <p:cBhvr additive="repl">
                                        <p:cTn id="364" dur="500"/>
                                        <p:tgtEl>
                                          <p:spTgt spid="7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o Licht ist, ist auch Schatten !</a:t>
            </a:r>
            <a:endParaRPr b="0" lang="en-US" sz="4400" spc="-1" strike="noStrike">
              <a:solidFill>
                <a:srgbClr val="dfdef6"/>
              </a:solidFill>
              <a:latin typeface="Arial"/>
            </a:endParaRPr>
          </a:p>
        </p:txBody>
      </p:sp>
      <p:sp>
        <p:nvSpPr>
          <p:cNvPr id="7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in Nachteil ist eventuell die etwas längere Zeit bei der Instanzierung der Klassen, weil für das angeforderte Interface erst in der Mapping Tabelle die implementierende Klasse gesucht werden muß. Diese wird dann über Reflection instanzier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Projektstruktur ändert si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782">
                                            <p:txEl>
                                              <p:pRg st="0" end="0"/>
                                            </p:txEl>
                                          </p:spTgt>
                                        </p:tgtEl>
                                        <p:attrNameLst>
                                          <p:attrName>style.visibility</p:attrName>
                                        </p:attrNameLst>
                                      </p:cBhvr>
                                      <p:to>
                                        <p:strVal val="visible"/>
                                      </p:to>
                                    </p:set>
                                    <p:animEffect filter="blinds(horizontal)" transition="in">
                                      <p:cBhvr additive="repl">
                                        <p:cTn id="371" dur="500"/>
                                        <p:tgtEl>
                                          <p:spTgt spid="78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782">
                                            <p:txEl>
                                              <p:pRg st="1" end="1"/>
                                            </p:txEl>
                                          </p:spTgt>
                                        </p:tgtEl>
                                        <p:attrNameLst>
                                          <p:attrName>style.visibility</p:attrName>
                                        </p:attrNameLst>
                                      </p:cBhvr>
                                      <p:to>
                                        <p:strVal val="visible"/>
                                      </p:to>
                                    </p:set>
                                    <p:animEffect filter="blinds(horizontal)" transition="in">
                                      <p:cBhvr additive="repl">
                                        <p:cTn id="376" dur="500"/>
                                        <p:tgtEl>
                                          <p:spTgt spid="7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Mögliche Projekt-Strukturen</a:t>
            </a:r>
            <a:endParaRPr b="0" lang="en-US" sz="4400" spc="-1" strike="noStrike">
              <a:solidFill>
                <a:srgbClr val="dfdef6"/>
              </a:solidFill>
              <a:latin typeface="Arial"/>
            </a:endParaRPr>
          </a:p>
        </p:txBody>
      </p:sp>
      <p:sp>
        <p:nvSpPr>
          <p:cNvPr id="784" name=""/>
          <p:cNvSpPr/>
          <p:nvPr/>
        </p:nvSpPr>
        <p:spPr>
          <a:xfrm>
            <a:off x="6804000" y="3141720"/>
            <a:ext cx="1800360" cy="108108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nterfaces</a:t>
            </a:r>
            <a:endParaRPr b="0" lang="en-US" sz="1800" spc="-1" strike="noStrike">
              <a:solidFill>
                <a:srgbClr val="ffffff"/>
              </a:solidFill>
              <a:latin typeface="Arial"/>
            </a:endParaRPr>
          </a:p>
        </p:txBody>
      </p:sp>
      <p:sp>
        <p:nvSpPr>
          <p:cNvPr id="785" name=""/>
          <p:cNvSpPr/>
          <p:nvPr/>
        </p:nvSpPr>
        <p:spPr>
          <a:xfrm>
            <a:off x="4067280" y="1413000"/>
            <a:ext cx="180000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UI</a:t>
            </a:r>
            <a:endParaRPr b="0" lang="en-US" sz="1800" spc="-1" strike="noStrike">
              <a:solidFill>
                <a:srgbClr val="ffffff"/>
              </a:solidFill>
              <a:latin typeface="Arial"/>
            </a:endParaRPr>
          </a:p>
        </p:txBody>
      </p:sp>
      <p:sp>
        <p:nvSpPr>
          <p:cNvPr id="786" name=""/>
          <p:cNvSpPr/>
          <p:nvPr/>
        </p:nvSpPr>
        <p:spPr>
          <a:xfrm>
            <a:off x="4067280" y="3141720"/>
            <a:ext cx="180000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usiness</a:t>
            </a:r>
            <a:endParaRPr b="0" lang="en-US" sz="1800" spc="-1" strike="noStrike">
              <a:solidFill>
                <a:srgbClr val="ffffff"/>
              </a:solidFill>
              <a:latin typeface="Arial"/>
            </a:endParaRPr>
          </a:p>
        </p:txBody>
      </p:sp>
      <p:sp>
        <p:nvSpPr>
          <p:cNvPr id="787" name=""/>
          <p:cNvSpPr/>
          <p:nvPr/>
        </p:nvSpPr>
        <p:spPr>
          <a:xfrm>
            <a:off x="4067280" y="4869000"/>
            <a:ext cx="180000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Access</a:t>
            </a:r>
            <a:endParaRPr b="0" lang="en-US" sz="1800" spc="-1" strike="noStrike">
              <a:solidFill>
                <a:srgbClr val="ffffff"/>
              </a:solidFill>
              <a:latin typeface="Arial"/>
            </a:endParaRPr>
          </a:p>
        </p:txBody>
      </p:sp>
      <p:sp>
        <p:nvSpPr>
          <p:cNvPr id="788" name=""/>
          <p:cNvSpPr/>
          <p:nvPr/>
        </p:nvSpPr>
        <p:spPr>
          <a:xfrm>
            <a:off x="1619280" y="4005360"/>
            <a:ext cx="180036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tilties</a:t>
            </a:r>
            <a:endParaRPr b="0" lang="en-US" sz="1800" spc="-1" strike="noStrike">
              <a:solidFill>
                <a:srgbClr val="ffffff"/>
              </a:solidFill>
              <a:latin typeface="Arial"/>
            </a:endParaRPr>
          </a:p>
        </p:txBody>
      </p:sp>
      <p:sp>
        <p:nvSpPr>
          <p:cNvPr id="789" name=""/>
          <p:cNvSpPr/>
          <p:nvPr/>
        </p:nvSpPr>
        <p:spPr>
          <a:xfrm>
            <a:off x="755640" y="1341360"/>
            <a:ext cx="1871640" cy="792360"/>
          </a:xfrm>
          <a:prstGeom prst="rect">
            <a:avLst/>
          </a:prstGeom>
          <a:solidFill>
            <a:srgbClr val="cf540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icrokernel</a:t>
            </a:r>
            <a:endParaRPr b="0" lang="en-US" sz="1800" spc="-1" strike="noStrike">
              <a:solidFill>
                <a:srgbClr val="ffffff"/>
              </a:solidFill>
              <a:latin typeface="Arial"/>
            </a:endParaRPr>
          </a:p>
        </p:txBody>
      </p:sp>
      <p:sp>
        <p:nvSpPr>
          <p:cNvPr id="790" name=""/>
          <p:cNvSpPr/>
          <p:nvPr/>
        </p:nvSpPr>
        <p:spPr>
          <a:xfrm>
            <a:off x="755640" y="5734080"/>
            <a:ext cx="2305080" cy="765000"/>
          </a:xfrm>
          <a:prstGeom prst="rect">
            <a:avLst/>
          </a:prstGeom>
          <a:solidFill>
            <a:srgbClr val="cf540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ost</a:t>
            </a:r>
            <a:endParaRPr b="0" lang="en-US" sz="1800" spc="-1" strike="noStrike">
              <a:solidFill>
                <a:srgbClr val="ffffff"/>
              </a:solidFill>
              <a:latin typeface="Arial"/>
            </a:endParaRPr>
          </a:p>
        </p:txBody>
      </p:sp>
      <p:cxnSp>
        <p:nvCxnSpPr>
          <p:cNvPr id="791" name=""/>
          <p:cNvCxnSpPr>
            <a:stCxn id="785" idx="1"/>
            <a:endCxn id="789" idx="3"/>
          </p:cNvCxnSpPr>
          <p:nvPr/>
        </p:nvCxnSpPr>
        <p:spPr>
          <a:xfrm rot="10800000">
            <a:off x="2627280" y="1737720"/>
            <a:ext cx="1440360" cy="288000"/>
          </a:xfrm>
          <a:prstGeom prst="bentConnector3">
            <a:avLst>
              <a:gd name="adj1" fmla="val 50050"/>
            </a:avLst>
          </a:prstGeom>
          <a:ln w="9360">
            <a:solidFill>
              <a:srgbClr val="ffffff"/>
            </a:solidFill>
            <a:miter/>
            <a:tailEnd len="med" type="triangle" w="med"/>
          </a:ln>
        </p:spPr>
      </p:cxnSp>
      <p:cxnSp>
        <p:nvCxnSpPr>
          <p:cNvPr id="792" name=""/>
          <p:cNvCxnSpPr>
            <a:stCxn id="788" idx="1"/>
            <a:endCxn id="789" idx="2"/>
          </p:cNvCxnSpPr>
          <p:nvPr/>
        </p:nvCxnSpPr>
        <p:spPr>
          <a:xfrm flipH="1" rot="10800000">
            <a:off x="1618200" y="2133000"/>
            <a:ext cx="73800" cy="2485080"/>
          </a:xfrm>
          <a:prstGeom prst="bentConnector4">
            <a:avLst>
              <a:gd name="adj1" fmla="val -312745"/>
              <a:gd name="adj2" fmla="val 62358"/>
            </a:avLst>
          </a:prstGeom>
          <a:ln w="9360">
            <a:solidFill>
              <a:srgbClr val="ffffff"/>
            </a:solidFill>
            <a:miter/>
            <a:tailEnd len="med" type="triangle" w="med"/>
          </a:ln>
        </p:spPr>
      </p:cxnSp>
      <p:cxnSp>
        <p:nvCxnSpPr>
          <p:cNvPr id="793" name=""/>
          <p:cNvCxnSpPr>
            <a:stCxn id="787" idx="1"/>
            <a:endCxn id="789" idx="1"/>
          </p:cNvCxnSpPr>
          <p:nvPr/>
        </p:nvCxnSpPr>
        <p:spPr>
          <a:xfrm rot="10800000">
            <a:off x="754920" y="1737720"/>
            <a:ext cx="3312360" cy="3744000"/>
          </a:xfrm>
          <a:prstGeom prst="bentConnector3">
            <a:avLst>
              <a:gd name="adj1" fmla="val 106902"/>
            </a:avLst>
          </a:prstGeom>
          <a:ln w="9360">
            <a:solidFill>
              <a:srgbClr val="ffffff"/>
            </a:solidFill>
            <a:miter/>
            <a:tailEnd len="med" type="triangle" w="med"/>
          </a:ln>
        </p:spPr>
      </p:cxnSp>
      <p:cxnSp>
        <p:nvCxnSpPr>
          <p:cNvPr id="794" name=""/>
          <p:cNvCxnSpPr>
            <a:stCxn id="786" idx="1"/>
            <a:endCxn id="789" idx="2"/>
          </p:cNvCxnSpPr>
          <p:nvPr/>
        </p:nvCxnSpPr>
        <p:spPr>
          <a:xfrm rot="10800000">
            <a:off x="1691640" y="2133000"/>
            <a:ext cx="2375280" cy="1621440"/>
          </a:xfrm>
          <a:prstGeom prst="bentConnector2">
            <a:avLst/>
          </a:prstGeom>
          <a:ln w="9360">
            <a:solidFill>
              <a:srgbClr val="ffffff"/>
            </a:solidFill>
            <a:miter/>
            <a:tailEnd len="med" type="triangle" w="med"/>
          </a:ln>
        </p:spPr>
      </p:cxnSp>
      <p:cxnSp>
        <p:nvCxnSpPr>
          <p:cNvPr id="795" name=""/>
          <p:cNvCxnSpPr>
            <a:stCxn id="785" idx="3"/>
            <a:endCxn id="784" idx="1"/>
          </p:cNvCxnSpPr>
          <p:nvPr/>
        </p:nvCxnSpPr>
        <p:spPr>
          <a:xfrm>
            <a:off x="5867280" y="2025720"/>
            <a:ext cx="937440" cy="1658160"/>
          </a:xfrm>
          <a:prstGeom prst="straightConnector1">
            <a:avLst/>
          </a:prstGeom>
          <a:ln w="9360">
            <a:solidFill>
              <a:srgbClr val="ffffff"/>
            </a:solidFill>
            <a:miter/>
            <a:tailEnd len="med" type="triangle" w="med"/>
          </a:ln>
        </p:spPr>
      </p:cxnSp>
      <p:cxnSp>
        <p:nvCxnSpPr>
          <p:cNvPr id="796" name=""/>
          <p:cNvCxnSpPr>
            <a:stCxn id="786" idx="3"/>
            <a:endCxn id="784" idx="1"/>
          </p:cNvCxnSpPr>
          <p:nvPr/>
        </p:nvCxnSpPr>
        <p:spPr>
          <a:xfrm flipV="1">
            <a:off x="5867280" y="3682800"/>
            <a:ext cx="937440" cy="72000"/>
          </a:xfrm>
          <a:prstGeom prst="straightConnector1">
            <a:avLst/>
          </a:prstGeom>
          <a:ln w="9360">
            <a:solidFill>
              <a:srgbClr val="ffffff"/>
            </a:solidFill>
            <a:miter/>
            <a:tailEnd len="med" type="triangle" w="med"/>
          </a:ln>
        </p:spPr>
      </p:cxnSp>
      <p:cxnSp>
        <p:nvCxnSpPr>
          <p:cNvPr id="797" name=""/>
          <p:cNvCxnSpPr>
            <a:stCxn id="787" idx="3"/>
            <a:endCxn id="784" idx="1"/>
          </p:cNvCxnSpPr>
          <p:nvPr/>
        </p:nvCxnSpPr>
        <p:spPr>
          <a:xfrm flipV="1">
            <a:off x="5867280" y="3682800"/>
            <a:ext cx="937440" cy="1799280"/>
          </a:xfrm>
          <a:prstGeom prst="straightConnector1">
            <a:avLst/>
          </a:prstGeom>
          <a:ln w="9360">
            <a:solidFill>
              <a:srgbClr val="ffffff"/>
            </a:solidFill>
            <a:miter/>
            <a:tailEnd len="med" type="triangle" w="med"/>
          </a:ln>
        </p:spPr>
      </p:cxnSp>
      <p:cxnSp>
        <p:nvCxnSpPr>
          <p:cNvPr id="798" name=""/>
          <p:cNvCxnSpPr>
            <a:stCxn id="788" idx="3"/>
            <a:endCxn id="784" idx="2"/>
          </p:cNvCxnSpPr>
          <p:nvPr/>
        </p:nvCxnSpPr>
        <p:spPr>
          <a:xfrm flipV="1">
            <a:off x="3419280" y="4222440"/>
            <a:ext cx="4284720" cy="396000"/>
          </a:xfrm>
          <a:prstGeom prst="bentConnector2">
            <a:avLst/>
          </a:prstGeom>
          <a:ln w="9360">
            <a:solidFill>
              <a:srgbClr val="ffffff"/>
            </a:solidFill>
            <a:miter/>
            <a:tailEnd len="med" type="triangle" w="med"/>
          </a:ln>
        </p:spPr>
      </p:cxnSp>
      <p:sp>
        <p:nvSpPr>
          <p:cNvPr id="799" name=""/>
          <p:cNvSpPr/>
          <p:nvPr/>
        </p:nvSpPr>
        <p:spPr>
          <a:xfrm>
            <a:off x="6804000" y="1413000"/>
            <a:ext cx="1800360" cy="1152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Types</a:t>
            </a:r>
            <a:endParaRPr b="0" lang="en-US" sz="1800" spc="-1" strike="noStrike">
              <a:solidFill>
                <a:srgbClr val="ffffff"/>
              </a:solidFill>
              <a:latin typeface="Arial"/>
            </a:endParaRPr>
          </a:p>
        </p:txBody>
      </p:sp>
      <p:cxnSp>
        <p:nvCxnSpPr>
          <p:cNvPr id="800" name=""/>
          <p:cNvCxnSpPr/>
          <p:nvPr/>
        </p:nvCxnSpPr>
        <p:spPr>
          <a:xfrm flipV="1" rot="16200000">
            <a:off x="-666360" y="3194280"/>
            <a:ext cx="3996000" cy="1152720"/>
          </a:xfrm>
          <a:prstGeom prst="bentConnector4">
            <a:avLst>
              <a:gd name="adj1" fmla="val 3216"/>
              <a:gd name="adj2" fmla="val 119868"/>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84"/>
                                        </p:tgtEl>
                                        <p:attrNameLst>
                                          <p:attrName>style.visibility</p:attrName>
                                        </p:attrNameLst>
                                      </p:cBhvr>
                                      <p:to>
                                        <p:strVal val="visible"/>
                                      </p:to>
                                    </p:set>
                                    <p:animEffect filter="box(in)" transition="in">
                                      <p:cBhvr additive="repl">
                                        <p:cTn id="383" dur="500"/>
                                        <p:tgtEl>
                                          <p:spTgt spid="78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789"/>
                                        </p:tgtEl>
                                        <p:attrNameLst>
                                          <p:attrName>style.visibility</p:attrName>
                                        </p:attrNameLst>
                                      </p:cBhvr>
                                      <p:to>
                                        <p:strVal val="visible"/>
                                      </p:to>
                                    </p:set>
                                    <p:animEffect filter="box(in)" transition="in">
                                      <p:cBhvr additive="repl">
                                        <p:cTn id="388" dur="500"/>
                                        <p:tgtEl>
                                          <p:spTgt spid="78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790"/>
                                        </p:tgtEl>
                                        <p:attrNameLst>
                                          <p:attrName>style.visibility</p:attrName>
                                        </p:attrNameLst>
                                      </p:cBhvr>
                                      <p:to>
                                        <p:strVal val="visible"/>
                                      </p:to>
                                    </p:set>
                                    <p:animEffect filter="box(in)" transition="in">
                                      <p:cBhvr additive="repl">
                                        <p:cTn id="393" dur="500"/>
                                        <p:tgtEl>
                                          <p:spTgt spid="79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785"/>
                                        </p:tgtEl>
                                        <p:attrNameLst>
                                          <p:attrName>style.visibility</p:attrName>
                                        </p:attrNameLst>
                                      </p:cBhvr>
                                      <p:to>
                                        <p:strVal val="visible"/>
                                      </p:to>
                                    </p:set>
                                    <p:animEffect filter="blinds(horizontal)" transition="in">
                                      <p:cBhvr additive="repl">
                                        <p:cTn id="398" dur="500"/>
                                        <p:tgtEl>
                                          <p:spTgt spid="785"/>
                                        </p:tgtEl>
                                      </p:cBhvr>
                                    </p:animEffect>
                                  </p:childTnLst>
                                </p:cTn>
                              </p:par>
                              <p:par>
                                <p:cTn id="399" nodeType="withEffect" fill="hold" presetClass="entr" presetID="3" presetSubtype="10">
                                  <p:stCondLst>
                                    <p:cond delay="0"/>
                                  </p:stCondLst>
                                  <p:childTnLst>
                                    <p:set>
                                      <p:cBhvr>
                                        <p:cTn id="400" dur="1" fill="hold">
                                          <p:stCondLst>
                                            <p:cond delay="0"/>
                                          </p:stCondLst>
                                        </p:cTn>
                                        <p:tgtEl>
                                          <p:spTgt spid="786"/>
                                        </p:tgtEl>
                                        <p:attrNameLst>
                                          <p:attrName>style.visibility</p:attrName>
                                        </p:attrNameLst>
                                      </p:cBhvr>
                                      <p:to>
                                        <p:strVal val="visible"/>
                                      </p:to>
                                    </p:set>
                                    <p:animEffect filter="blinds(horizontal)" transition="in">
                                      <p:cBhvr additive="repl">
                                        <p:cTn id="401" dur="500"/>
                                        <p:tgtEl>
                                          <p:spTgt spid="786"/>
                                        </p:tgtEl>
                                      </p:cBhvr>
                                    </p:animEffect>
                                  </p:childTnLst>
                                </p:cTn>
                              </p:par>
                              <p:par>
                                <p:cTn id="402" nodeType="withEffect" fill="hold" presetClass="entr" presetID="3" presetSubtype="10">
                                  <p:stCondLst>
                                    <p:cond delay="0"/>
                                  </p:stCondLst>
                                  <p:childTnLst>
                                    <p:set>
                                      <p:cBhvr>
                                        <p:cTn id="403" dur="1" fill="hold">
                                          <p:stCondLst>
                                            <p:cond delay="0"/>
                                          </p:stCondLst>
                                        </p:cTn>
                                        <p:tgtEl>
                                          <p:spTgt spid="787"/>
                                        </p:tgtEl>
                                        <p:attrNameLst>
                                          <p:attrName>style.visibility</p:attrName>
                                        </p:attrNameLst>
                                      </p:cBhvr>
                                      <p:to>
                                        <p:strVal val="visible"/>
                                      </p:to>
                                    </p:set>
                                    <p:animEffect filter="blinds(horizontal)" transition="in">
                                      <p:cBhvr additive="repl">
                                        <p:cTn id="404" dur="500"/>
                                        <p:tgtEl>
                                          <p:spTgt spid="787"/>
                                        </p:tgtEl>
                                      </p:cBhvr>
                                    </p:animEffect>
                                  </p:childTnLst>
                                </p:cTn>
                              </p:par>
                              <p:par>
                                <p:cTn id="405" nodeType="withEffect" fill="hold" presetClass="entr" presetID="3" presetSubtype="10">
                                  <p:stCondLst>
                                    <p:cond delay="0"/>
                                  </p:stCondLst>
                                  <p:childTnLst>
                                    <p:set>
                                      <p:cBhvr>
                                        <p:cTn id="406" dur="1" fill="hold">
                                          <p:stCondLst>
                                            <p:cond delay="0"/>
                                          </p:stCondLst>
                                        </p:cTn>
                                        <p:tgtEl>
                                          <p:spTgt spid="788"/>
                                        </p:tgtEl>
                                        <p:attrNameLst>
                                          <p:attrName>style.visibility</p:attrName>
                                        </p:attrNameLst>
                                      </p:cBhvr>
                                      <p:to>
                                        <p:strVal val="visible"/>
                                      </p:to>
                                    </p:set>
                                    <p:animEffect filter="blinds(horizontal)" transition="in">
                                      <p:cBhvr additive="repl">
                                        <p:cTn id="407" dur="500"/>
                                        <p:tgtEl>
                                          <p:spTgt spid="78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795"/>
                                        </p:tgtEl>
                                        <p:attrNameLst>
                                          <p:attrName>style.visibility</p:attrName>
                                        </p:attrNameLst>
                                      </p:cBhvr>
                                      <p:to>
                                        <p:strVal val="visible"/>
                                      </p:to>
                                    </p:set>
                                    <p:animEffect filter="blinds(horizontal)" transition="in">
                                      <p:cBhvr additive="repl">
                                        <p:cTn id="412" dur="500"/>
                                        <p:tgtEl>
                                          <p:spTgt spid="795"/>
                                        </p:tgtEl>
                                      </p:cBhvr>
                                    </p:animEffect>
                                  </p:childTnLst>
                                </p:cTn>
                              </p:par>
                              <p:par>
                                <p:cTn id="413" nodeType="withEffect" fill="hold" presetClass="entr" presetID="3" presetSubtype="10">
                                  <p:stCondLst>
                                    <p:cond delay="0"/>
                                  </p:stCondLst>
                                  <p:childTnLst>
                                    <p:set>
                                      <p:cBhvr>
                                        <p:cTn id="414" dur="1" fill="hold">
                                          <p:stCondLst>
                                            <p:cond delay="0"/>
                                          </p:stCondLst>
                                        </p:cTn>
                                        <p:tgtEl>
                                          <p:spTgt spid="796"/>
                                        </p:tgtEl>
                                        <p:attrNameLst>
                                          <p:attrName>style.visibility</p:attrName>
                                        </p:attrNameLst>
                                      </p:cBhvr>
                                      <p:to>
                                        <p:strVal val="visible"/>
                                      </p:to>
                                    </p:set>
                                    <p:animEffect filter="blinds(horizontal)" transition="in">
                                      <p:cBhvr additive="repl">
                                        <p:cTn id="415" dur="500"/>
                                        <p:tgtEl>
                                          <p:spTgt spid="796"/>
                                        </p:tgtEl>
                                      </p:cBhvr>
                                    </p:animEffect>
                                  </p:childTnLst>
                                </p:cTn>
                              </p:par>
                              <p:par>
                                <p:cTn id="416" nodeType="withEffect" fill="hold" presetClass="entr" presetID="3" presetSubtype="10">
                                  <p:stCondLst>
                                    <p:cond delay="0"/>
                                  </p:stCondLst>
                                  <p:childTnLst>
                                    <p:set>
                                      <p:cBhvr>
                                        <p:cTn id="417" dur="1" fill="hold">
                                          <p:stCondLst>
                                            <p:cond delay="0"/>
                                          </p:stCondLst>
                                        </p:cTn>
                                        <p:tgtEl>
                                          <p:spTgt spid="797"/>
                                        </p:tgtEl>
                                        <p:attrNameLst>
                                          <p:attrName>style.visibility</p:attrName>
                                        </p:attrNameLst>
                                      </p:cBhvr>
                                      <p:to>
                                        <p:strVal val="visible"/>
                                      </p:to>
                                    </p:set>
                                    <p:animEffect filter="blinds(horizontal)" transition="in">
                                      <p:cBhvr additive="repl">
                                        <p:cTn id="418" dur="500"/>
                                        <p:tgtEl>
                                          <p:spTgt spid="797"/>
                                        </p:tgtEl>
                                      </p:cBhvr>
                                    </p:animEffect>
                                  </p:childTnLst>
                                </p:cTn>
                              </p:par>
                              <p:par>
                                <p:cTn id="419" nodeType="withEffect" fill="hold" presetClass="entr" presetID="3" presetSubtype="10">
                                  <p:stCondLst>
                                    <p:cond delay="0"/>
                                  </p:stCondLst>
                                  <p:childTnLst>
                                    <p:set>
                                      <p:cBhvr>
                                        <p:cTn id="420" dur="1" fill="hold">
                                          <p:stCondLst>
                                            <p:cond delay="0"/>
                                          </p:stCondLst>
                                        </p:cTn>
                                        <p:tgtEl>
                                          <p:spTgt spid="798"/>
                                        </p:tgtEl>
                                        <p:attrNameLst>
                                          <p:attrName>style.visibility</p:attrName>
                                        </p:attrNameLst>
                                      </p:cBhvr>
                                      <p:to>
                                        <p:strVal val="visible"/>
                                      </p:to>
                                    </p:set>
                                    <p:animEffect filter="blinds(horizontal)" transition="in">
                                      <p:cBhvr additive="repl">
                                        <p:cTn id="421" dur="500"/>
                                        <p:tgtEl>
                                          <p:spTgt spid="7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799"/>
                                        </p:tgtEl>
                                        <p:attrNameLst>
                                          <p:attrName>style.visibility</p:attrName>
                                        </p:attrNameLst>
                                      </p:cBhvr>
                                      <p:to>
                                        <p:strVal val="visible"/>
                                      </p:to>
                                    </p:set>
                                    <p:animEffect filter="blinds(horizontal)" transition="in">
                                      <p:cBhvr additive="repl">
                                        <p:cTn id="426" dur="500"/>
                                        <p:tgtEl>
                                          <p:spTgt spid="7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791"/>
                                        </p:tgtEl>
                                        <p:attrNameLst>
                                          <p:attrName>style.visibility</p:attrName>
                                        </p:attrNameLst>
                                      </p:cBhvr>
                                      <p:to>
                                        <p:strVal val="visible"/>
                                      </p:to>
                                    </p:set>
                                    <p:animEffect filter="blinds(horizontal)" transition="in">
                                      <p:cBhvr additive="repl">
                                        <p:cTn id="431" dur="500"/>
                                        <p:tgtEl>
                                          <p:spTgt spid="791"/>
                                        </p:tgtEl>
                                      </p:cBhvr>
                                    </p:animEffect>
                                  </p:childTnLst>
                                </p:cTn>
                              </p:par>
                              <p:par>
                                <p:cTn id="432" nodeType="withEffect" fill="hold" presetClass="entr" presetID="3" presetSubtype="10">
                                  <p:stCondLst>
                                    <p:cond delay="0"/>
                                  </p:stCondLst>
                                  <p:childTnLst>
                                    <p:set>
                                      <p:cBhvr>
                                        <p:cTn id="433" dur="1" fill="hold">
                                          <p:stCondLst>
                                            <p:cond delay="0"/>
                                          </p:stCondLst>
                                        </p:cTn>
                                        <p:tgtEl>
                                          <p:spTgt spid="794"/>
                                        </p:tgtEl>
                                        <p:attrNameLst>
                                          <p:attrName>style.visibility</p:attrName>
                                        </p:attrNameLst>
                                      </p:cBhvr>
                                      <p:to>
                                        <p:strVal val="visible"/>
                                      </p:to>
                                    </p:set>
                                    <p:animEffect filter="blinds(horizontal)" transition="in">
                                      <p:cBhvr additive="repl">
                                        <p:cTn id="434" dur="500"/>
                                        <p:tgtEl>
                                          <p:spTgt spid="794"/>
                                        </p:tgtEl>
                                      </p:cBhvr>
                                    </p:animEffect>
                                  </p:childTnLst>
                                </p:cTn>
                              </p:par>
                              <p:par>
                                <p:cTn id="435" nodeType="withEffect" fill="hold" presetClass="entr" presetID="3" presetSubtype="10">
                                  <p:stCondLst>
                                    <p:cond delay="0"/>
                                  </p:stCondLst>
                                  <p:childTnLst>
                                    <p:set>
                                      <p:cBhvr>
                                        <p:cTn id="436" dur="1" fill="hold">
                                          <p:stCondLst>
                                            <p:cond delay="0"/>
                                          </p:stCondLst>
                                        </p:cTn>
                                        <p:tgtEl>
                                          <p:spTgt spid="792"/>
                                        </p:tgtEl>
                                        <p:attrNameLst>
                                          <p:attrName>style.visibility</p:attrName>
                                        </p:attrNameLst>
                                      </p:cBhvr>
                                      <p:to>
                                        <p:strVal val="visible"/>
                                      </p:to>
                                    </p:set>
                                    <p:animEffect filter="blinds(horizontal)" transition="in">
                                      <p:cBhvr additive="repl">
                                        <p:cTn id="437" dur="500"/>
                                        <p:tgtEl>
                                          <p:spTgt spid="792"/>
                                        </p:tgtEl>
                                      </p:cBhvr>
                                    </p:animEffect>
                                  </p:childTnLst>
                                </p:cTn>
                              </p:par>
                              <p:par>
                                <p:cTn id="438" nodeType="withEffect" fill="hold" presetClass="entr" presetID="3" presetSubtype="10">
                                  <p:stCondLst>
                                    <p:cond delay="0"/>
                                  </p:stCondLst>
                                  <p:childTnLst>
                                    <p:set>
                                      <p:cBhvr>
                                        <p:cTn id="439" dur="1" fill="hold">
                                          <p:stCondLst>
                                            <p:cond delay="0"/>
                                          </p:stCondLst>
                                        </p:cTn>
                                        <p:tgtEl>
                                          <p:spTgt spid="793"/>
                                        </p:tgtEl>
                                        <p:attrNameLst>
                                          <p:attrName>style.visibility</p:attrName>
                                        </p:attrNameLst>
                                      </p:cBhvr>
                                      <p:to>
                                        <p:strVal val="visible"/>
                                      </p:to>
                                    </p:set>
                                    <p:animEffect filter="blinds(horizontal)" transition="in">
                                      <p:cBhvr additive="repl">
                                        <p:cTn id="440" dur="500"/>
                                        <p:tgtEl>
                                          <p:spTgt spid="793"/>
                                        </p:tgtEl>
                                      </p:cBhvr>
                                    </p:animEffect>
                                  </p:childTnLst>
                                </p:cTn>
                              </p:par>
                              <p:par>
                                <p:cTn id="441" nodeType="withEffect" fill="hold" presetClass="entr" presetID="3" presetSubtype="10">
                                  <p:stCondLst>
                                    <p:cond delay="0"/>
                                  </p:stCondLst>
                                  <p:childTnLst>
                                    <p:set>
                                      <p:cBhvr>
                                        <p:cTn id="442" dur="1" fill="hold">
                                          <p:stCondLst>
                                            <p:cond delay="0"/>
                                          </p:stCondLst>
                                        </p:cTn>
                                        <p:tgtEl>
                                          <p:spTgt spid="800"/>
                                        </p:tgtEl>
                                        <p:attrNameLst>
                                          <p:attrName>style.visibility</p:attrName>
                                        </p:attrNameLst>
                                      </p:cBhvr>
                                      <p:to>
                                        <p:strVal val="visible"/>
                                      </p:to>
                                    </p:set>
                                    <p:animEffect filter="blinds(horizontal)" transition="in">
                                      <p:cBhvr additive="repl">
                                        <p:cTn id="44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Mögliche Projekt-Strukturen</a:t>
            </a:r>
            <a:endParaRPr b="0" lang="en-US" sz="4400" spc="-1" strike="noStrike">
              <a:solidFill>
                <a:srgbClr val="dfdef6"/>
              </a:solidFill>
              <a:latin typeface="Arial"/>
            </a:endParaRPr>
          </a:p>
        </p:txBody>
      </p:sp>
      <p:sp>
        <p:nvSpPr>
          <p:cNvPr id="8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s gibt ein oder mehrere Assemblies, welche die Interfaces beinhalte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anderen Projekte referenzieren diese Interface-Assemblies und sonst kein anderes Assembly von den Projekten. Dadurch wird auch deutlich, das eine keine Kopplung zwischen den einzelnen Bestandteilen vorlie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02">
                                            <p:txEl>
                                              <p:pRg st="0" end="0"/>
                                            </p:txEl>
                                          </p:spTgt>
                                        </p:tgtEl>
                                        <p:attrNameLst>
                                          <p:attrName>style.visibility</p:attrName>
                                        </p:attrNameLst>
                                      </p:cBhvr>
                                      <p:to>
                                        <p:strVal val="visible"/>
                                      </p:to>
                                    </p:set>
                                    <p:animEffect filter="blinds(horizontal)" transition="in">
                                      <p:cBhvr additive="repl">
                                        <p:cTn id="450" dur="500"/>
                                        <p:tgtEl>
                                          <p:spTgt spid="802">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02">
                                            <p:txEl>
                                              <p:pRg st="1" end="1"/>
                                            </p:txEl>
                                          </p:spTgt>
                                        </p:tgtEl>
                                        <p:attrNameLst>
                                          <p:attrName>style.visibility</p:attrName>
                                        </p:attrNameLst>
                                      </p:cBhvr>
                                      <p:to>
                                        <p:strVal val="visible"/>
                                      </p:to>
                                    </p:set>
                                    <p:animEffect filter="blinds(horizontal)" transition="in">
                                      <p:cBhvr additive="repl">
                                        <p:cTn id="455" dur="500"/>
                                        <p:tgtEl>
                                          <p:spTgt spid="8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ur entwickelten Application</a:t>
            </a:r>
            <a:endParaRPr b="0" lang="en-US" sz="4400" spc="-1" strike="noStrike">
              <a:solidFill>
                <a:srgbClr val="dfdef6"/>
              </a:solidFill>
              <a:latin typeface="Arial"/>
            </a:endParaRPr>
          </a:p>
        </p:txBody>
      </p:sp>
      <p:sp>
        <p:nvSpPr>
          <p:cNvPr id="804" name=""/>
          <p:cNvSpPr/>
          <p:nvPr/>
        </p:nvSpPr>
        <p:spPr>
          <a:xfrm>
            <a:off x="3801960" y="3056040"/>
            <a:ext cx="2697120" cy="1631880"/>
          </a:xfrm>
          <a:custGeom>
            <a:avLst/>
            <a:gdLst/>
            <a:ahLst/>
            <a:rect l="l" t="t" r="r" b="b"/>
            <a:pathLst>
              <a:path w="7494" h="4531">
                <a:moveTo>
                  <a:pt x="12924" y="8610"/>
                </a:moveTo>
                <a:cubicBezTo>
                  <a:pt x="12895" y="8597"/>
                  <a:pt x="12855" y="8570"/>
                  <a:pt x="12825" y="8559"/>
                </a:cubicBezTo>
                <a:cubicBezTo>
                  <a:pt x="12802" y="8551"/>
                  <a:pt x="12783" y="8538"/>
                  <a:pt x="12758" y="8531"/>
                </a:cubicBezTo>
                <a:cubicBezTo>
                  <a:pt x="12565" y="8477"/>
                  <a:pt x="12320" y="8465"/>
                  <a:pt x="12132" y="8527"/>
                </a:cubicBezTo>
                <a:cubicBezTo>
                  <a:pt x="11988" y="8574"/>
                  <a:pt x="11863" y="8661"/>
                  <a:pt x="11738" y="8744"/>
                </a:cubicBezTo>
                <a:cubicBezTo>
                  <a:pt x="11683" y="8781"/>
                  <a:pt x="11633" y="8824"/>
                  <a:pt x="11577" y="8860"/>
                </a:cubicBezTo>
                <a:cubicBezTo>
                  <a:pt x="11544" y="8881"/>
                  <a:pt x="11510" y="8893"/>
                  <a:pt x="11477" y="8915"/>
                </a:cubicBezTo>
                <a:cubicBezTo>
                  <a:pt x="11413" y="8958"/>
                  <a:pt x="11346" y="9000"/>
                  <a:pt x="11287" y="9049"/>
                </a:cubicBezTo>
                <a:cubicBezTo>
                  <a:pt x="11255" y="9076"/>
                  <a:pt x="11221" y="9102"/>
                  <a:pt x="11192" y="9132"/>
                </a:cubicBezTo>
                <a:cubicBezTo>
                  <a:pt x="11125" y="9200"/>
                  <a:pt x="11068" y="9280"/>
                  <a:pt x="11007" y="9354"/>
                </a:cubicBezTo>
                <a:cubicBezTo>
                  <a:pt x="10974" y="9395"/>
                  <a:pt x="10939" y="9436"/>
                  <a:pt x="10907" y="9479"/>
                </a:cubicBezTo>
                <a:cubicBezTo>
                  <a:pt x="10707" y="9745"/>
                  <a:pt x="10618" y="10050"/>
                  <a:pt x="10580" y="10380"/>
                </a:cubicBezTo>
                <a:cubicBezTo>
                  <a:pt x="10542" y="10715"/>
                  <a:pt x="10527" y="11108"/>
                  <a:pt x="10571" y="11443"/>
                </a:cubicBezTo>
                <a:cubicBezTo>
                  <a:pt x="10594" y="11620"/>
                  <a:pt x="10657" y="11797"/>
                  <a:pt x="10737" y="11956"/>
                </a:cubicBezTo>
                <a:cubicBezTo>
                  <a:pt x="10865" y="12210"/>
                  <a:pt x="11033" y="12353"/>
                  <a:pt x="11273" y="12497"/>
                </a:cubicBezTo>
                <a:cubicBezTo>
                  <a:pt x="11490" y="12627"/>
                  <a:pt x="11706" y="12772"/>
                  <a:pt x="11942" y="12862"/>
                </a:cubicBezTo>
                <a:cubicBezTo>
                  <a:pt x="12221" y="12969"/>
                  <a:pt x="12534" y="13033"/>
                  <a:pt x="12834" y="13020"/>
                </a:cubicBezTo>
                <a:cubicBezTo>
                  <a:pt x="13057" y="13011"/>
                  <a:pt x="13294" y="12961"/>
                  <a:pt x="13503" y="12886"/>
                </a:cubicBezTo>
                <a:cubicBezTo>
                  <a:pt x="13714" y="12810"/>
                  <a:pt x="13928" y="12724"/>
                  <a:pt x="14120" y="12608"/>
                </a:cubicBezTo>
                <a:cubicBezTo>
                  <a:pt x="14222" y="12546"/>
                  <a:pt x="14337" y="12481"/>
                  <a:pt x="14424" y="12400"/>
                </a:cubicBezTo>
                <a:cubicBezTo>
                  <a:pt x="14546" y="12287"/>
                  <a:pt x="14617" y="12132"/>
                  <a:pt x="14685" y="11984"/>
                </a:cubicBezTo>
                <a:cubicBezTo>
                  <a:pt x="14829" y="11669"/>
                  <a:pt x="14943" y="11343"/>
                  <a:pt x="14993" y="11000"/>
                </a:cubicBezTo>
                <a:cubicBezTo>
                  <a:pt x="15031" y="10738"/>
                  <a:pt x="15025" y="10444"/>
                  <a:pt x="14979" y="10182"/>
                </a:cubicBezTo>
                <a:cubicBezTo>
                  <a:pt x="14923" y="9859"/>
                  <a:pt x="14775" y="9529"/>
                  <a:pt x="14604" y="9252"/>
                </a:cubicBezTo>
                <a:cubicBezTo>
                  <a:pt x="14522" y="9119"/>
                  <a:pt x="14427" y="9005"/>
                  <a:pt x="14310" y="8901"/>
                </a:cubicBezTo>
                <a:cubicBezTo>
                  <a:pt x="14269" y="8864"/>
                  <a:pt x="14228" y="8825"/>
                  <a:pt x="14182" y="8795"/>
                </a:cubicBezTo>
                <a:cubicBezTo>
                  <a:pt x="14027" y="8692"/>
                  <a:pt x="13792" y="8590"/>
                  <a:pt x="13608" y="8559"/>
                </a:cubicBezTo>
                <a:cubicBezTo>
                  <a:pt x="13408" y="8526"/>
                  <a:pt x="13191" y="8541"/>
                  <a:pt x="12995" y="8568"/>
                </a:cubicBezTo>
              </a:path>
              <a:path w="7494" h="4531">
                <a:moveTo>
                  <a:pt x="12815" y="9271"/>
                </a:moveTo>
                <a:cubicBezTo>
                  <a:pt x="12815" y="9271"/>
                  <a:pt x="12820" y="9264"/>
                  <a:pt x="12820" y="9257"/>
                </a:cubicBezTo>
                <a:cubicBezTo>
                  <a:pt x="12819" y="9248"/>
                  <a:pt x="12823" y="9241"/>
                  <a:pt x="12815" y="9234"/>
                </a:cubicBezTo>
                <a:cubicBezTo>
                  <a:pt x="12802" y="9223"/>
                  <a:pt x="12768" y="9225"/>
                  <a:pt x="12753" y="9225"/>
                </a:cubicBezTo>
                <a:cubicBezTo>
                  <a:pt x="12726" y="9224"/>
                  <a:pt x="12700" y="9222"/>
                  <a:pt x="12673" y="9220"/>
                </a:cubicBezTo>
                <a:cubicBezTo>
                  <a:pt x="12643" y="9218"/>
                  <a:pt x="12588" y="9212"/>
                  <a:pt x="12559" y="9225"/>
                </a:cubicBezTo>
                <a:cubicBezTo>
                  <a:pt x="12525" y="9241"/>
                  <a:pt x="12499" y="9266"/>
                  <a:pt x="12469" y="9289"/>
                </a:cubicBezTo>
                <a:cubicBezTo>
                  <a:pt x="12435" y="9316"/>
                  <a:pt x="12416" y="9337"/>
                  <a:pt x="12393" y="9373"/>
                </a:cubicBezTo>
                <a:cubicBezTo>
                  <a:pt x="12373" y="9403"/>
                  <a:pt x="12368" y="9431"/>
                  <a:pt x="12360" y="9465"/>
                </a:cubicBezTo>
                <a:cubicBezTo>
                  <a:pt x="12355" y="9488"/>
                  <a:pt x="12353" y="9511"/>
                  <a:pt x="12355" y="9534"/>
                </a:cubicBezTo>
                <a:cubicBezTo>
                  <a:pt x="12357" y="9561"/>
                  <a:pt x="12371" y="9581"/>
                  <a:pt x="12383" y="9604"/>
                </a:cubicBezTo>
                <a:cubicBezTo>
                  <a:pt x="12397" y="9630"/>
                  <a:pt x="12417" y="9650"/>
                  <a:pt x="12440" y="9668"/>
                </a:cubicBezTo>
                <a:cubicBezTo>
                  <a:pt x="12468" y="9689"/>
                  <a:pt x="12503" y="9698"/>
                  <a:pt x="12535" y="9710"/>
                </a:cubicBezTo>
                <a:cubicBezTo>
                  <a:pt x="12571" y="9723"/>
                  <a:pt x="12598" y="9727"/>
                  <a:pt x="12635" y="9733"/>
                </a:cubicBezTo>
                <a:cubicBezTo>
                  <a:pt x="12665" y="9738"/>
                  <a:pt x="12694" y="9738"/>
                  <a:pt x="12725" y="9738"/>
                </a:cubicBezTo>
                <a:cubicBezTo>
                  <a:pt x="12754" y="9738"/>
                  <a:pt x="12783" y="9729"/>
                  <a:pt x="12810" y="9719"/>
                </a:cubicBezTo>
                <a:cubicBezTo>
                  <a:pt x="12842" y="9707"/>
                  <a:pt x="12862" y="9690"/>
                  <a:pt x="12891" y="9673"/>
                </a:cubicBezTo>
                <a:cubicBezTo>
                  <a:pt x="12914" y="9659"/>
                  <a:pt x="12935" y="9643"/>
                  <a:pt x="12953" y="9622"/>
                </a:cubicBezTo>
                <a:cubicBezTo>
                  <a:pt x="12972" y="9601"/>
                  <a:pt x="12990" y="9576"/>
                  <a:pt x="13005" y="9553"/>
                </a:cubicBezTo>
                <a:cubicBezTo>
                  <a:pt x="13028" y="9518"/>
                  <a:pt x="13044" y="9483"/>
                  <a:pt x="13052" y="9442"/>
                </a:cubicBezTo>
                <a:cubicBezTo>
                  <a:pt x="13059" y="9405"/>
                  <a:pt x="13063" y="9359"/>
                  <a:pt x="13057" y="9322"/>
                </a:cubicBezTo>
                <a:cubicBezTo>
                  <a:pt x="13050" y="9278"/>
                  <a:pt x="13019" y="9239"/>
                  <a:pt x="12976" y="9225"/>
                </a:cubicBezTo>
                <a:cubicBezTo>
                  <a:pt x="12936" y="9212"/>
                  <a:pt x="12913" y="9228"/>
                  <a:pt x="12877" y="9243"/>
                </a:cubicBezTo>
              </a:path>
              <a:path w="7494" h="4531">
                <a:moveTo>
                  <a:pt x="12345" y="9867"/>
                </a:moveTo>
                <a:cubicBezTo>
                  <a:pt x="12296" y="9867"/>
                  <a:pt x="12260" y="9867"/>
                  <a:pt x="12217" y="9886"/>
                </a:cubicBezTo>
                <a:cubicBezTo>
                  <a:pt x="12184" y="9901"/>
                  <a:pt x="12146" y="9915"/>
                  <a:pt x="12118" y="9937"/>
                </a:cubicBezTo>
                <a:cubicBezTo>
                  <a:pt x="12070" y="9976"/>
                  <a:pt x="12021" y="10014"/>
                  <a:pt x="11980" y="10061"/>
                </a:cubicBezTo>
                <a:cubicBezTo>
                  <a:pt x="11951" y="10094"/>
                  <a:pt x="11924" y="10138"/>
                  <a:pt x="11904" y="10177"/>
                </a:cubicBezTo>
                <a:cubicBezTo>
                  <a:pt x="11876" y="10231"/>
                  <a:pt x="11845" y="10286"/>
                  <a:pt x="11823" y="10343"/>
                </a:cubicBezTo>
                <a:cubicBezTo>
                  <a:pt x="11775" y="10467"/>
                  <a:pt x="11766" y="10591"/>
                  <a:pt x="11766" y="10722"/>
                </a:cubicBezTo>
                <a:cubicBezTo>
                  <a:pt x="11766" y="10737"/>
                  <a:pt x="11770" y="10766"/>
                  <a:pt x="11771" y="10773"/>
                </a:cubicBezTo>
              </a:path>
              <a:path w="7494" h="4531">
                <a:moveTo>
                  <a:pt x="11671" y="10593"/>
                </a:moveTo>
                <a:cubicBezTo>
                  <a:pt x="11655" y="10594"/>
                  <a:pt x="11644" y="10593"/>
                  <a:pt x="11629" y="10598"/>
                </a:cubicBezTo>
                <a:cubicBezTo>
                  <a:pt x="11603" y="10607"/>
                  <a:pt x="11587" y="10624"/>
                  <a:pt x="11567" y="10644"/>
                </a:cubicBezTo>
                <a:cubicBezTo>
                  <a:pt x="11539" y="10673"/>
                  <a:pt x="11517" y="10706"/>
                  <a:pt x="11491" y="10736"/>
                </a:cubicBezTo>
                <a:cubicBezTo>
                  <a:pt x="11460" y="10771"/>
                  <a:pt x="11430" y="10806"/>
                  <a:pt x="11406" y="10847"/>
                </a:cubicBezTo>
                <a:cubicBezTo>
                  <a:pt x="11387" y="10879"/>
                  <a:pt x="11365" y="10916"/>
                  <a:pt x="11358" y="10953"/>
                </a:cubicBezTo>
                <a:cubicBezTo>
                  <a:pt x="11353" y="10980"/>
                  <a:pt x="11351" y="11014"/>
                  <a:pt x="11354" y="11041"/>
                </a:cubicBezTo>
                <a:cubicBezTo>
                  <a:pt x="11358" y="11080"/>
                  <a:pt x="11373" y="11128"/>
                  <a:pt x="11401" y="11157"/>
                </a:cubicBezTo>
                <a:cubicBezTo>
                  <a:pt x="11425" y="11182"/>
                  <a:pt x="11459" y="11211"/>
                  <a:pt x="11491" y="11226"/>
                </a:cubicBezTo>
                <a:cubicBezTo>
                  <a:pt x="11523" y="11242"/>
                  <a:pt x="11565" y="11248"/>
                  <a:pt x="11600" y="11249"/>
                </a:cubicBezTo>
                <a:cubicBezTo>
                  <a:pt x="11667" y="11251"/>
                  <a:pt x="11727" y="11247"/>
                  <a:pt x="11790" y="11222"/>
                </a:cubicBezTo>
                <a:cubicBezTo>
                  <a:pt x="11827" y="11208"/>
                  <a:pt x="11859" y="11185"/>
                  <a:pt x="11890" y="11161"/>
                </a:cubicBezTo>
                <a:cubicBezTo>
                  <a:pt x="11923" y="11136"/>
                  <a:pt x="11946" y="11103"/>
                  <a:pt x="11970" y="11069"/>
                </a:cubicBezTo>
                <a:cubicBezTo>
                  <a:pt x="11998" y="11029"/>
                  <a:pt x="12007" y="11007"/>
                  <a:pt x="12008" y="10958"/>
                </a:cubicBezTo>
                <a:cubicBezTo>
                  <a:pt x="12009" y="10919"/>
                  <a:pt x="11989" y="10880"/>
                  <a:pt x="11961" y="10852"/>
                </a:cubicBezTo>
                <a:cubicBezTo>
                  <a:pt x="11932" y="10823"/>
                  <a:pt x="11887" y="10794"/>
                  <a:pt x="11847" y="10782"/>
                </a:cubicBezTo>
                <a:cubicBezTo>
                  <a:pt x="11834" y="10778"/>
                  <a:pt x="11831" y="10777"/>
                  <a:pt x="11823" y="10778"/>
                </a:cubicBezTo>
              </a:path>
              <a:path w="7494" h="4531">
                <a:moveTo>
                  <a:pt x="11989" y="11346"/>
                </a:moveTo>
                <a:cubicBezTo>
                  <a:pt x="12002" y="11352"/>
                  <a:pt x="12011" y="11355"/>
                  <a:pt x="12023" y="11365"/>
                </a:cubicBezTo>
                <a:cubicBezTo>
                  <a:pt x="12043" y="11382"/>
                  <a:pt x="12057" y="11401"/>
                  <a:pt x="12080" y="11416"/>
                </a:cubicBezTo>
                <a:cubicBezTo>
                  <a:pt x="12106" y="11433"/>
                  <a:pt x="12137" y="11453"/>
                  <a:pt x="12165" y="11467"/>
                </a:cubicBezTo>
                <a:cubicBezTo>
                  <a:pt x="12199" y="11483"/>
                  <a:pt x="12231" y="11501"/>
                  <a:pt x="12265" y="11517"/>
                </a:cubicBezTo>
                <a:cubicBezTo>
                  <a:pt x="12301" y="11535"/>
                  <a:pt x="12334" y="11546"/>
                  <a:pt x="12374" y="11554"/>
                </a:cubicBezTo>
                <a:cubicBezTo>
                  <a:pt x="12423" y="11564"/>
                  <a:pt x="12471" y="11564"/>
                  <a:pt x="12521" y="11564"/>
                </a:cubicBezTo>
                <a:cubicBezTo>
                  <a:pt x="12589" y="11564"/>
                  <a:pt x="12657" y="11565"/>
                  <a:pt x="12725" y="11559"/>
                </a:cubicBezTo>
                <a:cubicBezTo>
                  <a:pt x="12783" y="11554"/>
                  <a:pt x="12844" y="11551"/>
                  <a:pt x="12900" y="11536"/>
                </a:cubicBezTo>
                <a:cubicBezTo>
                  <a:pt x="12941" y="11525"/>
                  <a:pt x="12983" y="11502"/>
                  <a:pt x="13019" y="11480"/>
                </a:cubicBezTo>
                <a:cubicBezTo>
                  <a:pt x="13043" y="11465"/>
                  <a:pt x="13062" y="11445"/>
                  <a:pt x="13086" y="11430"/>
                </a:cubicBezTo>
                <a:cubicBezTo>
                  <a:pt x="13099" y="11422"/>
                  <a:pt x="13119" y="11407"/>
                  <a:pt x="13133" y="11402"/>
                </a:cubicBezTo>
                <a:cubicBezTo>
                  <a:pt x="13141" y="11402"/>
                  <a:pt x="13142" y="11402"/>
                  <a:pt x="13147" y="11402"/>
                </a:cubicBezTo>
              </a:path>
              <a:path w="7494" h="4531">
                <a:moveTo>
                  <a:pt x="13342" y="11111"/>
                </a:moveTo>
                <a:cubicBezTo>
                  <a:pt x="13337" y="11094"/>
                  <a:pt x="13345" y="11101"/>
                  <a:pt x="13332" y="11087"/>
                </a:cubicBezTo>
                <a:cubicBezTo>
                  <a:pt x="13322" y="11077"/>
                  <a:pt x="13305" y="11060"/>
                  <a:pt x="13290" y="11055"/>
                </a:cubicBezTo>
                <a:cubicBezTo>
                  <a:pt x="13266" y="11046"/>
                  <a:pt x="13243" y="11047"/>
                  <a:pt x="13218" y="11046"/>
                </a:cubicBezTo>
                <a:cubicBezTo>
                  <a:pt x="13187" y="11045"/>
                  <a:pt x="13163" y="11044"/>
                  <a:pt x="13138" y="11064"/>
                </a:cubicBezTo>
                <a:cubicBezTo>
                  <a:pt x="13093" y="11101"/>
                  <a:pt x="13052" y="11146"/>
                  <a:pt x="13038" y="11203"/>
                </a:cubicBezTo>
                <a:cubicBezTo>
                  <a:pt x="13028" y="11241"/>
                  <a:pt x="13026" y="11298"/>
                  <a:pt x="13033" y="11337"/>
                </a:cubicBezTo>
                <a:cubicBezTo>
                  <a:pt x="13041" y="11385"/>
                  <a:pt x="13061" y="11422"/>
                  <a:pt x="13086" y="11462"/>
                </a:cubicBezTo>
                <a:cubicBezTo>
                  <a:pt x="13103" y="11489"/>
                  <a:pt x="13125" y="11516"/>
                  <a:pt x="13157" y="11527"/>
                </a:cubicBezTo>
                <a:cubicBezTo>
                  <a:pt x="13187" y="11537"/>
                  <a:pt x="13230" y="11534"/>
                  <a:pt x="13261" y="11531"/>
                </a:cubicBezTo>
                <a:cubicBezTo>
                  <a:pt x="13309" y="11527"/>
                  <a:pt x="13344" y="11500"/>
                  <a:pt x="13380" y="11471"/>
                </a:cubicBezTo>
                <a:cubicBezTo>
                  <a:pt x="13424" y="11436"/>
                  <a:pt x="13457" y="11397"/>
                  <a:pt x="13489" y="11351"/>
                </a:cubicBezTo>
                <a:cubicBezTo>
                  <a:pt x="13521" y="11305"/>
                  <a:pt x="13552" y="11250"/>
                  <a:pt x="13565" y="11194"/>
                </a:cubicBezTo>
                <a:cubicBezTo>
                  <a:pt x="13573" y="11158"/>
                  <a:pt x="13578" y="11103"/>
                  <a:pt x="13560" y="11069"/>
                </a:cubicBezTo>
                <a:cubicBezTo>
                  <a:pt x="13542" y="11035"/>
                  <a:pt x="13509" y="11032"/>
                  <a:pt x="13479" y="11018"/>
                </a:cubicBezTo>
                <a:cubicBezTo>
                  <a:pt x="13450" y="11004"/>
                  <a:pt x="13440" y="11004"/>
                  <a:pt x="13408" y="11004"/>
                </a:cubicBezTo>
              </a:path>
              <a:path w="7494" h="4531">
                <a:moveTo>
                  <a:pt x="13916" y="9645"/>
                </a:moveTo>
                <a:cubicBezTo>
                  <a:pt x="13909" y="9642"/>
                  <a:pt x="13900" y="9635"/>
                  <a:pt x="13892" y="9632"/>
                </a:cubicBezTo>
                <a:cubicBezTo>
                  <a:pt x="13875" y="9625"/>
                  <a:pt x="13859" y="9624"/>
                  <a:pt x="13840" y="9622"/>
                </a:cubicBezTo>
                <a:cubicBezTo>
                  <a:pt x="13811" y="9620"/>
                  <a:pt x="13778" y="9620"/>
                  <a:pt x="13750" y="9627"/>
                </a:cubicBezTo>
                <a:cubicBezTo>
                  <a:pt x="13711" y="9637"/>
                  <a:pt x="13680" y="9675"/>
                  <a:pt x="13660" y="9705"/>
                </a:cubicBezTo>
                <a:cubicBezTo>
                  <a:pt x="13607" y="9782"/>
                  <a:pt x="13597" y="9878"/>
                  <a:pt x="13603" y="9969"/>
                </a:cubicBezTo>
                <a:cubicBezTo>
                  <a:pt x="13607" y="10033"/>
                  <a:pt x="13621" y="10092"/>
                  <a:pt x="13650" y="10149"/>
                </a:cubicBezTo>
                <a:cubicBezTo>
                  <a:pt x="13675" y="10198"/>
                  <a:pt x="13711" y="10242"/>
                  <a:pt x="13755" y="10274"/>
                </a:cubicBezTo>
                <a:cubicBezTo>
                  <a:pt x="13805" y="10310"/>
                  <a:pt x="13861" y="10315"/>
                  <a:pt x="13921" y="10311"/>
                </a:cubicBezTo>
                <a:cubicBezTo>
                  <a:pt x="13976" y="10307"/>
                  <a:pt x="14028" y="10292"/>
                  <a:pt x="14073" y="10260"/>
                </a:cubicBezTo>
                <a:cubicBezTo>
                  <a:pt x="14123" y="10225"/>
                  <a:pt x="14169" y="10183"/>
                  <a:pt x="14201" y="10131"/>
                </a:cubicBezTo>
                <a:cubicBezTo>
                  <a:pt x="14228" y="10086"/>
                  <a:pt x="14258" y="10038"/>
                  <a:pt x="14272" y="9987"/>
                </a:cubicBezTo>
                <a:cubicBezTo>
                  <a:pt x="14284" y="9942"/>
                  <a:pt x="14276" y="9892"/>
                  <a:pt x="14258" y="9849"/>
                </a:cubicBezTo>
                <a:cubicBezTo>
                  <a:pt x="14236" y="9796"/>
                  <a:pt x="14205" y="9760"/>
                  <a:pt x="14158" y="9729"/>
                </a:cubicBezTo>
                <a:cubicBezTo>
                  <a:pt x="14121" y="9704"/>
                  <a:pt x="14100" y="9703"/>
                  <a:pt x="14058" y="9696"/>
                </a:cubicBezTo>
              </a:path>
              <a:path w="7494" h="4531">
                <a:moveTo>
                  <a:pt x="13517" y="10154"/>
                </a:moveTo>
                <a:cubicBezTo>
                  <a:pt x="13423" y="10154"/>
                  <a:pt x="13331" y="10146"/>
                  <a:pt x="13237" y="10145"/>
                </a:cubicBezTo>
                <a:cubicBezTo>
                  <a:pt x="13168" y="10144"/>
                  <a:pt x="13105" y="10151"/>
                  <a:pt x="13038" y="10163"/>
                </a:cubicBezTo>
                <a:cubicBezTo>
                  <a:pt x="12964" y="10176"/>
                  <a:pt x="12887" y="10199"/>
                  <a:pt x="12815" y="10219"/>
                </a:cubicBezTo>
                <a:cubicBezTo>
                  <a:pt x="12704" y="10250"/>
                  <a:pt x="12600" y="10289"/>
                  <a:pt x="12497" y="10339"/>
                </a:cubicBezTo>
                <a:cubicBezTo>
                  <a:pt x="12424" y="10374"/>
                  <a:pt x="12371" y="10415"/>
                  <a:pt x="12312" y="10468"/>
                </a:cubicBezTo>
                <a:cubicBezTo>
                  <a:pt x="12246" y="10528"/>
                  <a:pt x="12192" y="10590"/>
                  <a:pt x="12136" y="10658"/>
                </a:cubicBezTo>
                <a:cubicBezTo>
                  <a:pt x="12100" y="10702"/>
                  <a:pt x="12064" y="10749"/>
                  <a:pt x="12032" y="10796"/>
                </a:cubicBezTo>
                <a:cubicBezTo>
                  <a:pt x="12008" y="10831"/>
                  <a:pt x="11982" y="10863"/>
                  <a:pt x="11961" y="10898"/>
                </a:cubicBezTo>
                <a:cubicBezTo>
                  <a:pt x="11948" y="10920"/>
                  <a:pt x="11945" y="10936"/>
                  <a:pt x="11937" y="10958"/>
                </a:cubicBezTo>
                <a:cubicBezTo>
                  <a:pt x="11950" y="10956"/>
                  <a:pt x="11971" y="10954"/>
                  <a:pt x="11989" y="10949"/>
                </a:cubicBezTo>
              </a:path>
              <a:path w="7494" h="4531">
                <a:moveTo>
                  <a:pt x="12151" y="10732"/>
                </a:moveTo>
                <a:lnTo>
                  <a:pt x="12151" y="10732"/>
                </a:lnTo>
              </a:path>
              <a:path w="7494" h="4531">
                <a:moveTo>
                  <a:pt x="11947" y="10699"/>
                </a:moveTo>
                <a:cubicBezTo>
                  <a:pt x="11941" y="10709"/>
                  <a:pt x="11929" y="10717"/>
                  <a:pt x="11923" y="10727"/>
                </a:cubicBezTo>
                <a:cubicBezTo>
                  <a:pt x="11912" y="10746"/>
                  <a:pt x="11910" y="10771"/>
                  <a:pt x="11904" y="10792"/>
                </a:cubicBezTo>
                <a:cubicBezTo>
                  <a:pt x="11897" y="10817"/>
                  <a:pt x="11895" y="10849"/>
                  <a:pt x="11899" y="10875"/>
                </a:cubicBezTo>
                <a:cubicBezTo>
                  <a:pt x="11903" y="10901"/>
                  <a:pt x="11921" y="10929"/>
                  <a:pt x="11942" y="10944"/>
                </a:cubicBezTo>
                <a:cubicBezTo>
                  <a:pt x="11970" y="10964"/>
                  <a:pt x="12019" y="10960"/>
                  <a:pt x="12051" y="10958"/>
                </a:cubicBezTo>
                <a:cubicBezTo>
                  <a:pt x="12103" y="10954"/>
                  <a:pt x="12149" y="10935"/>
                  <a:pt x="12198" y="10921"/>
                </a:cubicBezTo>
                <a:cubicBezTo>
                  <a:pt x="12234" y="10911"/>
                  <a:pt x="12266" y="10897"/>
                  <a:pt x="12303" y="10889"/>
                </a:cubicBezTo>
              </a:path>
              <a:path w="7494" h="4531">
                <a:moveTo>
                  <a:pt x="12540" y="10782"/>
                </a:moveTo>
                <a:cubicBezTo>
                  <a:pt x="12546" y="10782"/>
                  <a:pt x="12553" y="10782"/>
                  <a:pt x="12559" y="10782"/>
                </a:cubicBezTo>
              </a:path>
              <a:path w="7494" h="4531">
                <a:moveTo>
                  <a:pt x="13608" y="9719"/>
                </a:moveTo>
                <a:cubicBezTo>
                  <a:pt x="13607" y="9707"/>
                  <a:pt x="13607" y="9702"/>
                  <a:pt x="13603" y="9692"/>
                </a:cubicBezTo>
                <a:cubicBezTo>
                  <a:pt x="13597" y="9678"/>
                  <a:pt x="13581" y="9669"/>
                  <a:pt x="13570" y="9659"/>
                </a:cubicBezTo>
                <a:cubicBezTo>
                  <a:pt x="13556" y="9645"/>
                  <a:pt x="13541" y="9632"/>
                  <a:pt x="13527" y="9618"/>
                </a:cubicBezTo>
                <a:cubicBezTo>
                  <a:pt x="13510" y="9601"/>
                  <a:pt x="13498" y="9585"/>
                  <a:pt x="13484" y="9567"/>
                </a:cubicBezTo>
                <a:cubicBezTo>
                  <a:pt x="13462" y="9539"/>
                  <a:pt x="13437" y="9527"/>
                  <a:pt x="13408" y="9507"/>
                </a:cubicBezTo>
                <a:cubicBezTo>
                  <a:pt x="13380" y="9488"/>
                  <a:pt x="13355" y="9468"/>
                  <a:pt x="13323" y="9456"/>
                </a:cubicBezTo>
                <a:cubicBezTo>
                  <a:pt x="13287" y="9443"/>
                  <a:pt x="13255" y="9442"/>
                  <a:pt x="13218" y="9442"/>
                </a:cubicBezTo>
                <a:cubicBezTo>
                  <a:pt x="13202" y="9442"/>
                  <a:pt x="13165" y="9437"/>
                  <a:pt x="13152" y="9451"/>
                </a:cubicBezTo>
                <a:cubicBezTo>
                  <a:pt x="13143" y="9461"/>
                  <a:pt x="13147" y="9482"/>
                  <a:pt x="13147" y="9493"/>
                </a:cubicBezTo>
              </a:path>
              <a:path w="7494" h="4531">
                <a:moveTo>
                  <a:pt x="13911" y="10528"/>
                </a:moveTo>
                <a:cubicBezTo>
                  <a:pt x="13911" y="10591"/>
                  <a:pt x="13909" y="10647"/>
                  <a:pt x="13897" y="10708"/>
                </a:cubicBezTo>
                <a:cubicBezTo>
                  <a:pt x="13888" y="10752"/>
                  <a:pt x="13875" y="10797"/>
                  <a:pt x="13854" y="10838"/>
                </a:cubicBezTo>
                <a:cubicBezTo>
                  <a:pt x="13829" y="10886"/>
                  <a:pt x="13797" y="10925"/>
                  <a:pt x="13764" y="10967"/>
                </a:cubicBezTo>
                <a:cubicBezTo>
                  <a:pt x="13736" y="11002"/>
                  <a:pt x="13711" y="11040"/>
                  <a:pt x="13683" y="11074"/>
                </a:cubicBezTo>
                <a:cubicBezTo>
                  <a:pt x="13670" y="11090"/>
                  <a:pt x="13659" y="11101"/>
                  <a:pt x="13650" y="11120"/>
                </a:cubicBezTo>
              </a:path>
              <a:path w="7494" h="4531">
                <a:moveTo>
                  <a:pt x="13636" y="11051"/>
                </a:moveTo>
                <a:cubicBezTo>
                  <a:pt x="13636" y="11045"/>
                  <a:pt x="13636" y="11038"/>
                  <a:pt x="13636" y="11032"/>
                </a:cubicBezTo>
              </a:path>
              <a:path w="7494" h="4531">
                <a:moveTo>
                  <a:pt x="16592" y="8647"/>
                </a:moveTo>
                <a:cubicBezTo>
                  <a:pt x="16582" y="8658"/>
                  <a:pt x="16581" y="8644"/>
                  <a:pt x="16573" y="8656"/>
                </a:cubicBezTo>
                <a:cubicBezTo>
                  <a:pt x="16557" y="8678"/>
                  <a:pt x="16546" y="8703"/>
                  <a:pt x="16531" y="8726"/>
                </a:cubicBezTo>
                <a:cubicBezTo>
                  <a:pt x="16497" y="8780"/>
                  <a:pt x="16465" y="8829"/>
                  <a:pt x="16436" y="8887"/>
                </a:cubicBezTo>
                <a:cubicBezTo>
                  <a:pt x="16410" y="8939"/>
                  <a:pt x="16390" y="8993"/>
                  <a:pt x="16365" y="9044"/>
                </a:cubicBezTo>
                <a:cubicBezTo>
                  <a:pt x="16321" y="9134"/>
                  <a:pt x="16277" y="9224"/>
                  <a:pt x="16232" y="9313"/>
                </a:cubicBezTo>
                <a:cubicBezTo>
                  <a:pt x="16206" y="9365"/>
                  <a:pt x="16175" y="9408"/>
                  <a:pt x="16142" y="9456"/>
                </a:cubicBezTo>
                <a:cubicBezTo>
                  <a:pt x="16105" y="9510"/>
                  <a:pt x="16071" y="9566"/>
                  <a:pt x="16037" y="9622"/>
                </a:cubicBezTo>
                <a:cubicBezTo>
                  <a:pt x="15975" y="9723"/>
                  <a:pt x="15918" y="9829"/>
                  <a:pt x="15871" y="9937"/>
                </a:cubicBezTo>
                <a:cubicBezTo>
                  <a:pt x="15847" y="9992"/>
                  <a:pt x="15823" y="10048"/>
                  <a:pt x="15800" y="10103"/>
                </a:cubicBezTo>
                <a:cubicBezTo>
                  <a:pt x="15791" y="10124"/>
                  <a:pt x="15782" y="10145"/>
                  <a:pt x="15776" y="10168"/>
                </a:cubicBezTo>
                <a:cubicBezTo>
                  <a:pt x="15772" y="10182"/>
                  <a:pt x="15766" y="10199"/>
                  <a:pt x="15767" y="10214"/>
                </a:cubicBezTo>
                <a:cubicBezTo>
                  <a:pt x="15768" y="10228"/>
                  <a:pt x="15764" y="10247"/>
                  <a:pt x="15771" y="10255"/>
                </a:cubicBezTo>
                <a:cubicBezTo>
                  <a:pt x="15776" y="10261"/>
                  <a:pt x="15784" y="10262"/>
                  <a:pt x="15790" y="10265"/>
                </a:cubicBezTo>
                <a:cubicBezTo>
                  <a:pt x="15849" y="10295"/>
                  <a:pt x="15957" y="10238"/>
                  <a:pt x="16013" y="10232"/>
                </a:cubicBezTo>
                <a:cubicBezTo>
                  <a:pt x="16121" y="10221"/>
                  <a:pt x="16233" y="10227"/>
                  <a:pt x="16341" y="10223"/>
                </a:cubicBezTo>
                <a:cubicBezTo>
                  <a:pt x="16576" y="10213"/>
                  <a:pt x="16808" y="10219"/>
                  <a:pt x="17043" y="10195"/>
                </a:cubicBezTo>
                <a:cubicBezTo>
                  <a:pt x="17095" y="10190"/>
                  <a:pt x="17148" y="10188"/>
                  <a:pt x="17200" y="10182"/>
                </a:cubicBezTo>
                <a:cubicBezTo>
                  <a:pt x="17253" y="10176"/>
                  <a:pt x="17302" y="10158"/>
                  <a:pt x="17356" y="10154"/>
                </a:cubicBezTo>
                <a:cubicBezTo>
                  <a:pt x="17494" y="10143"/>
                  <a:pt x="17632" y="10154"/>
                  <a:pt x="17769" y="10140"/>
                </a:cubicBezTo>
                <a:cubicBezTo>
                  <a:pt x="17792" y="10138"/>
                  <a:pt x="17816" y="10132"/>
                  <a:pt x="17840" y="10131"/>
                </a:cubicBezTo>
                <a:cubicBezTo>
                  <a:pt x="17878" y="10129"/>
                  <a:pt x="17917" y="10127"/>
                  <a:pt x="17954" y="10126"/>
                </a:cubicBezTo>
                <a:cubicBezTo>
                  <a:pt x="17990" y="10125"/>
                  <a:pt x="18021" y="10121"/>
                  <a:pt x="18054" y="10117"/>
                </a:cubicBezTo>
                <a:cubicBezTo>
                  <a:pt x="18044" y="10103"/>
                  <a:pt x="18038" y="10087"/>
                  <a:pt x="18025" y="10071"/>
                </a:cubicBezTo>
                <a:cubicBezTo>
                  <a:pt x="18009" y="10051"/>
                  <a:pt x="17995" y="10037"/>
                  <a:pt x="17978" y="10020"/>
                </a:cubicBezTo>
                <a:cubicBezTo>
                  <a:pt x="17955" y="9997"/>
                  <a:pt x="17930" y="9974"/>
                  <a:pt x="17907" y="9950"/>
                </a:cubicBezTo>
                <a:cubicBezTo>
                  <a:pt x="17883" y="9924"/>
                  <a:pt x="17862" y="9901"/>
                  <a:pt x="17840" y="9872"/>
                </a:cubicBezTo>
                <a:cubicBezTo>
                  <a:pt x="17811" y="9834"/>
                  <a:pt x="17783" y="9792"/>
                  <a:pt x="17750" y="9756"/>
                </a:cubicBezTo>
                <a:cubicBezTo>
                  <a:pt x="17722" y="9725"/>
                  <a:pt x="17689" y="9698"/>
                  <a:pt x="17660" y="9668"/>
                </a:cubicBezTo>
                <a:cubicBezTo>
                  <a:pt x="17631" y="9638"/>
                  <a:pt x="17599" y="9607"/>
                  <a:pt x="17570" y="9576"/>
                </a:cubicBezTo>
                <a:cubicBezTo>
                  <a:pt x="17536" y="9539"/>
                  <a:pt x="17506" y="9499"/>
                  <a:pt x="17475" y="9460"/>
                </a:cubicBezTo>
                <a:cubicBezTo>
                  <a:pt x="17427" y="9401"/>
                  <a:pt x="17392" y="9341"/>
                  <a:pt x="17352" y="9276"/>
                </a:cubicBezTo>
                <a:cubicBezTo>
                  <a:pt x="17328" y="9237"/>
                  <a:pt x="17308" y="9191"/>
                  <a:pt x="17280" y="9155"/>
                </a:cubicBezTo>
                <a:cubicBezTo>
                  <a:pt x="17246" y="9112"/>
                  <a:pt x="17206" y="9069"/>
                  <a:pt x="17167" y="9031"/>
                </a:cubicBezTo>
                <a:cubicBezTo>
                  <a:pt x="17117" y="8982"/>
                  <a:pt x="17062" y="8932"/>
                  <a:pt x="17010" y="8887"/>
                </a:cubicBezTo>
                <a:cubicBezTo>
                  <a:pt x="16972" y="8854"/>
                  <a:pt x="16930" y="8825"/>
                  <a:pt x="16891" y="8795"/>
                </a:cubicBezTo>
                <a:cubicBezTo>
                  <a:pt x="16859" y="8770"/>
                  <a:pt x="16816" y="8753"/>
                  <a:pt x="16787" y="8726"/>
                </a:cubicBezTo>
                <a:cubicBezTo>
                  <a:pt x="16763" y="8704"/>
                  <a:pt x="16742" y="8676"/>
                  <a:pt x="16720" y="8652"/>
                </a:cubicBezTo>
                <a:cubicBezTo>
                  <a:pt x="16717" y="8648"/>
                  <a:pt x="16705" y="8632"/>
                  <a:pt x="16701" y="862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280120" y="4491000"/>
            <a:ext cx="896760" cy="617400"/>
          </a:xfrm>
          <a:custGeom>
            <a:avLst/>
            <a:gdLst/>
            <a:ahLst/>
            <a:rect l="l" t="t" r="r" b="b"/>
            <a:pathLst>
              <a:path w="2492" h="1716">
                <a:moveTo>
                  <a:pt x="15582" y="12474"/>
                </a:moveTo>
                <a:cubicBezTo>
                  <a:pt x="15578" y="12480"/>
                  <a:pt x="15568" y="12487"/>
                  <a:pt x="15563" y="12493"/>
                </a:cubicBezTo>
                <a:cubicBezTo>
                  <a:pt x="15552" y="12506"/>
                  <a:pt x="15541" y="12519"/>
                  <a:pt x="15529" y="12534"/>
                </a:cubicBezTo>
                <a:cubicBezTo>
                  <a:pt x="15504" y="12565"/>
                  <a:pt x="15475" y="12598"/>
                  <a:pt x="15453" y="12631"/>
                </a:cubicBezTo>
                <a:cubicBezTo>
                  <a:pt x="15398" y="12711"/>
                  <a:pt x="15357" y="12802"/>
                  <a:pt x="15316" y="12890"/>
                </a:cubicBezTo>
                <a:cubicBezTo>
                  <a:pt x="15276" y="12976"/>
                  <a:pt x="15236" y="13063"/>
                  <a:pt x="15197" y="13149"/>
                </a:cubicBezTo>
                <a:cubicBezTo>
                  <a:pt x="15151" y="13249"/>
                  <a:pt x="15104" y="13347"/>
                  <a:pt x="15055" y="13445"/>
                </a:cubicBezTo>
                <a:cubicBezTo>
                  <a:pt x="14978" y="13598"/>
                  <a:pt x="14883" y="13739"/>
                  <a:pt x="14803" y="13889"/>
                </a:cubicBezTo>
                <a:cubicBezTo>
                  <a:pt x="14772" y="13947"/>
                  <a:pt x="14746" y="14006"/>
                  <a:pt x="14718" y="14064"/>
                </a:cubicBezTo>
                <a:cubicBezTo>
                  <a:pt x="14700" y="14102"/>
                  <a:pt x="14680" y="14141"/>
                  <a:pt x="14666" y="14180"/>
                </a:cubicBezTo>
                <a:cubicBezTo>
                  <a:pt x="14666" y="14184"/>
                  <a:pt x="14666" y="14186"/>
                  <a:pt x="14666" y="14189"/>
                </a:cubicBezTo>
                <a:cubicBezTo>
                  <a:pt x="14723" y="14182"/>
                  <a:pt x="14779" y="14174"/>
                  <a:pt x="14837" y="14166"/>
                </a:cubicBezTo>
                <a:cubicBezTo>
                  <a:pt x="14911" y="14156"/>
                  <a:pt x="14986" y="14150"/>
                  <a:pt x="15060" y="14138"/>
                </a:cubicBezTo>
                <a:cubicBezTo>
                  <a:pt x="15153" y="14123"/>
                  <a:pt x="15241" y="14108"/>
                  <a:pt x="15335" y="14106"/>
                </a:cubicBezTo>
                <a:cubicBezTo>
                  <a:pt x="15512" y="14101"/>
                  <a:pt x="15689" y="14096"/>
                  <a:pt x="15866" y="14092"/>
                </a:cubicBezTo>
                <a:cubicBezTo>
                  <a:pt x="16018" y="14088"/>
                  <a:pt x="16170" y="14094"/>
                  <a:pt x="16322" y="14087"/>
                </a:cubicBezTo>
                <a:cubicBezTo>
                  <a:pt x="16414" y="14083"/>
                  <a:pt x="16502" y="14058"/>
                  <a:pt x="16592" y="14050"/>
                </a:cubicBezTo>
                <a:cubicBezTo>
                  <a:pt x="16708" y="14040"/>
                  <a:pt x="16827" y="14051"/>
                  <a:pt x="16943" y="14041"/>
                </a:cubicBezTo>
                <a:cubicBezTo>
                  <a:pt x="16974" y="14038"/>
                  <a:pt x="17007" y="14034"/>
                  <a:pt x="17038" y="14027"/>
                </a:cubicBezTo>
                <a:cubicBezTo>
                  <a:pt x="17065" y="14021"/>
                  <a:pt x="17091" y="14011"/>
                  <a:pt x="17110" y="13999"/>
                </a:cubicBezTo>
                <a:cubicBezTo>
                  <a:pt x="17126" y="13989"/>
                  <a:pt x="17138" y="13989"/>
                  <a:pt x="17148" y="13972"/>
                </a:cubicBezTo>
                <a:cubicBezTo>
                  <a:pt x="17158" y="13956"/>
                  <a:pt x="17162" y="13933"/>
                  <a:pt x="17157" y="13912"/>
                </a:cubicBezTo>
                <a:cubicBezTo>
                  <a:pt x="17136" y="13824"/>
                  <a:pt x="16962" y="13757"/>
                  <a:pt x="16901" y="13704"/>
                </a:cubicBezTo>
                <a:cubicBezTo>
                  <a:pt x="16790" y="13606"/>
                  <a:pt x="16709" y="13492"/>
                  <a:pt x="16626" y="13371"/>
                </a:cubicBezTo>
                <a:cubicBezTo>
                  <a:pt x="16573" y="13294"/>
                  <a:pt x="16516" y="13220"/>
                  <a:pt x="16455" y="13149"/>
                </a:cubicBezTo>
                <a:cubicBezTo>
                  <a:pt x="16399" y="13084"/>
                  <a:pt x="16339" y="13028"/>
                  <a:pt x="16279" y="12969"/>
                </a:cubicBezTo>
                <a:cubicBezTo>
                  <a:pt x="16196" y="12888"/>
                  <a:pt x="16118" y="12802"/>
                  <a:pt x="16028" y="12728"/>
                </a:cubicBezTo>
                <a:cubicBezTo>
                  <a:pt x="15990" y="12697"/>
                  <a:pt x="15946" y="12667"/>
                  <a:pt x="15904" y="12641"/>
                </a:cubicBezTo>
                <a:cubicBezTo>
                  <a:pt x="15878" y="12625"/>
                  <a:pt x="15850" y="12604"/>
                  <a:pt x="15824" y="12590"/>
                </a:cubicBezTo>
                <a:cubicBezTo>
                  <a:pt x="15819" y="12590"/>
                  <a:pt x="15817" y="12590"/>
                  <a:pt x="15814" y="12590"/>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2550960" y="3152880"/>
            <a:ext cx="858960" cy="682560"/>
          </a:xfrm>
          <a:custGeom>
            <a:avLst/>
            <a:gdLst/>
            <a:ahLst/>
            <a:rect l="l" t="t" r="r" b="b"/>
            <a:pathLst>
              <a:path w="2384" h="1896">
                <a:moveTo>
                  <a:pt x="8160" y="8758"/>
                </a:moveTo>
                <a:cubicBezTo>
                  <a:pt x="8146" y="8783"/>
                  <a:pt x="8154" y="8800"/>
                  <a:pt x="8131" y="8827"/>
                </a:cubicBezTo>
                <a:cubicBezTo>
                  <a:pt x="8080" y="8887"/>
                  <a:pt x="8015" y="8927"/>
                  <a:pt x="7970" y="8994"/>
                </a:cubicBezTo>
                <a:cubicBezTo>
                  <a:pt x="7935" y="9047"/>
                  <a:pt x="7902" y="9104"/>
                  <a:pt x="7870" y="9160"/>
                </a:cubicBezTo>
                <a:cubicBezTo>
                  <a:pt x="7815" y="9257"/>
                  <a:pt x="7760" y="9355"/>
                  <a:pt x="7704" y="9451"/>
                </a:cubicBezTo>
                <a:cubicBezTo>
                  <a:pt x="7671" y="9507"/>
                  <a:pt x="7633" y="9562"/>
                  <a:pt x="7600" y="9618"/>
                </a:cubicBezTo>
                <a:cubicBezTo>
                  <a:pt x="7528" y="9739"/>
                  <a:pt x="7459" y="9857"/>
                  <a:pt x="7382" y="9974"/>
                </a:cubicBezTo>
                <a:cubicBezTo>
                  <a:pt x="7342" y="10035"/>
                  <a:pt x="7301" y="10101"/>
                  <a:pt x="7258" y="10158"/>
                </a:cubicBezTo>
                <a:cubicBezTo>
                  <a:pt x="7215" y="10216"/>
                  <a:pt x="7164" y="10268"/>
                  <a:pt x="7121" y="10325"/>
                </a:cubicBezTo>
                <a:cubicBezTo>
                  <a:pt x="7112" y="10337"/>
                  <a:pt x="7100" y="10351"/>
                  <a:pt x="7092" y="10362"/>
                </a:cubicBezTo>
                <a:cubicBezTo>
                  <a:pt x="7089" y="10366"/>
                  <a:pt x="7089" y="10373"/>
                  <a:pt x="7087" y="10376"/>
                </a:cubicBezTo>
                <a:cubicBezTo>
                  <a:pt x="7096" y="10381"/>
                  <a:pt x="7098" y="10393"/>
                  <a:pt x="7111" y="10399"/>
                </a:cubicBezTo>
                <a:cubicBezTo>
                  <a:pt x="7137" y="10411"/>
                  <a:pt x="7164" y="10425"/>
                  <a:pt x="7192" y="10431"/>
                </a:cubicBezTo>
                <a:cubicBezTo>
                  <a:pt x="7278" y="10451"/>
                  <a:pt x="7370" y="10456"/>
                  <a:pt x="7458" y="10468"/>
                </a:cubicBezTo>
                <a:cubicBezTo>
                  <a:pt x="7537" y="10479"/>
                  <a:pt x="7616" y="10493"/>
                  <a:pt x="7695" y="10510"/>
                </a:cubicBezTo>
                <a:cubicBezTo>
                  <a:pt x="7764" y="10525"/>
                  <a:pt x="7834" y="10545"/>
                  <a:pt x="7904" y="10556"/>
                </a:cubicBezTo>
                <a:cubicBezTo>
                  <a:pt x="7979" y="10568"/>
                  <a:pt x="8055" y="10576"/>
                  <a:pt x="8131" y="10584"/>
                </a:cubicBezTo>
                <a:cubicBezTo>
                  <a:pt x="8262" y="10597"/>
                  <a:pt x="8394" y="10604"/>
                  <a:pt x="8525" y="10607"/>
                </a:cubicBezTo>
                <a:cubicBezTo>
                  <a:pt x="8669" y="10610"/>
                  <a:pt x="8819" y="10593"/>
                  <a:pt x="8957" y="10621"/>
                </a:cubicBezTo>
                <a:cubicBezTo>
                  <a:pt x="8995" y="10629"/>
                  <a:pt x="9032" y="10638"/>
                  <a:pt x="9071" y="10644"/>
                </a:cubicBezTo>
                <a:cubicBezTo>
                  <a:pt x="9108" y="10650"/>
                  <a:pt x="9143" y="10651"/>
                  <a:pt x="9180" y="10653"/>
                </a:cubicBezTo>
                <a:cubicBezTo>
                  <a:pt x="9251" y="10656"/>
                  <a:pt x="9327" y="10660"/>
                  <a:pt x="9394" y="10639"/>
                </a:cubicBezTo>
                <a:cubicBezTo>
                  <a:pt x="9407" y="10635"/>
                  <a:pt x="9442" y="10630"/>
                  <a:pt x="9451" y="10621"/>
                </a:cubicBezTo>
                <a:cubicBezTo>
                  <a:pt x="9453" y="10619"/>
                  <a:pt x="9468" y="10606"/>
                  <a:pt x="9470" y="10602"/>
                </a:cubicBezTo>
                <a:cubicBezTo>
                  <a:pt x="9486" y="10564"/>
                  <a:pt x="9445" y="10515"/>
                  <a:pt x="9427" y="10487"/>
                </a:cubicBezTo>
                <a:cubicBezTo>
                  <a:pt x="9397" y="10440"/>
                  <a:pt x="9366" y="10398"/>
                  <a:pt x="9337" y="10353"/>
                </a:cubicBezTo>
                <a:cubicBezTo>
                  <a:pt x="9278" y="10261"/>
                  <a:pt x="9218" y="10172"/>
                  <a:pt x="9161" y="10080"/>
                </a:cubicBezTo>
                <a:cubicBezTo>
                  <a:pt x="9123" y="10019"/>
                  <a:pt x="9086" y="9954"/>
                  <a:pt x="9052" y="9890"/>
                </a:cubicBezTo>
                <a:cubicBezTo>
                  <a:pt x="9023" y="9836"/>
                  <a:pt x="9000" y="9784"/>
                  <a:pt x="8967" y="9733"/>
                </a:cubicBezTo>
                <a:cubicBezTo>
                  <a:pt x="8887" y="9611"/>
                  <a:pt x="8785" y="9514"/>
                  <a:pt x="8696" y="9400"/>
                </a:cubicBezTo>
                <a:cubicBezTo>
                  <a:pt x="8580" y="9251"/>
                  <a:pt x="8493" y="9075"/>
                  <a:pt x="8359" y="8943"/>
                </a:cubicBezTo>
                <a:cubicBezTo>
                  <a:pt x="8354" y="8941"/>
                  <a:pt x="8350" y="8940"/>
                  <a:pt x="8345" y="893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054160" y="1371600"/>
            <a:ext cx="5016600" cy="1359000"/>
          </a:xfrm>
          <a:custGeom>
            <a:avLst/>
            <a:gdLst/>
            <a:ahLst/>
            <a:rect l="l" t="t" r="r" b="b"/>
            <a:pathLst>
              <a:path w="13933" h="3777">
                <a:moveTo>
                  <a:pt x="6817" y="6978"/>
                </a:moveTo>
                <a:cubicBezTo>
                  <a:pt x="6830" y="6974"/>
                  <a:pt x="6800" y="6970"/>
                  <a:pt x="6817" y="6965"/>
                </a:cubicBezTo>
                <a:cubicBezTo>
                  <a:pt x="6865" y="6952"/>
                  <a:pt x="6920" y="6944"/>
                  <a:pt x="6969" y="6937"/>
                </a:cubicBezTo>
                <a:cubicBezTo>
                  <a:pt x="7083" y="6920"/>
                  <a:pt x="7196" y="6920"/>
                  <a:pt x="7310" y="6909"/>
                </a:cubicBezTo>
                <a:cubicBezTo>
                  <a:pt x="7441" y="6896"/>
                  <a:pt x="7568" y="6863"/>
                  <a:pt x="7700" y="6858"/>
                </a:cubicBezTo>
                <a:cubicBezTo>
                  <a:pt x="7846" y="6852"/>
                  <a:pt x="7996" y="6865"/>
                  <a:pt x="8141" y="6849"/>
                </a:cubicBezTo>
                <a:cubicBezTo>
                  <a:pt x="8206" y="6842"/>
                  <a:pt x="8269" y="6828"/>
                  <a:pt x="8335" y="6826"/>
                </a:cubicBezTo>
                <a:cubicBezTo>
                  <a:pt x="8487" y="6822"/>
                  <a:pt x="8644" y="6814"/>
                  <a:pt x="8796" y="6821"/>
                </a:cubicBezTo>
                <a:cubicBezTo>
                  <a:pt x="8836" y="6823"/>
                  <a:pt x="8875" y="6831"/>
                  <a:pt x="8914" y="6835"/>
                </a:cubicBezTo>
                <a:cubicBezTo>
                  <a:pt x="8952" y="6839"/>
                  <a:pt x="8988" y="6850"/>
                  <a:pt x="9024" y="6854"/>
                </a:cubicBezTo>
                <a:cubicBezTo>
                  <a:pt x="9098" y="6861"/>
                  <a:pt x="9172" y="6862"/>
                  <a:pt x="9247" y="6863"/>
                </a:cubicBezTo>
                <a:cubicBezTo>
                  <a:pt x="9336" y="6864"/>
                  <a:pt x="9433" y="6854"/>
                  <a:pt x="9517" y="6872"/>
                </a:cubicBezTo>
                <a:cubicBezTo>
                  <a:pt x="9529" y="6874"/>
                  <a:pt x="9539" y="6878"/>
                  <a:pt x="9550" y="6881"/>
                </a:cubicBezTo>
                <a:cubicBezTo>
                  <a:pt x="9559" y="6883"/>
                  <a:pt x="9558" y="6889"/>
                  <a:pt x="9565" y="6891"/>
                </a:cubicBezTo>
                <a:cubicBezTo>
                  <a:pt x="9550" y="6860"/>
                  <a:pt x="9533" y="6829"/>
                  <a:pt x="9517" y="6798"/>
                </a:cubicBezTo>
                <a:cubicBezTo>
                  <a:pt x="9501" y="6768"/>
                  <a:pt x="9487" y="6739"/>
                  <a:pt x="9470" y="6710"/>
                </a:cubicBezTo>
                <a:cubicBezTo>
                  <a:pt x="9427" y="6637"/>
                  <a:pt x="9375" y="6570"/>
                  <a:pt x="9332" y="6498"/>
                </a:cubicBezTo>
                <a:cubicBezTo>
                  <a:pt x="9262" y="6382"/>
                  <a:pt x="9195" y="6264"/>
                  <a:pt x="9128" y="6146"/>
                </a:cubicBezTo>
                <a:cubicBezTo>
                  <a:pt x="9074" y="6052"/>
                  <a:pt x="9018" y="5959"/>
                  <a:pt x="8967" y="5864"/>
                </a:cubicBezTo>
                <a:cubicBezTo>
                  <a:pt x="8918" y="5773"/>
                  <a:pt x="8882" y="5677"/>
                  <a:pt x="8843" y="5582"/>
                </a:cubicBezTo>
                <a:cubicBezTo>
                  <a:pt x="8825" y="5536"/>
                  <a:pt x="8804" y="5491"/>
                  <a:pt x="8786" y="5444"/>
                </a:cubicBezTo>
                <a:cubicBezTo>
                  <a:pt x="8769" y="5398"/>
                  <a:pt x="8751" y="5351"/>
                  <a:pt x="8734" y="5305"/>
                </a:cubicBezTo>
                <a:cubicBezTo>
                  <a:pt x="8673" y="5141"/>
                  <a:pt x="8606" y="4985"/>
                  <a:pt x="8525" y="4834"/>
                </a:cubicBezTo>
                <a:cubicBezTo>
                  <a:pt x="8502" y="4791"/>
                  <a:pt x="8481" y="4718"/>
                  <a:pt x="8435" y="4695"/>
                </a:cubicBezTo>
                <a:cubicBezTo>
                  <a:pt x="8405" y="4680"/>
                  <a:pt x="8360" y="4690"/>
                  <a:pt x="8331" y="4704"/>
                </a:cubicBezTo>
                <a:cubicBezTo>
                  <a:pt x="8274" y="4731"/>
                  <a:pt x="8227" y="4797"/>
                  <a:pt x="8188" y="4843"/>
                </a:cubicBezTo>
                <a:cubicBezTo>
                  <a:pt x="8152" y="4886"/>
                  <a:pt x="8117" y="4932"/>
                  <a:pt x="8084" y="4977"/>
                </a:cubicBezTo>
                <a:cubicBezTo>
                  <a:pt x="8044" y="5032"/>
                  <a:pt x="8008" y="5091"/>
                  <a:pt x="7970" y="5148"/>
                </a:cubicBezTo>
                <a:cubicBezTo>
                  <a:pt x="7921" y="5220"/>
                  <a:pt x="7867" y="5287"/>
                  <a:pt x="7814" y="5356"/>
                </a:cubicBezTo>
                <a:cubicBezTo>
                  <a:pt x="7724" y="5474"/>
                  <a:pt x="7639" y="5599"/>
                  <a:pt x="7571" y="5730"/>
                </a:cubicBezTo>
                <a:cubicBezTo>
                  <a:pt x="7525" y="5817"/>
                  <a:pt x="7493" y="5912"/>
                  <a:pt x="7443" y="5998"/>
                </a:cubicBezTo>
                <a:cubicBezTo>
                  <a:pt x="7419" y="6039"/>
                  <a:pt x="7390" y="6080"/>
                  <a:pt x="7363" y="6119"/>
                </a:cubicBezTo>
                <a:cubicBezTo>
                  <a:pt x="7326" y="6172"/>
                  <a:pt x="7288" y="6224"/>
                  <a:pt x="7249" y="6276"/>
                </a:cubicBezTo>
                <a:cubicBezTo>
                  <a:pt x="7215" y="6322"/>
                  <a:pt x="7185" y="6366"/>
                  <a:pt x="7154" y="6414"/>
                </a:cubicBezTo>
                <a:cubicBezTo>
                  <a:pt x="7123" y="6462"/>
                  <a:pt x="7091" y="6510"/>
                  <a:pt x="7059" y="6558"/>
                </a:cubicBezTo>
                <a:cubicBezTo>
                  <a:pt x="7026" y="6607"/>
                  <a:pt x="6990" y="6653"/>
                  <a:pt x="6955" y="6701"/>
                </a:cubicBezTo>
                <a:cubicBezTo>
                  <a:pt x="6929" y="6736"/>
                  <a:pt x="6904" y="6773"/>
                  <a:pt x="6874" y="6803"/>
                </a:cubicBezTo>
                <a:cubicBezTo>
                  <a:pt x="6859" y="6818"/>
                  <a:pt x="6841" y="6827"/>
                  <a:pt x="6826" y="6844"/>
                </a:cubicBezTo>
                <a:cubicBezTo>
                  <a:pt x="6809" y="6865"/>
                  <a:pt x="6795" y="6874"/>
                  <a:pt x="6784" y="6900"/>
                </a:cubicBezTo>
                <a:cubicBezTo>
                  <a:pt x="6777" y="6917"/>
                  <a:pt x="6770" y="6921"/>
                  <a:pt x="6765" y="6937"/>
                </a:cubicBezTo>
                <a:cubicBezTo>
                  <a:pt x="6761" y="6950"/>
                  <a:pt x="6776" y="6971"/>
                  <a:pt x="6774" y="6978"/>
                </a:cubicBezTo>
              </a:path>
              <a:path w="13933" h="3777">
                <a:moveTo>
                  <a:pt x="7899" y="6854"/>
                </a:moveTo>
                <a:cubicBezTo>
                  <a:pt x="7904" y="6849"/>
                  <a:pt x="7912" y="6842"/>
                  <a:pt x="7918" y="6835"/>
                </a:cubicBezTo>
                <a:cubicBezTo>
                  <a:pt x="7927" y="6824"/>
                  <a:pt x="7935" y="6814"/>
                  <a:pt x="7946" y="6803"/>
                </a:cubicBezTo>
                <a:cubicBezTo>
                  <a:pt x="7964" y="6785"/>
                  <a:pt x="7982" y="6767"/>
                  <a:pt x="7999" y="6747"/>
                </a:cubicBezTo>
                <a:cubicBezTo>
                  <a:pt x="8021" y="6721"/>
                  <a:pt x="8045" y="6697"/>
                  <a:pt x="8065" y="6669"/>
                </a:cubicBezTo>
                <a:cubicBezTo>
                  <a:pt x="8093" y="6630"/>
                  <a:pt x="8122" y="6590"/>
                  <a:pt x="8146" y="6549"/>
                </a:cubicBezTo>
                <a:cubicBezTo>
                  <a:pt x="8175" y="6498"/>
                  <a:pt x="8204" y="6447"/>
                  <a:pt x="8231" y="6396"/>
                </a:cubicBezTo>
                <a:cubicBezTo>
                  <a:pt x="8248" y="6364"/>
                  <a:pt x="8264" y="6335"/>
                  <a:pt x="8283" y="6304"/>
                </a:cubicBezTo>
                <a:cubicBezTo>
                  <a:pt x="8295" y="6285"/>
                  <a:pt x="8302" y="6263"/>
                  <a:pt x="8312" y="6243"/>
                </a:cubicBezTo>
                <a:cubicBezTo>
                  <a:pt x="8315" y="6237"/>
                  <a:pt x="8320" y="6228"/>
                  <a:pt x="8321" y="6225"/>
                </a:cubicBezTo>
                <a:cubicBezTo>
                  <a:pt x="8323" y="6234"/>
                  <a:pt x="8323" y="6244"/>
                  <a:pt x="8326" y="6253"/>
                </a:cubicBezTo>
                <a:cubicBezTo>
                  <a:pt x="8329" y="6265"/>
                  <a:pt x="8335" y="6278"/>
                  <a:pt x="8340" y="6290"/>
                </a:cubicBezTo>
                <a:cubicBezTo>
                  <a:pt x="8349" y="6313"/>
                  <a:pt x="8360" y="6332"/>
                  <a:pt x="8373" y="6354"/>
                </a:cubicBezTo>
                <a:cubicBezTo>
                  <a:pt x="8393" y="6387"/>
                  <a:pt x="8410" y="6418"/>
                  <a:pt x="8430" y="6451"/>
                </a:cubicBezTo>
                <a:cubicBezTo>
                  <a:pt x="8454" y="6490"/>
                  <a:pt x="8475" y="6530"/>
                  <a:pt x="8502" y="6567"/>
                </a:cubicBezTo>
                <a:cubicBezTo>
                  <a:pt x="8527" y="6601"/>
                  <a:pt x="8554" y="6633"/>
                  <a:pt x="8582" y="6664"/>
                </a:cubicBezTo>
                <a:cubicBezTo>
                  <a:pt x="8602" y="6686"/>
                  <a:pt x="8620" y="6706"/>
                  <a:pt x="8639" y="6729"/>
                </a:cubicBezTo>
                <a:cubicBezTo>
                  <a:pt x="8660" y="6755"/>
                  <a:pt x="8668" y="6778"/>
                  <a:pt x="8682" y="6803"/>
                </a:cubicBezTo>
                <a:cubicBezTo>
                  <a:pt x="8685" y="6808"/>
                  <a:pt x="8699" y="6818"/>
                  <a:pt x="8701" y="6821"/>
                </a:cubicBezTo>
              </a:path>
              <a:path w="13933" h="3777">
                <a:moveTo>
                  <a:pt x="8317" y="5721"/>
                </a:moveTo>
                <a:cubicBezTo>
                  <a:pt x="8311" y="5716"/>
                  <a:pt x="8313" y="5713"/>
                  <a:pt x="8302" y="5712"/>
                </a:cubicBezTo>
                <a:cubicBezTo>
                  <a:pt x="8289" y="5711"/>
                  <a:pt x="8286" y="5705"/>
                  <a:pt x="8274" y="5703"/>
                </a:cubicBezTo>
                <a:cubicBezTo>
                  <a:pt x="8261" y="5700"/>
                  <a:pt x="8243" y="5703"/>
                  <a:pt x="8231" y="5707"/>
                </a:cubicBezTo>
                <a:cubicBezTo>
                  <a:pt x="8216" y="5713"/>
                  <a:pt x="8200" y="5739"/>
                  <a:pt x="8193" y="5753"/>
                </a:cubicBezTo>
                <a:cubicBezTo>
                  <a:pt x="8180" y="5777"/>
                  <a:pt x="8188" y="5805"/>
                  <a:pt x="8198" y="5827"/>
                </a:cubicBezTo>
                <a:cubicBezTo>
                  <a:pt x="8206" y="5845"/>
                  <a:pt x="8226" y="5853"/>
                  <a:pt x="8245" y="5851"/>
                </a:cubicBezTo>
                <a:cubicBezTo>
                  <a:pt x="8273" y="5847"/>
                  <a:pt x="8289" y="5832"/>
                  <a:pt x="8302" y="5809"/>
                </a:cubicBezTo>
                <a:cubicBezTo>
                  <a:pt x="8318" y="5781"/>
                  <a:pt x="8321" y="5772"/>
                  <a:pt x="8321" y="5740"/>
                </a:cubicBezTo>
                <a:cubicBezTo>
                  <a:pt x="8321" y="5715"/>
                  <a:pt x="8303" y="5700"/>
                  <a:pt x="8283" y="5689"/>
                </a:cubicBezTo>
                <a:cubicBezTo>
                  <a:pt x="8262" y="5677"/>
                  <a:pt x="8240" y="5674"/>
                  <a:pt x="8222" y="5689"/>
                </a:cubicBezTo>
                <a:cubicBezTo>
                  <a:pt x="8200" y="5707"/>
                  <a:pt x="8200" y="5731"/>
                  <a:pt x="8203" y="5758"/>
                </a:cubicBezTo>
                <a:cubicBezTo>
                  <a:pt x="8207" y="5795"/>
                  <a:pt x="8227" y="5818"/>
                  <a:pt x="8264" y="5823"/>
                </a:cubicBezTo>
                <a:cubicBezTo>
                  <a:pt x="8301" y="5828"/>
                  <a:pt x="8329" y="5812"/>
                  <a:pt x="8354" y="5786"/>
                </a:cubicBezTo>
                <a:cubicBezTo>
                  <a:pt x="8376" y="5763"/>
                  <a:pt x="8376" y="5734"/>
                  <a:pt x="8373" y="5703"/>
                </a:cubicBezTo>
                <a:cubicBezTo>
                  <a:pt x="8370" y="5672"/>
                  <a:pt x="8348" y="5662"/>
                  <a:pt x="8326" y="5647"/>
                </a:cubicBezTo>
                <a:cubicBezTo>
                  <a:pt x="8306" y="5634"/>
                  <a:pt x="8288" y="5631"/>
                  <a:pt x="8264" y="5643"/>
                </a:cubicBezTo>
                <a:cubicBezTo>
                  <a:pt x="8240" y="5655"/>
                  <a:pt x="8241" y="5664"/>
                  <a:pt x="8241" y="5689"/>
                </a:cubicBezTo>
                <a:cubicBezTo>
                  <a:pt x="8241" y="5695"/>
                  <a:pt x="8241" y="5701"/>
                  <a:pt x="8241" y="5707"/>
                </a:cubicBezTo>
              </a:path>
              <a:path w="13933" h="3777">
                <a:moveTo>
                  <a:pt x="8331" y="4931"/>
                </a:moveTo>
                <a:cubicBezTo>
                  <a:pt x="8328" y="4938"/>
                  <a:pt x="8326" y="4942"/>
                  <a:pt x="8321" y="4949"/>
                </a:cubicBezTo>
                <a:cubicBezTo>
                  <a:pt x="8315" y="4958"/>
                  <a:pt x="8309" y="4969"/>
                  <a:pt x="8302" y="4977"/>
                </a:cubicBezTo>
                <a:cubicBezTo>
                  <a:pt x="8287" y="4994"/>
                  <a:pt x="8270" y="5010"/>
                  <a:pt x="8255" y="5028"/>
                </a:cubicBezTo>
                <a:cubicBezTo>
                  <a:pt x="8236" y="5050"/>
                  <a:pt x="8223" y="5073"/>
                  <a:pt x="8207" y="5097"/>
                </a:cubicBezTo>
                <a:cubicBezTo>
                  <a:pt x="8190" y="5123"/>
                  <a:pt x="8181" y="5152"/>
                  <a:pt x="8160" y="5176"/>
                </a:cubicBezTo>
                <a:cubicBezTo>
                  <a:pt x="8144" y="5194"/>
                  <a:pt x="8133" y="5205"/>
                  <a:pt x="8122" y="5227"/>
                </a:cubicBezTo>
                <a:cubicBezTo>
                  <a:pt x="8116" y="5238"/>
                  <a:pt x="8111" y="5252"/>
                  <a:pt x="8108" y="5264"/>
                </a:cubicBezTo>
                <a:cubicBezTo>
                  <a:pt x="8105" y="5277"/>
                  <a:pt x="8109" y="5294"/>
                  <a:pt x="8112" y="5301"/>
                </a:cubicBezTo>
                <a:cubicBezTo>
                  <a:pt x="8118" y="5315"/>
                  <a:pt x="8115" y="5306"/>
                  <a:pt x="8127" y="5314"/>
                </a:cubicBezTo>
                <a:cubicBezTo>
                  <a:pt x="8136" y="5320"/>
                  <a:pt x="8145" y="5323"/>
                  <a:pt x="8155" y="5328"/>
                </a:cubicBezTo>
                <a:cubicBezTo>
                  <a:pt x="8165" y="5333"/>
                  <a:pt x="8170" y="5341"/>
                  <a:pt x="8179" y="5347"/>
                </a:cubicBezTo>
                <a:cubicBezTo>
                  <a:pt x="8188" y="5354"/>
                  <a:pt x="8197" y="5359"/>
                  <a:pt x="8207" y="5365"/>
                </a:cubicBezTo>
                <a:cubicBezTo>
                  <a:pt x="8219" y="5373"/>
                  <a:pt x="8228" y="5375"/>
                  <a:pt x="8241" y="5379"/>
                </a:cubicBezTo>
                <a:cubicBezTo>
                  <a:pt x="8258" y="5384"/>
                  <a:pt x="8276" y="5384"/>
                  <a:pt x="8293" y="5388"/>
                </a:cubicBezTo>
                <a:cubicBezTo>
                  <a:pt x="8305" y="5390"/>
                  <a:pt x="8320" y="5390"/>
                  <a:pt x="8331" y="5393"/>
                </a:cubicBezTo>
                <a:cubicBezTo>
                  <a:pt x="8347" y="5398"/>
                  <a:pt x="8351" y="5409"/>
                  <a:pt x="8364" y="5416"/>
                </a:cubicBezTo>
                <a:cubicBezTo>
                  <a:pt x="8371" y="5420"/>
                  <a:pt x="8383" y="5424"/>
                  <a:pt x="8392" y="5425"/>
                </a:cubicBezTo>
                <a:cubicBezTo>
                  <a:pt x="8412" y="5427"/>
                  <a:pt x="8436" y="5426"/>
                  <a:pt x="8454" y="5421"/>
                </a:cubicBezTo>
                <a:cubicBezTo>
                  <a:pt x="8459" y="5420"/>
                  <a:pt x="8479" y="5414"/>
                  <a:pt x="8483" y="5411"/>
                </a:cubicBezTo>
                <a:cubicBezTo>
                  <a:pt x="8496" y="5403"/>
                  <a:pt x="8506" y="5390"/>
                  <a:pt x="8521" y="5384"/>
                </a:cubicBezTo>
                <a:cubicBezTo>
                  <a:pt x="8533" y="5379"/>
                  <a:pt x="8546" y="5381"/>
                  <a:pt x="8559" y="5379"/>
                </a:cubicBezTo>
                <a:cubicBezTo>
                  <a:pt x="8574" y="5376"/>
                  <a:pt x="8578" y="5370"/>
                  <a:pt x="8592" y="5365"/>
                </a:cubicBezTo>
                <a:cubicBezTo>
                  <a:pt x="8600" y="5362"/>
                  <a:pt x="8615" y="5362"/>
                  <a:pt x="8620" y="5351"/>
                </a:cubicBezTo>
                <a:cubicBezTo>
                  <a:pt x="8626" y="5337"/>
                  <a:pt x="8619" y="5307"/>
                  <a:pt x="8615" y="5296"/>
                </a:cubicBezTo>
                <a:cubicBezTo>
                  <a:pt x="8611" y="5285"/>
                  <a:pt x="8606" y="5279"/>
                  <a:pt x="8601" y="5268"/>
                </a:cubicBezTo>
                <a:cubicBezTo>
                  <a:pt x="8593" y="5251"/>
                  <a:pt x="8588" y="5237"/>
                  <a:pt x="8577" y="5222"/>
                </a:cubicBezTo>
                <a:cubicBezTo>
                  <a:pt x="8566" y="5207"/>
                  <a:pt x="8561" y="5186"/>
                  <a:pt x="8549" y="5171"/>
                </a:cubicBezTo>
                <a:cubicBezTo>
                  <a:pt x="8538" y="5157"/>
                  <a:pt x="8522" y="5147"/>
                  <a:pt x="8511" y="5134"/>
                </a:cubicBezTo>
                <a:cubicBezTo>
                  <a:pt x="8489" y="5107"/>
                  <a:pt x="8482" y="5073"/>
                  <a:pt x="8464" y="5046"/>
                </a:cubicBezTo>
                <a:cubicBezTo>
                  <a:pt x="8452" y="5028"/>
                  <a:pt x="8438" y="5008"/>
                  <a:pt x="8426" y="4991"/>
                </a:cubicBezTo>
                <a:cubicBezTo>
                  <a:pt x="8417" y="4979"/>
                  <a:pt x="8409" y="4972"/>
                  <a:pt x="8402" y="4958"/>
                </a:cubicBezTo>
                <a:cubicBezTo>
                  <a:pt x="8398" y="4950"/>
                  <a:pt x="8398" y="4953"/>
                  <a:pt x="8397" y="4945"/>
                </a:cubicBezTo>
              </a:path>
              <a:path w="13933" h="3777">
                <a:moveTo>
                  <a:pt x="8331" y="5989"/>
                </a:moveTo>
                <a:cubicBezTo>
                  <a:pt x="8331" y="6004"/>
                  <a:pt x="8327" y="6016"/>
                  <a:pt x="8326" y="6031"/>
                </a:cubicBezTo>
                <a:cubicBezTo>
                  <a:pt x="8326" y="6037"/>
                  <a:pt x="8326" y="6043"/>
                  <a:pt x="8326" y="6049"/>
                </a:cubicBezTo>
              </a:path>
              <a:path w="13933" h="3777">
                <a:moveTo>
                  <a:pt x="6594" y="3955"/>
                </a:moveTo>
                <a:cubicBezTo>
                  <a:pt x="6452" y="3953"/>
                  <a:pt x="6316" y="3937"/>
                  <a:pt x="6172" y="3951"/>
                </a:cubicBezTo>
                <a:cubicBezTo>
                  <a:pt x="6061" y="3961"/>
                  <a:pt x="5819" y="3955"/>
                  <a:pt x="5745" y="4053"/>
                </a:cubicBezTo>
                <a:cubicBezTo>
                  <a:pt x="5650" y="4178"/>
                  <a:pt x="5715" y="4435"/>
                  <a:pt x="5716" y="4575"/>
                </a:cubicBezTo>
                <a:cubicBezTo>
                  <a:pt x="5720" y="5084"/>
                  <a:pt x="5756" y="5592"/>
                  <a:pt x="5764" y="6100"/>
                </a:cubicBezTo>
                <a:cubicBezTo>
                  <a:pt x="5769" y="6421"/>
                  <a:pt x="5717" y="6748"/>
                  <a:pt x="5735" y="7066"/>
                </a:cubicBezTo>
                <a:cubicBezTo>
                  <a:pt x="5740" y="7151"/>
                  <a:pt x="5740" y="7421"/>
                  <a:pt x="5806" y="7491"/>
                </a:cubicBezTo>
                <a:cubicBezTo>
                  <a:pt x="5876" y="7566"/>
                  <a:pt x="5953" y="7550"/>
                  <a:pt x="6043" y="7575"/>
                </a:cubicBezTo>
                <a:cubicBezTo>
                  <a:pt x="6804" y="7784"/>
                  <a:pt x="7957" y="7565"/>
                  <a:pt x="8739" y="7561"/>
                </a:cubicBezTo>
                <a:cubicBezTo>
                  <a:pt x="9243" y="7559"/>
                  <a:pt x="9739" y="7468"/>
                  <a:pt x="10238" y="7404"/>
                </a:cubicBezTo>
                <a:cubicBezTo>
                  <a:pt x="11141" y="7288"/>
                  <a:pt x="12028" y="7320"/>
                  <a:pt x="12934" y="7311"/>
                </a:cubicBezTo>
                <a:cubicBezTo>
                  <a:pt x="13596" y="7304"/>
                  <a:pt x="14266" y="7348"/>
                  <a:pt x="14927" y="7390"/>
                </a:cubicBezTo>
                <a:cubicBezTo>
                  <a:pt x="15546" y="7430"/>
                  <a:pt x="16162" y="7452"/>
                  <a:pt x="16782" y="7478"/>
                </a:cubicBezTo>
                <a:cubicBezTo>
                  <a:pt x="17571" y="7512"/>
                  <a:pt x="18502" y="7664"/>
                  <a:pt x="19278" y="7473"/>
                </a:cubicBezTo>
                <a:cubicBezTo>
                  <a:pt x="19360" y="7453"/>
                  <a:pt x="19499" y="7435"/>
                  <a:pt x="19558" y="7367"/>
                </a:cubicBezTo>
                <a:cubicBezTo>
                  <a:pt x="19701" y="7203"/>
                  <a:pt x="19617" y="7002"/>
                  <a:pt x="19606" y="6807"/>
                </a:cubicBezTo>
                <a:cubicBezTo>
                  <a:pt x="19575" y="6276"/>
                  <a:pt x="19630" y="5756"/>
                  <a:pt x="19620" y="5227"/>
                </a:cubicBezTo>
                <a:cubicBezTo>
                  <a:pt x="19614" y="4901"/>
                  <a:pt x="19666" y="4254"/>
                  <a:pt x="19459" y="3965"/>
                </a:cubicBezTo>
                <a:cubicBezTo>
                  <a:pt x="19410" y="3897"/>
                  <a:pt x="19381" y="3866"/>
                  <a:pt x="19302" y="3831"/>
                </a:cubicBezTo>
                <a:cubicBezTo>
                  <a:pt x="18321" y="3392"/>
                  <a:pt x="16232" y="3877"/>
                  <a:pt x="15169" y="3886"/>
                </a:cubicBezTo>
                <a:cubicBezTo>
                  <a:pt x="14473" y="3892"/>
                  <a:pt x="13776" y="3874"/>
                  <a:pt x="13081" y="3845"/>
                </a:cubicBezTo>
                <a:cubicBezTo>
                  <a:pt x="12476" y="3820"/>
                  <a:pt x="11874" y="3802"/>
                  <a:pt x="11268" y="3812"/>
                </a:cubicBezTo>
                <a:cubicBezTo>
                  <a:pt x="9933" y="3835"/>
                  <a:pt x="8594" y="3987"/>
                  <a:pt x="7258" y="3942"/>
                </a:cubicBezTo>
                <a:cubicBezTo>
                  <a:pt x="7039" y="3935"/>
                  <a:pt x="6825" y="3930"/>
                  <a:pt x="6613" y="3937"/>
                </a:cubicBezTo>
              </a:path>
              <a:path w="13933" h="3777">
                <a:moveTo>
                  <a:pt x="13736" y="4774"/>
                </a:moveTo>
                <a:cubicBezTo>
                  <a:pt x="13724" y="4804"/>
                  <a:pt x="13710" y="4835"/>
                  <a:pt x="13698" y="4866"/>
                </a:cubicBezTo>
                <a:cubicBezTo>
                  <a:pt x="13668" y="4946"/>
                  <a:pt x="13642" y="5027"/>
                  <a:pt x="13612" y="5106"/>
                </a:cubicBezTo>
                <a:cubicBezTo>
                  <a:pt x="13565" y="5231"/>
                  <a:pt x="13512" y="5355"/>
                  <a:pt x="13456" y="5476"/>
                </a:cubicBezTo>
                <a:cubicBezTo>
                  <a:pt x="13419" y="5558"/>
                  <a:pt x="13377" y="5638"/>
                  <a:pt x="13342" y="5721"/>
                </a:cubicBezTo>
                <a:cubicBezTo>
                  <a:pt x="13227" y="5990"/>
                  <a:pt x="13136" y="6279"/>
                  <a:pt x="13095" y="6567"/>
                </a:cubicBezTo>
                <a:cubicBezTo>
                  <a:pt x="13089" y="6608"/>
                  <a:pt x="13068" y="6683"/>
                  <a:pt x="13100" y="6715"/>
                </a:cubicBezTo>
                <a:cubicBezTo>
                  <a:pt x="13153" y="6768"/>
                  <a:pt x="13303" y="6738"/>
                  <a:pt x="13370" y="6738"/>
                </a:cubicBezTo>
                <a:cubicBezTo>
                  <a:pt x="13569" y="6738"/>
                  <a:pt x="13764" y="6774"/>
                  <a:pt x="13963" y="6780"/>
                </a:cubicBezTo>
                <a:cubicBezTo>
                  <a:pt x="14207" y="6788"/>
                  <a:pt x="14455" y="6787"/>
                  <a:pt x="14699" y="6775"/>
                </a:cubicBezTo>
                <a:cubicBezTo>
                  <a:pt x="14802" y="6770"/>
                  <a:pt x="14904" y="6757"/>
                  <a:pt x="15007" y="6747"/>
                </a:cubicBezTo>
                <a:cubicBezTo>
                  <a:pt x="15051" y="6743"/>
                  <a:pt x="15096" y="6742"/>
                  <a:pt x="15140" y="6738"/>
                </a:cubicBezTo>
                <a:cubicBezTo>
                  <a:pt x="15186" y="6734"/>
                  <a:pt x="15233" y="6731"/>
                  <a:pt x="15278" y="6720"/>
                </a:cubicBezTo>
                <a:cubicBezTo>
                  <a:pt x="15298" y="6715"/>
                  <a:pt x="15333" y="6703"/>
                  <a:pt x="15354" y="6696"/>
                </a:cubicBezTo>
                <a:cubicBezTo>
                  <a:pt x="15396" y="6682"/>
                  <a:pt x="15428" y="6684"/>
                  <a:pt x="15434" y="6636"/>
                </a:cubicBezTo>
                <a:cubicBezTo>
                  <a:pt x="15439" y="6597"/>
                  <a:pt x="15401" y="6550"/>
                  <a:pt x="15387" y="6516"/>
                </a:cubicBezTo>
                <a:cubicBezTo>
                  <a:pt x="15314" y="6333"/>
                  <a:pt x="15225" y="6164"/>
                  <a:pt x="15126" y="5994"/>
                </a:cubicBezTo>
                <a:cubicBezTo>
                  <a:pt x="15078" y="5911"/>
                  <a:pt x="15026" y="5828"/>
                  <a:pt x="14979" y="5744"/>
                </a:cubicBezTo>
                <a:cubicBezTo>
                  <a:pt x="14925" y="5647"/>
                  <a:pt x="14870" y="5556"/>
                  <a:pt x="14813" y="5462"/>
                </a:cubicBezTo>
                <a:cubicBezTo>
                  <a:pt x="14782" y="5411"/>
                  <a:pt x="14756" y="5358"/>
                  <a:pt x="14727" y="5305"/>
                </a:cubicBezTo>
                <a:cubicBezTo>
                  <a:pt x="14679" y="5217"/>
                  <a:pt x="14636" y="5127"/>
                  <a:pt x="14604" y="5032"/>
                </a:cubicBezTo>
                <a:cubicBezTo>
                  <a:pt x="14583" y="4970"/>
                  <a:pt x="14557" y="4898"/>
                  <a:pt x="14547" y="4834"/>
                </a:cubicBezTo>
                <a:cubicBezTo>
                  <a:pt x="14534" y="4744"/>
                  <a:pt x="14565" y="4631"/>
                  <a:pt x="14533" y="4547"/>
                </a:cubicBezTo>
                <a:cubicBezTo>
                  <a:pt x="14528" y="4534"/>
                  <a:pt x="14501" y="4501"/>
                  <a:pt x="14495" y="4492"/>
                </a:cubicBezTo>
                <a:cubicBezTo>
                  <a:pt x="14485" y="4479"/>
                  <a:pt x="14476" y="4465"/>
                  <a:pt x="14466" y="4455"/>
                </a:cubicBezTo>
                <a:cubicBezTo>
                  <a:pt x="14454" y="4443"/>
                  <a:pt x="14453" y="4450"/>
                  <a:pt x="14443" y="4436"/>
                </a:cubicBezTo>
                <a:cubicBezTo>
                  <a:pt x="14438" y="4429"/>
                  <a:pt x="14423" y="4430"/>
                  <a:pt x="14419" y="4422"/>
                </a:cubicBezTo>
                <a:cubicBezTo>
                  <a:pt x="14415" y="4415"/>
                  <a:pt x="14413" y="4416"/>
                  <a:pt x="14409" y="4408"/>
                </a:cubicBezTo>
                <a:cubicBezTo>
                  <a:pt x="14399" y="4388"/>
                  <a:pt x="14402" y="4357"/>
                  <a:pt x="14391" y="4334"/>
                </a:cubicBezTo>
                <a:cubicBezTo>
                  <a:pt x="14371" y="4293"/>
                  <a:pt x="14349" y="4242"/>
                  <a:pt x="14319" y="4210"/>
                </a:cubicBezTo>
                <a:cubicBezTo>
                  <a:pt x="14305" y="4195"/>
                  <a:pt x="14282" y="4171"/>
                  <a:pt x="14267" y="4168"/>
                </a:cubicBezTo>
                <a:cubicBezTo>
                  <a:pt x="14208" y="4154"/>
                  <a:pt x="14168" y="4199"/>
                  <a:pt x="14125" y="4228"/>
                </a:cubicBezTo>
                <a:cubicBezTo>
                  <a:pt x="14006" y="4309"/>
                  <a:pt x="13919" y="4424"/>
                  <a:pt x="13845" y="4547"/>
                </a:cubicBezTo>
                <a:cubicBezTo>
                  <a:pt x="13759" y="4690"/>
                  <a:pt x="13693" y="4834"/>
                  <a:pt x="13641" y="4991"/>
                </a:cubicBezTo>
              </a:path>
              <a:path w="13933" h="3777">
                <a:moveTo>
                  <a:pt x="14073" y="4806"/>
                </a:moveTo>
                <a:cubicBezTo>
                  <a:pt x="14067" y="4814"/>
                  <a:pt x="14063" y="4820"/>
                  <a:pt x="14054" y="4829"/>
                </a:cubicBezTo>
                <a:cubicBezTo>
                  <a:pt x="14038" y="4844"/>
                  <a:pt x="14022" y="4859"/>
                  <a:pt x="14006" y="4875"/>
                </a:cubicBezTo>
                <a:cubicBezTo>
                  <a:pt x="13986" y="4894"/>
                  <a:pt x="13978" y="4912"/>
                  <a:pt x="13963" y="4935"/>
                </a:cubicBezTo>
                <a:cubicBezTo>
                  <a:pt x="13947" y="4960"/>
                  <a:pt x="13933" y="4991"/>
                  <a:pt x="13916" y="5014"/>
                </a:cubicBezTo>
                <a:cubicBezTo>
                  <a:pt x="13894" y="5043"/>
                  <a:pt x="13877" y="5077"/>
                  <a:pt x="13854" y="5106"/>
                </a:cubicBezTo>
                <a:cubicBezTo>
                  <a:pt x="13832" y="5133"/>
                  <a:pt x="13820" y="5162"/>
                  <a:pt x="13797" y="5190"/>
                </a:cubicBezTo>
                <a:cubicBezTo>
                  <a:pt x="13787" y="5202"/>
                  <a:pt x="13760" y="5223"/>
                  <a:pt x="13759" y="5240"/>
                </a:cubicBezTo>
                <a:cubicBezTo>
                  <a:pt x="13758" y="5251"/>
                  <a:pt x="13755" y="5247"/>
                  <a:pt x="13759" y="5259"/>
                </a:cubicBezTo>
                <a:cubicBezTo>
                  <a:pt x="13761" y="5266"/>
                  <a:pt x="13800" y="5291"/>
                  <a:pt x="13807" y="5296"/>
                </a:cubicBezTo>
                <a:cubicBezTo>
                  <a:pt x="13828" y="5312"/>
                  <a:pt x="13845" y="5326"/>
                  <a:pt x="13859" y="5347"/>
                </a:cubicBezTo>
                <a:cubicBezTo>
                  <a:pt x="13872" y="5366"/>
                  <a:pt x="13875" y="5390"/>
                  <a:pt x="13892" y="5407"/>
                </a:cubicBezTo>
                <a:cubicBezTo>
                  <a:pt x="13904" y="5420"/>
                  <a:pt x="13916" y="5430"/>
                  <a:pt x="13935" y="5435"/>
                </a:cubicBezTo>
                <a:cubicBezTo>
                  <a:pt x="13959" y="5441"/>
                  <a:pt x="13992" y="5435"/>
                  <a:pt x="14016" y="5430"/>
                </a:cubicBezTo>
                <a:cubicBezTo>
                  <a:pt x="14051" y="5422"/>
                  <a:pt x="14081" y="5406"/>
                  <a:pt x="14115" y="5398"/>
                </a:cubicBezTo>
                <a:cubicBezTo>
                  <a:pt x="14156" y="5388"/>
                  <a:pt x="14198" y="5381"/>
                  <a:pt x="14239" y="5374"/>
                </a:cubicBezTo>
                <a:cubicBezTo>
                  <a:pt x="14265" y="5370"/>
                  <a:pt x="14290" y="5364"/>
                  <a:pt x="14315" y="5356"/>
                </a:cubicBezTo>
                <a:cubicBezTo>
                  <a:pt x="14327" y="5352"/>
                  <a:pt x="14336" y="5349"/>
                  <a:pt x="14348" y="5347"/>
                </a:cubicBezTo>
                <a:cubicBezTo>
                  <a:pt x="14369" y="5344"/>
                  <a:pt x="14391" y="5351"/>
                  <a:pt x="14409" y="5342"/>
                </a:cubicBezTo>
                <a:cubicBezTo>
                  <a:pt x="14425" y="5334"/>
                  <a:pt x="14428" y="5331"/>
                  <a:pt x="14443" y="5319"/>
                </a:cubicBezTo>
                <a:cubicBezTo>
                  <a:pt x="14459" y="5307"/>
                  <a:pt x="14468" y="5299"/>
                  <a:pt x="14481" y="5282"/>
                </a:cubicBezTo>
                <a:cubicBezTo>
                  <a:pt x="14490" y="5269"/>
                  <a:pt x="14501" y="5252"/>
                  <a:pt x="14504" y="5236"/>
                </a:cubicBezTo>
                <a:cubicBezTo>
                  <a:pt x="14509" y="5205"/>
                  <a:pt x="14501" y="5175"/>
                  <a:pt x="14495" y="5148"/>
                </a:cubicBezTo>
                <a:cubicBezTo>
                  <a:pt x="14487" y="5112"/>
                  <a:pt x="14463" y="5085"/>
                  <a:pt x="14452" y="5051"/>
                </a:cubicBezTo>
                <a:cubicBezTo>
                  <a:pt x="14438" y="5010"/>
                  <a:pt x="14425" y="4972"/>
                  <a:pt x="14409" y="4931"/>
                </a:cubicBezTo>
                <a:cubicBezTo>
                  <a:pt x="14395" y="4895"/>
                  <a:pt x="14386" y="4856"/>
                  <a:pt x="14372" y="4820"/>
                </a:cubicBezTo>
                <a:cubicBezTo>
                  <a:pt x="14362" y="4794"/>
                  <a:pt x="14353" y="4764"/>
                  <a:pt x="14338" y="4741"/>
                </a:cubicBezTo>
                <a:cubicBezTo>
                  <a:pt x="14328" y="4726"/>
                  <a:pt x="14317" y="4715"/>
                  <a:pt x="14300" y="4723"/>
                </a:cubicBezTo>
                <a:cubicBezTo>
                  <a:pt x="14300" y="4732"/>
                  <a:pt x="14300" y="4735"/>
                  <a:pt x="14300" y="4741"/>
                </a:cubicBezTo>
              </a:path>
              <a:path w="13933" h="3777">
                <a:moveTo>
                  <a:pt x="14239" y="5818"/>
                </a:moveTo>
                <a:cubicBezTo>
                  <a:pt x="14239" y="5794"/>
                  <a:pt x="14238" y="5799"/>
                  <a:pt x="14224" y="5781"/>
                </a:cubicBezTo>
                <a:cubicBezTo>
                  <a:pt x="14204" y="5755"/>
                  <a:pt x="14188" y="5748"/>
                  <a:pt x="14153" y="5753"/>
                </a:cubicBezTo>
                <a:cubicBezTo>
                  <a:pt x="14112" y="5758"/>
                  <a:pt x="14093" y="5784"/>
                  <a:pt x="14073" y="5818"/>
                </a:cubicBezTo>
                <a:cubicBezTo>
                  <a:pt x="14053" y="5853"/>
                  <a:pt x="14039" y="5890"/>
                  <a:pt x="14058" y="5929"/>
                </a:cubicBezTo>
                <a:cubicBezTo>
                  <a:pt x="14077" y="5967"/>
                  <a:pt x="14126" y="5968"/>
                  <a:pt x="14163" y="5966"/>
                </a:cubicBezTo>
                <a:cubicBezTo>
                  <a:pt x="14205" y="5963"/>
                  <a:pt x="14259" y="5943"/>
                  <a:pt x="14291" y="5915"/>
                </a:cubicBezTo>
                <a:cubicBezTo>
                  <a:pt x="14317" y="5892"/>
                  <a:pt x="14339" y="5857"/>
                  <a:pt x="14343" y="5823"/>
                </a:cubicBezTo>
                <a:cubicBezTo>
                  <a:pt x="14348" y="5787"/>
                  <a:pt x="14340" y="5769"/>
                  <a:pt x="14315" y="5744"/>
                </a:cubicBezTo>
                <a:cubicBezTo>
                  <a:pt x="14291" y="5719"/>
                  <a:pt x="14255" y="5709"/>
                  <a:pt x="14220" y="5717"/>
                </a:cubicBezTo>
                <a:cubicBezTo>
                  <a:pt x="14194" y="5723"/>
                  <a:pt x="14163" y="5765"/>
                  <a:pt x="14158" y="5790"/>
                </a:cubicBezTo>
                <a:cubicBezTo>
                  <a:pt x="14152" y="5819"/>
                  <a:pt x="14156" y="5829"/>
                  <a:pt x="14172" y="5846"/>
                </a:cubicBezTo>
                <a:cubicBezTo>
                  <a:pt x="14200" y="5853"/>
                  <a:pt x="14212" y="5853"/>
                  <a:pt x="14229" y="5827"/>
                </a:cubicBezTo>
                <a:cubicBezTo>
                  <a:pt x="14233" y="5821"/>
                  <a:pt x="14248" y="5791"/>
                  <a:pt x="14239" y="5781"/>
                </a:cubicBezTo>
                <a:cubicBezTo>
                  <a:pt x="14229" y="5781"/>
                  <a:pt x="14225" y="5781"/>
                  <a:pt x="14220" y="5786"/>
                </a:cubicBezTo>
              </a:path>
              <a:path w="13933" h="3777">
                <a:moveTo>
                  <a:pt x="10832" y="4464"/>
                </a:moveTo>
                <a:cubicBezTo>
                  <a:pt x="10824" y="4456"/>
                  <a:pt x="10818" y="4453"/>
                  <a:pt x="10808" y="4445"/>
                </a:cubicBezTo>
                <a:cubicBezTo>
                  <a:pt x="10806" y="4444"/>
                  <a:pt x="10805" y="4442"/>
                  <a:pt x="10803" y="4441"/>
                </a:cubicBezTo>
                <a:cubicBezTo>
                  <a:pt x="10798" y="4448"/>
                  <a:pt x="10784" y="4441"/>
                  <a:pt x="10775" y="4459"/>
                </a:cubicBezTo>
                <a:cubicBezTo>
                  <a:pt x="10756" y="4496"/>
                  <a:pt x="10743" y="4536"/>
                  <a:pt x="10727" y="4575"/>
                </a:cubicBezTo>
                <a:cubicBezTo>
                  <a:pt x="10673" y="4705"/>
                  <a:pt x="10622" y="4836"/>
                  <a:pt x="10575" y="4968"/>
                </a:cubicBezTo>
                <a:cubicBezTo>
                  <a:pt x="10543" y="5057"/>
                  <a:pt x="10510" y="5146"/>
                  <a:pt x="10480" y="5236"/>
                </a:cubicBezTo>
                <a:cubicBezTo>
                  <a:pt x="10435" y="5371"/>
                  <a:pt x="10398" y="5508"/>
                  <a:pt x="10352" y="5643"/>
                </a:cubicBezTo>
                <a:cubicBezTo>
                  <a:pt x="10324" y="5726"/>
                  <a:pt x="10300" y="5810"/>
                  <a:pt x="10272" y="5892"/>
                </a:cubicBezTo>
                <a:cubicBezTo>
                  <a:pt x="10245" y="5971"/>
                  <a:pt x="10213" y="6049"/>
                  <a:pt x="10191" y="6128"/>
                </a:cubicBezTo>
                <a:cubicBezTo>
                  <a:pt x="10173" y="6193"/>
                  <a:pt x="10163" y="6260"/>
                  <a:pt x="10153" y="6327"/>
                </a:cubicBezTo>
                <a:cubicBezTo>
                  <a:pt x="10144" y="6385"/>
                  <a:pt x="10116" y="6516"/>
                  <a:pt x="10158" y="6567"/>
                </a:cubicBezTo>
                <a:cubicBezTo>
                  <a:pt x="10179" y="6593"/>
                  <a:pt x="10224" y="6588"/>
                  <a:pt x="10253" y="6590"/>
                </a:cubicBezTo>
                <a:cubicBezTo>
                  <a:pt x="10369" y="6599"/>
                  <a:pt x="10473" y="6593"/>
                  <a:pt x="10590" y="6613"/>
                </a:cubicBezTo>
                <a:cubicBezTo>
                  <a:pt x="10846" y="6657"/>
                  <a:pt x="11089" y="6670"/>
                  <a:pt x="11349" y="6669"/>
                </a:cubicBezTo>
                <a:cubicBezTo>
                  <a:pt x="11457" y="6669"/>
                  <a:pt x="11561" y="6671"/>
                  <a:pt x="11667" y="6683"/>
                </a:cubicBezTo>
                <a:cubicBezTo>
                  <a:pt x="11729" y="6690"/>
                  <a:pt x="11791" y="6699"/>
                  <a:pt x="11852" y="6701"/>
                </a:cubicBezTo>
                <a:cubicBezTo>
                  <a:pt x="11960" y="6705"/>
                  <a:pt x="12092" y="6697"/>
                  <a:pt x="12189" y="6646"/>
                </a:cubicBezTo>
                <a:cubicBezTo>
                  <a:pt x="12262" y="6608"/>
                  <a:pt x="12274" y="6562"/>
                  <a:pt x="12284" y="6488"/>
                </a:cubicBezTo>
                <a:cubicBezTo>
                  <a:pt x="12292" y="6431"/>
                  <a:pt x="12279" y="6367"/>
                  <a:pt x="12265" y="6313"/>
                </a:cubicBezTo>
                <a:cubicBezTo>
                  <a:pt x="12252" y="6265"/>
                  <a:pt x="12240" y="6217"/>
                  <a:pt x="12227" y="6169"/>
                </a:cubicBezTo>
                <a:cubicBezTo>
                  <a:pt x="12190" y="6030"/>
                  <a:pt x="12140" y="5889"/>
                  <a:pt x="12070" y="5763"/>
                </a:cubicBezTo>
                <a:cubicBezTo>
                  <a:pt x="12041" y="5712"/>
                  <a:pt x="12015" y="5663"/>
                  <a:pt x="11989" y="5610"/>
                </a:cubicBezTo>
                <a:cubicBezTo>
                  <a:pt x="11966" y="5563"/>
                  <a:pt x="11941" y="5518"/>
                  <a:pt x="11918" y="5472"/>
                </a:cubicBezTo>
                <a:cubicBezTo>
                  <a:pt x="11896" y="5429"/>
                  <a:pt x="11873" y="5386"/>
                  <a:pt x="11852" y="5342"/>
                </a:cubicBezTo>
                <a:cubicBezTo>
                  <a:pt x="11828" y="5292"/>
                  <a:pt x="11802" y="5242"/>
                  <a:pt x="11781" y="5190"/>
                </a:cubicBezTo>
                <a:cubicBezTo>
                  <a:pt x="11735" y="5074"/>
                  <a:pt x="11688" y="4955"/>
                  <a:pt x="11648" y="4838"/>
                </a:cubicBezTo>
                <a:cubicBezTo>
                  <a:pt x="11636" y="4803"/>
                  <a:pt x="11626" y="4767"/>
                  <a:pt x="11614" y="4732"/>
                </a:cubicBezTo>
                <a:cubicBezTo>
                  <a:pt x="11605" y="4705"/>
                  <a:pt x="11595" y="4679"/>
                  <a:pt x="11586" y="4653"/>
                </a:cubicBezTo>
                <a:cubicBezTo>
                  <a:pt x="11568" y="4604"/>
                  <a:pt x="11553" y="4544"/>
                  <a:pt x="11520" y="4506"/>
                </a:cubicBezTo>
                <a:cubicBezTo>
                  <a:pt x="11494" y="4476"/>
                  <a:pt x="11454" y="4464"/>
                  <a:pt x="11425" y="4441"/>
                </a:cubicBezTo>
                <a:cubicBezTo>
                  <a:pt x="11393" y="4415"/>
                  <a:pt x="11355" y="4388"/>
                  <a:pt x="11330" y="4358"/>
                </a:cubicBezTo>
                <a:cubicBezTo>
                  <a:pt x="11321" y="4347"/>
                  <a:pt x="11306" y="4313"/>
                  <a:pt x="11297" y="4307"/>
                </a:cubicBezTo>
                <a:cubicBezTo>
                  <a:pt x="11267" y="4287"/>
                  <a:pt x="11247" y="4287"/>
                  <a:pt x="11206" y="4288"/>
                </a:cubicBezTo>
                <a:cubicBezTo>
                  <a:pt x="11171" y="4289"/>
                  <a:pt x="11153" y="4304"/>
                  <a:pt x="11121" y="4311"/>
                </a:cubicBezTo>
                <a:cubicBezTo>
                  <a:pt x="11042" y="4328"/>
                  <a:pt x="10979" y="4346"/>
                  <a:pt x="10907" y="4385"/>
                </a:cubicBezTo>
                <a:cubicBezTo>
                  <a:pt x="10863" y="4409"/>
                  <a:pt x="10824" y="4437"/>
                  <a:pt x="10794" y="4478"/>
                </a:cubicBezTo>
                <a:cubicBezTo>
                  <a:pt x="10771" y="4509"/>
                  <a:pt x="10766" y="4543"/>
                  <a:pt x="10751" y="4575"/>
                </a:cubicBezTo>
              </a:path>
              <a:path w="13933" h="3777">
                <a:moveTo>
                  <a:pt x="11111" y="5536"/>
                </a:moveTo>
                <a:cubicBezTo>
                  <a:pt x="11100" y="5530"/>
                  <a:pt x="11086" y="5520"/>
                  <a:pt x="11074" y="5518"/>
                </a:cubicBezTo>
                <a:cubicBezTo>
                  <a:pt x="11049" y="5513"/>
                  <a:pt x="11009" y="5514"/>
                  <a:pt x="10988" y="5527"/>
                </a:cubicBezTo>
                <a:cubicBezTo>
                  <a:pt x="10960" y="5544"/>
                  <a:pt x="10941" y="5583"/>
                  <a:pt x="10936" y="5615"/>
                </a:cubicBezTo>
                <a:cubicBezTo>
                  <a:pt x="10930" y="5655"/>
                  <a:pt x="10957" y="5695"/>
                  <a:pt x="10993" y="5712"/>
                </a:cubicBezTo>
                <a:cubicBezTo>
                  <a:pt x="11032" y="5730"/>
                  <a:pt x="11094" y="5733"/>
                  <a:pt x="11135" y="5721"/>
                </a:cubicBezTo>
                <a:cubicBezTo>
                  <a:pt x="11168" y="5711"/>
                  <a:pt x="11220" y="5674"/>
                  <a:pt x="11235" y="5643"/>
                </a:cubicBezTo>
                <a:cubicBezTo>
                  <a:pt x="11248" y="5614"/>
                  <a:pt x="11240" y="5575"/>
                  <a:pt x="11216" y="5555"/>
                </a:cubicBezTo>
                <a:cubicBezTo>
                  <a:pt x="11193" y="5535"/>
                  <a:pt x="11146" y="5522"/>
                  <a:pt x="11116" y="5532"/>
                </a:cubicBezTo>
                <a:cubicBezTo>
                  <a:pt x="11082" y="5543"/>
                  <a:pt x="11058" y="5575"/>
                  <a:pt x="11045" y="5606"/>
                </a:cubicBezTo>
                <a:cubicBezTo>
                  <a:pt x="11038" y="5623"/>
                  <a:pt x="11033" y="5645"/>
                  <a:pt x="11055" y="5647"/>
                </a:cubicBezTo>
                <a:cubicBezTo>
                  <a:pt x="11078" y="5649"/>
                  <a:pt x="11084" y="5633"/>
                  <a:pt x="11088" y="5615"/>
                </a:cubicBezTo>
                <a:cubicBezTo>
                  <a:pt x="11072" y="5604"/>
                  <a:pt x="11067" y="5593"/>
                  <a:pt x="11045" y="5606"/>
                </a:cubicBezTo>
                <a:cubicBezTo>
                  <a:pt x="11035" y="5616"/>
                  <a:pt x="11031" y="5620"/>
                  <a:pt x="11026" y="5629"/>
                </a:cubicBezTo>
              </a:path>
              <a:path w="13933" h="3777">
                <a:moveTo>
                  <a:pt x="10893" y="6613"/>
                </a:moveTo>
                <a:cubicBezTo>
                  <a:pt x="10903" y="6603"/>
                  <a:pt x="10904" y="6595"/>
                  <a:pt x="10912" y="6585"/>
                </a:cubicBezTo>
                <a:cubicBezTo>
                  <a:pt x="10931" y="6560"/>
                  <a:pt x="10941" y="6537"/>
                  <a:pt x="10955" y="6507"/>
                </a:cubicBezTo>
                <a:cubicBezTo>
                  <a:pt x="10979" y="6455"/>
                  <a:pt x="11010" y="6412"/>
                  <a:pt x="11040" y="6364"/>
                </a:cubicBezTo>
                <a:cubicBezTo>
                  <a:pt x="11067" y="6321"/>
                  <a:pt x="11092" y="6276"/>
                  <a:pt x="11121" y="6234"/>
                </a:cubicBezTo>
                <a:cubicBezTo>
                  <a:pt x="11148" y="6194"/>
                  <a:pt x="11171" y="6153"/>
                  <a:pt x="11202" y="6119"/>
                </a:cubicBezTo>
                <a:cubicBezTo>
                  <a:pt x="11213" y="6107"/>
                  <a:pt x="11212" y="6097"/>
                  <a:pt x="11230" y="6096"/>
                </a:cubicBezTo>
                <a:cubicBezTo>
                  <a:pt x="11244" y="6095"/>
                  <a:pt x="11239" y="6096"/>
                  <a:pt x="11249" y="6105"/>
                </a:cubicBezTo>
                <a:cubicBezTo>
                  <a:pt x="11266" y="6120"/>
                  <a:pt x="11279" y="6143"/>
                  <a:pt x="11287" y="6165"/>
                </a:cubicBezTo>
                <a:cubicBezTo>
                  <a:pt x="11304" y="6211"/>
                  <a:pt x="11328" y="6252"/>
                  <a:pt x="11344" y="6299"/>
                </a:cubicBezTo>
                <a:cubicBezTo>
                  <a:pt x="11363" y="6354"/>
                  <a:pt x="11386" y="6408"/>
                  <a:pt x="11410" y="6461"/>
                </a:cubicBezTo>
                <a:cubicBezTo>
                  <a:pt x="11430" y="6506"/>
                  <a:pt x="11454" y="6545"/>
                  <a:pt x="11482" y="6585"/>
                </a:cubicBezTo>
              </a:path>
              <a:path w="13933" h="3777">
                <a:moveTo>
                  <a:pt x="11211" y="6960"/>
                </a:moveTo>
                <a:cubicBezTo>
                  <a:pt x="11211" y="6972"/>
                  <a:pt x="11211" y="6985"/>
                  <a:pt x="11211" y="6997"/>
                </a:cubicBezTo>
              </a:path>
              <a:path w="13933" h="3777">
                <a:moveTo>
                  <a:pt x="11287" y="5730"/>
                </a:moveTo>
                <a:cubicBezTo>
                  <a:pt x="11287" y="5796"/>
                  <a:pt x="11283" y="5864"/>
                  <a:pt x="11292" y="5929"/>
                </a:cubicBezTo>
              </a:path>
              <a:path w="13933" h="3777">
                <a:moveTo>
                  <a:pt x="11130" y="5264"/>
                </a:moveTo>
                <a:cubicBezTo>
                  <a:pt x="11130" y="5318"/>
                  <a:pt x="11130" y="5372"/>
                  <a:pt x="11135" y="5425"/>
                </a:cubicBezTo>
                <a:cubicBezTo>
                  <a:pt x="11135" y="5431"/>
                  <a:pt x="11135" y="5438"/>
                  <a:pt x="11135" y="5444"/>
                </a:cubicBezTo>
              </a:path>
              <a:path w="13933" h="3777">
                <a:moveTo>
                  <a:pt x="14201" y="5453"/>
                </a:moveTo>
                <a:cubicBezTo>
                  <a:pt x="14187" y="5453"/>
                  <a:pt x="14190" y="5455"/>
                  <a:pt x="14186" y="5467"/>
                </a:cubicBezTo>
                <a:cubicBezTo>
                  <a:pt x="14180" y="5487"/>
                  <a:pt x="14175" y="5515"/>
                  <a:pt x="14177" y="5536"/>
                </a:cubicBezTo>
                <a:cubicBezTo>
                  <a:pt x="14180" y="5561"/>
                  <a:pt x="14186" y="5586"/>
                  <a:pt x="14191" y="5610"/>
                </a:cubicBezTo>
              </a:path>
              <a:path w="13933" h="3777">
                <a:moveTo>
                  <a:pt x="14210" y="6105"/>
                </a:moveTo>
                <a:cubicBezTo>
                  <a:pt x="14210" y="6126"/>
                  <a:pt x="14203" y="6144"/>
                  <a:pt x="14201" y="6165"/>
                </a:cubicBezTo>
                <a:cubicBezTo>
                  <a:pt x="14198" y="6206"/>
                  <a:pt x="14201" y="6249"/>
                  <a:pt x="14201" y="6290"/>
                </a:cubicBezTo>
              </a:path>
              <a:path w="13933" h="3777">
                <a:moveTo>
                  <a:pt x="16839" y="5476"/>
                </a:moveTo>
                <a:cubicBezTo>
                  <a:pt x="16839" y="5532"/>
                  <a:pt x="16841" y="5587"/>
                  <a:pt x="16844" y="5643"/>
                </a:cubicBezTo>
                <a:cubicBezTo>
                  <a:pt x="16844" y="5657"/>
                  <a:pt x="16844" y="5670"/>
                  <a:pt x="16844" y="5684"/>
                </a:cubicBezTo>
              </a:path>
              <a:path w="13933" h="3777">
                <a:moveTo>
                  <a:pt x="16943" y="6230"/>
                </a:moveTo>
                <a:cubicBezTo>
                  <a:pt x="16943" y="6254"/>
                  <a:pt x="16942" y="6275"/>
                  <a:pt x="16939" y="6299"/>
                </a:cubicBezTo>
                <a:cubicBezTo>
                  <a:pt x="16932" y="6348"/>
                  <a:pt x="16934" y="6397"/>
                  <a:pt x="16934" y="6447"/>
                </a:cubicBezTo>
                <a:cubicBezTo>
                  <a:pt x="16934" y="6462"/>
                  <a:pt x="16934" y="6478"/>
                  <a:pt x="16934" y="649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2809800" y="2600280"/>
            <a:ext cx="300240" cy="1222560"/>
          </a:xfrm>
          <a:custGeom>
            <a:avLst/>
            <a:gdLst/>
            <a:ahLst/>
            <a:rect l="l" t="t" r="r" b="b"/>
            <a:pathLst>
              <a:path w="836" h="3394">
                <a:moveTo>
                  <a:pt x="8283" y="9904"/>
                </a:moveTo>
                <a:cubicBezTo>
                  <a:pt x="8266" y="9898"/>
                  <a:pt x="8264" y="9891"/>
                  <a:pt x="8250" y="9881"/>
                </a:cubicBezTo>
                <a:cubicBezTo>
                  <a:pt x="8239" y="9873"/>
                  <a:pt x="8225" y="9876"/>
                  <a:pt x="8212" y="9876"/>
                </a:cubicBezTo>
                <a:cubicBezTo>
                  <a:pt x="8194" y="9876"/>
                  <a:pt x="8187" y="9887"/>
                  <a:pt x="8184" y="9904"/>
                </a:cubicBezTo>
                <a:cubicBezTo>
                  <a:pt x="8182" y="9915"/>
                  <a:pt x="8181" y="9938"/>
                  <a:pt x="8188" y="9946"/>
                </a:cubicBezTo>
                <a:cubicBezTo>
                  <a:pt x="8191" y="9949"/>
                  <a:pt x="8195" y="9952"/>
                  <a:pt x="8198" y="9955"/>
                </a:cubicBezTo>
                <a:cubicBezTo>
                  <a:pt x="8219" y="9953"/>
                  <a:pt x="8232" y="9945"/>
                  <a:pt x="8245" y="9927"/>
                </a:cubicBezTo>
                <a:cubicBezTo>
                  <a:pt x="8263" y="9902"/>
                  <a:pt x="8263" y="9869"/>
                  <a:pt x="8264" y="9840"/>
                </a:cubicBezTo>
                <a:cubicBezTo>
                  <a:pt x="8265" y="9811"/>
                  <a:pt x="8263" y="9790"/>
                  <a:pt x="8236" y="9775"/>
                </a:cubicBezTo>
                <a:cubicBezTo>
                  <a:pt x="8212" y="9762"/>
                  <a:pt x="8190" y="9775"/>
                  <a:pt x="8179" y="9798"/>
                </a:cubicBezTo>
                <a:cubicBezTo>
                  <a:pt x="8163" y="9830"/>
                  <a:pt x="8153" y="9888"/>
                  <a:pt x="8179" y="9918"/>
                </a:cubicBezTo>
                <a:cubicBezTo>
                  <a:pt x="8194" y="9936"/>
                  <a:pt x="8232" y="9938"/>
                  <a:pt x="8250" y="9923"/>
                </a:cubicBezTo>
                <a:cubicBezTo>
                  <a:pt x="8276" y="9901"/>
                  <a:pt x="8292" y="9869"/>
                  <a:pt x="8288" y="9835"/>
                </a:cubicBezTo>
                <a:cubicBezTo>
                  <a:pt x="8285" y="9805"/>
                  <a:pt x="8265" y="9789"/>
                  <a:pt x="8236" y="9793"/>
                </a:cubicBezTo>
                <a:cubicBezTo>
                  <a:pt x="8206" y="9797"/>
                  <a:pt x="8188" y="9824"/>
                  <a:pt x="8193" y="9853"/>
                </a:cubicBezTo>
                <a:cubicBezTo>
                  <a:pt x="8196" y="9862"/>
                  <a:pt x="8200" y="9872"/>
                  <a:pt x="8203" y="9881"/>
                </a:cubicBezTo>
              </a:path>
              <a:path w="836" h="3394">
                <a:moveTo>
                  <a:pt x="7923" y="9313"/>
                </a:moveTo>
                <a:cubicBezTo>
                  <a:pt x="7930" y="9311"/>
                  <a:pt x="7925" y="9316"/>
                  <a:pt x="7932" y="9313"/>
                </a:cubicBezTo>
                <a:cubicBezTo>
                  <a:pt x="7942" y="9309"/>
                  <a:pt x="7950" y="9306"/>
                  <a:pt x="7961" y="9303"/>
                </a:cubicBezTo>
                <a:cubicBezTo>
                  <a:pt x="7975" y="9299"/>
                  <a:pt x="7988" y="9299"/>
                  <a:pt x="8003" y="9299"/>
                </a:cubicBezTo>
                <a:cubicBezTo>
                  <a:pt x="8037" y="9298"/>
                  <a:pt x="8070" y="9299"/>
                  <a:pt x="8103" y="9294"/>
                </a:cubicBezTo>
                <a:cubicBezTo>
                  <a:pt x="8124" y="9291"/>
                  <a:pt x="8144" y="9284"/>
                  <a:pt x="8165" y="9280"/>
                </a:cubicBezTo>
                <a:cubicBezTo>
                  <a:pt x="8202" y="9272"/>
                  <a:pt x="8241" y="9276"/>
                  <a:pt x="8279" y="9276"/>
                </a:cubicBezTo>
                <a:cubicBezTo>
                  <a:pt x="8347" y="9276"/>
                  <a:pt x="8416" y="9276"/>
                  <a:pt x="8483" y="9280"/>
                </a:cubicBezTo>
                <a:cubicBezTo>
                  <a:pt x="8503" y="9281"/>
                  <a:pt x="8521" y="9277"/>
                  <a:pt x="8540" y="9276"/>
                </a:cubicBezTo>
                <a:cubicBezTo>
                  <a:pt x="8557" y="9275"/>
                  <a:pt x="8565" y="9283"/>
                  <a:pt x="8577" y="9285"/>
                </a:cubicBezTo>
                <a:cubicBezTo>
                  <a:pt x="8597" y="9288"/>
                  <a:pt x="8619" y="9285"/>
                  <a:pt x="8639" y="9285"/>
                </a:cubicBezTo>
                <a:cubicBezTo>
                  <a:pt x="8634" y="9279"/>
                  <a:pt x="8631" y="9277"/>
                  <a:pt x="8625" y="9271"/>
                </a:cubicBezTo>
                <a:cubicBezTo>
                  <a:pt x="8616" y="9262"/>
                  <a:pt x="8606" y="9257"/>
                  <a:pt x="8596" y="9248"/>
                </a:cubicBezTo>
                <a:cubicBezTo>
                  <a:pt x="8576" y="9229"/>
                  <a:pt x="8563" y="9211"/>
                  <a:pt x="8549" y="9188"/>
                </a:cubicBezTo>
                <a:cubicBezTo>
                  <a:pt x="8541" y="9176"/>
                  <a:pt x="8533" y="9163"/>
                  <a:pt x="8525" y="9151"/>
                </a:cubicBezTo>
                <a:cubicBezTo>
                  <a:pt x="8516" y="9138"/>
                  <a:pt x="8501" y="9127"/>
                  <a:pt x="8492" y="9114"/>
                </a:cubicBezTo>
                <a:cubicBezTo>
                  <a:pt x="8482" y="9099"/>
                  <a:pt x="8476" y="9079"/>
                  <a:pt x="8468" y="9063"/>
                </a:cubicBezTo>
                <a:cubicBezTo>
                  <a:pt x="8460" y="9049"/>
                  <a:pt x="8448" y="9027"/>
                  <a:pt x="8435" y="9012"/>
                </a:cubicBezTo>
                <a:cubicBezTo>
                  <a:pt x="8426" y="9001"/>
                  <a:pt x="8412" y="8986"/>
                  <a:pt x="8402" y="8975"/>
                </a:cubicBezTo>
                <a:cubicBezTo>
                  <a:pt x="8390" y="8962"/>
                  <a:pt x="8379" y="8952"/>
                  <a:pt x="8369" y="8938"/>
                </a:cubicBezTo>
                <a:cubicBezTo>
                  <a:pt x="8357" y="8922"/>
                  <a:pt x="8350" y="8913"/>
                  <a:pt x="8335" y="8901"/>
                </a:cubicBezTo>
                <a:cubicBezTo>
                  <a:pt x="8325" y="8893"/>
                  <a:pt x="8316" y="8884"/>
                  <a:pt x="8307" y="8873"/>
                </a:cubicBezTo>
                <a:cubicBezTo>
                  <a:pt x="8300" y="8865"/>
                  <a:pt x="8288" y="8850"/>
                  <a:pt x="8283" y="8841"/>
                </a:cubicBezTo>
                <a:cubicBezTo>
                  <a:pt x="8275" y="8827"/>
                  <a:pt x="8269" y="8817"/>
                  <a:pt x="8260" y="8804"/>
                </a:cubicBezTo>
                <a:cubicBezTo>
                  <a:pt x="8257" y="8799"/>
                  <a:pt x="8253" y="8791"/>
                  <a:pt x="8250" y="8786"/>
                </a:cubicBezTo>
                <a:cubicBezTo>
                  <a:pt x="8245" y="8776"/>
                  <a:pt x="8241" y="8767"/>
                  <a:pt x="8236" y="8758"/>
                </a:cubicBezTo>
                <a:cubicBezTo>
                  <a:pt x="8235" y="8755"/>
                  <a:pt x="8225" y="8731"/>
                  <a:pt x="8222" y="8730"/>
                </a:cubicBezTo>
                <a:cubicBezTo>
                  <a:pt x="8217" y="8729"/>
                  <a:pt x="8219" y="8724"/>
                  <a:pt x="8212" y="8730"/>
                </a:cubicBezTo>
                <a:cubicBezTo>
                  <a:pt x="8212" y="8735"/>
                  <a:pt x="8212" y="8739"/>
                  <a:pt x="8212" y="8744"/>
                </a:cubicBezTo>
              </a:path>
              <a:path w="836" h="3394">
                <a:moveTo>
                  <a:pt x="7908" y="9303"/>
                </a:moveTo>
                <a:cubicBezTo>
                  <a:pt x="7899" y="9298"/>
                  <a:pt x="7900" y="9297"/>
                  <a:pt x="7889" y="9294"/>
                </a:cubicBezTo>
                <a:cubicBezTo>
                  <a:pt x="7887" y="9286"/>
                  <a:pt x="7884" y="9289"/>
                  <a:pt x="7875" y="9289"/>
                </a:cubicBezTo>
                <a:cubicBezTo>
                  <a:pt x="7865" y="9289"/>
                  <a:pt x="7859" y="9286"/>
                  <a:pt x="7851" y="9285"/>
                </a:cubicBezTo>
                <a:cubicBezTo>
                  <a:pt x="7836" y="9282"/>
                  <a:pt x="7819" y="9285"/>
                  <a:pt x="7804" y="9285"/>
                </a:cubicBezTo>
                <a:cubicBezTo>
                  <a:pt x="7804" y="9293"/>
                  <a:pt x="7804" y="9300"/>
                  <a:pt x="7804" y="9308"/>
                </a:cubicBezTo>
              </a:path>
              <a:path w="836" h="3394">
                <a:moveTo>
                  <a:pt x="7861" y="10519"/>
                </a:moveTo>
                <a:cubicBezTo>
                  <a:pt x="7862" y="10509"/>
                  <a:pt x="7866" y="10490"/>
                  <a:pt x="7866" y="10487"/>
                </a:cubicBezTo>
                <a:cubicBezTo>
                  <a:pt x="7868" y="10470"/>
                  <a:pt x="7867" y="10472"/>
                  <a:pt x="7875" y="10459"/>
                </a:cubicBezTo>
                <a:cubicBezTo>
                  <a:pt x="7881" y="10450"/>
                  <a:pt x="7888" y="10444"/>
                  <a:pt x="7894" y="10436"/>
                </a:cubicBezTo>
                <a:cubicBezTo>
                  <a:pt x="7898" y="10431"/>
                  <a:pt x="7904" y="10423"/>
                  <a:pt x="7908" y="10417"/>
                </a:cubicBezTo>
                <a:cubicBezTo>
                  <a:pt x="7913" y="10410"/>
                  <a:pt x="7919" y="10399"/>
                  <a:pt x="7923" y="10390"/>
                </a:cubicBezTo>
                <a:cubicBezTo>
                  <a:pt x="7929" y="10379"/>
                  <a:pt x="7934" y="10367"/>
                  <a:pt x="7942" y="10357"/>
                </a:cubicBezTo>
                <a:cubicBezTo>
                  <a:pt x="7951" y="10346"/>
                  <a:pt x="7962" y="10345"/>
                  <a:pt x="7970" y="10339"/>
                </a:cubicBezTo>
                <a:cubicBezTo>
                  <a:pt x="7987" y="10326"/>
                  <a:pt x="8001" y="10314"/>
                  <a:pt x="8018" y="10302"/>
                </a:cubicBezTo>
                <a:cubicBezTo>
                  <a:pt x="8031" y="10293"/>
                  <a:pt x="8043" y="10286"/>
                  <a:pt x="8056" y="10279"/>
                </a:cubicBezTo>
                <a:cubicBezTo>
                  <a:pt x="8067" y="10273"/>
                  <a:pt x="8078" y="10266"/>
                  <a:pt x="8089" y="10260"/>
                </a:cubicBezTo>
                <a:cubicBezTo>
                  <a:pt x="8106" y="10251"/>
                  <a:pt x="8125" y="10243"/>
                  <a:pt x="8141" y="10237"/>
                </a:cubicBezTo>
                <a:cubicBezTo>
                  <a:pt x="8155" y="10232"/>
                  <a:pt x="8163" y="10228"/>
                  <a:pt x="8174" y="10223"/>
                </a:cubicBezTo>
                <a:cubicBezTo>
                  <a:pt x="8180" y="10220"/>
                  <a:pt x="8187" y="10218"/>
                  <a:pt x="8193" y="10214"/>
                </a:cubicBezTo>
                <a:cubicBezTo>
                  <a:pt x="8199" y="10211"/>
                  <a:pt x="8197" y="10212"/>
                  <a:pt x="8203" y="10209"/>
                </a:cubicBezTo>
                <a:cubicBezTo>
                  <a:pt x="8207" y="10214"/>
                  <a:pt x="8211" y="10216"/>
                  <a:pt x="8217" y="10223"/>
                </a:cubicBezTo>
                <a:cubicBezTo>
                  <a:pt x="8222" y="10229"/>
                  <a:pt x="8233" y="10236"/>
                  <a:pt x="8241" y="10242"/>
                </a:cubicBezTo>
                <a:cubicBezTo>
                  <a:pt x="8250" y="10249"/>
                  <a:pt x="8260" y="10257"/>
                  <a:pt x="8269" y="10265"/>
                </a:cubicBezTo>
                <a:cubicBezTo>
                  <a:pt x="8284" y="10278"/>
                  <a:pt x="8296" y="10286"/>
                  <a:pt x="8312" y="10297"/>
                </a:cubicBezTo>
                <a:cubicBezTo>
                  <a:pt x="8329" y="10309"/>
                  <a:pt x="8340" y="10319"/>
                  <a:pt x="8354" y="10334"/>
                </a:cubicBezTo>
                <a:cubicBezTo>
                  <a:pt x="8365" y="10346"/>
                  <a:pt x="8377" y="10367"/>
                  <a:pt x="8392" y="10376"/>
                </a:cubicBezTo>
                <a:cubicBezTo>
                  <a:pt x="8411" y="10387"/>
                  <a:pt x="8418" y="10400"/>
                  <a:pt x="8435" y="10413"/>
                </a:cubicBezTo>
                <a:cubicBezTo>
                  <a:pt x="8448" y="10423"/>
                  <a:pt x="8461" y="10430"/>
                  <a:pt x="8473" y="10440"/>
                </a:cubicBezTo>
                <a:cubicBezTo>
                  <a:pt x="8480" y="10446"/>
                  <a:pt x="8486" y="10452"/>
                  <a:pt x="8492" y="10459"/>
                </a:cubicBezTo>
                <a:cubicBezTo>
                  <a:pt x="8496" y="10463"/>
                  <a:pt x="8501" y="10471"/>
                  <a:pt x="8506" y="10477"/>
                </a:cubicBezTo>
                <a:cubicBezTo>
                  <a:pt x="8514" y="10486"/>
                  <a:pt x="8519" y="10497"/>
                  <a:pt x="8525" y="10505"/>
                </a:cubicBezTo>
                <a:cubicBezTo>
                  <a:pt x="8532" y="10515"/>
                  <a:pt x="8528" y="10515"/>
                  <a:pt x="8540" y="10524"/>
                </a:cubicBezTo>
                <a:cubicBezTo>
                  <a:pt x="8548" y="10530"/>
                  <a:pt x="8553" y="10530"/>
                  <a:pt x="8559" y="10537"/>
                </a:cubicBezTo>
                <a:cubicBezTo>
                  <a:pt x="8562" y="10540"/>
                  <a:pt x="8565" y="10553"/>
                  <a:pt x="8568" y="10556"/>
                </a:cubicBezTo>
                <a:cubicBezTo>
                  <a:pt x="8574" y="10564"/>
                  <a:pt x="8581" y="10570"/>
                  <a:pt x="8587" y="10579"/>
                </a:cubicBezTo>
                <a:cubicBezTo>
                  <a:pt x="8594" y="10589"/>
                  <a:pt x="8594" y="10589"/>
                  <a:pt x="8601" y="10598"/>
                </a:cubicBezTo>
                <a:cubicBezTo>
                  <a:pt x="8607" y="10606"/>
                  <a:pt x="8606" y="10607"/>
                  <a:pt x="8611" y="10616"/>
                </a:cubicBezTo>
              </a:path>
              <a:path w="836" h="3394">
                <a:moveTo>
                  <a:pt x="8231" y="7223"/>
                </a:moveTo>
                <a:cubicBezTo>
                  <a:pt x="8230" y="7231"/>
                  <a:pt x="8227" y="7234"/>
                  <a:pt x="8226" y="7242"/>
                </a:cubicBezTo>
                <a:cubicBezTo>
                  <a:pt x="8223" y="7274"/>
                  <a:pt x="8223" y="7307"/>
                  <a:pt x="8222" y="7339"/>
                </a:cubicBezTo>
                <a:cubicBezTo>
                  <a:pt x="8221" y="7383"/>
                  <a:pt x="8216" y="7423"/>
                  <a:pt x="8212" y="7464"/>
                </a:cubicBezTo>
                <a:cubicBezTo>
                  <a:pt x="8195" y="7640"/>
                  <a:pt x="8207" y="7834"/>
                  <a:pt x="8217" y="8009"/>
                </a:cubicBezTo>
                <a:cubicBezTo>
                  <a:pt x="8227" y="8177"/>
                  <a:pt x="8217" y="8349"/>
                  <a:pt x="8217" y="8518"/>
                </a:cubicBezTo>
              </a:path>
              <a:path w="836" h="3394">
                <a:moveTo>
                  <a:pt x="8022" y="8305"/>
                </a:moveTo>
                <a:cubicBezTo>
                  <a:pt x="8032" y="8316"/>
                  <a:pt x="8038" y="8324"/>
                  <a:pt x="8046" y="8337"/>
                </a:cubicBezTo>
                <a:cubicBezTo>
                  <a:pt x="8053" y="8350"/>
                  <a:pt x="8064" y="8361"/>
                  <a:pt x="8070" y="8374"/>
                </a:cubicBezTo>
                <a:cubicBezTo>
                  <a:pt x="8078" y="8390"/>
                  <a:pt x="8083" y="8410"/>
                  <a:pt x="8093" y="8425"/>
                </a:cubicBezTo>
                <a:cubicBezTo>
                  <a:pt x="8107" y="8446"/>
                  <a:pt x="8122" y="8469"/>
                  <a:pt x="8136" y="8490"/>
                </a:cubicBezTo>
                <a:cubicBezTo>
                  <a:pt x="8151" y="8513"/>
                  <a:pt x="8168" y="8534"/>
                  <a:pt x="8184" y="8555"/>
                </a:cubicBezTo>
                <a:cubicBezTo>
                  <a:pt x="8198" y="8573"/>
                  <a:pt x="8212" y="8591"/>
                  <a:pt x="8222" y="8610"/>
                </a:cubicBezTo>
                <a:cubicBezTo>
                  <a:pt x="8229" y="8623"/>
                  <a:pt x="8239" y="8635"/>
                  <a:pt x="8245" y="8647"/>
                </a:cubicBezTo>
                <a:cubicBezTo>
                  <a:pt x="8251" y="8659"/>
                  <a:pt x="8255" y="8669"/>
                  <a:pt x="8264" y="8679"/>
                </a:cubicBezTo>
                <a:cubicBezTo>
                  <a:pt x="8266" y="8681"/>
                  <a:pt x="8271" y="8689"/>
                  <a:pt x="8279" y="8684"/>
                </a:cubicBezTo>
                <a:cubicBezTo>
                  <a:pt x="8288" y="8679"/>
                  <a:pt x="8307" y="8647"/>
                  <a:pt x="8312" y="8638"/>
                </a:cubicBezTo>
                <a:cubicBezTo>
                  <a:pt x="8324" y="8618"/>
                  <a:pt x="8336" y="8606"/>
                  <a:pt x="8350" y="8587"/>
                </a:cubicBezTo>
                <a:cubicBezTo>
                  <a:pt x="8374" y="8555"/>
                  <a:pt x="8398" y="8523"/>
                  <a:pt x="8421" y="8490"/>
                </a:cubicBezTo>
                <a:cubicBezTo>
                  <a:pt x="8448" y="8451"/>
                  <a:pt x="8477" y="8412"/>
                  <a:pt x="8506" y="8374"/>
                </a:cubicBezTo>
                <a:cubicBezTo>
                  <a:pt x="8523" y="8352"/>
                  <a:pt x="8541" y="8316"/>
                  <a:pt x="8568" y="8305"/>
                </a:cubicBezTo>
                <a:cubicBezTo>
                  <a:pt x="8571" y="8305"/>
                  <a:pt x="8574" y="8305"/>
                  <a:pt x="8577" y="8305"/>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886200" y="1657440"/>
            <a:ext cx="241200" cy="218880"/>
          </a:xfrm>
          <a:custGeom>
            <a:avLst/>
            <a:gdLst/>
            <a:ahLst/>
            <a:rect l="l" t="t" r="r" b="b"/>
            <a:pathLst>
              <a:path w="670" h="611">
                <a:moveTo>
                  <a:pt x="11088" y="4603"/>
                </a:moveTo>
                <a:cubicBezTo>
                  <a:pt x="11077" y="4610"/>
                  <a:pt x="11081" y="4600"/>
                  <a:pt x="11069" y="4612"/>
                </a:cubicBezTo>
                <a:cubicBezTo>
                  <a:pt x="11054" y="4627"/>
                  <a:pt x="11042" y="4646"/>
                  <a:pt x="11026" y="4663"/>
                </a:cubicBezTo>
                <a:cubicBezTo>
                  <a:pt x="10998" y="4693"/>
                  <a:pt x="10975" y="4727"/>
                  <a:pt x="10950" y="4760"/>
                </a:cubicBezTo>
                <a:cubicBezTo>
                  <a:pt x="10922" y="4797"/>
                  <a:pt x="10901" y="4835"/>
                  <a:pt x="10879" y="4875"/>
                </a:cubicBezTo>
                <a:cubicBezTo>
                  <a:pt x="10858" y="4912"/>
                  <a:pt x="10830" y="4948"/>
                  <a:pt x="10813" y="4986"/>
                </a:cubicBezTo>
                <a:cubicBezTo>
                  <a:pt x="10807" y="4999"/>
                  <a:pt x="10808" y="5016"/>
                  <a:pt x="10803" y="5028"/>
                </a:cubicBezTo>
                <a:cubicBezTo>
                  <a:pt x="10799" y="5037"/>
                  <a:pt x="10796" y="5029"/>
                  <a:pt x="10794" y="5042"/>
                </a:cubicBezTo>
                <a:cubicBezTo>
                  <a:pt x="10792" y="5052"/>
                  <a:pt x="10795" y="5064"/>
                  <a:pt x="10794" y="5074"/>
                </a:cubicBezTo>
                <a:cubicBezTo>
                  <a:pt x="10810" y="5079"/>
                  <a:pt x="10809" y="5075"/>
                  <a:pt x="10827" y="5083"/>
                </a:cubicBezTo>
                <a:cubicBezTo>
                  <a:pt x="10835" y="5087"/>
                  <a:pt x="10848" y="5089"/>
                  <a:pt x="10855" y="5093"/>
                </a:cubicBezTo>
                <a:cubicBezTo>
                  <a:pt x="10863" y="5097"/>
                  <a:pt x="10871" y="5106"/>
                  <a:pt x="10879" y="5111"/>
                </a:cubicBezTo>
                <a:cubicBezTo>
                  <a:pt x="10890" y="5118"/>
                  <a:pt x="10907" y="5121"/>
                  <a:pt x="10917" y="5130"/>
                </a:cubicBezTo>
                <a:cubicBezTo>
                  <a:pt x="10934" y="5145"/>
                  <a:pt x="10948" y="5166"/>
                  <a:pt x="10969" y="5176"/>
                </a:cubicBezTo>
                <a:cubicBezTo>
                  <a:pt x="10989" y="5185"/>
                  <a:pt x="11007" y="5196"/>
                  <a:pt x="11026" y="5203"/>
                </a:cubicBezTo>
                <a:cubicBezTo>
                  <a:pt x="11044" y="5210"/>
                  <a:pt x="11068" y="5212"/>
                  <a:pt x="11088" y="5213"/>
                </a:cubicBezTo>
                <a:cubicBezTo>
                  <a:pt x="11105" y="5214"/>
                  <a:pt x="11130" y="5217"/>
                  <a:pt x="11145" y="5208"/>
                </a:cubicBezTo>
                <a:cubicBezTo>
                  <a:pt x="11174" y="5189"/>
                  <a:pt x="11197" y="5160"/>
                  <a:pt x="11225" y="5139"/>
                </a:cubicBezTo>
                <a:cubicBezTo>
                  <a:pt x="11244" y="5125"/>
                  <a:pt x="11256" y="5106"/>
                  <a:pt x="11278" y="5097"/>
                </a:cubicBezTo>
                <a:cubicBezTo>
                  <a:pt x="11290" y="5092"/>
                  <a:pt x="11311" y="5093"/>
                  <a:pt x="11325" y="5093"/>
                </a:cubicBezTo>
                <a:cubicBezTo>
                  <a:pt x="11348" y="5093"/>
                  <a:pt x="11376" y="5098"/>
                  <a:pt x="11396" y="5088"/>
                </a:cubicBezTo>
                <a:cubicBezTo>
                  <a:pt x="11410" y="5081"/>
                  <a:pt x="11417" y="5065"/>
                  <a:pt x="11425" y="5051"/>
                </a:cubicBezTo>
                <a:cubicBezTo>
                  <a:pt x="11433" y="5038"/>
                  <a:pt x="11443" y="5019"/>
                  <a:pt x="11448" y="5005"/>
                </a:cubicBezTo>
                <a:cubicBezTo>
                  <a:pt x="11455" y="4985"/>
                  <a:pt x="11461" y="4966"/>
                  <a:pt x="11463" y="4945"/>
                </a:cubicBezTo>
                <a:cubicBezTo>
                  <a:pt x="11465" y="4926"/>
                  <a:pt x="11465" y="4903"/>
                  <a:pt x="11458" y="4885"/>
                </a:cubicBezTo>
                <a:cubicBezTo>
                  <a:pt x="11448" y="4861"/>
                  <a:pt x="11419" y="4824"/>
                  <a:pt x="11401" y="4806"/>
                </a:cubicBezTo>
                <a:cubicBezTo>
                  <a:pt x="11376" y="4781"/>
                  <a:pt x="11349" y="4758"/>
                  <a:pt x="11325" y="4732"/>
                </a:cubicBezTo>
                <a:cubicBezTo>
                  <a:pt x="11302" y="4707"/>
                  <a:pt x="11278" y="4686"/>
                  <a:pt x="11249" y="4667"/>
                </a:cubicBezTo>
                <a:cubicBezTo>
                  <a:pt x="11226" y="4652"/>
                  <a:pt x="11202" y="4635"/>
                  <a:pt x="11178" y="4621"/>
                </a:cubicBezTo>
                <a:cubicBezTo>
                  <a:pt x="11170" y="4616"/>
                  <a:pt x="11159" y="4610"/>
                  <a:pt x="11149" y="4612"/>
                </a:cubicBezTo>
                <a:cubicBezTo>
                  <a:pt x="11149" y="4615"/>
                  <a:pt x="11149" y="4618"/>
                  <a:pt x="11149" y="462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964040" y="2297160"/>
            <a:ext cx="639720" cy="2163600"/>
          </a:xfrm>
          <a:custGeom>
            <a:avLst/>
            <a:gdLst/>
            <a:ahLst/>
            <a:rect l="l" t="t" r="r" b="b"/>
            <a:pathLst>
              <a:path w="1780" h="6010">
                <a:moveTo>
                  <a:pt x="13788" y="6821"/>
                </a:moveTo>
                <a:cubicBezTo>
                  <a:pt x="13793" y="6811"/>
                  <a:pt x="13795" y="6795"/>
                  <a:pt x="13802" y="6784"/>
                </a:cubicBezTo>
                <a:cubicBezTo>
                  <a:pt x="13823" y="6753"/>
                  <a:pt x="13859" y="6728"/>
                  <a:pt x="13883" y="6696"/>
                </a:cubicBezTo>
                <a:cubicBezTo>
                  <a:pt x="13918" y="6649"/>
                  <a:pt x="13947" y="6594"/>
                  <a:pt x="13982" y="6549"/>
                </a:cubicBezTo>
                <a:cubicBezTo>
                  <a:pt x="14007" y="6517"/>
                  <a:pt x="14034" y="6483"/>
                  <a:pt x="14063" y="6456"/>
                </a:cubicBezTo>
                <a:cubicBezTo>
                  <a:pt x="14086" y="6434"/>
                  <a:pt x="14108" y="6419"/>
                  <a:pt x="14134" y="6401"/>
                </a:cubicBezTo>
                <a:cubicBezTo>
                  <a:pt x="14151" y="6390"/>
                  <a:pt x="14166" y="6385"/>
                  <a:pt x="14186" y="6382"/>
                </a:cubicBezTo>
                <a:cubicBezTo>
                  <a:pt x="14200" y="6380"/>
                  <a:pt x="14217" y="6381"/>
                  <a:pt x="14229" y="6387"/>
                </a:cubicBezTo>
                <a:cubicBezTo>
                  <a:pt x="14247" y="6396"/>
                  <a:pt x="14266" y="6411"/>
                  <a:pt x="14277" y="6428"/>
                </a:cubicBezTo>
                <a:cubicBezTo>
                  <a:pt x="14294" y="6455"/>
                  <a:pt x="14311" y="6480"/>
                  <a:pt x="14329" y="6507"/>
                </a:cubicBezTo>
                <a:cubicBezTo>
                  <a:pt x="14351" y="6540"/>
                  <a:pt x="14369" y="6564"/>
                  <a:pt x="14400" y="6590"/>
                </a:cubicBezTo>
                <a:cubicBezTo>
                  <a:pt x="14428" y="6614"/>
                  <a:pt x="14454" y="6638"/>
                  <a:pt x="14481" y="6664"/>
                </a:cubicBezTo>
              </a:path>
              <a:path w="1780" h="6010">
                <a:moveTo>
                  <a:pt x="14258" y="6992"/>
                </a:moveTo>
                <a:cubicBezTo>
                  <a:pt x="14258" y="7001"/>
                  <a:pt x="14258" y="7002"/>
                  <a:pt x="14258" y="7011"/>
                </a:cubicBezTo>
                <a:cubicBezTo>
                  <a:pt x="14258" y="7181"/>
                  <a:pt x="14257" y="7350"/>
                  <a:pt x="14305" y="7515"/>
                </a:cubicBezTo>
                <a:cubicBezTo>
                  <a:pt x="14314" y="7547"/>
                  <a:pt x="14329" y="7586"/>
                  <a:pt x="14343" y="7616"/>
                </a:cubicBezTo>
                <a:cubicBezTo>
                  <a:pt x="14377" y="7688"/>
                  <a:pt x="14420" y="7759"/>
                  <a:pt x="14471" y="7820"/>
                </a:cubicBezTo>
                <a:cubicBezTo>
                  <a:pt x="14512" y="7870"/>
                  <a:pt x="14571" y="7906"/>
                  <a:pt x="14609" y="7958"/>
                </a:cubicBezTo>
                <a:cubicBezTo>
                  <a:pt x="14696" y="8075"/>
                  <a:pt x="14765" y="8215"/>
                  <a:pt x="14837" y="8342"/>
                </a:cubicBezTo>
                <a:cubicBezTo>
                  <a:pt x="14866" y="8394"/>
                  <a:pt x="14893" y="8446"/>
                  <a:pt x="14922" y="8499"/>
                </a:cubicBezTo>
                <a:cubicBezTo>
                  <a:pt x="15019" y="8678"/>
                  <a:pt x="15128" y="8845"/>
                  <a:pt x="15192" y="9040"/>
                </a:cubicBezTo>
                <a:cubicBezTo>
                  <a:pt x="15238" y="9179"/>
                  <a:pt x="15269" y="9322"/>
                  <a:pt x="15297" y="9465"/>
                </a:cubicBezTo>
                <a:cubicBezTo>
                  <a:pt x="15341" y="9688"/>
                  <a:pt x="15378" y="9912"/>
                  <a:pt x="15397" y="10140"/>
                </a:cubicBezTo>
                <a:cubicBezTo>
                  <a:pt x="15412" y="10322"/>
                  <a:pt x="15421" y="10504"/>
                  <a:pt x="15439" y="10685"/>
                </a:cubicBezTo>
                <a:cubicBezTo>
                  <a:pt x="15445" y="10745"/>
                  <a:pt x="15454" y="10801"/>
                  <a:pt x="15463" y="10861"/>
                </a:cubicBezTo>
                <a:cubicBezTo>
                  <a:pt x="15470" y="10909"/>
                  <a:pt x="15480" y="10956"/>
                  <a:pt x="15487" y="11004"/>
                </a:cubicBezTo>
                <a:cubicBezTo>
                  <a:pt x="15514" y="11200"/>
                  <a:pt x="15546" y="11408"/>
                  <a:pt x="15563" y="11601"/>
                </a:cubicBezTo>
                <a:cubicBezTo>
                  <a:pt x="15577" y="11762"/>
                  <a:pt x="15557" y="11919"/>
                  <a:pt x="15548" y="12077"/>
                </a:cubicBezTo>
                <a:cubicBezTo>
                  <a:pt x="15544" y="12155"/>
                  <a:pt x="15557" y="12227"/>
                  <a:pt x="15563" y="12303"/>
                </a:cubicBezTo>
                <a:cubicBezTo>
                  <a:pt x="15565" y="12332"/>
                  <a:pt x="15565" y="12363"/>
                  <a:pt x="15567" y="1239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5686560" y="1609560"/>
            <a:ext cx="1015920" cy="2065680"/>
          </a:xfrm>
          <a:custGeom>
            <a:avLst/>
            <a:gdLst/>
            <a:ahLst/>
            <a:rect l="l" t="t" r="r" b="b"/>
            <a:pathLst>
              <a:path w="2825" h="5737">
                <a:moveTo>
                  <a:pt x="16887" y="9581"/>
                </a:moveTo>
                <a:cubicBezTo>
                  <a:pt x="16873" y="9579"/>
                  <a:pt x="16866" y="9574"/>
                  <a:pt x="16853" y="9567"/>
                </a:cubicBezTo>
                <a:cubicBezTo>
                  <a:pt x="16838" y="9559"/>
                  <a:pt x="16828" y="9554"/>
                  <a:pt x="16811" y="9553"/>
                </a:cubicBezTo>
                <a:cubicBezTo>
                  <a:pt x="16795" y="9552"/>
                  <a:pt x="16774" y="9552"/>
                  <a:pt x="16763" y="9567"/>
                </a:cubicBezTo>
                <a:cubicBezTo>
                  <a:pt x="16754" y="9578"/>
                  <a:pt x="16753" y="9615"/>
                  <a:pt x="16763" y="9627"/>
                </a:cubicBezTo>
                <a:cubicBezTo>
                  <a:pt x="16782" y="9650"/>
                  <a:pt x="16806" y="9654"/>
                  <a:pt x="16834" y="9655"/>
                </a:cubicBezTo>
                <a:cubicBezTo>
                  <a:pt x="16858" y="9656"/>
                  <a:pt x="16895" y="9654"/>
                  <a:pt x="16906" y="9627"/>
                </a:cubicBezTo>
                <a:cubicBezTo>
                  <a:pt x="16917" y="9600"/>
                  <a:pt x="16893" y="9582"/>
                  <a:pt x="16877" y="9567"/>
                </a:cubicBezTo>
                <a:cubicBezTo>
                  <a:pt x="16852" y="9543"/>
                  <a:pt x="16821" y="9536"/>
                  <a:pt x="16787" y="9539"/>
                </a:cubicBezTo>
                <a:cubicBezTo>
                  <a:pt x="16768" y="9541"/>
                  <a:pt x="16724" y="9553"/>
                  <a:pt x="16716" y="9571"/>
                </a:cubicBezTo>
                <a:cubicBezTo>
                  <a:pt x="16716" y="9574"/>
                  <a:pt x="16716" y="9578"/>
                  <a:pt x="16716" y="9581"/>
                </a:cubicBezTo>
                <a:cubicBezTo>
                  <a:pt x="16720" y="9609"/>
                  <a:pt x="16732" y="9608"/>
                  <a:pt x="16763" y="9604"/>
                </a:cubicBezTo>
                <a:cubicBezTo>
                  <a:pt x="16769" y="9603"/>
                  <a:pt x="16819" y="9598"/>
                  <a:pt x="16811" y="9581"/>
                </a:cubicBezTo>
                <a:cubicBezTo>
                  <a:pt x="16808" y="9575"/>
                  <a:pt x="16788" y="9598"/>
                  <a:pt x="16787" y="9599"/>
                </a:cubicBezTo>
              </a:path>
              <a:path w="2825" h="5737">
                <a:moveTo>
                  <a:pt x="16682" y="10209"/>
                </a:moveTo>
                <a:cubicBezTo>
                  <a:pt x="16693" y="10201"/>
                  <a:pt x="16704" y="10191"/>
                  <a:pt x="16716" y="10182"/>
                </a:cubicBezTo>
                <a:cubicBezTo>
                  <a:pt x="16733" y="10169"/>
                  <a:pt x="16747" y="10154"/>
                  <a:pt x="16763" y="10140"/>
                </a:cubicBezTo>
                <a:cubicBezTo>
                  <a:pt x="16778" y="10126"/>
                  <a:pt x="16795" y="10116"/>
                  <a:pt x="16811" y="10103"/>
                </a:cubicBezTo>
                <a:cubicBezTo>
                  <a:pt x="16833" y="10085"/>
                  <a:pt x="16855" y="10069"/>
                  <a:pt x="16877" y="10052"/>
                </a:cubicBezTo>
                <a:cubicBezTo>
                  <a:pt x="16895" y="10038"/>
                  <a:pt x="16917" y="10030"/>
                  <a:pt x="16934" y="10015"/>
                </a:cubicBezTo>
                <a:cubicBezTo>
                  <a:pt x="16949" y="10002"/>
                  <a:pt x="16966" y="9989"/>
                  <a:pt x="16981" y="9978"/>
                </a:cubicBezTo>
                <a:cubicBezTo>
                  <a:pt x="16997" y="9966"/>
                  <a:pt x="17017" y="9957"/>
                  <a:pt x="17034" y="9946"/>
                </a:cubicBezTo>
                <a:cubicBezTo>
                  <a:pt x="17050" y="9936"/>
                  <a:pt x="17063" y="9923"/>
                  <a:pt x="17076" y="9909"/>
                </a:cubicBezTo>
                <a:cubicBezTo>
                  <a:pt x="17081" y="9904"/>
                  <a:pt x="17086" y="9895"/>
                  <a:pt x="17091" y="9895"/>
                </a:cubicBezTo>
                <a:cubicBezTo>
                  <a:pt x="17100" y="9895"/>
                  <a:pt x="17108" y="9908"/>
                  <a:pt x="17114" y="9913"/>
                </a:cubicBezTo>
                <a:cubicBezTo>
                  <a:pt x="17128" y="9925"/>
                  <a:pt x="17138" y="9937"/>
                  <a:pt x="17148" y="9955"/>
                </a:cubicBezTo>
                <a:cubicBezTo>
                  <a:pt x="17159" y="9975"/>
                  <a:pt x="17175" y="9992"/>
                  <a:pt x="17186" y="10011"/>
                </a:cubicBezTo>
                <a:cubicBezTo>
                  <a:pt x="17201" y="10037"/>
                  <a:pt x="17216" y="10063"/>
                  <a:pt x="17233" y="10089"/>
                </a:cubicBezTo>
                <a:cubicBezTo>
                  <a:pt x="17252" y="10118"/>
                  <a:pt x="17272" y="10137"/>
                  <a:pt x="17295" y="10163"/>
                </a:cubicBezTo>
                <a:cubicBezTo>
                  <a:pt x="17306" y="10176"/>
                  <a:pt x="17316" y="10188"/>
                  <a:pt x="17328" y="10200"/>
                </a:cubicBezTo>
              </a:path>
              <a:path w="2825" h="5737">
                <a:moveTo>
                  <a:pt x="16417" y="9118"/>
                </a:moveTo>
                <a:cubicBezTo>
                  <a:pt x="16468" y="9118"/>
                  <a:pt x="16519" y="9118"/>
                  <a:pt x="16569" y="9114"/>
                </a:cubicBezTo>
                <a:cubicBezTo>
                  <a:pt x="16598" y="9112"/>
                  <a:pt x="16625" y="9109"/>
                  <a:pt x="16654" y="9109"/>
                </a:cubicBezTo>
                <a:cubicBezTo>
                  <a:pt x="16692" y="9109"/>
                  <a:pt x="16752" y="9098"/>
                  <a:pt x="16787" y="9114"/>
                </a:cubicBezTo>
                <a:cubicBezTo>
                  <a:pt x="16812" y="9125"/>
                  <a:pt x="16834" y="9139"/>
                  <a:pt x="16863" y="9142"/>
                </a:cubicBezTo>
                <a:cubicBezTo>
                  <a:pt x="16927" y="9149"/>
                  <a:pt x="16993" y="9139"/>
                  <a:pt x="17057" y="9146"/>
                </a:cubicBezTo>
              </a:path>
              <a:path w="2825" h="5737">
                <a:moveTo>
                  <a:pt x="16640" y="4723"/>
                </a:moveTo>
                <a:cubicBezTo>
                  <a:pt x="16613" y="4740"/>
                  <a:pt x="16600" y="4726"/>
                  <a:pt x="16569" y="4755"/>
                </a:cubicBezTo>
                <a:cubicBezTo>
                  <a:pt x="16512" y="4809"/>
                  <a:pt x="16477" y="4894"/>
                  <a:pt x="16445" y="4963"/>
                </a:cubicBezTo>
                <a:cubicBezTo>
                  <a:pt x="16405" y="5048"/>
                  <a:pt x="16368" y="5136"/>
                  <a:pt x="16331" y="5222"/>
                </a:cubicBezTo>
                <a:cubicBezTo>
                  <a:pt x="16266" y="5372"/>
                  <a:pt x="16196" y="5519"/>
                  <a:pt x="16146" y="5675"/>
                </a:cubicBezTo>
                <a:cubicBezTo>
                  <a:pt x="16122" y="5750"/>
                  <a:pt x="16100" y="5827"/>
                  <a:pt x="16075" y="5901"/>
                </a:cubicBezTo>
                <a:cubicBezTo>
                  <a:pt x="16053" y="5968"/>
                  <a:pt x="16032" y="6036"/>
                  <a:pt x="16013" y="6105"/>
                </a:cubicBezTo>
                <a:cubicBezTo>
                  <a:pt x="15996" y="6169"/>
                  <a:pt x="15983" y="6235"/>
                  <a:pt x="15966" y="6299"/>
                </a:cubicBezTo>
                <a:cubicBezTo>
                  <a:pt x="15951" y="6358"/>
                  <a:pt x="15929" y="6416"/>
                  <a:pt x="15914" y="6475"/>
                </a:cubicBezTo>
                <a:cubicBezTo>
                  <a:pt x="15902" y="6526"/>
                  <a:pt x="15895" y="6576"/>
                  <a:pt x="15881" y="6627"/>
                </a:cubicBezTo>
                <a:cubicBezTo>
                  <a:pt x="15868" y="6676"/>
                  <a:pt x="15852" y="6726"/>
                  <a:pt x="15838" y="6775"/>
                </a:cubicBezTo>
                <a:cubicBezTo>
                  <a:pt x="15829" y="6807"/>
                  <a:pt x="15817" y="6839"/>
                  <a:pt x="15809" y="6872"/>
                </a:cubicBezTo>
                <a:cubicBezTo>
                  <a:pt x="15805" y="6892"/>
                  <a:pt x="15800" y="6912"/>
                  <a:pt x="15800" y="6932"/>
                </a:cubicBezTo>
                <a:cubicBezTo>
                  <a:pt x="15801" y="6970"/>
                  <a:pt x="15805" y="7011"/>
                  <a:pt x="15847" y="7034"/>
                </a:cubicBezTo>
                <a:cubicBezTo>
                  <a:pt x="15887" y="7056"/>
                  <a:pt x="15984" y="7038"/>
                  <a:pt x="16028" y="7038"/>
                </a:cubicBezTo>
                <a:cubicBezTo>
                  <a:pt x="16524" y="7040"/>
                  <a:pt x="17022" y="7049"/>
                  <a:pt x="17518" y="7038"/>
                </a:cubicBezTo>
                <a:cubicBezTo>
                  <a:pt x="17677" y="7035"/>
                  <a:pt x="17825" y="6986"/>
                  <a:pt x="17978" y="6951"/>
                </a:cubicBezTo>
                <a:cubicBezTo>
                  <a:pt x="18026" y="6940"/>
                  <a:pt x="18072" y="6927"/>
                  <a:pt x="18120" y="6918"/>
                </a:cubicBezTo>
                <a:cubicBezTo>
                  <a:pt x="18165" y="6909"/>
                  <a:pt x="18211" y="6903"/>
                  <a:pt x="18253" y="6891"/>
                </a:cubicBezTo>
                <a:cubicBezTo>
                  <a:pt x="18285" y="6882"/>
                  <a:pt x="18317" y="6865"/>
                  <a:pt x="18348" y="6854"/>
                </a:cubicBezTo>
                <a:cubicBezTo>
                  <a:pt x="18387" y="6840"/>
                  <a:pt x="18420" y="6825"/>
                  <a:pt x="18453" y="6807"/>
                </a:cubicBezTo>
                <a:cubicBezTo>
                  <a:pt x="18478" y="6793"/>
                  <a:pt x="18501" y="6771"/>
                  <a:pt x="18528" y="6761"/>
                </a:cubicBezTo>
                <a:cubicBezTo>
                  <a:pt x="18544" y="6755"/>
                  <a:pt x="18580" y="6759"/>
                  <a:pt x="18590" y="6747"/>
                </a:cubicBezTo>
                <a:cubicBezTo>
                  <a:pt x="18612" y="6723"/>
                  <a:pt x="18611" y="6740"/>
                  <a:pt x="18619" y="6701"/>
                </a:cubicBezTo>
                <a:cubicBezTo>
                  <a:pt x="18630" y="6644"/>
                  <a:pt x="18601" y="6600"/>
                  <a:pt x="18576" y="6553"/>
                </a:cubicBezTo>
                <a:cubicBezTo>
                  <a:pt x="18527" y="6460"/>
                  <a:pt x="18465" y="6381"/>
                  <a:pt x="18400" y="6299"/>
                </a:cubicBezTo>
                <a:cubicBezTo>
                  <a:pt x="18343" y="6228"/>
                  <a:pt x="18283" y="6161"/>
                  <a:pt x="18225" y="6091"/>
                </a:cubicBezTo>
                <a:cubicBezTo>
                  <a:pt x="18150" y="6001"/>
                  <a:pt x="18080" y="5909"/>
                  <a:pt x="18002" y="5823"/>
                </a:cubicBezTo>
                <a:cubicBezTo>
                  <a:pt x="17925" y="5738"/>
                  <a:pt x="17850" y="5654"/>
                  <a:pt x="17779" y="5564"/>
                </a:cubicBezTo>
                <a:cubicBezTo>
                  <a:pt x="17716" y="5484"/>
                  <a:pt x="17649" y="5410"/>
                  <a:pt x="17584" y="5333"/>
                </a:cubicBezTo>
                <a:cubicBezTo>
                  <a:pt x="17542" y="5283"/>
                  <a:pt x="17500" y="5232"/>
                  <a:pt x="17461" y="5180"/>
                </a:cubicBezTo>
                <a:cubicBezTo>
                  <a:pt x="17416" y="5119"/>
                  <a:pt x="17375" y="5054"/>
                  <a:pt x="17333" y="4991"/>
                </a:cubicBezTo>
                <a:cubicBezTo>
                  <a:pt x="17261" y="4883"/>
                  <a:pt x="17190" y="4782"/>
                  <a:pt x="17105" y="4686"/>
                </a:cubicBezTo>
                <a:cubicBezTo>
                  <a:pt x="17061" y="4637"/>
                  <a:pt x="16953" y="4488"/>
                  <a:pt x="16882" y="4478"/>
                </a:cubicBezTo>
                <a:cubicBezTo>
                  <a:pt x="16797" y="4465"/>
                  <a:pt x="16850" y="4505"/>
                  <a:pt x="16811" y="4542"/>
                </a:cubicBezTo>
              </a:path>
              <a:path w="2825" h="5737">
                <a:moveTo>
                  <a:pt x="16754" y="4880"/>
                </a:moveTo>
                <a:cubicBezTo>
                  <a:pt x="16750" y="4894"/>
                  <a:pt x="16749" y="4908"/>
                  <a:pt x="16744" y="4922"/>
                </a:cubicBezTo>
                <a:cubicBezTo>
                  <a:pt x="16731" y="4960"/>
                  <a:pt x="16715" y="4997"/>
                  <a:pt x="16697" y="5032"/>
                </a:cubicBezTo>
                <a:cubicBezTo>
                  <a:pt x="16680" y="5065"/>
                  <a:pt x="16665" y="5103"/>
                  <a:pt x="16645" y="5134"/>
                </a:cubicBezTo>
                <a:cubicBezTo>
                  <a:pt x="16623" y="5168"/>
                  <a:pt x="16611" y="5206"/>
                  <a:pt x="16588" y="5240"/>
                </a:cubicBezTo>
                <a:cubicBezTo>
                  <a:pt x="16568" y="5270"/>
                  <a:pt x="16552" y="5301"/>
                  <a:pt x="16535" y="5333"/>
                </a:cubicBezTo>
                <a:cubicBezTo>
                  <a:pt x="16527" y="5348"/>
                  <a:pt x="16517" y="5359"/>
                  <a:pt x="16512" y="5374"/>
                </a:cubicBezTo>
                <a:cubicBezTo>
                  <a:pt x="16512" y="5379"/>
                  <a:pt x="16512" y="5381"/>
                  <a:pt x="16512" y="5384"/>
                </a:cubicBezTo>
                <a:cubicBezTo>
                  <a:pt x="16519" y="5385"/>
                  <a:pt x="16545" y="5388"/>
                  <a:pt x="16559" y="5388"/>
                </a:cubicBezTo>
                <a:cubicBezTo>
                  <a:pt x="16646" y="5389"/>
                  <a:pt x="16733" y="5386"/>
                  <a:pt x="16820" y="5393"/>
                </a:cubicBezTo>
                <a:cubicBezTo>
                  <a:pt x="16861" y="5396"/>
                  <a:pt x="16902" y="5404"/>
                  <a:pt x="16943" y="5407"/>
                </a:cubicBezTo>
                <a:cubicBezTo>
                  <a:pt x="17005" y="5411"/>
                  <a:pt x="17152" y="5433"/>
                  <a:pt x="17209" y="5402"/>
                </a:cubicBezTo>
                <a:cubicBezTo>
                  <a:pt x="17231" y="5390"/>
                  <a:pt x="17222" y="5390"/>
                  <a:pt x="17228" y="5370"/>
                </a:cubicBezTo>
                <a:cubicBezTo>
                  <a:pt x="17232" y="5359"/>
                  <a:pt x="17233" y="5351"/>
                  <a:pt x="17233" y="5338"/>
                </a:cubicBezTo>
                <a:cubicBezTo>
                  <a:pt x="17233" y="5316"/>
                  <a:pt x="17229" y="5303"/>
                  <a:pt x="17223" y="5282"/>
                </a:cubicBezTo>
                <a:cubicBezTo>
                  <a:pt x="17217" y="5262"/>
                  <a:pt x="17209" y="5243"/>
                  <a:pt x="17200" y="5222"/>
                </a:cubicBezTo>
                <a:cubicBezTo>
                  <a:pt x="17184" y="5186"/>
                  <a:pt x="17171" y="5150"/>
                  <a:pt x="17162" y="5111"/>
                </a:cubicBezTo>
                <a:cubicBezTo>
                  <a:pt x="17150" y="5059"/>
                  <a:pt x="17139" y="5005"/>
                  <a:pt x="17124" y="4954"/>
                </a:cubicBezTo>
                <a:cubicBezTo>
                  <a:pt x="17114" y="4920"/>
                  <a:pt x="17112" y="4892"/>
                  <a:pt x="17095" y="4861"/>
                </a:cubicBezTo>
                <a:cubicBezTo>
                  <a:pt x="17084" y="4841"/>
                  <a:pt x="17088" y="4852"/>
                  <a:pt x="17072" y="4843"/>
                </a:cubicBezTo>
              </a:path>
              <a:path w="2825" h="5737">
                <a:moveTo>
                  <a:pt x="17152" y="4940"/>
                </a:moveTo>
                <a:cubicBezTo>
                  <a:pt x="17151" y="4931"/>
                  <a:pt x="17155" y="4918"/>
                  <a:pt x="17148" y="4912"/>
                </a:cubicBezTo>
                <a:cubicBezTo>
                  <a:pt x="17139" y="4904"/>
                  <a:pt x="17116" y="4900"/>
                  <a:pt x="17105" y="4894"/>
                </a:cubicBezTo>
                <a:cubicBezTo>
                  <a:pt x="17093" y="4888"/>
                  <a:pt x="17079" y="4877"/>
                  <a:pt x="17067" y="4871"/>
                </a:cubicBezTo>
                <a:cubicBezTo>
                  <a:pt x="17053" y="4864"/>
                  <a:pt x="17042" y="4857"/>
                  <a:pt x="17029" y="4848"/>
                </a:cubicBezTo>
                <a:cubicBezTo>
                  <a:pt x="17019" y="4841"/>
                  <a:pt x="17010" y="4839"/>
                  <a:pt x="17000" y="4834"/>
                </a:cubicBezTo>
                <a:cubicBezTo>
                  <a:pt x="16985" y="4827"/>
                  <a:pt x="16973" y="4826"/>
                  <a:pt x="16958" y="4820"/>
                </a:cubicBezTo>
                <a:cubicBezTo>
                  <a:pt x="16950" y="4817"/>
                  <a:pt x="16939" y="4806"/>
                  <a:pt x="16929" y="4801"/>
                </a:cubicBezTo>
                <a:cubicBezTo>
                  <a:pt x="16923" y="4798"/>
                  <a:pt x="16913" y="4798"/>
                  <a:pt x="16906" y="4797"/>
                </a:cubicBezTo>
                <a:cubicBezTo>
                  <a:pt x="16898" y="4796"/>
                  <a:pt x="16893" y="4796"/>
                  <a:pt x="16887" y="4801"/>
                </a:cubicBezTo>
                <a:cubicBezTo>
                  <a:pt x="16878" y="4808"/>
                  <a:pt x="16884" y="4815"/>
                  <a:pt x="16882" y="4824"/>
                </a:cubicBezTo>
                <a:cubicBezTo>
                  <a:pt x="16879" y="4836"/>
                  <a:pt x="16878" y="4831"/>
                  <a:pt x="16872" y="4838"/>
                </a:cubicBezTo>
                <a:cubicBezTo>
                  <a:pt x="16864" y="4847"/>
                  <a:pt x="16854" y="4851"/>
                  <a:pt x="16844" y="4861"/>
                </a:cubicBezTo>
                <a:cubicBezTo>
                  <a:pt x="16833" y="4872"/>
                  <a:pt x="16822" y="4879"/>
                  <a:pt x="16806" y="4889"/>
                </a:cubicBezTo>
                <a:cubicBezTo>
                  <a:pt x="16783" y="4903"/>
                  <a:pt x="16762" y="4920"/>
                  <a:pt x="16744" y="4940"/>
                </a:cubicBezTo>
                <a:cubicBezTo>
                  <a:pt x="16717" y="4970"/>
                  <a:pt x="16695" y="4999"/>
                  <a:pt x="16673" y="5032"/>
                </a:cubicBezTo>
                <a:cubicBezTo>
                  <a:pt x="16659" y="5051"/>
                  <a:pt x="16654" y="5057"/>
                  <a:pt x="16654" y="5074"/>
                </a:cubicBezTo>
              </a:path>
              <a:path w="2825" h="5737">
                <a:moveTo>
                  <a:pt x="16962" y="5901"/>
                </a:moveTo>
                <a:cubicBezTo>
                  <a:pt x="16955" y="5897"/>
                  <a:pt x="16947" y="5892"/>
                  <a:pt x="16939" y="5888"/>
                </a:cubicBezTo>
                <a:cubicBezTo>
                  <a:pt x="16929" y="5883"/>
                  <a:pt x="16912" y="5866"/>
                  <a:pt x="16906" y="5864"/>
                </a:cubicBezTo>
                <a:cubicBezTo>
                  <a:pt x="16881" y="5855"/>
                  <a:pt x="16853" y="5859"/>
                  <a:pt x="16830" y="5869"/>
                </a:cubicBezTo>
                <a:cubicBezTo>
                  <a:pt x="16799" y="5882"/>
                  <a:pt x="16784" y="5901"/>
                  <a:pt x="16782" y="5934"/>
                </a:cubicBezTo>
                <a:cubicBezTo>
                  <a:pt x="16779" y="5977"/>
                  <a:pt x="16787" y="5991"/>
                  <a:pt x="16820" y="6017"/>
                </a:cubicBezTo>
                <a:cubicBezTo>
                  <a:pt x="16847" y="6038"/>
                  <a:pt x="16892" y="6041"/>
                  <a:pt x="16925" y="6035"/>
                </a:cubicBezTo>
                <a:cubicBezTo>
                  <a:pt x="16961" y="6028"/>
                  <a:pt x="16985" y="6000"/>
                  <a:pt x="17005" y="5971"/>
                </a:cubicBezTo>
                <a:cubicBezTo>
                  <a:pt x="17024" y="5944"/>
                  <a:pt x="17031" y="5907"/>
                  <a:pt x="17024" y="5874"/>
                </a:cubicBezTo>
                <a:cubicBezTo>
                  <a:pt x="17018" y="5844"/>
                  <a:pt x="16993" y="5811"/>
                  <a:pt x="16962" y="5804"/>
                </a:cubicBezTo>
                <a:cubicBezTo>
                  <a:pt x="16905" y="5791"/>
                  <a:pt x="16867" y="5848"/>
                  <a:pt x="16863" y="5897"/>
                </a:cubicBezTo>
                <a:cubicBezTo>
                  <a:pt x="16859" y="5936"/>
                  <a:pt x="16875" y="5986"/>
                  <a:pt x="16910" y="6008"/>
                </a:cubicBezTo>
                <a:cubicBezTo>
                  <a:pt x="16938" y="6026"/>
                  <a:pt x="16995" y="6022"/>
                  <a:pt x="17024" y="6008"/>
                </a:cubicBezTo>
                <a:cubicBezTo>
                  <a:pt x="17060" y="5991"/>
                  <a:pt x="17097" y="5958"/>
                  <a:pt x="17110" y="5920"/>
                </a:cubicBezTo>
                <a:cubicBezTo>
                  <a:pt x="17118" y="5897"/>
                  <a:pt x="17116" y="5860"/>
                  <a:pt x="17091" y="5846"/>
                </a:cubicBezTo>
                <a:cubicBezTo>
                  <a:pt x="17064" y="5831"/>
                  <a:pt x="16996" y="5845"/>
                  <a:pt x="16967" y="5851"/>
                </a:cubicBezTo>
                <a:cubicBezTo>
                  <a:pt x="16917" y="5862"/>
                  <a:pt x="16889" y="5893"/>
                  <a:pt x="16872" y="5938"/>
                </a:cubicBezTo>
              </a:path>
              <a:path w="2825" h="5737">
                <a:moveTo>
                  <a:pt x="16621" y="7099"/>
                </a:moveTo>
                <a:cubicBezTo>
                  <a:pt x="16634" y="7097"/>
                  <a:pt x="16642" y="7101"/>
                  <a:pt x="16654" y="7094"/>
                </a:cubicBezTo>
                <a:cubicBezTo>
                  <a:pt x="16676" y="7081"/>
                  <a:pt x="16691" y="7062"/>
                  <a:pt x="16706" y="7043"/>
                </a:cubicBezTo>
                <a:cubicBezTo>
                  <a:pt x="16732" y="7010"/>
                  <a:pt x="16760" y="6983"/>
                  <a:pt x="16787" y="6951"/>
                </a:cubicBezTo>
                <a:cubicBezTo>
                  <a:pt x="16821" y="6911"/>
                  <a:pt x="16853" y="6869"/>
                  <a:pt x="16887" y="6830"/>
                </a:cubicBezTo>
                <a:cubicBezTo>
                  <a:pt x="16919" y="6794"/>
                  <a:pt x="16953" y="6759"/>
                  <a:pt x="16981" y="6720"/>
                </a:cubicBezTo>
                <a:cubicBezTo>
                  <a:pt x="16998" y="6696"/>
                  <a:pt x="17014" y="6676"/>
                  <a:pt x="17038" y="6659"/>
                </a:cubicBezTo>
                <a:cubicBezTo>
                  <a:pt x="17051" y="6650"/>
                  <a:pt x="17058" y="6653"/>
                  <a:pt x="17072" y="6650"/>
                </a:cubicBezTo>
                <a:cubicBezTo>
                  <a:pt x="17080" y="6649"/>
                  <a:pt x="17086" y="6646"/>
                  <a:pt x="17095" y="6646"/>
                </a:cubicBezTo>
                <a:cubicBezTo>
                  <a:pt x="17104" y="6646"/>
                  <a:pt x="17107" y="6646"/>
                  <a:pt x="17114" y="6650"/>
                </a:cubicBezTo>
                <a:cubicBezTo>
                  <a:pt x="17129" y="6659"/>
                  <a:pt x="17152" y="6697"/>
                  <a:pt x="17162" y="6710"/>
                </a:cubicBezTo>
                <a:cubicBezTo>
                  <a:pt x="17203" y="6766"/>
                  <a:pt x="17233" y="6836"/>
                  <a:pt x="17261" y="6900"/>
                </a:cubicBezTo>
                <a:cubicBezTo>
                  <a:pt x="17271" y="6924"/>
                  <a:pt x="17275" y="6932"/>
                  <a:pt x="17285" y="6946"/>
                </a:cubicBezTo>
              </a:path>
              <a:path w="2825" h="5737">
                <a:moveTo>
                  <a:pt x="16754" y="7330"/>
                </a:moveTo>
                <a:cubicBezTo>
                  <a:pt x="16754" y="7341"/>
                  <a:pt x="16754" y="7333"/>
                  <a:pt x="16754" y="7344"/>
                </a:cubicBezTo>
                <a:cubicBezTo>
                  <a:pt x="16754" y="7384"/>
                  <a:pt x="16752" y="7424"/>
                  <a:pt x="16749" y="7464"/>
                </a:cubicBezTo>
                <a:cubicBezTo>
                  <a:pt x="16743" y="7542"/>
                  <a:pt x="16747" y="7620"/>
                  <a:pt x="16744" y="7699"/>
                </a:cubicBezTo>
                <a:cubicBezTo>
                  <a:pt x="16740" y="7785"/>
                  <a:pt x="16736" y="7871"/>
                  <a:pt x="16735" y="7958"/>
                </a:cubicBezTo>
                <a:cubicBezTo>
                  <a:pt x="16734" y="8143"/>
                  <a:pt x="16723" y="8334"/>
                  <a:pt x="16739" y="851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7253280" y="1797120"/>
            <a:ext cx="757080" cy="331560"/>
          </a:xfrm>
          <a:custGeom>
            <a:avLst/>
            <a:gdLst/>
            <a:ahLst/>
            <a:rect l="l" t="t" r="r" b="b"/>
            <a:pathLst>
              <a:path w="2103" h="921">
                <a:moveTo>
                  <a:pt x="20858" y="5097"/>
                </a:moveTo>
                <a:cubicBezTo>
                  <a:pt x="20857" y="5093"/>
                  <a:pt x="20851" y="5096"/>
                  <a:pt x="20849" y="5083"/>
                </a:cubicBezTo>
                <a:cubicBezTo>
                  <a:pt x="20846" y="5059"/>
                  <a:pt x="20850" y="5051"/>
                  <a:pt x="20835" y="5032"/>
                </a:cubicBezTo>
                <a:cubicBezTo>
                  <a:pt x="20821" y="5014"/>
                  <a:pt x="20796" y="4999"/>
                  <a:pt x="20773" y="4995"/>
                </a:cubicBezTo>
                <a:cubicBezTo>
                  <a:pt x="20735" y="4989"/>
                  <a:pt x="20688" y="4986"/>
                  <a:pt x="20650" y="4991"/>
                </a:cubicBezTo>
                <a:cubicBezTo>
                  <a:pt x="20588" y="4999"/>
                  <a:pt x="20532" y="5027"/>
                  <a:pt x="20483" y="5065"/>
                </a:cubicBezTo>
                <a:cubicBezTo>
                  <a:pt x="20417" y="5116"/>
                  <a:pt x="20360" y="5177"/>
                  <a:pt x="20313" y="5245"/>
                </a:cubicBezTo>
                <a:cubicBezTo>
                  <a:pt x="20260" y="5321"/>
                  <a:pt x="20223" y="5407"/>
                  <a:pt x="20194" y="5495"/>
                </a:cubicBezTo>
                <a:cubicBezTo>
                  <a:pt x="20162" y="5590"/>
                  <a:pt x="20107" y="5769"/>
                  <a:pt x="20166" y="5864"/>
                </a:cubicBezTo>
                <a:cubicBezTo>
                  <a:pt x="20195" y="5911"/>
                  <a:pt x="20256" y="5910"/>
                  <a:pt x="20303" y="5911"/>
                </a:cubicBezTo>
                <a:cubicBezTo>
                  <a:pt x="20402" y="5914"/>
                  <a:pt x="20490" y="5892"/>
                  <a:pt x="20578" y="5851"/>
                </a:cubicBezTo>
                <a:cubicBezTo>
                  <a:pt x="20620" y="5832"/>
                  <a:pt x="20663" y="5809"/>
                  <a:pt x="20692" y="5772"/>
                </a:cubicBezTo>
                <a:cubicBezTo>
                  <a:pt x="20714" y="5744"/>
                  <a:pt x="20718" y="5728"/>
                  <a:pt x="20716" y="5693"/>
                </a:cubicBezTo>
                <a:cubicBezTo>
                  <a:pt x="20714" y="5660"/>
                  <a:pt x="20698" y="5645"/>
                  <a:pt x="20673" y="5624"/>
                </a:cubicBezTo>
                <a:cubicBezTo>
                  <a:pt x="20649" y="5604"/>
                  <a:pt x="20619" y="5591"/>
                  <a:pt x="20588" y="5587"/>
                </a:cubicBezTo>
                <a:cubicBezTo>
                  <a:pt x="20571" y="5585"/>
                  <a:pt x="20553" y="5588"/>
                  <a:pt x="20536" y="5587"/>
                </a:cubicBezTo>
                <a:cubicBezTo>
                  <a:pt x="20545" y="5588"/>
                  <a:pt x="20581" y="5592"/>
                  <a:pt x="20597" y="5592"/>
                </a:cubicBezTo>
                <a:cubicBezTo>
                  <a:pt x="20658" y="5592"/>
                  <a:pt x="20770" y="5569"/>
                  <a:pt x="20825" y="5596"/>
                </a:cubicBezTo>
                <a:cubicBezTo>
                  <a:pt x="20865" y="5616"/>
                  <a:pt x="20864" y="5634"/>
                  <a:pt x="20863" y="5675"/>
                </a:cubicBezTo>
                <a:cubicBezTo>
                  <a:pt x="20862" y="5712"/>
                  <a:pt x="20843" y="5749"/>
                  <a:pt x="20844" y="5786"/>
                </a:cubicBezTo>
                <a:cubicBezTo>
                  <a:pt x="20846" y="5787"/>
                  <a:pt x="20847" y="5789"/>
                  <a:pt x="20849" y="5790"/>
                </a:cubicBezTo>
              </a:path>
              <a:path w="2103" h="921">
                <a:moveTo>
                  <a:pt x="21309" y="5301"/>
                </a:moveTo>
                <a:cubicBezTo>
                  <a:pt x="21282" y="5314"/>
                  <a:pt x="21272" y="5319"/>
                  <a:pt x="21252" y="5347"/>
                </a:cubicBezTo>
                <a:cubicBezTo>
                  <a:pt x="21218" y="5395"/>
                  <a:pt x="21219" y="5456"/>
                  <a:pt x="21224" y="5513"/>
                </a:cubicBezTo>
                <a:cubicBezTo>
                  <a:pt x="21230" y="5579"/>
                  <a:pt x="21260" y="5660"/>
                  <a:pt x="21304" y="5712"/>
                </a:cubicBezTo>
                <a:cubicBezTo>
                  <a:pt x="21345" y="5761"/>
                  <a:pt x="21416" y="5765"/>
                  <a:pt x="21471" y="5740"/>
                </a:cubicBezTo>
                <a:cubicBezTo>
                  <a:pt x="21540" y="5709"/>
                  <a:pt x="21597" y="5641"/>
                  <a:pt x="21641" y="5582"/>
                </a:cubicBezTo>
                <a:cubicBezTo>
                  <a:pt x="21680" y="5529"/>
                  <a:pt x="21707" y="5473"/>
                  <a:pt x="21713" y="5407"/>
                </a:cubicBezTo>
                <a:cubicBezTo>
                  <a:pt x="21715" y="5381"/>
                  <a:pt x="21713" y="5363"/>
                  <a:pt x="21703" y="5347"/>
                </a:cubicBezTo>
              </a:path>
              <a:path w="2103" h="921">
                <a:moveTo>
                  <a:pt x="22239" y="5227"/>
                </a:moveTo>
                <a:cubicBezTo>
                  <a:pt x="22239" y="5253"/>
                  <a:pt x="22247" y="5271"/>
                  <a:pt x="22249" y="5296"/>
                </a:cubicBezTo>
                <a:cubicBezTo>
                  <a:pt x="22259" y="5401"/>
                  <a:pt x="22250" y="5514"/>
                  <a:pt x="22244" y="5619"/>
                </a:cubicBezTo>
                <a:cubicBezTo>
                  <a:pt x="22239" y="5704"/>
                  <a:pt x="22228" y="5789"/>
                  <a:pt x="22220" y="587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508720" y="2992320"/>
            <a:ext cx="590400" cy="1484280"/>
          </a:xfrm>
          <a:custGeom>
            <a:avLst/>
            <a:gdLst/>
            <a:ahLst/>
            <a:rect l="l" t="t" r="r" b="b"/>
            <a:pathLst>
              <a:path w="1642" h="4120">
                <a:moveTo>
                  <a:pt x="15444" y="12201"/>
                </a:moveTo>
                <a:cubicBezTo>
                  <a:pt x="15434" y="12198"/>
                  <a:pt x="15422" y="12191"/>
                  <a:pt x="15411" y="12188"/>
                </a:cubicBezTo>
                <a:cubicBezTo>
                  <a:pt x="15391" y="12183"/>
                  <a:pt x="15382" y="12177"/>
                  <a:pt x="15363" y="12169"/>
                </a:cubicBezTo>
                <a:cubicBezTo>
                  <a:pt x="15353" y="12165"/>
                  <a:pt x="15347" y="12164"/>
                  <a:pt x="15335" y="12164"/>
                </a:cubicBezTo>
                <a:cubicBezTo>
                  <a:pt x="15324" y="12164"/>
                  <a:pt x="15313" y="12164"/>
                  <a:pt x="15302" y="12164"/>
                </a:cubicBezTo>
                <a:cubicBezTo>
                  <a:pt x="15306" y="12189"/>
                  <a:pt x="15304" y="12192"/>
                  <a:pt x="15316" y="12215"/>
                </a:cubicBezTo>
                <a:cubicBezTo>
                  <a:pt x="15330" y="12241"/>
                  <a:pt x="15348" y="12272"/>
                  <a:pt x="15368" y="12294"/>
                </a:cubicBezTo>
                <a:cubicBezTo>
                  <a:pt x="15389" y="12318"/>
                  <a:pt x="15419" y="12349"/>
                  <a:pt x="15444" y="12368"/>
                </a:cubicBezTo>
                <a:cubicBezTo>
                  <a:pt x="15470" y="12387"/>
                  <a:pt x="15500" y="12395"/>
                  <a:pt x="15529" y="12409"/>
                </a:cubicBezTo>
                <a:cubicBezTo>
                  <a:pt x="15555" y="12421"/>
                  <a:pt x="15572" y="12432"/>
                  <a:pt x="15601" y="12433"/>
                </a:cubicBezTo>
                <a:cubicBezTo>
                  <a:pt x="15619" y="12433"/>
                  <a:pt x="15657" y="12440"/>
                  <a:pt x="15672" y="12428"/>
                </a:cubicBezTo>
                <a:cubicBezTo>
                  <a:pt x="15687" y="12416"/>
                  <a:pt x="15715" y="12379"/>
                  <a:pt x="15724" y="12363"/>
                </a:cubicBezTo>
                <a:cubicBezTo>
                  <a:pt x="15747" y="12323"/>
                  <a:pt x="15760" y="12276"/>
                  <a:pt x="15786" y="12238"/>
                </a:cubicBezTo>
                <a:cubicBezTo>
                  <a:pt x="15805" y="12210"/>
                  <a:pt x="15823" y="12184"/>
                  <a:pt x="15847" y="12160"/>
                </a:cubicBezTo>
              </a:path>
              <a:path w="1642" h="4120">
                <a:moveTo>
                  <a:pt x="16502" y="8314"/>
                </a:moveTo>
                <a:cubicBezTo>
                  <a:pt x="16504" y="8329"/>
                  <a:pt x="16509" y="8335"/>
                  <a:pt x="16512" y="8347"/>
                </a:cubicBezTo>
                <a:cubicBezTo>
                  <a:pt x="16519" y="8372"/>
                  <a:pt x="16525" y="8395"/>
                  <a:pt x="16535" y="8420"/>
                </a:cubicBezTo>
                <a:cubicBezTo>
                  <a:pt x="16548" y="8453"/>
                  <a:pt x="16567" y="8480"/>
                  <a:pt x="16588" y="8508"/>
                </a:cubicBezTo>
                <a:cubicBezTo>
                  <a:pt x="16607" y="8533"/>
                  <a:pt x="16623" y="8566"/>
                  <a:pt x="16640" y="8587"/>
                </a:cubicBezTo>
                <a:cubicBezTo>
                  <a:pt x="16650" y="8600"/>
                  <a:pt x="16667" y="8611"/>
                  <a:pt x="16682" y="8615"/>
                </a:cubicBezTo>
                <a:cubicBezTo>
                  <a:pt x="16692" y="8618"/>
                  <a:pt x="16703" y="8614"/>
                  <a:pt x="16711" y="8610"/>
                </a:cubicBezTo>
                <a:cubicBezTo>
                  <a:pt x="16727" y="8601"/>
                  <a:pt x="16743" y="8578"/>
                  <a:pt x="16754" y="8564"/>
                </a:cubicBezTo>
                <a:cubicBezTo>
                  <a:pt x="16777" y="8534"/>
                  <a:pt x="16803" y="8502"/>
                  <a:pt x="16830" y="8476"/>
                </a:cubicBezTo>
                <a:cubicBezTo>
                  <a:pt x="16850" y="8457"/>
                  <a:pt x="16888" y="8414"/>
                  <a:pt x="16915" y="8407"/>
                </a:cubicBezTo>
                <a:cubicBezTo>
                  <a:pt x="16924" y="8407"/>
                  <a:pt x="16934" y="8407"/>
                  <a:pt x="16943" y="8407"/>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132000" y="2448000"/>
            <a:ext cx="952560" cy="2187360"/>
          </a:xfrm>
          <a:custGeom>
            <a:avLst/>
            <a:gdLst/>
            <a:ahLst/>
            <a:rect l="l" t="t" r="r" b="b"/>
            <a:pathLst>
              <a:path w="2644" h="6079">
                <a:moveTo>
                  <a:pt x="11344" y="6803"/>
                </a:moveTo>
                <a:cubicBezTo>
                  <a:pt x="11337" y="6821"/>
                  <a:pt x="11326" y="6816"/>
                  <a:pt x="11320" y="6835"/>
                </a:cubicBezTo>
                <a:cubicBezTo>
                  <a:pt x="11271" y="6987"/>
                  <a:pt x="11250" y="7153"/>
                  <a:pt x="11225" y="7311"/>
                </a:cubicBezTo>
                <a:cubicBezTo>
                  <a:pt x="11153" y="7764"/>
                  <a:pt x="11008" y="8120"/>
                  <a:pt x="10798" y="8522"/>
                </a:cubicBezTo>
                <a:cubicBezTo>
                  <a:pt x="10645" y="8814"/>
                  <a:pt x="10481" y="9106"/>
                  <a:pt x="10314" y="9391"/>
                </a:cubicBezTo>
                <a:cubicBezTo>
                  <a:pt x="10282" y="9446"/>
                  <a:pt x="10246" y="9495"/>
                  <a:pt x="10210" y="9548"/>
                </a:cubicBezTo>
                <a:cubicBezTo>
                  <a:pt x="10055" y="9775"/>
                  <a:pt x="9996" y="9970"/>
                  <a:pt x="9939" y="10237"/>
                </a:cubicBezTo>
                <a:cubicBezTo>
                  <a:pt x="9920" y="10324"/>
                  <a:pt x="9903" y="10412"/>
                  <a:pt x="9887" y="10500"/>
                </a:cubicBezTo>
                <a:cubicBezTo>
                  <a:pt x="9848" y="10721"/>
                  <a:pt x="9861" y="10942"/>
                  <a:pt x="9863" y="11166"/>
                </a:cubicBezTo>
                <a:cubicBezTo>
                  <a:pt x="9865" y="11398"/>
                  <a:pt x="9870" y="11628"/>
                  <a:pt x="9887" y="11859"/>
                </a:cubicBezTo>
                <a:cubicBezTo>
                  <a:pt x="9907" y="12126"/>
                  <a:pt x="9839" y="12450"/>
                  <a:pt x="9892" y="12710"/>
                </a:cubicBezTo>
                <a:cubicBezTo>
                  <a:pt x="9894" y="12721"/>
                  <a:pt x="9914" y="12713"/>
                  <a:pt x="9916" y="12724"/>
                </a:cubicBezTo>
              </a:path>
              <a:path w="2644" h="6079">
                <a:moveTo>
                  <a:pt x="9688" y="12442"/>
                </a:moveTo>
                <a:cubicBezTo>
                  <a:pt x="9688" y="12434"/>
                  <a:pt x="9688" y="12427"/>
                  <a:pt x="9688" y="12419"/>
                </a:cubicBezTo>
                <a:cubicBezTo>
                  <a:pt x="9699" y="12429"/>
                  <a:pt x="9707" y="12434"/>
                  <a:pt x="9716" y="12451"/>
                </a:cubicBezTo>
                <a:cubicBezTo>
                  <a:pt x="9733" y="12483"/>
                  <a:pt x="9758" y="12512"/>
                  <a:pt x="9778" y="12543"/>
                </a:cubicBezTo>
                <a:cubicBezTo>
                  <a:pt x="9805" y="12584"/>
                  <a:pt x="9826" y="12630"/>
                  <a:pt x="9849" y="12673"/>
                </a:cubicBezTo>
                <a:cubicBezTo>
                  <a:pt x="9874" y="12720"/>
                  <a:pt x="9909" y="12776"/>
                  <a:pt x="9944" y="12816"/>
                </a:cubicBezTo>
                <a:cubicBezTo>
                  <a:pt x="9957" y="12831"/>
                  <a:pt x="9985" y="12856"/>
                  <a:pt x="10001" y="12867"/>
                </a:cubicBezTo>
                <a:cubicBezTo>
                  <a:pt x="10010" y="12873"/>
                  <a:pt x="10029" y="12875"/>
                  <a:pt x="10039" y="12876"/>
                </a:cubicBezTo>
                <a:cubicBezTo>
                  <a:pt x="10045" y="12877"/>
                  <a:pt x="10059" y="12878"/>
                  <a:pt x="10063" y="12872"/>
                </a:cubicBezTo>
                <a:cubicBezTo>
                  <a:pt x="10074" y="12857"/>
                  <a:pt x="10060" y="12814"/>
                  <a:pt x="10058" y="12798"/>
                </a:cubicBezTo>
                <a:cubicBezTo>
                  <a:pt x="10053" y="12748"/>
                  <a:pt x="10069" y="12707"/>
                  <a:pt x="10082" y="12659"/>
                </a:cubicBezTo>
                <a:cubicBezTo>
                  <a:pt x="10091" y="12626"/>
                  <a:pt x="10103" y="12575"/>
                  <a:pt x="10124" y="12548"/>
                </a:cubicBezTo>
                <a:cubicBezTo>
                  <a:pt x="10129" y="12545"/>
                  <a:pt x="10134" y="12542"/>
                  <a:pt x="10139" y="12539"/>
                </a:cubicBezTo>
              </a:path>
              <a:path w="2644" h="6079">
                <a:moveTo>
                  <a:pt x="8900" y="9692"/>
                </a:moveTo>
                <a:cubicBezTo>
                  <a:pt x="8899" y="9704"/>
                  <a:pt x="8900" y="9712"/>
                  <a:pt x="8895" y="9724"/>
                </a:cubicBezTo>
                <a:cubicBezTo>
                  <a:pt x="8892" y="9732"/>
                  <a:pt x="8886" y="9735"/>
                  <a:pt x="8881" y="9742"/>
                </a:cubicBezTo>
                <a:cubicBezTo>
                  <a:pt x="8877" y="9748"/>
                  <a:pt x="8873" y="9755"/>
                  <a:pt x="8867" y="9761"/>
                </a:cubicBezTo>
                <a:cubicBezTo>
                  <a:pt x="8858" y="9770"/>
                  <a:pt x="8847" y="9781"/>
                  <a:pt x="8838" y="9793"/>
                </a:cubicBezTo>
                <a:cubicBezTo>
                  <a:pt x="8829" y="9805"/>
                  <a:pt x="8831" y="9814"/>
                  <a:pt x="8820" y="9826"/>
                </a:cubicBezTo>
                <a:cubicBezTo>
                  <a:pt x="8811" y="9836"/>
                  <a:pt x="8803" y="9842"/>
                  <a:pt x="8796" y="9853"/>
                </a:cubicBezTo>
                <a:cubicBezTo>
                  <a:pt x="8792" y="9859"/>
                  <a:pt x="8789" y="9870"/>
                  <a:pt x="8786" y="9876"/>
                </a:cubicBezTo>
                <a:cubicBezTo>
                  <a:pt x="8782" y="9886"/>
                  <a:pt x="8778" y="9892"/>
                  <a:pt x="8772" y="9900"/>
                </a:cubicBezTo>
                <a:cubicBezTo>
                  <a:pt x="8767" y="9907"/>
                  <a:pt x="8762" y="9911"/>
                  <a:pt x="8758" y="9918"/>
                </a:cubicBezTo>
                <a:cubicBezTo>
                  <a:pt x="8755" y="9923"/>
                  <a:pt x="8746" y="9935"/>
                  <a:pt x="8744" y="9941"/>
                </a:cubicBezTo>
                <a:cubicBezTo>
                  <a:pt x="8742" y="9950"/>
                  <a:pt x="8743" y="9952"/>
                  <a:pt x="8739" y="9960"/>
                </a:cubicBezTo>
                <a:cubicBezTo>
                  <a:pt x="8736" y="9965"/>
                  <a:pt x="8732" y="9973"/>
                  <a:pt x="8729" y="9978"/>
                </a:cubicBezTo>
                <a:cubicBezTo>
                  <a:pt x="8724" y="9986"/>
                  <a:pt x="8719" y="9994"/>
                  <a:pt x="8715" y="10001"/>
                </a:cubicBezTo>
                <a:cubicBezTo>
                  <a:pt x="8712" y="10006"/>
                  <a:pt x="8713" y="10020"/>
                  <a:pt x="8710" y="10024"/>
                </a:cubicBezTo>
                <a:cubicBezTo>
                  <a:pt x="8710" y="10030"/>
                  <a:pt x="8709" y="10032"/>
                  <a:pt x="8701" y="10029"/>
                </a:cubicBezTo>
                <a:cubicBezTo>
                  <a:pt x="8757" y="10029"/>
                  <a:pt x="8813" y="10029"/>
                  <a:pt x="8867" y="10034"/>
                </a:cubicBezTo>
                <a:cubicBezTo>
                  <a:pt x="8889" y="10036"/>
                  <a:pt x="8910" y="10038"/>
                  <a:pt x="8933" y="10038"/>
                </a:cubicBezTo>
                <a:cubicBezTo>
                  <a:pt x="8977" y="10038"/>
                  <a:pt x="9022" y="10038"/>
                  <a:pt x="9066" y="1003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1990800" y="2884320"/>
            <a:ext cx="5087880" cy="3754440"/>
          </a:xfrm>
          <a:custGeom>
            <a:avLst/>
            <a:gdLst/>
            <a:ahLst/>
            <a:rect l="l" t="t" r="r" b="b"/>
            <a:pathLst>
              <a:path w="14133" h="10428">
                <a:moveTo>
                  <a:pt x="6053" y="8249"/>
                </a:moveTo>
                <a:cubicBezTo>
                  <a:pt x="6180" y="8242"/>
                  <a:pt x="6301" y="8224"/>
                  <a:pt x="6433" y="8222"/>
                </a:cubicBezTo>
                <a:cubicBezTo>
                  <a:pt x="6631" y="8219"/>
                  <a:pt x="6833" y="8221"/>
                  <a:pt x="7031" y="8236"/>
                </a:cubicBezTo>
                <a:cubicBezTo>
                  <a:pt x="7157" y="8246"/>
                  <a:pt x="7275" y="8269"/>
                  <a:pt x="7401" y="8273"/>
                </a:cubicBezTo>
                <a:cubicBezTo>
                  <a:pt x="7779" y="8285"/>
                  <a:pt x="8153" y="8188"/>
                  <a:pt x="8530" y="8129"/>
                </a:cubicBezTo>
                <a:cubicBezTo>
                  <a:pt x="9383" y="7996"/>
                  <a:pt x="10190" y="8043"/>
                  <a:pt x="11045" y="8097"/>
                </a:cubicBezTo>
                <a:cubicBezTo>
                  <a:pt x="11393" y="8119"/>
                  <a:pt x="11740" y="8142"/>
                  <a:pt x="12089" y="8166"/>
                </a:cubicBezTo>
                <a:cubicBezTo>
                  <a:pt x="13653" y="8275"/>
                  <a:pt x="15273" y="8245"/>
                  <a:pt x="16839" y="8176"/>
                </a:cubicBezTo>
                <a:cubicBezTo>
                  <a:pt x="17344" y="8154"/>
                  <a:pt x="17848" y="8131"/>
                  <a:pt x="18353" y="8120"/>
                </a:cubicBezTo>
                <a:cubicBezTo>
                  <a:pt x="18544" y="8116"/>
                  <a:pt x="19521" y="7987"/>
                  <a:pt x="19644" y="8152"/>
                </a:cubicBezTo>
                <a:cubicBezTo>
                  <a:pt x="19685" y="8206"/>
                  <a:pt x="19641" y="8280"/>
                  <a:pt x="19653" y="8347"/>
                </a:cubicBezTo>
                <a:cubicBezTo>
                  <a:pt x="19682" y="8506"/>
                  <a:pt x="19602" y="8773"/>
                  <a:pt x="19582" y="8934"/>
                </a:cubicBezTo>
                <a:cubicBezTo>
                  <a:pt x="19499" y="9592"/>
                  <a:pt x="19271" y="10174"/>
                  <a:pt x="19259" y="10852"/>
                </a:cubicBezTo>
                <a:cubicBezTo>
                  <a:pt x="19248" y="11459"/>
                  <a:pt x="19338" y="12059"/>
                  <a:pt x="19340" y="12668"/>
                </a:cubicBezTo>
                <a:cubicBezTo>
                  <a:pt x="19341" y="13174"/>
                  <a:pt x="19362" y="13660"/>
                  <a:pt x="19421" y="14161"/>
                </a:cubicBezTo>
                <a:cubicBezTo>
                  <a:pt x="19441" y="14331"/>
                  <a:pt x="19595" y="15024"/>
                  <a:pt x="19449" y="15160"/>
                </a:cubicBezTo>
                <a:cubicBezTo>
                  <a:pt x="19405" y="15201"/>
                  <a:pt x="19238" y="15173"/>
                  <a:pt x="19179" y="15192"/>
                </a:cubicBezTo>
                <a:cubicBezTo>
                  <a:pt x="18788" y="15317"/>
                  <a:pt x="18319" y="15285"/>
                  <a:pt x="17916" y="15298"/>
                </a:cubicBezTo>
                <a:cubicBezTo>
                  <a:pt x="16459" y="15345"/>
                  <a:pt x="14976" y="15401"/>
                  <a:pt x="13522" y="15294"/>
                </a:cubicBezTo>
                <a:cubicBezTo>
                  <a:pt x="11923" y="15176"/>
                  <a:pt x="10322" y="15399"/>
                  <a:pt x="8720" y="15386"/>
                </a:cubicBezTo>
                <a:cubicBezTo>
                  <a:pt x="7897" y="15379"/>
                  <a:pt x="7080" y="15271"/>
                  <a:pt x="6257" y="15252"/>
                </a:cubicBezTo>
                <a:cubicBezTo>
                  <a:pt x="6135" y="15249"/>
                  <a:pt x="5885" y="15299"/>
                  <a:pt x="5797" y="15187"/>
                </a:cubicBezTo>
                <a:cubicBezTo>
                  <a:pt x="5690" y="15050"/>
                  <a:pt x="5744" y="14658"/>
                  <a:pt x="5754" y="14503"/>
                </a:cubicBezTo>
                <a:cubicBezTo>
                  <a:pt x="5784" y="14035"/>
                  <a:pt x="5888" y="13558"/>
                  <a:pt x="5958" y="13094"/>
                </a:cubicBezTo>
                <a:cubicBezTo>
                  <a:pt x="6117" y="12046"/>
                  <a:pt x="6217" y="10970"/>
                  <a:pt x="6243" y="9909"/>
                </a:cubicBezTo>
                <a:cubicBezTo>
                  <a:pt x="6257" y="9328"/>
                  <a:pt x="6207" y="8761"/>
                  <a:pt x="6138" y="8189"/>
                </a:cubicBezTo>
              </a:path>
              <a:path w="14133" h="10428">
                <a:moveTo>
                  <a:pt x="5949" y="15839"/>
                </a:moveTo>
                <a:cubicBezTo>
                  <a:pt x="5997" y="15846"/>
                  <a:pt x="6039" y="15864"/>
                  <a:pt x="6091" y="15871"/>
                </a:cubicBezTo>
                <a:cubicBezTo>
                  <a:pt x="6237" y="15890"/>
                  <a:pt x="6380" y="15893"/>
                  <a:pt x="6532" y="15890"/>
                </a:cubicBezTo>
                <a:cubicBezTo>
                  <a:pt x="7199" y="15875"/>
                  <a:pt x="7856" y="15717"/>
                  <a:pt x="8525" y="15687"/>
                </a:cubicBezTo>
                <a:cubicBezTo>
                  <a:pt x="9087" y="15662"/>
                  <a:pt x="9640" y="15701"/>
                  <a:pt x="10200" y="15733"/>
                </a:cubicBezTo>
                <a:cubicBezTo>
                  <a:pt x="11291" y="15795"/>
                  <a:pt x="12377" y="15850"/>
                  <a:pt x="13470" y="15871"/>
                </a:cubicBezTo>
                <a:cubicBezTo>
                  <a:pt x="14808" y="15896"/>
                  <a:pt x="16135" y="15756"/>
                  <a:pt x="17475" y="15756"/>
                </a:cubicBezTo>
                <a:cubicBezTo>
                  <a:pt x="17893" y="15756"/>
                  <a:pt x="18315" y="15781"/>
                  <a:pt x="18732" y="15765"/>
                </a:cubicBezTo>
                <a:cubicBezTo>
                  <a:pt x="18972" y="15756"/>
                  <a:pt x="19215" y="15751"/>
                  <a:pt x="19440" y="15770"/>
                </a:cubicBezTo>
                <a:cubicBezTo>
                  <a:pt x="19413" y="15844"/>
                  <a:pt x="19364" y="15925"/>
                  <a:pt x="19340" y="16010"/>
                </a:cubicBezTo>
                <a:cubicBezTo>
                  <a:pt x="19229" y="16403"/>
                  <a:pt x="19264" y="16867"/>
                  <a:pt x="19288" y="17272"/>
                </a:cubicBezTo>
                <a:cubicBezTo>
                  <a:pt x="19306" y="17575"/>
                  <a:pt x="19387" y="17885"/>
                  <a:pt x="19387" y="18187"/>
                </a:cubicBezTo>
                <a:cubicBezTo>
                  <a:pt x="19387" y="18271"/>
                  <a:pt x="19364" y="18339"/>
                  <a:pt x="19359" y="18418"/>
                </a:cubicBezTo>
                <a:cubicBezTo>
                  <a:pt x="19359" y="18425"/>
                  <a:pt x="19354" y="18437"/>
                  <a:pt x="19354" y="18441"/>
                </a:cubicBezTo>
                <a:cubicBezTo>
                  <a:pt x="19262" y="18434"/>
                  <a:pt x="19169" y="18424"/>
                  <a:pt x="19074" y="18418"/>
                </a:cubicBezTo>
                <a:cubicBezTo>
                  <a:pt x="18232" y="18361"/>
                  <a:pt x="17375" y="18409"/>
                  <a:pt x="16531" y="18409"/>
                </a:cubicBezTo>
                <a:cubicBezTo>
                  <a:pt x="15347" y="18409"/>
                  <a:pt x="14186" y="18390"/>
                  <a:pt x="13005" y="18330"/>
                </a:cubicBezTo>
                <a:cubicBezTo>
                  <a:pt x="10775" y="18216"/>
                  <a:pt x="8460" y="18224"/>
                  <a:pt x="6229" y="18298"/>
                </a:cubicBezTo>
                <a:cubicBezTo>
                  <a:pt x="5996" y="18306"/>
                  <a:pt x="5763" y="18326"/>
                  <a:pt x="5531" y="18340"/>
                </a:cubicBezTo>
                <a:cubicBezTo>
                  <a:pt x="5582" y="18272"/>
                  <a:pt x="5662" y="18235"/>
                  <a:pt x="5711" y="18132"/>
                </a:cubicBezTo>
                <a:cubicBezTo>
                  <a:pt x="5906" y="17723"/>
                  <a:pt x="5881" y="17137"/>
                  <a:pt x="5934" y="16690"/>
                </a:cubicBezTo>
                <a:cubicBezTo>
                  <a:pt x="5962" y="16450"/>
                  <a:pt x="5960" y="16204"/>
                  <a:pt x="5968" y="15964"/>
                </a:cubicBezTo>
              </a:path>
              <a:path w="14133" h="10428">
                <a:moveTo>
                  <a:pt x="15809" y="14198"/>
                </a:moveTo>
                <a:cubicBezTo>
                  <a:pt x="15810" y="14207"/>
                  <a:pt x="15814" y="14212"/>
                  <a:pt x="15814" y="14221"/>
                </a:cubicBezTo>
                <a:cubicBezTo>
                  <a:pt x="15824" y="14417"/>
                  <a:pt x="15832" y="14638"/>
                  <a:pt x="15805" y="14831"/>
                </a:cubicBezTo>
                <a:cubicBezTo>
                  <a:pt x="15796" y="14894"/>
                  <a:pt x="15789" y="14957"/>
                  <a:pt x="15786" y="15021"/>
                </a:cubicBezTo>
                <a:cubicBezTo>
                  <a:pt x="15783" y="15094"/>
                  <a:pt x="15782" y="15166"/>
                  <a:pt x="15776" y="15238"/>
                </a:cubicBezTo>
                <a:cubicBezTo>
                  <a:pt x="15772" y="15289"/>
                  <a:pt x="15777" y="15340"/>
                  <a:pt x="15771" y="15391"/>
                </a:cubicBezTo>
                <a:cubicBezTo>
                  <a:pt x="15765" y="15439"/>
                  <a:pt x="15758" y="15481"/>
                  <a:pt x="15748" y="15529"/>
                </a:cubicBezTo>
                <a:cubicBezTo>
                  <a:pt x="15736" y="15587"/>
                  <a:pt x="15734" y="15646"/>
                  <a:pt x="15729" y="15705"/>
                </a:cubicBezTo>
                <a:cubicBezTo>
                  <a:pt x="15725" y="15754"/>
                  <a:pt x="15721" y="15804"/>
                  <a:pt x="15719" y="15853"/>
                </a:cubicBezTo>
                <a:cubicBezTo>
                  <a:pt x="15717" y="15905"/>
                  <a:pt x="15713" y="15964"/>
                  <a:pt x="15724" y="16015"/>
                </a:cubicBezTo>
                <a:cubicBezTo>
                  <a:pt x="15727" y="16021"/>
                  <a:pt x="15730" y="16027"/>
                  <a:pt x="15733" y="1603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4676760" y="5653080"/>
            <a:ext cx="127080" cy="263520"/>
          </a:xfrm>
          <a:custGeom>
            <a:avLst/>
            <a:gdLst/>
            <a:ahLst/>
            <a:rect l="l" t="t" r="r" b="b"/>
            <a:pathLst>
              <a:path w="352" h="731">
                <a:moveTo>
                  <a:pt x="13000" y="15705"/>
                </a:moveTo>
                <a:cubicBezTo>
                  <a:pt x="13000" y="15758"/>
                  <a:pt x="12999" y="15810"/>
                  <a:pt x="12995" y="15862"/>
                </a:cubicBezTo>
                <a:cubicBezTo>
                  <a:pt x="12991" y="15919"/>
                  <a:pt x="12991" y="15976"/>
                  <a:pt x="12991" y="16033"/>
                </a:cubicBezTo>
                <a:cubicBezTo>
                  <a:pt x="12991" y="16162"/>
                  <a:pt x="12976" y="16314"/>
                  <a:pt x="12995" y="16435"/>
                </a:cubicBezTo>
                <a:cubicBezTo>
                  <a:pt x="13007" y="16427"/>
                  <a:pt x="13019" y="16422"/>
                  <a:pt x="13029" y="16408"/>
                </a:cubicBezTo>
                <a:cubicBezTo>
                  <a:pt x="13051" y="16379"/>
                  <a:pt x="13068" y="16346"/>
                  <a:pt x="13086" y="16315"/>
                </a:cubicBezTo>
                <a:cubicBezTo>
                  <a:pt x="13114" y="16268"/>
                  <a:pt x="13136" y="16217"/>
                  <a:pt x="13166" y="16172"/>
                </a:cubicBezTo>
                <a:cubicBezTo>
                  <a:pt x="13200" y="16120"/>
                  <a:pt x="13231" y="16067"/>
                  <a:pt x="13266" y="16015"/>
                </a:cubicBezTo>
                <a:cubicBezTo>
                  <a:pt x="13292" y="15976"/>
                  <a:pt x="13335" y="15929"/>
                  <a:pt x="13342" y="15881"/>
                </a:cubicBezTo>
                <a:cubicBezTo>
                  <a:pt x="13346" y="15855"/>
                  <a:pt x="13337" y="15841"/>
                  <a:pt x="13323" y="15821"/>
                </a:cubicBezTo>
                <a:cubicBezTo>
                  <a:pt x="13309" y="15800"/>
                  <a:pt x="13295" y="15778"/>
                  <a:pt x="13275" y="15761"/>
                </a:cubicBezTo>
                <a:cubicBezTo>
                  <a:pt x="13255" y="15745"/>
                  <a:pt x="13233" y="15732"/>
                  <a:pt x="13209" y="15724"/>
                </a:cubicBezTo>
                <a:cubicBezTo>
                  <a:pt x="13179" y="15714"/>
                  <a:pt x="13145" y="15706"/>
                  <a:pt x="13114" y="15705"/>
                </a:cubicBezTo>
                <a:cubicBezTo>
                  <a:pt x="13101" y="15705"/>
                  <a:pt x="13076" y="15701"/>
                  <a:pt x="13067" y="15710"/>
                </a:cubicBezTo>
                <a:cubicBezTo>
                  <a:pt x="13067" y="15715"/>
                  <a:pt x="13067" y="15719"/>
                  <a:pt x="13067" y="1572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581800" y="5600880"/>
            <a:ext cx="183960" cy="196560"/>
          </a:xfrm>
          <a:custGeom>
            <a:avLst/>
            <a:gdLst/>
            <a:ahLst/>
            <a:rect l="l" t="t" r="r" b="b"/>
            <a:pathLst>
              <a:path w="508" h="547">
                <a:moveTo>
                  <a:pt x="15515" y="15557"/>
                </a:moveTo>
                <a:cubicBezTo>
                  <a:pt x="15512" y="15569"/>
                  <a:pt x="15504" y="15554"/>
                  <a:pt x="15515" y="15576"/>
                </a:cubicBezTo>
                <a:cubicBezTo>
                  <a:pt x="15521" y="15589"/>
                  <a:pt x="15533" y="15601"/>
                  <a:pt x="15539" y="15613"/>
                </a:cubicBezTo>
                <a:cubicBezTo>
                  <a:pt x="15551" y="15638"/>
                  <a:pt x="15559" y="15663"/>
                  <a:pt x="15572" y="15687"/>
                </a:cubicBezTo>
                <a:cubicBezTo>
                  <a:pt x="15590" y="15720"/>
                  <a:pt x="15597" y="15759"/>
                  <a:pt x="15620" y="15788"/>
                </a:cubicBezTo>
                <a:cubicBezTo>
                  <a:pt x="15643" y="15818"/>
                  <a:pt x="15674" y="15845"/>
                  <a:pt x="15695" y="15876"/>
                </a:cubicBezTo>
                <a:cubicBezTo>
                  <a:pt x="15714" y="15904"/>
                  <a:pt x="15732" y="15935"/>
                  <a:pt x="15748" y="15964"/>
                </a:cubicBezTo>
                <a:cubicBezTo>
                  <a:pt x="15764" y="15992"/>
                  <a:pt x="15774" y="16023"/>
                  <a:pt x="15790" y="16052"/>
                </a:cubicBezTo>
                <a:cubicBezTo>
                  <a:pt x="15797" y="16064"/>
                  <a:pt x="15811" y="16101"/>
                  <a:pt x="15828" y="16103"/>
                </a:cubicBezTo>
                <a:cubicBezTo>
                  <a:pt x="15856" y="16107"/>
                  <a:pt x="15860" y="16058"/>
                  <a:pt x="15866" y="16042"/>
                </a:cubicBezTo>
                <a:cubicBezTo>
                  <a:pt x="15888" y="15982"/>
                  <a:pt x="15908" y="15921"/>
                  <a:pt x="15933" y="15862"/>
                </a:cubicBezTo>
                <a:cubicBezTo>
                  <a:pt x="15955" y="15810"/>
                  <a:pt x="15979" y="15764"/>
                  <a:pt x="16013" y="15719"/>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5391000" y="4699080"/>
            <a:ext cx="354240" cy="245880"/>
          </a:xfrm>
          <a:custGeom>
            <a:avLst/>
            <a:gdLst/>
            <a:ahLst/>
            <a:rect l="l" t="t" r="r" b="b"/>
            <a:pathLst>
              <a:path w="983" h="685">
                <a:moveTo>
                  <a:pt x="15155" y="13228"/>
                </a:moveTo>
                <a:cubicBezTo>
                  <a:pt x="15155" y="13249"/>
                  <a:pt x="15150" y="13277"/>
                  <a:pt x="15159" y="13297"/>
                </a:cubicBezTo>
                <a:cubicBezTo>
                  <a:pt x="15167" y="13315"/>
                  <a:pt x="15175" y="13334"/>
                  <a:pt x="15183" y="13352"/>
                </a:cubicBezTo>
                <a:cubicBezTo>
                  <a:pt x="15195" y="13377"/>
                  <a:pt x="15200" y="13393"/>
                  <a:pt x="15216" y="13417"/>
                </a:cubicBezTo>
                <a:cubicBezTo>
                  <a:pt x="15227" y="13434"/>
                  <a:pt x="15241" y="13451"/>
                  <a:pt x="15254" y="13468"/>
                </a:cubicBezTo>
                <a:cubicBezTo>
                  <a:pt x="15267" y="13486"/>
                  <a:pt x="15278" y="13506"/>
                  <a:pt x="15292" y="13523"/>
                </a:cubicBezTo>
                <a:cubicBezTo>
                  <a:pt x="15307" y="13541"/>
                  <a:pt x="15322" y="13546"/>
                  <a:pt x="15335" y="13565"/>
                </a:cubicBezTo>
                <a:cubicBezTo>
                  <a:pt x="15345" y="13579"/>
                  <a:pt x="15353" y="13593"/>
                  <a:pt x="15363" y="13607"/>
                </a:cubicBezTo>
                <a:cubicBezTo>
                  <a:pt x="15368" y="13614"/>
                  <a:pt x="15374" y="13622"/>
                  <a:pt x="15378" y="13625"/>
                </a:cubicBezTo>
                <a:cubicBezTo>
                  <a:pt x="15382" y="13628"/>
                  <a:pt x="15383" y="13627"/>
                  <a:pt x="15387" y="13630"/>
                </a:cubicBezTo>
                <a:cubicBezTo>
                  <a:pt x="15333" y="13630"/>
                  <a:pt x="15287" y="13632"/>
                  <a:pt x="15235" y="13644"/>
                </a:cubicBezTo>
                <a:cubicBezTo>
                  <a:pt x="15196" y="13653"/>
                  <a:pt x="15160" y="13669"/>
                  <a:pt x="15121" y="13681"/>
                </a:cubicBezTo>
                <a:cubicBezTo>
                  <a:pt x="15085" y="13692"/>
                  <a:pt x="15048" y="13700"/>
                  <a:pt x="15012" y="13713"/>
                </a:cubicBezTo>
                <a:cubicBezTo>
                  <a:pt x="14990" y="13721"/>
                  <a:pt x="14983" y="13723"/>
                  <a:pt x="14974" y="13736"/>
                </a:cubicBezTo>
              </a:path>
              <a:path w="983" h="685">
                <a:moveTo>
                  <a:pt x="15411" y="13681"/>
                </a:moveTo>
                <a:cubicBezTo>
                  <a:pt x="15430" y="13679"/>
                  <a:pt x="15421" y="13678"/>
                  <a:pt x="15434" y="13667"/>
                </a:cubicBezTo>
                <a:cubicBezTo>
                  <a:pt x="15450" y="13654"/>
                  <a:pt x="15469" y="13648"/>
                  <a:pt x="15487" y="13639"/>
                </a:cubicBezTo>
                <a:cubicBezTo>
                  <a:pt x="15516" y="13624"/>
                  <a:pt x="15550" y="13604"/>
                  <a:pt x="15582" y="13597"/>
                </a:cubicBezTo>
                <a:cubicBezTo>
                  <a:pt x="15615" y="13590"/>
                  <a:pt x="15644" y="13586"/>
                  <a:pt x="15676" y="13574"/>
                </a:cubicBezTo>
              </a:path>
              <a:path w="983" h="685">
                <a:moveTo>
                  <a:pt x="15828" y="13412"/>
                </a:moveTo>
                <a:cubicBezTo>
                  <a:pt x="15820" y="13417"/>
                  <a:pt x="15809" y="13424"/>
                  <a:pt x="15800" y="13431"/>
                </a:cubicBezTo>
                <a:cubicBezTo>
                  <a:pt x="15784" y="13444"/>
                  <a:pt x="15759" y="13474"/>
                  <a:pt x="15748" y="13491"/>
                </a:cubicBezTo>
                <a:cubicBezTo>
                  <a:pt x="15726" y="13525"/>
                  <a:pt x="15719" y="13548"/>
                  <a:pt x="15719" y="13588"/>
                </a:cubicBezTo>
                <a:cubicBezTo>
                  <a:pt x="15719" y="13626"/>
                  <a:pt x="15719" y="13637"/>
                  <a:pt x="15757" y="13653"/>
                </a:cubicBezTo>
                <a:cubicBezTo>
                  <a:pt x="15777" y="13661"/>
                  <a:pt x="15811" y="13660"/>
                  <a:pt x="15833" y="13657"/>
                </a:cubicBezTo>
                <a:cubicBezTo>
                  <a:pt x="15866" y="13653"/>
                  <a:pt x="15890" y="13633"/>
                  <a:pt x="15909" y="13607"/>
                </a:cubicBezTo>
                <a:cubicBezTo>
                  <a:pt x="15935" y="13571"/>
                  <a:pt x="15946" y="13520"/>
                  <a:pt x="15952" y="13477"/>
                </a:cubicBezTo>
                <a:cubicBezTo>
                  <a:pt x="15958" y="13436"/>
                  <a:pt x="15960" y="13389"/>
                  <a:pt x="15956" y="13348"/>
                </a:cubicBezTo>
                <a:cubicBezTo>
                  <a:pt x="15953" y="13318"/>
                  <a:pt x="15940" y="13297"/>
                  <a:pt x="15909" y="13292"/>
                </a:cubicBezTo>
                <a:cubicBezTo>
                  <a:pt x="15886" y="13288"/>
                  <a:pt x="15847" y="13287"/>
                  <a:pt x="15828" y="13302"/>
                </a:cubicBezTo>
                <a:cubicBezTo>
                  <a:pt x="15796" y="13327"/>
                  <a:pt x="15782" y="13347"/>
                  <a:pt x="15767" y="13385"/>
                </a:cubicBezTo>
                <a:cubicBezTo>
                  <a:pt x="15753" y="13420"/>
                  <a:pt x="15741" y="13442"/>
                  <a:pt x="15757" y="13477"/>
                </a:cubicBezTo>
                <a:cubicBezTo>
                  <a:pt x="15766" y="13496"/>
                  <a:pt x="15776" y="13513"/>
                  <a:pt x="15800" y="13510"/>
                </a:cubicBezTo>
                <a:cubicBezTo>
                  <a:pt x="15816" y="13508"/>
                  <a:pt x="15833" y="13501"/>
                  <a:pt x="15843" y="13486"/>
                </a:cubicBezTo>
                <a:cubicBezTo>
                  <a:pt x="15856" y="13467"/>
                  <a:pt x="15857" y="13448"/>
                  <a:pt x="15857" y="13426"/>
                </a:cubicBezTo>
                <a:cubicBezTo>
                  <a:pt x="15857" y="13423"/>
                  <a:pt x="15857" y="13420"/>
                  <a:pt x="15857" y="13417"/>
                </a:cubicBezTo>
                <a:cubicBezTo>
                  <a:pt x="15836" y="13410"/>
                  <a:pt x="15828" y="13413"/>
                  <a:pt x="15809" y="13426"/>
                </a:cubicBezTo>
                <a:cubicBezTo>
                  <a:pt x="15788" y="13440"/>
                  <a:pt x="15784" y="13451"/>
                  <a:pt x="15776" y="13473"/>
                </a:cubicBezTo>
              </a:path>
              <a:path w="983" h="685">
                <a:moveTo>
                  <a:pt x="15843" y="13052"/>
                </a:moveTo>
                <a:cubicBezTo>
                  <a:pt x="15843" y="13106"/>
                  <a:pt x="15839" y="13161"/>
                  <a:pt x="15847" y="13214"/>
                </a:cubicBezTo>
                <a:cubicBezTo>
                  <a:pt x="15849" y="13223"/>
                  <a:pt x="15850" y="13232"/>
                  <a:pt x="15852" y="13241"/>
                </a:cubicBezTo>
              </a:path>
              <a:path w="983" h="685">
                <a:moveTo>
                  <a:pt x="15904" y="13690"/>
                </a:moveTo>
                <a:cubicBezTo>
                  <a:pt x="15904" y="13701"/>
                  <a:pt x="15904" y="13711"/>
                  <a:pt x="15904" y="13722"/>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5757840" y="3263760"/>
            <a:ext cx="380880" cy="309600"/>
          </a:xfrm>
          <a:custGeom>
            <a:avLst/>
            <a:gdLst/>
            <a:ahLst/>
            <a:rect l="l" t="t" r="r" b="b"/>
            <a:pathLst>
              <a:path w="1060" h="860">
                <a:moveTo>
                  <a:pt x="16127" y="9511"/>
                </a:moveTo>
                <a:cubicBezTo>
                  <a:pt x="16127" y="9512"/>
                  <a:pt x="16130" y="9525"/>
                  <a:pt x="16132" y="9530"/>
                </a:cubicBezTo>
                <a:cubicBezTo>
                  <a:pt x="16136" y="9541"/>
                  <a:pt x="16144" y="9552"/>
                  <a:pt x="16151" y="9562"/>
                </a:cubicBezTo>
                <a:cubicBezTo>
                  <a:pt x="16157" y="9572"/>
                  <a:pt x="16159" y="9580"/>
                  <a:pt x="16165" y="9590"/>
                </a:cubicBezTo>
                <a:cubicBezTo>
                  <a:pt x="16173" y="9604"/>
                  <a:pt x="16185" y="9606"/>
                  <a:pt x="16194" y="9618"/>
                </a:cubicBezTo>
                <a:cubicBezTo>
                  <a:pt x="16204" y="9630"/>
                  <a:pt x="16219" y="9642"/>
                  <a:pt x="16227" y="9655"/>
                </a:cubicBezTo>
                <a:cubicBezTo>
                  <a:pt x="16235" y="9668"/>
                  <a:pt x="16241" y="9681"/>
                  <a:pt x="16251" y="9692"/>
                </a:cubicBezTo>
                <a:cubicBezTo>
                  <a:pt x="16261" y="9704"/>
                  <a:pt x="16265" y="9717"/>
                  <a:pt x="16274" y="9729"/>
                </a:cubicBezTo>
                <a:cubicBezTo>
                  <a:pt x="16281" y="9739"/>
                  <a:pt x="16291" y="9746"/>
                  <a:pt x="16298" y="9756"/>
                </a:cubicBezTo>
                <a:cubicBezTo>
                  <a:pt x="16304" y="9764"/>
                  <a:pt x="16315" y="9772"/>
                  <a:pt x="16317" y="9779"/>
                </a:cubicBezTo>
                <a:cubicBezTo>
                  <a:pt x="16321" y="9792"/>
                  <a:pt x="16318" y="9798"/>
                  <a:pt x="16317" y="9798"/>
                </a:cubicBezTo>
                <a:cubicBezTo>
                  <a:pt x="16304" y="9806"/>
                  <a:pt x="16271" y="9798"/>
                  <a:pt x="16255" y="9803"/>
                </a:cubicBezTo>
                <a:cubicBezTo>
                  <a:pt x="16229" y="9811"/>
                  <a:pt x="16205" y="9822"/>
                  <a:pt x="16179" y="9830"/>
                </a:cubicBezTo>
                <a:cubicBezTo>
                  <a:pt x="16141" y="9841"/>
                  <a:pt x="16102" y="9857"/>
                  <a:pt x="16066" y="9872"/>
                </a:cubicBezTo>
                <a:cubicBezTo>
                  <a:pt x="16038" y="9884"/>
                  <a:pt x="16022" y="9897"/>
                  <a:pt x="16004" y="9918"/>
                </a:cubicBezTo>
                <a:cubicBezTo>
                  <a:pt x="16001" y="9921"/>
                  <a:pt x="15997" y="9924"/>
                  <a:pt x="15994" y="9927"/>
                </a:cubicBezTo>
              </a:path>
              <a:path w="1060" h="860">
                <a:moveTo>
                  <a:pt x="16763" y="9068"/>
                </a:moveTo>
                <a:cubicBezTo>
                  <a:pt x="16763" y="9130"/>
                  <a:pt x="16755" y="9192"/>
                  <a:pt x="16754" y="9252"/>
                </a:cubicBezTo>
                <a:cubicBezTo>
                  <a:pt x="16753" y="9288"/>
                  <a:pt x="16758" y="9326"/>
                  <a:pt x="16758" y="9363"/>
                </a:cubicBezTo>
                <a:cubicBezTo>
                  <a:pt x="16758" y="9385"/>
                  <a:pt x="16758" y="9391"/>
                  <a:pt x="16758" y="9405"/>
                </a:cubicBezTo>
              </a:path>
              <a:path w="1060" h="860">
                <a:moveTo>
                  <a:pt x="16365" y="9733"/>
                </a:moveTo>
                <a:cubicBezTo>
                  <a:pt x="16383" y="9730"/>
                  <a:pt x="16400" y="9720"/>
                  <a:pt x="16417" y="9715"/>
                </a:cubicBezTo>
                <a:cubicBezTo>
                  <a:pt x="16458" y="9704"/>
                  <a:pt x="16498" y="9697"/>
                  <a:pt x="16540" y="9692"/>
                </a:cubicBezTo>
                <a:cubicBezTo>
                  <a:pt x="16553" y="9690"/>
                  <a:pt x="16565" y="9689"/>
                  <a:pt x="16578" y="9687"/>
                </a:cubicBezTo>
              </a:path>
              <a:path w="1060" h="860">
                <a:moveTo>
                  <a:pt x="16887" y="9696"/>
                </a:moveTo>
                <a:cubicBezTo>
                  <a:pt x="16896" y="9709"/>
                  <a:pt x="16906" y="9716"/>
                  <a:pt x="16920" y="9724"/>
                </a:cubicBezTo>
                <a:cubicBezTo>
                  <a:pt x="16947" y="9739"/>
                  <a:pt x="16977" y="9758"/>
                  <a:pt x="17005" y="9770"/>
                </a:cubicBezTo>
                <a:cubicBezTo>
                  <a:pt x="17032" y="9778"/>
                  <a:pt x="17040" y="9780"/>
                  <a:pt x="17053" y="979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2940120" y="3370320"/>
            <a:ext cx="171360" cy="277920"/>
          </a:xfrm>
          <a:custGeom>
            <a:avLst/>
            <a:gdLst/>
            <a:ahLst/>
            <a:rect l="l" t="t" r="r" b="b"/>
            <a:pathLst>
              <a:path w="476" h="769">
                <a:moveTo>
                  <a:pt x="8184" y="9363"/>
                </a:moveTo>
                <a:cubicBezTo>
                  <a:pt x="8189" y="9372"/>
                  <a:pt x="8193" y="9376"/>
                  <a:pt x="8193" y="9387"/>
                </a:cubicBezTo>
                <a:cubicBezTo>
                  <a:pt x="8196" y="9469"/>
                  <a:pt x="8180" y="9561"/>
                  <a:pt x="8198" y="9641"/>
                </a:cubicBezTo>
                <a:cubicBezTo>
                  <a:pt x="8200" y="9649"/>
                  <a:pt x="8201" y="9656"/>
                  <a:pt x="8203" y="9664"/>
                </a:cubicBezTo>
              </a:path>
              <a:path w="476" h="769">
                <a:moveTo>
                  <a:pt x="8345" y="9881"/>
                </a:moveTo>
                <a:cubicBezTo>
                  <a:pt x="8370" y="9881"/>
                  <a:pt x="8391" y="9875"/>
                  <a:pt x="8416" y="9872"/>
                </a:cubicBezTo>
                <a:cubicBezTo>
                  <a:pt x="8477" y="9864"/>
                  <a:pt x="8539" y="9867"/>
                  <a:pt x="8601" y="9867"/>
                </a:cubicBezTo>
                <a:cubicBezTo>
                  <a:pt x="8615" y="9867"/>
                  <a:pt x="8630" y="9867"/>
                  <a:pt x="8644" y="9867"/>
                </a:cubicBezTo>
              </a:path>
              <a:path w="476" h="769">
                <a:moveTo>
                  <a:pt x="8174" y="10029"/>
                </a:moveTo>
                <a:cubicBezTo>
                  <a:pt x="8171" y="10049"/>
                  <a:pt x="8169" y="10068"/>
                  <a:pt x="8169" y="10089"/>
                </a:cubicBezTo>
                <a:cubicBezTo>
                  <a:pt x="8169" y="10109"/>
                  <a:pt x="8169" y="10117"/>
                  <a:pt x="8169" y="1013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822840" y="3751200"/>
            <a:ext cx="2309760" cy="2054160"/>
          </a:xfrm>
          <a:custGeom>
            <a:avLst/>
            <a:gdLst/>
            <a:ahLst/>
            <a:rect l="l" t="t" r="r" b="b"/>
            <a:pathLst>
              <a:path w="6417" h="5705">
                <a:moveTo>
                  <a:pt x="17034" y="10431"/>
                </a:moveTo>
                <a:cubicBezTo>
                  <a:pt x="17025" y="10440"/>
                  <a:pt x="17002" y="10412"/>
                  <a:pt x="16981" y="10436"/>
                </a:cubicBezTo>
                <a:cubicBezTo>
                  <a:pt x="16932" y="10494"/>
                  <a:pt x="16902" y="10570"/>
                  <a:pt x="16853" y="10630"/>
                </a:cubicBezTo>
                <a:cubicBezTo>
                  <a:pt x="16742" y="10766"/>
                  <a:pt x="16641" y="10842"/>
                  <a:pt x="16493" y="10930"/>
                </a:cubicBezTo>
                <a:cubicBezTo>
                  <a:pt x="16292" y="11050"/>
                  <a:pt x="16091" y="11164"/>
                  <a:pt x="15890" y="11282"/>
                </a:cubicBezTo>
                <a:cubicBezTo>
                  <a:pt x="15725" y="11379"/>
                  <a:pt x="15563" y="11498"/>
                  <a:pt x="15415" y="11619"/>
                </a:cubicBezTo>
                <a:cubicBezTo>
                  <a:pt x="15110" y="11868"/>
                  <a:pt x="14883" y="12241"/>
                  <a:pt x="14699" y="12585"/>
                </a:cubicBezTo>
                <a:cubicBezTo>
                  <a:pt x="14486" y="12984"/>
                  <a:pt x="14315" y="13391"/>
                  <a:pt x="14077" y="13778"/>
                </a:cubicBezTo>
                <a:cubicBezTo>
                  <a:pt x="13956" y="13974"/>
                  <a:pt x="13822" y="14162"/>
                  <a:pt x="13712" y="14365"/>
                </a:cubicBezTo>
                <a:cubicBezTo>
                  <a:pt x="13552" y="14662"/>
                  <a:pt x="13423" y="14978"/>
                  <a:pt x="13271" y="15280"/>
                </a:cubicBezTo>
                <a:cubicBezTo>
                  <a:pt x="13198" y="15425"/>
                  <a:pt x="13144" y="15578"/>
                  <a:pt x="13086" y="15724"/>
                </a:cubicBezTo>
                <a:cubicBezTo>
                  <a:pt x="13077" y="15746"/>
                  <a:pt x="13071" y="15761"/>
                  <a:pt x="13062" y="15784"/>
                </a:cubicBezTo>
                <a:cubicBezTo>
                  <a:pt x="13016" y="15901"/>
                  <a:pt x="12991" y="16002"/>
                  <a:pt x="12967" y="16126"/>
                </a:cubicBezTo>
              </a:path>
              <a:path w="6417" h="5705">
                <a:moveTo>
                  <a:pt x="10618" y="13727"/>
                </a:moveTo>
                <a:cubicBezTo>
                  <a:pt x="10646" y="13696"/>
                  <a:pt x="10673" y="13667"/>
                  <a:pt x="10699" y="13634"/>
                </a:cubicBezTo>
                <a:cubicBezTo>
                  <a:pt x="10795" y="13512"/>
                  <a:pt x="10857" y="13367"/>
                  <a:pt x="10931" y="13232"/>
                </a:cubicBezTo>
                <a:cubicBezTo>
                  <a:pt x="10969" y="13163"/>
                  <a:pt x="11005" y="13096"/>
                  <a:pt x="11036" y="13024"/>
                </a:cubicBezTo>
                <a:cubicBezTo>
                  <a:pt x="11068" y="12951"/>
                  <a:pt x="11103" y="12882"/>
                  <a:pt x="11130" y="12807"/>
                </a:cubicBezTo>
                <a:cubicBezTo>
                  <a:pt x="11156" y="12735"/>
                  <a:pt x="11180" y="12664"/>
                  <a:pt x="11211" y="12594"/>
                </a:cubicBezTo>
                <a:cubicBezTo>
                  <a:pt x="11249" y="12506"/>
                  <a:pt x="11297" y="12426"/>
                  <a:pt x="11330" y="12335"/>
                </a:cubicBezTo>
                <a:cubicBezTo>
                  <a:pt x="11351" y="12276"/>
                  <a:pt x="11376" y="12212"/>
                  <a:pt x="11391" y="12151"/>
                </a:cubicBezTo>
                <a:cubicBezTo>
                  <a:pt x="11407" y="12089"/>
                  <a:pt x="11422" y="12028"/>
                  <a:pt x="11439" y="11966"/>
                </a:cubicBezTo>
                <a:cubicBezTo>
                  <a:pt x="11461" y="11886"/>
                  <a:pt x="11485" y="11806"/>
                  <a:pt x="11505" y="11725"/>
                </a:cubicBezTo>
                <a:cubicBezTo>
                  <a:pt x="11516" y="11682"/>
                  <a:pt x="11525" y="11638"/>
                  <a:pt x="11539" y="11596"/>
                </a:cubicBezTo>
                <a:cubicBezTo>
                  <a:pt x="11558" y="11536"/>
                  <a:pt x="11570" y="11503"/>
                  <a:pt x="11591" y="11443"/>
                </a:cubicBezTo>
              </a:path>
              <a:path w="6417" h="5705">
                <a:moveTo>
                  <a:pt x="13465" y="11647"/>
                </a:moveTo>
                <a:cubicBezTo>
                  <a:pt x="13473" y="11692"/>
                  <a:pt x="13478" y="11717"/>
                  <a:pt x="13498" y="11762"/>
                </a:cubicBezTo>
                <a:cubicBezTo>
                  <a:pt x="13520" y="11813"/>
                  <a:pt x="13535" y="11862"/>
                  <a:pt x="13551" y="11915"/>
                </a:cubicBezTo>
                <a:cubicBezTo>
                  <a:pt x="13572" y="11983"/>
                  <a:pt x="13596" y="12048"/>
                  <a:pt x="13622" y="12114"/>
                </a:cubicBezTo>
                <a:cubicBezTo>
                  <a:pt x="13645" y="12173"/>
                  <a:pt x="13668" y="12233"/>
                  <a:pt x="13698" y="12289"/>
                </a:cubicBezTo>
                <a:cubicBezTo>
                  <a:pt x="13744" y="12374"/>
                  <a:pt x="13815" y="12445"/>
                  <a:pt x="13873" y="12520"/>
                </a:cubicBezTo>
                <a:cubicBezTo>
                  <a:pt x="13908" y="12565"/>
                  <a:pt x="13942" y="12611"/>
                  <a:pt x="13978" y="12654"/>
                </a:cubicBezTo>
                <a:cubicBezTo>
                  <a:pt x="14018" y="12701"/>
                  <a:pt x="14053" y="12750"/>
                  <a:pt x="14092" y="12798"/>
                </a:cubicBezTo>
                <a:cubicBezTo>
                  <a:pt x="14132" y="12847"/>
                  <a:pt x="14173" y="12894"/>
                  <a:pt x="14215" y="12941"/>
                </a:cubicBezTo>
                <a:cubicBezTo>
                  <a:pt x="14251" y="12981"/>
                  <a:pt x="14288" y="13020"/>
                  <a:pt x="14324" y="13061"/>
                </a:cubicBezTo>
                <a:cubicBezTo>
                  <a:pt x="14366" y="13109"/>
                  <a:pt x="14409" y="13159"/>
                  <a:pt x="14447" y="13209"/>
                </a:cubicBezTo>
                <a:cubicBezTo>
                  <a:pt x="14481" y="13253"/>
                  <a:pt x="14520" y="13291"/>
                  <a:pt x="14557" y="13334"/>
                </a:cubicBezTo>
                <a:cubicBezTo>
                  <a:pt x="14592" y="13375"/>
                  <a:pt x="14627" y="13416"/>
                  <a:pt x="14661" y="13454"/>
                </a:cubicBezTo>
                <a:cubicBezTo>
                  <a:pt x="14693" y="13490"/>
                  <a:pt x="14726" y="13522"/>
                  <a:pt x="14761" y="13556"/>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7191360" y="3781440"/>
            <a:ext cx="1712880" cy="412560"/>
          </a:xfrm>
          <a:custGeom>
            <a:avLst/>
            <a:gdLst/>
            <a:ahLst/>
            <a:rect l="l" t="t" r="r" b="b"/>
            <a:pathLst>
              <a:path w="4760" h="1147">
                <a:moveTo>
                  <a:pt x="20317" y="10903"/>
                </a:moveTo>
                <a:cubicBezTo>
                  <a:pt x="20317" y="10920"/>
                  <a:pt x="20315" y="10937"/>
                  <a:pt x="20313" y="10953"/>
                </a:cubicBezTo>
                <a:cubicBezTo>
                  <a:pt x="20310" y="10975"/>
                  <a:pt x="20300" y="10992"/>
                  <a:pt x="20294" y="11014"/>
                </a:cubicBezTo>
                <a:cubicBezTo>
                  <a:pt x="20283" y="11053"/>
                  <a:pt x="20279" y="11083"/>
                  <a:pt x="20279" y="11124"/>
                </a:cubicBezTo>
                <a:cubicBezTo>
                  <a:pt x="20279" y="11176"/>
                  <a:pt x="20283" y="11230"/>
                  <a:pt x="20275" y="11282"/>
                </a:cubicBezTo>
                <a:cubicBezTo>
                  <a:pt x="20270" y="11317"/>
                  <a:pt x="20266" y="11350"/>
                  <a:pt x="20260" y="11383"/>
                </a:cubicBezTo>
                <a:cubicBezTo>
                  <a:pt x="20258" y="11392"/>
                  <a:pt x="20260" y="11393"/>
                  <a:pt x="20260" y="11402"/>
                </a:cubicBezTo>
              </a:path>
              <a:path w="4760" h="1147">
                <a:moveTo>
                  <a:pt x="20042" y="11051"/>
                </a:moveTo>
                <a:cubicBezTo>
                  <a:pt x="20015" y="11023"/>
                  <a:pt x="19997" y="11006"/>
                  <a:pt x="19985" y="10967"/>
                </a:cubicBezTo>
                <a:cubicBezTo>
                  <a:pt x="19963" y="10894"/>
                  <a:pt x="20003" y="10815"/>
                  <a:pt x="20033" y="10750"/>
                </a:cubicBezTo>
                <a:cubicBezTo>
                  <a:pt x="20075" y="10661"/>
                  <a:pt x="20140" y="10554"/>
                  <a:pt x="20237" y="10514"/>
                </a:cubicBezTo>
                <a:cubicBezTo>
                  <a:pt x="20302" y="10487"/>
                  <a:pt x="20362" y="10517"/>
                  <a:pt x="20379" y="10584"/>
                </a:cubicBezTo>
                <a:cubicBezTo>
                  <a:pt x="20398" y="10657"/>
                  <a:pt x="20384" y="10749"/>
                  <a:pt x="20384" y="10824"/>
                </a:cubicBezTo>
                <a:cubicBezTo>
                  <a:pt x="20384" y="10916"/>
                  <a:pt x="20407" y="10979"/>
                  <a:pt x="20436" y="11064"/>
                </a:cubicBezTo>
                <a:cubicBezTo>
                  <a:pt x="20474" y="11174"/>
                  <a:pt x="20510" y="11279"/>
                  <a:pt x="20498" y="11397"/>
                </a:cubicBezTo>
                <a:cubicBezTo>
                  <a:pt x="20490" y="11472"/>
                  <a:pt x="20463" y="11618"/>
                  <a:pt x="20379" y="11647"/>
                </a:cubicBezTo>
                <a:cubicBezTo>
                  <a:pt x="20312" y="11670"/>
                  <a:pt x="20244" y="11618"/>
                  <a:pt x="20194" y="11582"/>
                </a:cubicBezTo>
                <a:cubicBezTo>
                  <a:pt x="20162" y="11559"/>
                  <a:pt x="20144" y="11534"/>
                  <a:pt x="20123" y="11503"/>
                </a:cubicBezTo>
              </a:path>
              <a:path w="4760" h="1147">
                <a:moveTo>
                  <a:pt x="20754" y="11097"/>
                </a:moveTo>
                <a:cubicBezTo>
                  <a:pt x="20729" y="11100"/>
                  <a:pt x="20724" y="11101"/>
                  <a:pt x="20707" y="11124"/>
                </a:cubicBezTo>
                <a:cubicBezTo>
                  <a:pt x="20675" y="11168"/>
                  <a:pt x="20674" y="11234"/>
                  <a:pt x="20678" y="11286"/>
                </a:cubicBezTo>
                <a:cubicBezTo>
                  <a:pt x="20685" y="11367"/>
                  <a:pt x="20719" y="11462"/>
                  <a:pt x="20782" y="11517"/>
                </a:cubicBezTo>
                <a:cubicBezTo>
                  <a:pt x="20845" y="11572"/>
                  <a:pt x="20950" y="11580"/>
                  <a:pt x="21024" y="11545"/>
                </a:cubicBezTo>
                <a:cubicBezTo>
                  <a:pt x="21116" y="11501"/>
                  <a:pt x="21199" y="11401"/>
                  <a:pt x="21247" y="11314"/>
                </a:cubicBezTo>
                <a:cubicBezTo>
                  <a:pt x="21282" y="11251"/>
                  <a:pt x="21301" y="11171"/>
                  <a:pt x="21276" y="11101"/>
                </a:cubicBezTo>
                <a:cubicBezTo>
                  <a:pt x="21263" y="11079"/>
                  <a:pt x="21259" y="11072"/>
                  <a:pt x="21243" y="11064"/>
                </a:cubicBezTo>
              </a:path>
              <a:path w="4760" h="1147">
                <a:moveTo>
                  <a:pt x="21727" y="10893"/>
                </a:moveTo>
                <a:cubicBezTo>
                  <a:pt x="21693" y="10896"/>
                  <a:pt x="21669" y="10900"/>
                  <a:pt x="21637" y="10916"/>
                </a:cubicBezTo>
                <a:cubicBezTo>
                  <a:pt x="21591" y="10939"/>
                  <a:pt x="21560" y="10971"/>
                  <a:pt x="21551" y="11023"/>
                </a:cubicBezTo>
                <a:cubicBezTo>
                  <a:pt x="21542" y="11076"/>
                  <a:pt x="21587" y="11120"/>
                  <a:pt x="21622" y="11152"/>
                </a:cubicBezTo>
                <a:cubicBezTo>
                  <a:pt x="21671" y="11197"/>
                  <a:pt x="21729" y="11235"/>
                  <a:pt x="21755" y="11300"/>
                </a:cubicBezTo>
                <a:cubicBezTo>
                  <a:pt x="21777" y="11353"/>
                  <a:pt x="21768" y="11408"/>
                  <a:pt x="21727" y="11448"/>
                </a:cubicBezTo>
                <a:cubicBezTo>
                  <a:pt x="21684" y="11490"/>
                  <a:pt x="21630" y="11519"/>
                  <a:pt x="21570" y="11527"/>
                </a:cubicBezTo>
                <a:cubicBezTo>
                  <a:pt x="21540" y="11531"/>
                  <a:pt x="21471" y="11537"/>
                  <a:pt x="21447" y="11513"/>
                </a:cubicBezTo>
                <a:cubicBezTo>
                  <a:pt x="21445" y="11508"/>
                  <a:pt x="21444" y="11504"/>
                  <a:pt x="21442" y="11499"/>
                </a:cubicBezTo>
              </a:path>
              <a:path w="4760" h="1147">
                <a:moveTo>
                  <a:pt x="22092" y="11143"/>
                </a:moveTo>
                <a:cubicBezTo>
                  <a:pt x="22078" y="11173"/>
                  <a:pt x="22054" y="11218"/>
                  <a:pt x="22049" y="11249"/>
                </a:cubicBezTo>
                <a:cubicBezTo>
                  <a:pt x="22041" y="11294"/>
                  <a:pt x="22046" y="11348"/>
                  <a:pt x="22045" y="11393"/>
                </a:cubicBezTo>
              </a:path>
              <a:path w="4760" h="1147">
                <a:moveTo>
                  <a:pt x="22197" y="10829"/>
                </a:moveTo>
                <a:cubicBezTo>
                  <a:pt x="22188" y="10816"/>
                  <a:pt x="22181" y="10807"/>
                  <a:pt x="22178" y="10792"/>
                </a:cubicBezTo>
              </a:path>
              <a:path w="4760" h="1147">
                <a:moveTo>
                  <a:pt x="22538" y="10986"/>
                </a:moveTo>
                <a:cubicBezTo>
                  <a:pt x="22519" y="11016"/>
                  <a:pt x="22509" y="11043"/>
                  <a:pt x="22500" y="11078"/>
                </a:cubicBezTo>
                <a:cubicBezTo>
                  <a:pt x="22483" y="11144"/>
                  <a:pt x="22469" y="11204"/>
                  <a:pt x="22458" y="11272"/>
                </a:cubicBezTo>
                <a:cubicBezTo>
                  <a:pt x="22449" y="11325"/>
                  <a:pt x="22448" y="11372"/>
                  <a:pt x="22448" y="11425"/>
                </a:cubicBezTo>
                <a:cubicBezTo>
                  <a:pt x="22448" y="11428"/>
                  <a:pt x="22448" y="11431"/>
                  <a:pt x="22448" y="11434"/>
                </a:cubicBezTo>
                <a:cubicBezTo>
                  <a:pt x="22466" y="11406"/>
                  <a:pt x="22490" y="11374"/>
                  <a:pt x="22510" y="11346"/>
                </a:cubicBezTo>
                <a:cubicBezTo>
                  <a:pt x="22559" y="11278"/>
                  <a:pt x="22622" y="11212"/>
                  <a:pt x="22685" y="11157"/>
                </a:cubicBezTo>
                <a:cubicBezTo>
                  <a:pt x="22727" y="11120"/>
                  <a:pt x="22775" y="11092"/>
                  <a:pt x="22828" y="11083"/>
                </a:cubicBezTo>
                <a:cubicBezTo>
                  <a:pt x="22852" y="11128"/>
                  <a:pt x="22859" y="11174"/>
                  <a:pt x="22851" y="11226"/>
                </a:cubicBezTo>
                <a:cubicBezTo>
                  <a:pt x="22840" y="11302"/>
                  <a:pt x="22823" y="11377"/>
                  <a:pt x="22813" y="11453"/>
                </a:cubicBezTo>
              </a:path>
              <a:path w="4760" h="1147">
                <a:moveTo>
                  <a:pt x="23141" y="11189"/>
                </a:moveTo>
                <a:cubicBezTo>
                  <a:pt x="23163" y="11172"/>
                  <a:pt x="23180" y="11155"/>
                  <a:pt x="23198" y="11134"/>
                </a:cubicBezTo>
                <a:cubicBezTo>
                  <a:pt x="23241" y="11083"/>
                  <a:pt x="23297" y="11056"/>
                  <a:pt x="23354" y="11023"/>
                </a:cubicBezTo>
                <a:cubicBezTo>
                  <a:pt x="23400" y="10997"/>
                  <a:pt x="23457" y="10976"/>
                  <a:pt x="23497" y="10940"/>
                </a:cubicBezTo>
                <a:cubicBezTo>
                  <a:pt x="23515" y="10924"/>
                  <a:pt x="23513" y="10908"/>
                  <a:pt x="23520" y="10889"/>
                </a:cubicBezTo>
                <a:cubicBezTo>
                  <a:pt x="23476" y="10881"/>
                  <a:pt x="23431" y="10880"/>
                  <a:pt x="23388" y="10893"/>
                </a:cubicBezTo>
                <a:cubicBezTo>
                  <a:pt x="23310" y="10916"/>
                  <a:pt x="23246" y="10962"/>
                  <a:pt x="23193" y="11023"/>
                </a:cubicBezTo>
                <a:cubicBezTo>
                  <a:pt x="23139" y="11085"/>
                  <a:pt x="23106" y="11167"/>
                  <a:pt x="23098" y="11249"/>
                </a:cubicBezTo>
                <a:cubicBezTo>
                  <a:pt x="23091" y="11325"/>
                  <a:pt x="23119" y="11361"/>
                  <a:pt x="23165" y="11416"/>
                </a:cubicBezTo>
              </a:path>
              <a:path w="4760" h="1147">
                <a:moveTo>
                  <a:pt x="24133" y="10879"/>
                </a:moveTo>
                <a:cubicBezTo>
                  <a:pt x="24101" y="10856"/>
                  <a:pt x="24072" y="10836"/>
                  <a:pt x="24033" y="10824"/>
                </a:cubicBezTo>
                <a:cubicBezTo>
                  <a:pt x="23973" y="10805"/>
                  <a:pt x="23896" y="10799"/>
                  <a:pt x="23838" y="10829"/>
                </a:cubicBezTo>
                <a:cubicBezTo>
                  <a:pt x="23787" y="10855"/>
                  <a:pt x="23773" y="10921"/>
                  <a:pt x="23777" y="10972"/>
                </a:cubicBezTo>
                <a:cubicBezTo>
                  <a:pt x="23783" y="11064"/>
                  <a:pt x="23839" y="11134"/>
                  <a:pt x="23872" y="11217"/>
                </a:cubicBezTo>
                <a:cubicBezTo>
                  <a:pt x="23888" y="11256"/>
                  <a:pt x="23903" y="11316"/>
                  <a:pt x="23876" y="11356"/>
                </a:cubicBezTo>
                <a:cubicBezTo>
                  <a:pt x="23856" y="11385"/>
                  <a:pt x="23795" y="11395"/>
                  <a:pt x="23763" y="11393"/>
                </a:cubicBezTo>
                <a:cubicBezTo>
                  <a:pt x="23737" y="11391"/>
                  <a:pt x="23717" y="11377"/>
                  <a:pt x="23696" y="11365"/>
                </a:cubicBezTo>
              </a:path>
              <a:path w="4760" h="1147">
                <a:moveTo>
                  <a:pt x="24735" y="10838"/>
                </a:moveTo>
                <a:cubicBezTo>
                  <a:pt x="24697" y="10842"/>
                  <a:pt x="24664" y="10850"/>
                  <a:pt x="24626" y="10861"/>
                </a:cubicBezTo>
                <a:cubicBezTo>
                  <a:pt x="24560" y="10880"/>
                  <a:pt x="24514" y="10900"/>
                  <a:pt x="24465" y="10949"/>
                </a:cubicBezTo>
                <a:cubicBezTo>
                  <a:pt x="24426" y="10989"/>
                  <a:pt x="24410" y="11032"/>
                  <a:pt x="24408" y="11087"/>
                </a:cubicBezTo>
                <a:cubicBezTo>
                  <a:pt x="24406" y="11148"/>
                  <a:pt x="24437" y="11196"/>
                  <a:pt x="24451" y="11254"/>
                </a:cubicBezTo>
                <a:cubicBezTo>
                  <a:pt x="24466" y="11318"/>
                  <a:pt x="24466" y="11386"/>
                  <a:pt x="24446" y="11448"/>
                </a:cubicBezTo>
                <a:cubicBezTo>
                  <a:pt x="24431" y="11494"/>
                  <a:pt x="24420" y="11518"/>
                  <a:pt x="24375" y="1153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898720" y="4789440"/>
            <a:ext cx="881280" cy="1663920"/>
          </a:xfrm>
          <a:custGeom>
            <a:avLst/>
            <a:gdLst/>
            <a:ahLst/>
            <a:rect l="l" t="t" r="r" b="b"/>
            <a:pathLst>
              <a:path w="2449" h="4623">
                <a:moveTo>
                  <a:pt x="9892" y="17896"/>
                </a:moveTo>
                <a:cubicBezTo>
                  <a:pt x="9890" y="17891"/>
                  <a:pt x="9880" y="17902"/>
                  <a:pt x="9882" y="17887"/>
                </a:cubicBezTo>
                <a:cubicBezTo>
                  <a:pt x="9885" y="17871"/>
                  <a:pt x="9897" y="17856"/>
                  <a:pt x="9906" y="17840"/>
                </a:cubicBezTo>
                <a:cubicBezTo>
                  <a:pt x="9921" y="17811"/>
                  <a:pt x="9938" y="17781"/>
                  <a:pt x="9954" y="17753"/>
                </a:cubicBezTo>
                <a:cubicBezTo>
                  <a:pt x="9979" y="17710"/>
                  <a:pt x="10003" y="17671"/>
                  <a:pt x="10025" y="17628"/>
                </a:cubicBezTo>
                <a:cubicBezTo>
                  <a:pt x="10047" y="17585"/>
                  <a:pt x="10059" y="17538"/>
                  <a:pt x="10077" y="17494"/>
                </a:cubicBezTo>
                <a:cubicBezTo>
                  <a:pt x="10091" y="17461"/>
                  <a:pt x="10110" y="17429"/>
                  <a:pt x="10124" y="17397"/>
                </a:cubicBezTo>
                <a:cubicBezTo>
                  <a:pt x="10132" y="17377"/>
                  <a:pt x="10131" y="17343"/>
                  <a:pt x="10143" y="17327"/>
                </a:cubicBezTo>
                <a:cubicBezTo>
                  <a:pt x="10146" y="17323"/>
                  <a:pt x="10150" y="17318"/>
                  <a:pt x="10158" y="17318"/>
                </a:cubicBezTo>
                <a:cubicBezTo>
                  <a:pt x="10167" y="17318"/>
                  <a:pt x="10171" y="17320"/>
                  <a:pt x="10177" y="17327"/>
                </a:cubicBezTo>
                <a:cubicBezTo>
                  <a:pt x="10185" y="17336"/>
                  <a:pt x="10191" y="17363"/>
                  <a:pt x="10196" y="17374"/>
                </a:cubicBezTo>
                <a:cubicBezTo>
                  <a:pt x="10211" y="17407"/>
                  <a:pt x="10226" y="17439"/>
                  <a:pt x="10243" y="17471"/>
                </a:cubicBezTo>
                <a:cubicBezTo>
                  <a:pt x="10264" y="17512"/>
                  <a:pt x="10286" y="17554"/>
                  <a:pt x="10305" y="17596"/>
                </a:cubicBezTo>
                <a:cubicBezTo>
                  <a:pt x="10325" y="17642"/>
                  <a:pt x="10344" y="17688"/>
                  <a:pt x="10366" y="17734"/>
                </a:cubicBezTo>
                <a:cubicBezTo>
                  <a:pt x="10387" y="17778"/>
                  <a:pt x="10419" y="17822"/>
                  <a:pt x="10452" y="17859"/>
                </a:cubicBezTo>
                <a:cubicBezTo>
                  <a:pt x="10470" y="17879"/>
                  <a:pt x="10484" y="17901"/>
                  <a:pt x="10499" y="17924"/>
                </a:cubicBezTo>
              </a:path>
              <a:path w="2449" h="4623">
                <a:moveTo>
                  <a:pt x="10011" y="17244"/>
                </a:moveTo>
                <a:cubicBezTo>
                  <a:pt x="9995" y="17244"/>
                  <a:pt x="9983" y="17240"/>
                  <a:pt x="9968" y="17235"/>
                </a:cubicBezTo>
                <a:cubicBezTo>
                  <a:pt x="9943" y="17226"/>
                  <a:pt x="9917" y="17220"/>
                  <a:pt x="9892" y="17212"/>
                </a:cubicBezTo>
                <a:cubicBezTo>
                  <a:pt x="9863" y="17203"/>
                  <a:pt x="9832" y="17199"/>
                  <a:pt x="9802" y="17198"/>
                </a:cubicBezTo>
                <a:cubicBezTo>
                  <a:pt x="9789" y="17198"/>
                  <a:pt x="9777" y="17198"/>
                  <a:pt x="9764" y="17198"/>
                </a:cubicBezTo>
              </a:path>
              <a:path w="2449" h="4623">
                <a:moveTo>
                  <a:pt x="9493" y="16759"/>
                </a:moveTo>
                <a:cubicBezTo>
                  <a:pt x="9493" y="16781"/>
                  <a:pt x="9494" y="16789"/>
                  <a:pt x="9503" y="16810"/>
                </a:cubicBezTo>
                <a:cubicBezTo>
                  <a:pt x="9512" y="16832"/>
                  <a:pt x="9514" y="16850"/>
                  <a:pt x="9527" y="16870"/>
                </a:cubicBezTo>
              </a:path>
              <a:path w="2449" h="4623">
                <a:moveTo>
                  <a:pt x="8056" y="13939"/>
                </a:moveTo>
                <a:cubicBezTo>
                  <a:pt x="8056" y="14074"/>
                  <a:pt x="8051" y="14207"/>
                  <a:pt x="8051" y="14342"/>
                </a:cubicBezTo>
                <a:cubicBezTo>
                  <a:pt x="8051" y="14436"/>
                  <a:pt x="8054" y="14526"/>
                  <a:pt x="8070" y="14619"/>
                </a:cubicBezTo>
                <a:cubicBezTo>
                  <a:pt x="8078" y="14665"/>
                  <a:pt x="8085" y="14712"/>
                  <a:pt x="8098" y="14757"/>
                </a:cubicBezTo>
                <a:cubicBezTo>
                  <a:pt x="8112" y="14806"/>
                  <a:pt x="8134" y="14844"/>
                  <a:pt x="8160" y="14887"/>
                </a:cubicBezTo>
                <a:cubicBezTo>
                  <a:pt x="8201" y="14955"/>
                  <a:pt x="8243" y="14996"/>
                  <a:pt x="8312" y="15035"/>
                </a:cubicBezTo>
                <a:cubicBezTo>
                  <a:pt x="8377" y="15072"/>
                  <a:pt x="8447" y="15098"/>
                  <a:pt x="8516" y="15123"/>
                </a:cubicBezTo>
                <a:cubicBezTo>
                  <a:pt x="8558" y="15138"/>
                  <a:pt x="8602" y="15148"/>
                  <a:pt x="8644" y="15164"/>
                </a:cubicBezTo>
                <a:cubicBezTo>
                  <a:pt x="8691" y="15182"/>
                  <a:pt x="8738" y="15204"/>
                  <a:pt x="8786" y="15220"/>
                </a:cubicBezTo>
                <a:cubicBezTo>
                  <a:pt x="8839" y="15238"/>
                  <a:pt x="8890" y="15237"/>
                  <a:pt x="8943" y="15252"/>
                </a:cubicBezTo>
                <a:cubicBezTo>
                  <a:pt x="8986" y="15264"/>
                  <a:pt x="9028" y="15283"/>
                  <a:pt x="9071" y="15298"/>
                </a:cubicBezTo>
                <a:cubicBezTo>
                  <a:pt x="9103" y="15309"/>
                  <a:pt x="9135" y="15321"/>
                  <a:pt x="9166" y="15335"/>
                </a:cubicBezTo>
                <a:cubicBezTo>
                  <a:pt x="9196" y="15349"/>
                  <a:pt x="9226" y="15366"/>
                  <a:pt x="9256" y="15381"/>
                </a:cubicBezTo>
                <a:cubicBezTo>
                  <a:pt x="9279" y="15393"/>
                  <a:pt x="9297" y="15403"/>
                  <a:pt x="9318" y="15418"/>
                </a:cubicBezTo>
                <a:cubicBezTo>
                  <a:pt x="9341" y="15435"/>
                  <a:pt x="9364" y="15454"/>
                  <a:pt x="9379" y="15479"/>
                </a:cubicBezTo>
                <a:cubicBezTo>
                  <a:pt x="9407" y="15525"/>
                  <a:pt x="9407" y="15575"/>
                  <a:pt x="9422" y="15626"/>
                </a:cubicBezTo>
                <a:cubicBezTo>
                  <a:pt x="9431" y="15659"/>
                  <a:pt x="9444" y="15690"/>
                  <a:pt x="9451" y="15724"/>
                </a:cubicBezTo>
                <a:cubicBezTo>
                  <a:pt x="9472" y="15821"/>
                  <a:pt x="9483" y="15920"/>
                  <a:pt x="9493" y="16019"/>
                </a:cubicBezTo>
              </a:path>
              <a:path w="2449" h="4623">
                <a:moveTo>
                  <a:pt x="10329" y="13510"/>
                </a:moveTo>
                <a:cubicBezTo>
                  <a:pt x="10329" y="13528"/>
                  <a:pt x="10327" y="13544"/>
                  <a:pt x="10324" y="13560"/>
                </a:cubicBezTo>
                <a:cubicBezTo>
                  <a:pt x="10322" y="13574"/>
                  <a:pt x="10312" y="13588"/>
                  <a:pt x="10310" y="13602"/>
                </a:cubicBezTo>
                <a:cubicBezTo>
                  <a:pt x="10308" y="13620"/>
                  <a:pt x="10301" y="13639"/>
                  <a:pt x="10291" y="13657"/>
                </a:cubicBezTo>
                <a:cubicBezTo>
                  <a:pt x="10278" y="13681"/>
                  <a:pt x="10263" y="13706"/>
                  <a:pt x="10253" y="13731"/>
                </a:cubicBezTo>
                <a:cubicBezTo>
                  <a:pt x="10245" y="13750"/>
                  <a:pt x="10233" y="13758"/>
                  <a:pt x="10224" y="13773"/>
                </a:cubicBezTo>
                <a:cubicBezTo>
                  <a:pt x="10215" y="13788"/>
                  <a:pt x="10215" y="13807"/>
                  <a:pt x="10215" y="13824"/>
                </a:cubicBezTo>
                <a:cubicBezTo>
                  <a:pt x="10215" y="13835"/>
                  <a:pt x="10215" y="13845"/>
                  <a:pt x="10215" y="13856"/>
                </a:cubicBezTo>
                <a:cubicBezTo>
                  <a:pt x="10226" y="13856"/>
                  <a:pt x="10250" y="13851"/>
                  <a:pt x="10257" y="13861"/>
                </a:cubicBezTo>
                <a:cubicBezTo>
                  <a:pt x="10268" y="13876"/>
                  <a:pt x="10255" y="13874"/>
                  <a:pt x="10281" y="13875"/>
                </a:cubicBezTo>
                <a:cubicBezTo>
                  <a:pt x="10339" y="13877"/>
                  <a:pt x="10399" y="13875"/>
                  <a:pt x="10457" y="13875"/>
                </a:cubicBezTo>
              </a:path>
              <a:path w="2449" h="4623">
                <a:moveTo>
                  <a:pt x="10101" y="13847"/>
                </a:moveTo>
                <a:cubicBezTo>
                  <a:pt x="10086" y="13847"/>
                  <a:pt x="10075" y="13844"/>
                  <a:pt x="10063" y="13842"/>
                </a:cubicBezTo>
                <a:cubicBezTo>
                  <a:pt x="10048" y="13839"/>
                  <a:pt x="10034" y="13839"/>
                  <a:pt x="10020" y="13833"/>
                </a:cubicBezTo>
                <a:cubicBezTo>
                  <a:pt x="10002" y="13826"/>
                  <a:pt x="9987" y="13823"/>
                  <a:pt x="9968" y="13819"/>
                </a:cubicBezTo>
                <a:cubicBezTo>
                  <a:pt x="9938" y="13812"/>
                  <a:pt x="9908" y="13806"/>
                  <a:pt x="9878" y="13805"/>
                </a:cubicBezTo>
                <a:cubicBezTo>
                  <a:pt x="9849" y="13804"/>
                  <a:pt x="9821" y="13797"/>
                  <a:pt x="9792" y="13796"/>
                </a:cubicBezTo>
                <a:cubicBezTo>
                  <a:pt x="9781" y="13796"/>
                  <a:pt x="9779" y="13796"/>
                  <a:pt x="9773" y="13796"/>
                </a:cubicBezTo>
              </a:path>
              <a:path w="2449" h="4623">
                <a:moveTo>
                  <a:pt x="9574" y="13302"/>
                </a:moveTo>
                <a:cubicBezTo>
                  <a:pt x="9574" y="13318"/>
                  <a:pt x="9581" y="13322"/>
                  <a:pt x="9584" y="13334"/>
                </a:cubicBezTo>
                <a:cubicBezTo>
                  <a:pt x="9589" y="13352"/>
                  <a:pt x="9588" y="13381"/>
                  <a:pt x="9588" y="13399"/>
                </a:cubicBezTo>
                <a:cubicBezTo>
                  <a:pt x="9589" y="13433"/>
                  <a:pt x="9596" y="13466"/>
                  <a:pt x="9598" y="13500"/>
                </a:cubicBezTo>
                <a:cubicBezTo>
                  <a:pt x="9601" y="13567"/>
                  <a:pt x="9580" y="13657"/>
                  <a:pt x="9607" y="13718"/>
                </a:cubicBezTo>
              </a:path>
              <a:path w="2449" h="4623">
                <a:moveTo>
                  <a:pt x="9650" y="13884"/>
                </a:moveTo>
                <a:cubicBezTo>
                  <a:pt x="9650" y="13902"/>
                  <a:pt x="9651" y="13917"/>
                  <a:pt x="9655" y="13935"/>
                </a:cubicBezTo>
                <a:cubicBezTo>
                  <a:pt x="9659" y="13953"/>
                  <a:pt x="9660" y="13958"/>
                  <a:pt x="9669" y="13967"/>
                </a:cubicBezTo>
              </a:path>
              <a:path w="2449" h="4623">
                <a:moveTo>
                  <a:pt x="9612" y="13722"/>
                </a:moveTo>
                <a:cubicBezTo>
                  <a:pt x="9607" y="13716"/>
                  <a:pt x="9603" y="13708"/>
                  <a:pt x="9593" y="13704"/>
                </a:cubicBezTo>
                <a:cubicBezTo>
                  <a:pt x="9577" y="13698"/>
                  <a:pt x="9543" y="13702"/>
                  <a:pt x="9527" y="13708"/>
                </a:cubicBezTo>
                <a:cubicBezTo>
                  <a:pt x="9507" y="13715"/>
                  <a:pt x="9498" y="13726"/>
                  <a:pt x="9489" y="13745"/>
                </a:cubicBezTo>
                <a:cubicBezTo>
                  <a:pt x="9477" y="13770"/>
                  <a:pt x="9474" y="13782"/>
                  <a:pt x="9474" y="13810"/>
                </a:cubicBezTo>
                <a:cubicBezTo>
                  <a:pt x="9474" y="13841"/>
                  <a:pt x="9478" y="13855"/>
                  <a:pt x="9508" y="13865"/>
                </a:cubicBezTo>
                <a:cubicBezTo>
                  <a:pt x="9536" y="13874"/>
                  <a:pt x="9565" y="13870"/>
                  <a:pt x="9593" y="13865"/>
                </a:cubicBezTo>
                <a:cubicBezTo>
                  <a:pt x="9620" y="13860"/>
                  <a:pt x="9645" y="13848"/>
                  <a:pt x="9664" y="13828"/>
                </a:cubicBezTo>
                <a:cubicBezTo>
                  <a:pt x="9680" y="13810"/>
                  <a:pt x="9707" y="13794"/>
                  <a:pt x="9712" y="13768"/>
                </a:cubicBezTo>
                <a:cubicBezTo>
                  <a:pt x="9715" y="13751"/>
                  <a:pt x="9715" y="13723"/>
                  <a:pt x="9707" y="13708"/>
                </a:cubicBezTo>
                <a:cubicBezTo>
                  <a:pt x="9698" y="13691"/>
                  <a:pt x="9681" y="13674"/>
                  <a:pt x="9664" y="13667"/>
                </a:cubicBezTo>
                <a:cubicBezTo>
                  <a:pt x="9649" y="13660"/>
                  <a:pt x="9622" y="13657"/>
                  <a:pt x="9607" y="13667"/>
                </a:cubicBezTo>
                <a:cubicBezTo>
                  <a:pt x="9589" y="13679"/>
                  <a:pt x="9572" y="13706"/>
                  <a:pt x="9569" y="13727"/>
                </a:cubicBezTo>
                <a:cubicBezTo>
                  <a:pt x="9565" y="13752"/>
                  <a:pt x="9566" y="13774"/>
                  <a:pt x="9588" y="13787"/>
                </a:cubicBezTo>
                <a:cubicBezTo>
                  <a:pt x="9613" y="13802"/>
                  <a:pt x="9635" y="13808"/>
                  <a:pt x="9664" y="13805"/>
                </a:cubicBezTo>
                <a:cubicBezTo>
                  <a:pt x="9698" y="13802"/>
                  <a:pt x="9722" y="13795"/>
                  <a:pt x="9745" y="13768"/>
                </a:cubicBezTo>
                <a:cubicBezTo>
                  <a:pt x="9753" y="13759"/>
                  <a:pt x="9753" y="13730"/>
                  <a:pt x="9750" y="13718"/>
                </a:cubicBezTo>
                <a:cubicBezTo>
                  <a:pt x="9745" y="13698"/>
                  <a:pt x="9710" y="13687"/>
                  <a:pt x="9693" y="13685"/>
                </a:cubicBezTo>
                <a:cubicBezTo>
                  <a:pt x="9666" y="13682"/>
                  <a:pt x="9628" y="13682"/>
                  <a:pt x="9602" y="13690"/>
                </a:cubicBezTo>
                <a:cubicBezTo>
                  <a:pt x="9576" y="13698"/>
                  <a:pt x="9545" y="13717"/>
                  <a:pt x="9536" y="13745"/>
                </a:cubicBezTo>
                <a:cubicBezTo>
                  <a:pt x="9536" y="13751"/>
                  <a:pt x="9536" y="13758"/>
                  <a:pt x="9536" y="13764"/>
                </a:cubicBezTo>
              </a:path>
              <a:path w="2449" h="4623">
                <a:moveTo>
                  <a:pt x="9826" y="14526"/>
                </a:moveTo>
                <a:cubicBezTo>
                  <a:pt x="9826" y="14514"/>
                  <a:pt x="9826" y="14501"/>
                  <a:pt x="9826" y="14489"/>
                </a:cubicBezTo>
                <a:cubicBezTo>
                  <a:pt x="9805" y="14501"/>
                  <a:pt x="9808" y="14477"/>
                  <a:pt x="9797" y="14508"/>
                </a:cubicBezTo>
                <a:cubicBezTo>
                  <a:pt x="9790" y="14529"/>
                  <a:pt x="9792" y="14550"/>
                  <a:pt x="9792" y="14573"/>
                </a:cubicBezTo>
                <a:cubicBezTo>
                  <a:pt x="9789" y="14764"/>
                  <a:pt x="9797" y="14955"/>
                  <a:pt x="9797" y="15146"/>
                </a:cubicBezTo>
                <a:cubicBezTo>
                  <a:pt x="9797" y="15186"/>
                  <a:pt x="9794" y="15223"/>
                  <a:pt x="9788" y="15261"/>
                </a:cubicBezTo>
                <a:cubicBezTo>
                  <a:pt x="9783" y="15295"/>
                  <a:pt x="9778" y="15328"/>
                  <a:pt x="9773" y="15363"/>
                </a:cubicBezTo>
                <a:cubicBezTo>
                  <a:pt x="9767" y="15405"/>
                  <a:pt x="9759" y="15446"/>
                  <a:pt x="9754" y="15488"/>
                </a:cubicBezTo>
                <a:cubicBezTo>
                  <a:pt x="9748" y="15539"/>
                  <a:pt x="9747" y="15583"/>
                  <a:pt x="9731" y="15631"/>
                </a:cubicBezTo>
                <a:cubicBezTo>
                  <a:pt x="9721" y="15662"/>
                  <a:pt x="9713" y="15693"/>
                  <a:pt x="9702" y="15724"/>
                </a:cubicBezTo>
                <a:cubicBezTo>
                  <a:pt x="9693" y="15749"/>
                  <a:pt x="9681" y="15773"/>
                  <a:pt x="9669" y="15797"/>
                </a:cubicBezTo>
                <a:cubicBezTo>
                  <a:pt x="9653" y="15827"/>
                  <a:pt x="9636" y="15857"/>
                  <a:pt x="9621" y="15885"/>
                </a:cubicBezTo>
                <a:cubicBezTo>
                  <a:pt x="9606" y="15913"/>
                  <a:pt x="9592" y="15941"/>
                  <a:pt x="9579" y="15969"/>
                </a:cubicBezTo>
                <a:cubicBezTo>
                  <a:pt x="9564" y="16001"/>
                  <a:pt x="9549" y="16033"/>
                  <a:pt x="9536" y="16066"/>
                </a:cubicBezTo>
                <a:cubicBezTo>
                  <a:pt x="9526" y="16092"/>
                  <a:pt x="9523" y="16115"/>
                  <a:pt x="9517" y="16140"/>
                </a:cubicBezTo>
              </a:path>
              <a:path w="2449" h="4623">
                <a:moveTo>
                  <a:pt x="9209" y="15700"/>
                </a:moveTo>
                <a:cubicBezTo>
                  <a:pt x="9226" y="15700"/>
                  <a:pt x="9233" y="15698"/>
                  <a:pt x="9247" y="15710"/>
                </a:cubicBezTo>
                <a:cubicBezTo>
                  <a:pt x="9260" y="15721"/>
                  <a:pt x="9275" y="15738"/>
                  <a:pt x="9285" y="15751"/>
                </a:cubicBezTo>
                <a:cubicBezTo>
                  <a:pt x="9305" y="15778"/>
                  <a:pt x="9323" y="15805"/>
                  <a:pt x="9346" y="15830"/>
                </a:cubicBezTo>
                <a:cubicBezTo>
                  <a:pt x="9371" y="15857"/>
                  <a:pt x="9393" y="15886"/>
                  <a:pt x="9417" y="15913"/>
                </a:cubicBezTo>
                <a:cubicBezTo>
                  <a:pt x="9441" y="15940"/>
                  <a:pt x="9464" y="15966"/>
                  <a:pt x="9489" y="15992"/>
                </a:cubicBezTo>
                <a:cubicBezTo>
                  <a:pt x="9513" y="16017"/>
                  <a:pt x="9526" y="16052"/>
                  <a:pt x="9546" y="16079"/>
                </a:cubicBezTo>
                <a:cubicBezTo>
                  <a:pt x="9557" y="16094"/>
                  <a:pt x="9567" y="16113"/>
                  <a:pt x="9584" y="16121"/>
                </a:cubicBezTo>
                <a:cubicBezTo>
                  <a:pt x="9590" y="16124"/>
                  <a:pt x="9600" y="16121"/>
                  <a:pt x="9607" y="16121"/>
                </a:cubicBezTo>
                <a:cubicBezTo>
                  <a:pt x="9607" y="16102"/>
                  <a:pt x="9608" y="16086"/>
                  <a:pt x="9612" y="16070"/>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308400" y="3427560"/>
            <a:ext cx="1087560" cy="114120"/>
          </a:xfrm>
          <a:custGeom>
            <a:avLst/>
            <a:gdLst/>
            <a:ahLst/>
            <a:rect l="l" t="t" r="r" b="b"/>
            <a:pathLst>
              <a:path w="3019" h="315">
                <a:moveTo>
                  <a:pt x="9213" y="9835"/>
                </a:moveTo>
                <a:cubicBezTo>
                  <a:pt x="9212" y="9823"/>
                  <a:pt x="9183" y="9826"/>
                  <a:pt x="9190" y="9816"/>
                </a:cubicBezTo>
                <a:cubicBezTo>
                  <a:pt x="9201" y="9801"/>
                  <a:pt x="9190" y="9805"/>
                  <a:pt x="9209" y="9793"/>
                </a:cubicBezTo>
                <a:cubicBezTo>
                  <a:pt x="9227" y="9781"/>
                  <a:pt x="9248" y="9784"/>
                  <a:pt x="9266" y="9775"/>
                </a:cubicBezTo>
                <a:cubicBezTo>
                  <a:pt x="9308" y="9754"/>
                  <a:pt x="9344" y="9731"/>
                  <a:pt x="9389" y="9715"/>
                </a:cubicBezTo>
                <a:cubicBezTo>
                  <a:pt x="9499" y="9677"/>
                  <a:pt x="9610" y="9650"/>
                  <a:pt x="9726" y="9636"/>
                </a:cubicBezTo>
                <a:cubicBezTo>
                  <a:pt x="9890" y="9617"/>
                  <a:pt x="10050" y="9599"/>
                  <a:pt x="10215" y="9599"/>
                </a:cubicBezTo>
                <a:cubicBezTo>
                  <a:pt x="10275" y="9599"/>
                  <a:pt x="10331" y="9590"/>
                  <a:pt x="10390" y="9585"/>
                </a:cubicBezTo>
                <a:cubicBezTo>
                  <a:pt x="10440" y="9581"/>
                  <a:pt x="10488" y="9570"/>
                  <a:pt x="10537" y="9567"/>
                </a:cubicBezTo>
                <a:cubicBezTo>
                  <a:pt x="10777" y="9551"/>
                  <a:pt x="11019" y="9565"/>
                  <a:pt x="11259" y="9548"/>
                </a:cubicBezTo>
                <a:cubicBezTo>
                  <a:pt x="11325" y="9543"/>
                  <a:pt x="11392" y="9541"/>
                  <a:pt x="11458" y="9539"/>
                </a:cubicBezTo>
                <a:cubicBezTo>
                  <a:pt x="11536" y="9537"/>
                  <a:pt x="11612" y="9537"/>
                  <a:pt x="11690" y="9530"/>
                </a:cubicBezTo>
                <a:cubicBezTo>
                  <a:pt x="11743" y="9525"/>
                  <a:pt x="11798" y="9522"/>
                  <a:pt x="11852" y="9521"/>
                </a:cubicBezTo>
                <a:cubicBezTo>
                  <a:pt x="11970" y="9518"/>
                  <a:pt x="12091" y="9519"/>
                  <a:pt x="12208" y="9525"/>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5237280" y="3487680"/>
            <a:ext cx="523800" cy="119160"/>
          </a:xfrm>
          <a:custGeom>
            <a:avLst/>
            <a:gdLst/>
            <a:ahLst/>
            <a:rect l="l" t="t" r="r" b="b"/>
            <a:pathLst>
              <a:path w="1458" h="334">
                <a:moveTo>
                  <a:pt x="14547" y="10020"/>
                </a:moveTo>
                <a:cubicBezTo>
                  <a:pt x="14553" y="10016"/>
                  <a:pt x="14559" y="10016"/>
                  <a:pt x="14566" y="10011"/>
                </a:cubicBezTo>
                <a:cubicBezTo>
                  <a:pt x="14576" y="10003"/>
                  <a:pt x="14585" y="9996"/>
                  <a:pt x="14595" y="9987"/>
                </a:cubicBezTo>
                <a:cubicBezTo>
                  <a:pt x="14618" y="9967"/>
                  <a:pt x="14641" y="9951"/>
                  <a:pt x="14666" y="9932"/>
                </a:cubicBezTo>
                <a:cubicBezTo>
                  <a:pt x="14710" y="9899"/>
                  <a:pt x="14756" y="9876"/>
                  <a:pt x="14803" y="9849"/>
                </a:cubicBezTo>
                <a:cubicBezTo>
                  <a:pt x="14852" y="9821"/>
                  <a:pt x="14891" y="9803"/>
                  <a:pt x="14946" y="9789"/>
                </a:cubicBezTo>
                <a:cubicBezTo>
                  <a:pt x="15000" y="9775"/>
                  <a:pt x="15054" y="9762"/>
                  <a:pt x="15107" y="9747"/>
                </a:cubicBezTo>
                <a:cubicBezTo>
                  <a:pt x="15168" y="9730"/>
                  <a:pt x="15229" y="9710"/>
                  <a:pt x="15292" y="9701"/>
                </a:cubicBezTo>
                <a:cubicBezTo>
                  <a:pt x="15357" y="9691"/>
                  <a:pt x="15422" y="9692"/>
                  <a:pt x="15487" y="9692"/>
                </a:cubicBezTo>
                <a:cubicBezTo>
                  <a:pt x="15612" y="9692"/>
                  <a:pt x="15737" y="9692"/>
                  <a:pt x="15862" y="9687"/>
                </a:cubicBezTo>
                <a:cubicBezTo>
                  <a:pt x="15909" y="9685"/>
                  <a:pt x="15957" y="9687"/>
                  <a:pt x="16004" y="9687"/>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886120" y="3900600"/>
            <a:ext cx="1062000" cy="2076480"/>
          </a:xfrm>
          <a:custGeom>
            <a:avLst/>
            <a:gdLst/>
            <a:ahLst/>
            <a:rect l="l" t="t" r="r" b="b"/>
            <a:pathLst>
              <a:path w="2947" h="5770">
                <a:moveTo>
                  <a:pt x="9640" y="12738"/>
                </a:moveTo>
                <a:cubicBezTo>
                  <a:pt x="9629" y="12742"/>
                  <a:pt x="9646" y="12733"/>
                  <a:pt x="9636" y="12738"/>
                </a:cubicBezTo>
                <a:cubicBezTo>
                  <a:pt x="9590" y="12759"/>
                  <a:pt x="9550" y="12780"/>
                  <a:pt x="9508" y="12812"/>
                </a:cubicBezTo>
                <a:cubicBezTo>
                  <a:pt x="9473" y="12839"/>
                  <a:pt x="9439" y="12866"/>
                  <a:pt x="9408" y="12899"/>
                </a:cubicBezTo>
                <a:cubicBezTo>
                  <a:pt x="9362" y="12947"/>
                  <a:pt x="9323" y="13002"/>
                  <a:pt x="9285" y="13057"/>
                </a:cubicBezTo>
                <a:cubicBezTo>
                  <a:pt x="9234" y="13131"/>
                  <a:pt x="9183" y="13213"/>
                  <a:pt x="9142" y="13292"/>
                </a:cubicBezTo>
                <a:cubicBezTo>
                  <a:pt x="9071" y="13430"/>
                  <a:pt x="9017" y="13576"/>
                  <a:pt x="8943" y="13713"/>
                </a:cubicBezTo>
                <a:cubicBezTo>
                  <a:pt x="8928" y="13741"/>
                  <a:pt x="8910" y="13775"/>
                  <a:pt x="8891" y="13801"/>
                </a:cubicBezTo>
                <a:cubicBezTo>
                  <a:pt x="8860" y="13844"/>
                  <a:pt x="8821" y="13886"/>
                  <a:pt x="8786" y="13926"/>
                </a:cubicBezTo>
                <a:cubicBezTo>
                  <a:pt x="8764" y="13950"/>
                  <a:pt x="8742" y="13971"/>
                  <a:pt x="8720" y="13995"/>
                </a:cubicBezTo>
                <a:cubicBezTo>
                  <a:pt x="8701" y="14015"/>
                  <a:pt x="8683" y="14036"/>
                  <a:pt x="8663" y="14055"/>
                </a:cubicBezTo>
                <a:cubicBezTo>
                  <a:pt x="8632" y="14086"/>
                  <a:pt x="8597" y="14115"/>
                  <a:pt x="8568" y="14147"/>
                </a:cubicBezTo>
                <a:cubicBezTo>
                  <a:pt x="8542" y="14176"/>
                  <a:pt x="8544" y="14183"/>
                  <a:pt x="8530" y="14212"/>
                </a:cubicBezTo>
                <a:cubicBezTo>
                  <a:pt x="8516" y="14243"/>
                  <a:pt x="8502" y="14282"/>
                  <a:pt x="8492" y="14314"/>
                </a:cubicBezTo>
                <a:cubicBezTo>
                  <a:pt x="8490" y="14322"/>
                  <a:pt x="8485" y="14332"/>
                  <a:pt x="8483" y="14342"/>
                </a:cubicBezTo>
                <a:cubicBezTo>
                  <a:pt x="8482" y="14348"/>
                  <a:pt x="8484" y="14354"/>
                  <a:pt x="8483" y="14360"/>
                </a:cubicBezTo>
                <a:cubicBezTo>
                  <a:pt x="8613" y="14357"/>
                  <a:pt x="8742" y="14349"/>
                  <a:pt x="8872" y="14346"/>
                </a:cubicBezTo>
                <a:cubicBezTo>
                  <a:pt x="9310" y="14336"/>
                  <a:pt x="9782" y="14304"/>
                  <a:pt x="10215" y="14360"/>
                </a:cubicBezTo>
                <a:cubicBezTo>
                  <a:pt x="10259" y="14366"/>
                  <a:pt x="10303" y="14372"/>
                  <a:pt x="10347" y="14374"/>
                </a:cubicBezTo>
                <a:cubicBezTo>
                  <a:pt x="10436" y="14378"/>
                  <a:pt x="10520" y="14371"/>
                  <a:pt x="10608" y="14388"/>
                </a:cubicBezTo>
                <a:cubicBezTo>
                  <a:pt x="10646" y="14395"/>
                  <a:pt x="10684" y="14407"/>
                  <a:pt x="10722" y="14411"/>
                </a:cubicBezTo>
                <a:cubicBezTo>
                  <a:pt x="10763" y="14415"/>
                  <a:pt x="10826" y="14418"/>
                  <a:pt x="10865" y="14406"/>
                </a:cubicBezTo>
                <a:cubicBezTo>
                  <a:pt x="10876" y="14403"/>
                  <a:pt x="10893" y="14388"/>
                  <a:pt x="10903" y="14383"/>
                </a:cubicBezTo>
                <a:cubicBezTo>
                  <a:pt x="10915" y="14378"/>
                  <a:pt x="10930" y="14378"/>
                  <a:pt x="10941" y="14365"/>
                </a:cubicBezTo>
                <a:cubicBezTo>
                  <a:pt x="10961" y="14342"/>
                  <a:pt x="10967" y="14341"/>
                  <a:pt x="10964" y="14305"/>
                </a:cubicBezTo>
                <a:cubicBezTo>
                  <a:pt x="10962" y="14277"/>
                  <a:pt x="10946" y="14272"/>
                  <a:pt x="10931" y="14249"/>
                </a:cubicBezTo>
                <a:cubicBezTo>
                  <a:pt x="10889" y="14183"/>
                  <a:pt x="10812" y="14135"/>
                  <a:pt x="10760" y="14078"/>
                </a:cubicBezTo>
                <a:cubicBezTo>
                  <a:pt x="10721" y="14035"/>
                  <a:pt x="10685" y="13991"/>
                  <a:pt x="10646" y="13949"/>
                </a:cubicBezTo>
                <a:cubicBezTo>
                  <a:pt x="10610" y="13910"/>
                  <a:pt x="10573" y="13873"/>
                  <a:pt x="10537" y="13833"/>
                </a:cubicBezTo>
                <a:cubicBezTo>
                  <a:pt x="10505" y="13797"/>
                  <a:pt x="10474" y="13763"/>
                  <a:pt x="10447" y="13722"/>
                </a:cubicBezTo>
                <a:cubicBezTo>
                  <a:pt x="10412" y="13669"/>
                  <a:pt x="10379" y="13614"/>
                  <a:pt x="10347" y="13560"/>
                </a:cubicBezTo>
                <a:cubicBezTo>
                  <a:pt x="10303" y="13485"/>
                  <a:pt x="10266" y="13420"/>
                  <a:pt x="10205" y="13357"/>
                </a:cubicBezTo>
                <a:cubicBezTo>
                  <a:pt x="10140" y="13289"/>
                  <a:pt x="10068" y="13227"/>
                  <a:pt x="9996" y="13167"/>
                </a:cubicBezTo>
                <a:cubicBezTo>
                  <a:pt x="9929" y="13111"/>
                  <a:pt x="9885" y="13050"/>
                  <a:pt x="9830" y="12983"/>
                </a:cubicBezTo>
                <a:cubicBezTo>
                  <a:pt x="9788" y="12932"/>
                  <a:pt x="9747" y="12874"/>
                  <a:pt x="9702" y="12825"/>
                </a:cubicBezTo>
                <a:cubicBezTo>
                  <a:pt x="9680" y="12804"/>
                  <a:pt x="9675" y="12798"/>
                  <a:pt x="9659" y="12788"/>
                </a:cubicBezTo>
              </a:path>
              <a:path w="2947" h="5770">
                <a:moveTo>
                  <a:pt x="9669" y="13736"/>
                </a:moveTo>
                <a:cubicBezTo>
                  <a:pt x="9659" y="13736"/>
                  <a:pt x="9650" y="13733"/>
                  <a:pt x="9640" y="13731"/>
                </a:cubicBezTo>
                <a:cubicBezTo>
                  <a:pt x="9623" y="13727"/>
                  <a:pt x="9611" y="13719"/>
                  <a:pt x="9593" y="13718"/>
                </a:cubicBezTo>
                <a:cubicBezTo>
                  <a:pt x="9572" y="13717"/>
                  <a:pt x="9564" y="13716"/>
                  <a:pt x="9550" y="13727"/>
                </a:cubicBezTo>
                <a:cubicBezTo>
                  <a:pt x="9540" y="13734"/>
                  <a:pt x="9525" y="13763"/>
                  <a:pt x="9536" y="13778"/>
                </a:cubicBezTo>
                <a:cubicBezTo>
                  <a:pt x="9550" y="13797"/>
                  <a:pt x="9588" y="13791"/>
                  <a:pt x="9607" y="13791"/>
                </a:cubicBezTo>
                <a:cubicBezTo>
                  <a:pt x="9641" y="13791"/>
                  <a:pt x="9670" y="13789"/>
                  <a:pt x="9697" y="13768"/>
                </a:cubicBezTo>
                <a:cubicBezTo>
                  <a:pt x="9716" y="13754"/>
                  <a:pt x="9720" y="13736"/>
                  <a:pt x="9716" y="13713"/>
                </a:cubicBezTo>
                <a:cubicBezTo>
                  <a:pt x="9713" y="13695"/>
                  <a:pt x="9682" y="13679"/>
                  <a:pt x="9664" y="13676"/>
                </a:cubicBezTo>
                <a:cubicBezTo>
                  <a:pt x="9636" y="13672"/>
                  <a:pt x="9614" y="13688"/>
                  <a:pt x="9598" y="13708"/>
                </a:cubicBezTo>
                <a:cubicBezTo>
                  <a:pt x="9586" y="13723"/>
                  <a:pt x="9579" y="13754"/>
                  <a:pt x="9598" y="13768"/>
                </a:cubicBezTo>
                <a:cubicBezTo>
                  <a:pt x="9613" y="13779"/>
                  <a:pt x="9644" y="13774"/>
                  <a:pt x="9659" y="13768"/>
                </a:cubicBezTo>
                <a:cubicBezTo>
                  <a:pt x="9678" y="13761"/>
                  <a:pt x="9702" y="13752"/>
                  <a:pt x="9697" y="13727"/>
                </a:cubicBezTo>
                <a:cubicBezTo>
                  <a:pt x="9696" y="13724"/>
                  <a:pt x="9694" y="13721"/>
                  <a:pt x="9693" y="13718"/>
                </a:cubicBezTo>
                <a:cubicBezTo>
                  <a:pt x="9673" y="13713"/>
                  <a:pt x="9656" y="13709"/>
                  <a:pt x="9636" y="13718"/>
                </a:cubicBezTo>
                <a:cubicBezTo>
                  <a:pt x="9615" y="13728"/>
                  <a:pt x="9618" y="13733"/>
                  <a:pt x="9617" y="13754"/>
                </a:cubicBezTo>
              </a:path>
              <a:path w="2947" h="5770">
                <a:moveTo>
                  <a:pt x="9280" y="13135"/>
                </a:moveTo>
                <a:cubicBezTo>
                  <a:pt x="9287" y="13143"/>
                  <a:pt x="9277" y="13139"/>
                  <a:pt x="9289" y="13144"/>
                </a:cubicBezTo>
                <a:cubicBezTo>
                  <a:pt x="9303" y="13150"/>
                  <a:pt x="9307" y="13149"/>
                  <a:pt x="9323" y="13149"/>
                </a:cubicBezTo>
                <a:cubicBezTo>
                  <a:pt x="9366" y="13150"/>
                  <a:pt x="9408" y="13146"/>
                  <a:pt x="9451" y="13144"/>
                </a:cubicBezTo>
                <a:cubicBezTo>
                  <a:pt x="9493" y="13142"/>
                  <a:pt x="9532" y="13135"/>
                  <a:pt x="9574" y="13130"/>
                </a:cubicBezTo>
                <a:cubicBezTo>
                  <a:pt x="9617" y="13124"/>
                  <a:pt x="9659" y="13126"/>
                  <a:pt x="9702" y="13126"/>
                </a:cubicBezTo>
                <a:cubicBezTo>
                  <a:pt x="9771" y="13126"/>
                  <a:pt x="9837" y="13140"/>
                  <a:pt x="9906" y="13140"/>
                </a:cubicBezTo>
                <a:cubicBezTo>
                  <a:pt x="9940" y="13140"/>
                  <a:pt x="9980" y="13133"/>
                  <a:pt x="10011" y="13149"/>
                </a:cubicBezTo>
                <a:cubicBezTo>
                  <a:pt x="10017" y="13154"/>
                  <a:pt x="10024" y="13158"/>
                  <a:pt x="10030" y="13163"/>
                </a:cubicBezTo>
              </a:path>
              <a:path w="2947" h="5770">
                <a:moveTo>
                  <a:pt x="9346" y="14369"/>
                </a:moveTo>
                <a:cubicBezTo>
                  <a:pt x="9355" y="14353"/>
                  <a:pt x="9364" y="14336"/>
                  <a:pt x="9379" y="14323"/>
                </a:cubicBezTo>
                <a:cubicBezTo>
                  <a:pt x="9407" y="14299"/>
                  <a:pt x="9433" y="14275"/>
                  <a:pt x="9460" y="14249"/>
                </a:cubicBezTo>
                <a:cubicBezTo>
                  <a:pt x="9487" y="14223"/>
                  <a:pt x="9515" y="14205"/>
                  <a:pt x="9546" y="14184"/>
                </a:cubicBezTo>
                <a:cubicBezTo>
                  <a:pt x="9571" y="14167"/>
                  <a:pt x="9592" y="14146"/>
                  <a:pt x="9617" y="14129"/>
                </a:cubicBezTo>
                <a:cubicBezTo>
                  <a:pt x="9634" y="14117"/>
                  <a:pt x="9660" y="14102"/>
                  <a:pt x="9674" y="14087"/>
                </a:cubicBezTo>
                <a:cubicBezTo>
                  <a:pt x="9686" y="14075"/>
                  <a:pt x="9691" y="14069"/>
                  <a:pt x="9707" y="14064"/>
                </a:cubicBezTo>
                <a:cubicBezTo>
                  <a:pt x="9712" y="14064"/>
                  <a:pt x="9713" y="14064"/>
                  <a:pt x="9716" y="14064"/>
                </a:cubicBezTo>
                <a:cubicBezTo>
                  <a:pt x="9717" y="14077"/>
                  <a:pt x="9718" y="14086"/>
                  <a:pt x="9721" y="14097"/>
                </a:cubicBezTo>
                <a:cubicBezTo>
                  <a:pt x="9724" y="14107"/>
                  <a:pt x="9724" y="14106"/>
                  <a:pt x="9731" y="14115"/>
                </a:cubicBezTo>
                <a:cubicBezTo>
                  <a:pt x="9739" y="14125"/>
                  <a:pt x="9750" y="14130"/>
                  <a:pt x="9759" y="14138"/>
                </a:cubicBezTo>
                <a:cubicBezTo>
                  <a:pt x="9774" y="14152"/>
                  <a:pt x="9784" y="14168"/>
                  <a:pt x="9797" y="14184"/>
                </a:cubicBezTo>
                <a:cubicBezTo>
                  <a:pt x="9816" y="14206"/>
                  <a:pt x="9845" y="14218"/>
                  <a:pt x="9863" y="14240"/>
                </a:cubicBezTo>
                <a:cubicBezTo>
                  <a:pt x="9892" y="14274"/>
                  <a:pt x="9916" y="14299"/>
                  <a:pt x="9949" y="14328"/>
                </a:cubicBezTo>
                <a:cubicBezTo>
                  <a:pt x="9973" y="14349"/>
                  <a:pt x="9992" y="14362"/>
                  <a:pt x="10020" y="14378"/>
                </a:cubicBezTo>
              </a:path>
              <a:path w="2947" h="5770">
                <a:moveTo>
                  <a:pt x="8198" y="10833"/>
                </a:moveTo>
                <a:cubicBezTo>
                  <a:pt x="8195" y="10875"/>
                  <a:pt x="8189" y="10916"/>
                  <a:pt x="8188" y="10958"/>
                </a:cubicBezTo>
                <a:cubicBezTo>
                  <a:pt x="8184" y="11077"/>
                  <a:pt x="8170" y="11195"/>
                  <a:pt x="8165" y="11314"/>
                </a:cubicBezTo>
                <a:cubicBezTo>
                  <a:pt x="8161" y="11402"/>
                  <a:pt x="8160" y="11489"/>
                  <a:pt x="8155" y="11577"/>
                </a:cubicBezTo>
                <a:cubicBezTo>
                  <a:pt x="8143" y="11770"/>
                  <a:pt x="8142" y="11962"/>
                  <a:pt x="8127" y="12155"/>
                </a:cubicBezTo>
                <a:cubicBezTo>
                  <a:pt x="8123" y="12209"/>
                  <a:pt x="8119" y="12263"/>
                  <a:pt x="8112" y="12317"/>
                </a:cubicBezTo>
                <a:cubicBezTo>
                  <a:pt x="8103" y="12389"/>
                  <a:pt x="8084" y="12459"/>
                  <a:pt x="8079" y="12530"/>
                </a:cubicBezTo>
                <a:cubicBezTo>
                  <a:pt x="8074" y="12611"/>
                  <a:pt x="8073" y="12694"/>
                  <a:pt x="8070" y="12775"/>
                </a:cubicBezTo>
                <a:cubicBezTo>
                  <a:pt x="8062" y="13009"/>
                  <a:pt x="8074" y="13244"/>
                  <a:pt x="8070" y="13477"/>
                </a:cubicBezTo>
                <a:cubicBezTo>
                  <a:pt x="8069" y="13534"/>
                  <a:pt x="8067" y="13587"/>
                  <a:pt x="8060" y="13644"/>
                </a:cubicBezTo>
                <a:cubicBezTo>
                  <a:pt x="8055" y="13682"/>
                  <a:pt x="8049" y="13720"/>
                  <a:pt x="8046" y="13759"/>
                </a:cubicBezTo>
                <a:cubicBezTo>
                  <a:pt x="8041" y="13812"/>
                  <a:pt x="8047" y="13868"/>
                  <a:pt x="8041" y="13921"/>
                </a:cubicBezTo>
                <a:cubicBezTo>
                  <a:pt x="8036" y="13967"/>
                  <a:pt x="8026" y="14013"/>
                  <a:pt x="8022" y="14060"/>
                </a:cubicBezTo>
                <a:cubicBezTo>
                  <a:pt x="8019" y="14094"/>
                  <a:pt x="8019" y="14127"/>
                  <a:pt x="8018" y="14161"/>
                </a:cubicBezTo>
              </a:path>
              <a:path w="2947" h="5770">
                <a:moveTo>
                  <a:pt x="9199" y="16546"/>
                </a:moveTo>
                <a:cubicBezTo>
                  <a:pt x="9205" y="16549"/>
                  <a:pt x="9215" y="16556"/>
                  <a:pt x="9228" y="16560"/>
                </a:cubicBezTo>
                <a:cubicBezTo>
                  <a:pt x="9248" y="16567"/>
                  <a:pt x="9267" y="16565"/>
                  <a:pt x="9289" y="16565"/>
                </a:cubicBezTo>
                <a:cubicBezTo>
                  <a:pt x="9321" y="16565"/>
                  <a:pt x="9352" y="16567"/>
                  <a:pt x="9384" y="16569"/>
                </a:cubicBezTo>
                <a:cubicBezTo>
                  <a:pt x="9427" y="16571"/>
                  <a:pt x="9461" y="16574"/>
                  <a:pt x="9503" y="16583"/>
                </a:cubicBezTo>
                <a:cubicBezTo>
                  <a:pt x="9540" y="16591"/>
                  <a:pt x="9575" y="16588"/>
                  <a:pt x="9612" y="16592"/>
                </a:cubicBezTo>
                <a:cubicBezTo>
                  <a:pt x="9650" y="16596"/>
                  <a:pt x="9688" y="16593"/>
                  <a:pt x="9726" y="16597"/>
                </a:cubicBezTo>
                <a:cubicBezTo>
                  <a:pt x="9766" y="16601"/>
                  <a:pt x="9804" y="16602"/>
                  <a:pt x="9844" y="16602"/>
                </a:cubicBezTo>
                <a:cubicBezTo>
                  <a:pt x="9900" y="16602"/>
                  <a:pt x="9955" y="16602"/>
                  <a:pt x="10011" y="16602"/>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191200" y="4660920"/>
            <a:ext cx="1001520" cy="1768320"/>
          </a:xfrm>
          <a:custGeom>
            <a:avLst/>
            <a:gdLst/>
            <a:ahLst/>
            <a:rect l="l" t="t" r="r" b="b"/>
            <a:pathLst>
              <a:path w="2782" h="4914">
                <a:moveTo>
                  <a:pt x="15809" y="13542"/>
                </a:moveTo>
                <a:cubicBezTo>
                  <a:pt x="15809" y="13529"/>
                  <a:pt x="15811" y="13517"/>
                  <a:pt x="15805" y="13505"/>
                </a:cubicBezTo>
                <a:cubicBezTo>
                  <a:pt x="15799" y="13494"/>
                  <a:pt x="15789" y="13484"/>
                  <a:pt x="15776" y="13482"/>
                </a:cubicBezTo>
                <a:cubicBezTo>
                  <a:pt x="15758" y="13479"/>
                  <a:pt x="15742" y="13482"/>
                  <a:pt x="15729" y="13496"/>
                </a:cubicBezTo>
                <a:cubicBezTo>
                  <a:pt x="15715" y="13512"/>
                  <a:pt x="15702" y="13534"/>
                  <a:pt x="15710" y="13556"/>
                </a:cubicBezTo>
                <a:cubicBezTo>
                  <a:pt x="15717" y="13576"/>
                  <a:pt x="15743" y="13581"/>
                  <a:pt x="15762" y="13579"/>
                </a:cubicBezTo>
                <a:cubicBezTo>
                  <a:pt x="15793" y="13575"/>
                  <a:pt x="15807" y="13554"/>
                  <a:pt x="15819" y="13528"/>
                </a:cubicBezTo>
                <a:cubicBezTo>
                  <a:pt x="15834" y="13496"/>
                  <a:pt x="15837" y="13457"/>
                  <a:pt x="15833" y="13422"/>
                </a:cubicBezTo>
                <a:cubicBezTo>
                  <a:pt x="15830" y="13402"/>
                  <a:pt x="15823" y="13392"/>
                  <a:pt x="15809" y="13380"/>
                </a:cubicBezTo>
                <a:cubicBezTo>
                  <a:pt x="15784" y="13405"/>
                  <a:pt x="15775" y="13422"/>
                  <a:pt x="15771" y="13459"/>
                </a:cubicBezTo>
                <a:cubicBezTo>
                  <a:pt x="15768" y="13490"/>
                  <a:pt x="15768" y="13521"/>
                  <a:pt x="15786" y="13546"/>
                </a:cubicBezTo>
                <a:cubicBezTo>
                  <a:pt x="15789" y="13549"/>
                  <a:pt x="15792" y="13553"/>
                  <a:pt x="15795" y="13556"/>
                </a:cubicBezTo>
                <a:cubicBezTo>
                  <a:pt x="15819" y="13550"/>
                  <a:pt x="15818" y="13534"/>
                  <a:pt x="15819" y="13510"/>
                </a:cubicBezTo>
                <a:cubicBezTo>
                  <a:pt x="15820" y="13492"/>
                  <a:pt x="15819" y="13480"/>
                  <a:pt x="15814" y="13463"/>
                </a:cubicBezTo>
                <a:cubicBezTo>
                  <a:pt x="15793" y="13459"/>
                  <a:pt x="15766" y="13455"/>
                  <a:pt x="15748" y="13473"/>
                </a:cubicBezTo>
                <a:cubicBezTo>
                  <a:pt x="15738" y="13491"/>
                  <a:pt x="15735" y="13497"/>
                  <a:pt x="15729" y="13510"/>
                </a:cubicBezTo>
              </a:path>
              <a:path w="2782" h="4914">
                <a:moveTo>
                  <a:pt x="15420" y="14115"/>
                </a:moveTo>
                <a:cubicBezTo>
                  <a:pt x="15424" y="14110"/>
                  <a:pt x="15429" y="14097"/>
                  <a:pt x="15434" y="14092"/>
                </a:cubicBezTo>
                <a:cubicBezTo>
                  <a:pt x="15449" y="14079"/>
                  <a:pt x="15455" y="14064"/>
                  <a:pt x="15468" y="14050"/>
                </a:cubicBezTo>
                <a:cubicBezTo>
                  <a:pt x="15482" y="14035"/>
                  <a:pt x="15499" y="14021"/>
                  <a:pt x="15515" y="14009"/>
                </a:cubicBezTo>
                <a:cubicBezTo>
                  <a:pt x="15546" y="13986"/>
                  <a:pt x="15580" y="13970"/>
                  <a:pt x="15615" y="13953"/>
                </a:cubicBezTo>
                <a:cubicBezTo>
                  <a:pt x="15645" y="13938"/>
                  <a:pt x="15671" y="13918"/>
                  <a:pt x="15700" y="13902"/>
                </a:cubicBezTo>
                <a:cubicBezTo>
                  <a:pt x="15725" y="13888"/>
                  <a:pt x="15751" y="13875"/>
                  <a:pt x="15776" y="13861"/>
                </a:cubicBezTo>
                <a:cubicBezTo>
                  <a:pt x="15795" y="13850"/>
                  <a:pt x="15806" y="13833"/>
                  <a:pt x="15828" y="13828"/>
                </a:cubicBezTo>
                <a:cubicBezTo>
                  <a:pt x="15841" y="13825"/>
                  <a:pt x="15853" y="13827"/>
                  <a:pt x="15866" y="13824"/>
                </a:cubicBezTo>
                <a:cubicBezTo>
                  <a:pt x="15874" y="13822"/>
                  <a:pt x="15880" y="13819"/>
                  <a:pt x="15890" y="13819"/>
                </a:cubicBezTo>
                <a:cubicBezTo>
                  <a:pt x="15892" y="13819"/>
                  <a:pt x="15893" y="13819"/>
                  <a:pt x="15895" y="13819"/>
                </a:cubicBezTo>
                <a:cubicBezTo>
                  <a:pt x="15897" y="13836"/>
                  <a:pt x="15898" y="13850"/>
                  <a:pt x="15909" y="13865"/>
                </a:cubicBezTo>
                <a:cubicBezTo>
                  <a:pt x="15917" y="13876"/>
                  <a:pt x="15925" y="13887"/>
                  <a:pt x="15933" y="13898"/>
                </a:cubicBezTo>
                <a:cubicBezTo>
                  <a:pt x="15953" y="13924"/>
                  <a:pt x="15969" y="13951"/>
                  <a:pt x="15990" y="13976"/>
                </a:cubicBezTo>
                <a:cubicBezTo>
                  <a:pt x="16010" y="14001"/>
                  <a:pt x="16023" y="14020"/>
                  <a:pt x="16047" y="14041"/>
                </a:cubicBezTo>
                <a:cubicBezTo>
                  <a:pt x="16062" y="14054"/>
                  <a:pt x="16077" y="14062"/>
                  <a:pt x="16094" y="14073"/>
                </a:cubicBezTo>
              </a:path>
              <a:path w="2782" h="4914">
                <a:moveTo>
                  <a:pt x="15340" y="12955"/>
                </a:moveTo>
                <a:cubicBezTo>
                  <a:pt x="15362" y="12962"/>
                  <a:pt x="15378" y="12968"/>
                  <a:pt x="15401" y="12969"/>
                </a:cubicBezTo>
                <a:cubicBezTo>
                  <a:pt x="15462" y="12971"/>
                  <a:pt x="15526" y="12961"/>
                  <a:pt x="15586" y="12964"/>
                </a:cubicBezTo>
                <a:cubicBezTo>
                  <a:pt x="15626" y="12966"/>
                  <a:pt x="15665" y="12969"/>
                  <a:pt x="15705" y="12969"/>
                </a:cubicBezTo>
                <a:cubicBezTo>
                  <a:pt x="15789" y="12969"/>
                  <a:pt x="15884" y="12981"/>
                  <a:pt x="15966" y="12964"/>
                </a:cubicBezTo>
                <a:cubicBezTo>
                  <a:pt x="15994" y="12958"/>
                  <a:pt x="16023" y="12949"/>
                  <a:pt x="16051" y="12946"/>
                </a:cubicBezTo>
                <a:cubicBezTo>
                  <a:pt x="16068" y="12944"/>
                  <a:pt x="16087" y="12946"/>
                  <a:pt x="16104" y="12946"/>
                </a:cubicBezTo>
              </a:path>
              <a:path w="2782" h="4914">
                <a:moveTo>
                  <a:pt x="15520" y="16177"/>
                </a:moveTo>
                <a:cubicBezTo>
                  <a:pt x="15492" y="16189"/>
                  <a:pt x="15473" y="16184"/>
                  <a:pt x="15444" y="16204"/>
                </a:cubicBezTo>
                <a:cubicBezTo>
                  <a:pt x="15418" y="16222"/>
                  <a:pt x="15397" y="16243"/>
                  <a:pt x="15373" y="16264"/>
                </a:cubicBezTo>
                <a:cubicBezTo>
                  <a:pt x="15276" y="16346"/>
                  <a:pt x="15188" y="16439"/>
                  <a:pt x="15102" y="16532"/>
                </a:cubicBezTo>
                <a:cubicBezTo>
                  <a:pt x="15031" y="16608"/>
                  <a:pt x="14960" y="16688"/>
                  <a:pt x="14898" y="16773"/>
                </a:cubicBezTo>
                <a:cubicBezTo>
                  <a:pt x="14847" y="16843"/>
                  <a:pt x="14806" y="16922"/>
                  <a:pt x="14761" y="16995"/>
                </a:cubicBezTo>
                <a:cubicBezTo>
                  <a:pt x="14720" y="17062"/>
                  <a:pt x="14685" y="17130"/>
                  <a:pt x="14647" y="17198"/>
                </a:cubicBezTo>
                <a:cubicBezTo>
                  <a:pt x="14604" y="17277"/>
                  <a:pt x="14567" y="17357"/>
                  <a:pt x="14528" y="17438"/>
                </a:cubicBezTo>
                <a:cubicBezTo>
                  <a:pt x="14499" y="17500"/>
                  <a:pt x="14464" y="17565"/>
                  <a:pt x="14443" y="17628"/>
                </a:cubicBezTo>
                <a:cubicBezTo>
                  <a:pt x="14427" y="17676"/>
                  <a:pt x="14398" y="17752"/>
                  <a:pt x="14433" y="17799"/>
                </a:cubicBezTo>
                <a:cubicBezTo>
                  <a:pt x="14445" y="17815"/>
                  <a:pt x="14486" y="17824"/>
                  <a:pt x="14504" y="17831"/>
                </a:cubicBezTo>
                <a:cubicBezTo>
                  <a:pt x="14539" y="17846"/>
                  <a:pt x="14584" y="17846"/>
                  <a:pt x="14623" y="17850"/>
                </a:cubicBezTo>
                <a:cubicBezTo>
                  <a:pt x="14910" y="17880"/>
                  <a:pt x="15253" y="17879"/>
                  <a:pt x="15539" y="17854"/>
                </a:cubicBezTo>
                <a:cubicBezTo>
                  <a:pt x="15631" y="17846"/>
                  <a:pt x="15722" y="17831"/>
                  <a:pt x="15814" y="17827"/>
                </a:cubicBezTo>
                <a:cubicBezTo>
                  <a:pt x="15885" y="17824"/>
                  <a:pt x="15957" y="17827"/>
                  <a:pt x="16028" y="17822"/>
                </a:cubicBezTo>
                <a:cubicBezTo>
                  <a:pt x="16115" y="17816"/>
                  <a:pt x="16202" y="17805"/>
                  <a:pt x="16289" y="17799"/>
                </a:cubicBezTo>
                <a:cubicBezTo>
                  <a:pt x="16419" y="17790"/>
                  <a:pt x="16540" y="17790"/>
                  <a:pt x="16668" y="17762"/>
                </a:cubicBezTo>
                <a:cubicBezTo>
                  <a:pt x="16796" y="17734"/>
                  <a:pt x="16928" y="17740"/>
                  <a:pt x="17053" y="17711"/>
                </a:cubicBezTo>
                <a:cubicBezTo>
                  <a:pt x="17109" y="17698"/>
                  <a:pt x="17177" y="17676"/>
                  <a:pt x="17200" y="17628"/>
                </a:cubicBezTo>
                <a:cubicBezTo>
                  <a:pt x="17237" y="17550"/>
                  <a:pt x="17167" y="17410"/>
                  <a:pt x="17133" y="17346"/>
                </a:cubicBezTo>
                <a:cubicBezTo>
                  <a:pt x="17084" y="17253"/>
                  <a:pt x="17014" y="17173"/>
                  <a:pt x="16948" y="17092"/>
                </a:cubicBezTo>
                <a:cubicBezTo>
                  <a:pt x="16905" y="17040"/>
                  <a:pt x="16862" y="16985"/>
                  <a:pt x="16815" y="16935"/>
                </a:cubicBezTo>
                <a:cubicBezTo>
                  <a:pt x="16771" y="16888"/>
                  <a:pt x="16721" y="16840"/>
                  <a:pt x="16673" y="16796"/>
                </a:cubicBezTo>
                <a:cubicBezTo>
                  <a:pt x="16545" y="16680"/>
                  <a:pt x="16392" y="16599"/>
                  <a:pt x="16251" y="16500"/>
                </a:cubicBezTo>
                <a:cubicBezTo>
                  <a:pt x="16208" y="16470"/>
                  <a:pt x="16168" y="16436"/>
                  <a:pt x="16127" y="16403"/>
                </a:cubicBezTo>
                <a:cubicBezTo>
                  <a:pt x="16034" y="16327"/>
                  <a:pt x="15939" y="16250"/>
                  <a:pt x="15852" y="16167"/>
                </a:cubicBezTo>
                <a:cubicBezTo>
                  <a:pt x="15821" y="16137"/>
                  <a:pt x="15796" y="16097"/>
                  <a:pt x="15762" y="16070"/>
                </a:cubicBezTo>
                <a:cubicBezTo>
                  <a:pt x="15747" y="16058"/>
                  <a:pt x="15733" y="16042"/>
                  <a:pt x="15719" y="16033"/>
                </a:cubicBezTo>
                <a:cubicBezTo>
                  <a:pt x="15719" y="16038"/>
                  <a:pt x="15719" y="16042"/>
                  <a:pt x="15719" y="16047"/>
                </a:cubicBezTo>
              </a:path>
              <a:path w="2782" h="4914">
                <a:moveTo>
                  <a:pt x="15781" y="17008"/>
                </a:moveTo>
                <a:cubicBezTo>
                  <a:pt x="15760" y="17008"/>
                  <a:pt x="15749" y="17007"/>
                  <a:pt x="15729" y="17018"/>
                </a:cubicBezTo>
                <a:cubicBezTo>
                  <a:pt x="15693" y="17039"/>
                  <a:pt x="15666" y="17069"/>
                  <a:pt x="15648" y="17106"/>
                </a:cubicBezTo>
                <a:cubicBezTo>
                  <a:pt x="15635" y="17133"/>
                  <a:pt x="15630" y="17179"/>
                  <a:pt x="15658" y="17198"/>
                </a:cubicBezTo>
                <a:cubicBezTo>
                  <a:pt x="15687" y="17218"/>
                  <a:pt x="15729" y="17190"/>
                  <a:pt x="15748" y="17170"/>
                </a:cubicBezTo>
                <a:cubicBezTo>
                  <a:pt x="15774" y="17143"/>
                  <a:pt x="15788" y="17109"/>
                  <a:pt x="15790" y="17073"/>
                </a:cubicBezTo>
                <a:cubicBezTo>
                  <a:pt x="15791" y="17047"/>
                  <a:pt x="15781" y="17042"/>
                  <a:pt x="15757" y="17041"/>
                </a:cubicBezTo>
                <a:cubicBezTo>
                  <a:pt x="15740" y="17040"/>
                  <a:pt x="15716" y="17038"/>
                  <a:pt x="15700" y="17045"/>
                </a:cubicBezTo>
                <a:cubicBezTo>
                  <a:pt x="15688" y="17050"/>
                  <a:pt x="15686" y="17059"/>
                  <a:pt x="15681" y="17069"/>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61920" y="5940360"/>
            <a:ext cx="1790640" cy="389160"/>
          </a:xfrm>
          <a:custGeom>
            <a:avLst/>
            <a:gdLst/>
            <a:ahLst/>
            <a:rect l="l" t="t" r="r" b="b"/>
            <a:pathLst>
              <a:path w="4974" h="1083">
                <a:moveTo>
                  <a:pt x="591" y="16879"/>
                </a:moveTo>
                <a:cubicBezTo>
                  <a:pt x="583" y="16887"/>
                  <a:pt x="574" y="16906"/>
                  <a:pt x="572" y="16921"/>
                </a:cubicBezTo>
                <a:cubicBezTo>
                  <a:pt x="567" y="16965"/>
                  <a:pt x="568" y="17014"/>
                  <a:pt x="567" y="17059"/>
                </a:cubicBezTo>
                <a:cubicBezTo>
                  <a:pt x="566" y="17118"/>
                  <a:pt x="533" y="17323"/>
                  <a:pt x="572" y="17369"/>
                </a:cubicBezTo>
                <a:cubicBezTo>
                  <a:pt x="578" y="17369"/>
                  <a:pt x="580" y="17368"/>
                  <a:pt x="577" y="17360"/>
                </a:cubicBezTo>
              </a:path>
              <a:path w="4974" h="1083">
                <a:moveTo>
                  <a:pt x="283" y="16930"/>
                </a:moveTo>
                <a:cubicBezTo>
                  <a:pt x="254" y="16916"/>
                  <a:pt x="225" y="16904"/>
                  <a:pt x="202" y="16879"/>
                </a:cubicBezTo>
                <a:cubicBezTo>
                  <a:pt x="163" y="16836"/>
                  <a:pt x="164" y="16782"/>
                  <a:pt x="207" y="16740"/>
                </a:cubicBezTo>
                <a:cubicBezTo>
                  <a:pt x="265" y="16684"/>
                  <a:pt x="353" y="16669"/>
                  <a:pt x="430" y="16676"/>
                </a:cubicBezTo>
                <a:cubicBezTo>
                  <a:pt x="537" y="16686"/>
                  <a:pt x="632" y="16748"/>
                  <a:pt x="696" y="16833"/>
                </a:cubicBezTo>
                <a:cubicBezTo>
                  <a:pt x="781" y="16945"/>
                  <a:pt x="799" y="17095"/>
                  <a:pt x="771" y="17230"/>
                </a:cubicBezTo>
                <a:cubicBezTo>
                  <a:pt x="754" y="17313"/>
                  <a:pt x="707" y="17405"/>
                  <a:pt x="648" y="17466"/>
                </a:cubicBezTo>
                <a:cubicBezTo>
                  <a:pt x="602" y="17513"/>
                  <a:pt x="540" y="17521"/>
                  <a:pt x="477" y="17517"/>
                </a:cubicBezTo>
                <a:cubicBezTo>
                  <a:pt x="444" y="17515"/>
                  <a:pt x="424" y="17505"/>
                  <a:pt x="397" y="17489"/>
                </a:cubicBezTo>
              </a:path>
              <a:path w="4974" h="1083">
                <a:moveTo>
                  <a:pt x="1142" y="16740"/>
                </a:moveTo>
                <a:cubicBezTo>
                  <a:pt x="1135" y="16746"/>
                  <a:pt x="1114" y="16758"/>
                  <a:pt x="1108" y="16768"/>
                </a:cubicBezTo>
                <a:cubicBezTo>
                  <a:pt x="1101" y="16779"/>
                  <a:pt x="1104" y="16796"/>
                  <a:pt x="1099" y="16805"/>
                </a:cubicBezTo>
                <a:cubicBezTo>
                  <a:pt x="1093" y="16816"/>
                  <a:pt x="1102" y="16809"/>
                  <a:pt x="1089" y="16814"/>
                </a:cubicBezTo>
                <a:cubicBezTo>
                  <a:pt x="1073" y="16820"/>
                  <a:pt x="1060" y="16807"/>
                  <a:pt x="1047" y="16805"/>
                </a:cubicBezTo>
                <a:cubicBezTo>
                  <a:pt x="1008" y="16799"/>
                  <a:pt x="948" y="16801"/>
                  <a:pt x="919" y="16819"/>
                </a:cubicBezTo>
                <a:cubicBezTo>
                  <a:pt x="885" y="16840"/>
                  <a:pt x="868" y="16875"/>
                  <a:pt x="852" y="16911"/>
                </a:cubicBezTo>
                <a:cubicBezTo>
                  <a:pt x="821" y="16982"/>
                  <a:pt x="811" y="17051"/>
                  <a:pt x="814" y="17129"/>
                </a:cubicBezTo>
                <a:cubicBezTo>
                  <a:pt x="817" y="17209"/>
                  <a:pt x="827" y="17264"/>
                  <a:pt x="876" y="17327"/>
                </a:cubicBezTo>
                <a:cubicBezTo>
                  <a:pt x="908" y="17368"/>
                  <a:pt x="942" y="17387"/>
                  <a:pt x="994" y="17369"/>
                </a:cubicBezTo>
                <a:cubicBezTo>
                  <a:pt x="1058" y="17347"/>
                  <a:pt x="1081" y="17284"/>
                  <a:pt x="1104" y="17226"/>
                </a:cubicBezTo>
                <a:cubicBezTo>
                  <a:pt x="1130" y="17161"/>
                  <a:pt x="1154" y="17083"/>
                  <a:pt x="1161" y="17013"/>
                </a:cubicBezTo>
                <a:cubicBezTo>
                  <a:pt x="1164" y="16983"/>
                  <a:pt x="1161" y="16951"/>
                  <a:pt x="1161" y="16921"/>
                </a:cubicBezTo>
                <a:cubicBezTo>
                  <a:pt x="1161" y="16943"/>
                  <a:pt x="1158" y="16955"/>
                  <a:pt x="1161" y="16976"/>
                </a:cubicBezTo>
                <a:cubicBezTo>
                  <a:pt x="1170" y="17045"/>
                  <a:pt x="1177" y="17118"/>
                  <a:pt x="1199" y="17184"/>
                </a:cubicBezTo>
                <a:cubicBezTo>
                  <a:pt x="1221" y="17249"/>
                  <a:pt x="1247" y="17306"/>
                  <a:pt x="1284" y="17364"/>
                </a:cubicBezTo>
              </a:path>
              <a:path w="4974" h="1083">
                <a:moveTo>
                  <a:pt x="1645" y="16519"/>
                </a:moveTo>
                <a:cubicBezTo>
                  <a:pt x="1635" y="16535"/>
                  <a:pt x="1623" y="16541"/>
                  <a:pt x="1621" y="16569"/>
                </a:cubicBezTo>
                <a:cubicBezTo>
                  <a:pt x="1615" y="16655"/>
                  <a:pt x="1626" y="16743"/>
                  <a:pt x="1630" y="16828"/>
                </a:cubicBezTo>
                <a:cubicBezTo>
                  <a:pt x="1637" y="16964"/>
                  <a:pt x="1651" y="17099"/>
                  <a:pt x="1664" y="17235"/>
                </a:cubicBezTo>
                <a:cubicBezTo>
                  <a:pt x="1672" y="17319"/>
                  <a:pt x="1680" y="17401"/>
                  <a:pt x="1687" y="17485"/>
                </a:cubicBezTo>
                <a:cubicBezTo>
                  <a:pt x="1687" y="17494"/>
                  <a:pt x="1687" y="17497"/>
                  <a:pt x="1687" y="17485"/>
                </a:cubicBezTo>
                <a:cubicBezTo>
                  <a:pt x="1657" y="17433"/>
                  <a:pt x="1635" y="17377"/>
                  <a:pt x="1607" y="17323"/>
                </a:cubicBezTo>
                <a:cubicBezTo>
                  <a:pt x="1582" y="17275"/>
                  <a:pt x="1561" y="17234"/>
                  <a:pt x="1559" y="17180"/>
                </a:cubicBezTo>
                <a:cubicBezTo>
                  <a:pt x="1559" y="17172"/>
                  <a:pt x="1559" y="17164"/>
                  <a:pt x="1559" y="17156"/>
                </a:cubicBezTo>
                <a:cubicBezTo>
                  <a:pt x="1597" y="17144"/>
                  <a:pt x="1633" y="17147"/>
                  <a:pt x="1673" y="17147"/>
                </a:cubicBezTo>
              </a:path>
              <a:path w="4974" h="1083">
                <a:moveTo>
                  <a:pt x="2024" y="16972"/>
                </a:moveTo>
                <a:cubicBezTo>
                  <a:pt x="2010" y="16965"/>
                  <a:pt x="1995" y="16954"/>
                  <a:pt x="1977" y="16958"/>
                </a:cubicBezTo>
                <a:cubicBezTo>
                  <a:pt x="1933" y="16968"/>
                  <a:pt x="1909" y="17016"/>
                  <a:pt x="1896" y="17055"/>
                </a:cubicBezTo>
                <a:cubicBezTo>
                  <a:pt x="1877" y="17112"/>
                  <a:pt x="1869" y="17181"/>
                  <a:pt x="1882" y="17240"/>
                </a:cubicBezTo>
                <a:cubicBezTo>
                  <a:pt x="1894" y="17272"/>
                  <a:pt x="1895" y="17280"/>
                  <a:pt x="1910" y="17295"/>
                </a:cubicBezTo>
                <a:cubicBezTo>
                  <a:pt x="1958" y="17285"/>
                  <a:pt x="1981" y="17257"/>
                  <a:pt x="2010" y="17216"/>
                </a:cubicBezTo>
                <a:cubicBezTo>
                  <a:pt x="2037" y="17179"/>
                  <a:pt x="2056" y="17148"/>
                  <a:pt x="2095" y="17124"/>
                </a:cubicBezTo>
                <a:cubicBezTo>
                  <a:pt x="2130" y="17130"/>
                  <a:pt x="2128" y="17160"/>
                  <a:pt x="2138" y="17193"/>
                </a:cubicBezTo>
                <a:cubicBezTo>
                  <a:pt x="2152" y="17235"/>
                  <a:pt x="2157" y="17249"/>
                  <a:pt x="2167" y="17277"/>
                </a:cubicBezTo>
              </a:path>
              <a:path w="4974" h="1083">
                <a:moveTo>
                  <a:pt x="3101" y="16500"/>
                </a:moveTo>
                <a:cubicBezTo>
                  <a:pt x="3079" y="16513"/>
                  <a:pt x="3060" y="16519"/>
                  <a:pt x="3040" y="16542"/>
                </a:cubicBezTo>
                <a:cubicBezTo>
                  <a:pt x="2983" y="16607"/>
                  <a:pt x="2947" y="16685"/>
                  <a:pt x="2912" y="16764"/>
                </a:cubicBezTo>
                <a:cubicBezTo>
                  <a:pt x="2840" y="16926"/>
                  <a:pt x="2794" y="17099"/>
                  <a:pt x="2741" y="17267"/>
                </a:cubicBezTo>
                <a:cubicBezTo>
                  <a:pt x="2717" y="17344"/>
                  <a:pt x="2696" y="17422"/>
                  <a:pt x="2670" y="17498"/>
                </a:cubicBezTo>
                <a:cubicBezTo>
                  <a:pt x="2671" y="17440"/>
                  <a:pt x="2676" y="17385"/>
                  <a:pt x="2684" y="17327"/>
                </a:cubicBezTo>
                <a:cubicBezTo>
                  <a:pt x="2703" y="17197"/>
                  <a:pt x="2727" y="17066"/>
                  <a:pt x="2760" y="16939"/>
                </a:cubicBezTo>
                <a:cubicBezTo>
                  <a:pt x="2788" y="16832"/>
                  <a:pt x="2827" y="16726"/>
                  <a:pt x="2874" y="16625"/>
                </a:cubicBezTo>
                <a:cubicBezTo>
                  <a:pt x="2890" y="16594"/>
                  <a:pt x="2891" y="16587"/>
                  <a:pt x="2907" y="16574"/>
                </a:cubicBezTo>
                <a:cubicBezTo>
                  <a:pt x="2935" y="16617"/>
                  <a:pt x="2945" y="16653"/>
                  <a:pt x="2954" y="16713"/>
                </a:cubicBezTo>
                <a:cubicBezTo>
                  <a:pt x="2971" y="16831"/>
                  <a:pt x="2987" y="16948"/>
                  <a:pt x="3011" y="17064"/>
                </a:cubicBezTo>
                <a:cubicBezTo>
                  <a:pt x="3030" y="17156"/>
                  <a:pt x="3060" y="17233"/>
                  <a:pt x="3097" y="17318"/>
                </a:cubicBezTo>
                <a:cubicBezTo>
                  <a:pt x="3116" y="17362"/>
                  <a:pt x="3113" y="17330"/>
                  <a:pt x="3097" y="17314"/>
                </a:cubicBezTo>
                <a:cubicBezTo>
                  <a:pt x="3053" y="17269"/>
                  <a:pt x="2980" y="17244"/>
                  <a:pt x="2921" y="17226"/>
                </a:cubicBezTo>
                <a:cubicBezTo>
                  <a:pt x="2875" y="17212"/>
                  <a:pt x="2830" y="17204"/>
                  <a:pt x="2783" y="17198"/>
                </a:cubicBezTo>
              </a:path>
              <a:path w="4974" h="1083">
                <a:moveTo>
                  <a:pt x="3557" y="16902"/>
                </a:moveTo>
                <a:cubicBezTo>
                  <a:pt x="3554" y="16882"/>
                  <a:pt x="3553" y="16876"/>
                  <a:pt x="3538" y="16861"/>
                </a:cubicBezTo>
                <a:cubicBezTo>
                  <a:pt x="3517" y="16839"/>
                  <a:pt x="3474" y="16844"/>
                  <a:pt x="3448" y="16851"/>
                </a:cubicBezTo>
                <a:cubicBezTo>
                  <a:pt x="3395" y="16865"/>
                  <a:pt x="3341" y="16918"/>
                  <a:pt x="3310" y="16962"/>
                </a:cubicBezTo>
                <a:cubicBezTo>
                  <a:pt x="3265" y="17026"/>
                  <a:pt x="3248" y="17104"/>
                  <a:pt x="3244" y="17180"/>
                </a:cubicBezTo>
                <a:cubicBezTo>
                  <a:pt x="3240" y="17250"/>
                  <a:pt x="3245" y="17326"/>
                  <a:pt x="3282" y="17388"/>
                </a:cubicBezTo>
                <a:cubicBezTo>
                  <a:pt x="3290" y="17397"/>
                  <a:pt x="3297" y="17406"/>
                  <a:pt x="3305" y="17415"/>
                </a:cubicBezTo>
              </a:path>
              <a:path w="4974" h="1083">
                <a:moveTo>
                  <a:pt x="3832" y="16953"/>
                </a:moveTo>
                <a:cubicBezTo>
                  <a:pt x="3838" y="16948"/>
                  <a:pt x="3846" y="16945"/>
                  <a:pt x="3856" y="16939"/>
                </a:cubicBezTo>
                <a:cubicBezTo>
                  <a:pt x="3870" y="16930"/>
                  <a:pt x="3888" y="16925"/>
                  <a:pt x="3903" y="16916"/>
                </a:cubicBezTo>
                <a:cubicBezTo>
                  <a:pt x="3919" y="16906"/>
                  <a:pt x="3934" y="16885"/>
                  <a:pt x="3927" y="16865"/>
                </a:cubicBezTo>
                <a:cubicBezTo>
                  <a:pt x="3922" y="16851"/>
                  <a:pt x="3899" y="16844"/>
                  <a:pt x="3884" y="16847"/>
                </a:cubicBezTo>
                <a:cubicBezTo>
                  <a:pt x="3831" y="16856"/>
                  <a:pt x="3786" y="16878"/>
                  <a:pt x="3747" y="16916"/>
                </a:cubicBezTo>
                <a:cubicBezTo>
                  <a:pt x="3692" y="16970"/>
                  <a:pt x="3657" y="17038"/>
                  <a:pt x="3633" y="17110"/>
                </a:cubicBezTo>
                <a:cubicBezTo>
                  <a:pt x="3611" y="17178"/>
                  <a:pt x="3606" y="17253"/>
                  <a:pt x="3623" y="17323"/>
                </a:cubicBezTo>
                <a:cubicBezTo>
                  <a:pt x="3635" y="17375"/>
                  <a:pt x="3657" y="17421"/>
                  <a:pt x="3714" y="17429"/>
                </a:cubicBezTo>
                <a:cubicBezTo>
                  <a:pt x="3728" y="17429"/>
                  <a:pt x="3742" y="17429"/>
                  <a:pt x="3756" y="17429"/>
                </a:cubicBezTo>
              </a:path>
              <a:path w="4974" h="1083">
                <a:moveTo>
                  <a:pt x="4141" y="17022"/>
                </a:moveTo>
                <a:cubicBezTo>
                  <a:pt x="4155" y="17024"/>
                  <a:pt x="4166" y="17027"/>
                  <a:pt x="4183" y="17027"/>
                </a:cubicBezTo>
                <a:cubicBezTo>
                  <a:pt x="4248" y="17027"/>
                  <a:pt x="4303" y="17003"/>
                  <a:pt x="4364" y="16981"/>
                </a:cubicBezTo>
                <a:cubicBezTo>
                  <a:pt x="4398" y="16969"/>
                  <a:pt x="4407" y="16956"/>
                  <a:pt x="4425" y="16930"/>
                </a:cubicBezTo>
                <a:cubicBezTo>
                  <a:pt x="4397" y="16925"/>
                  <a:pt x="4369" y="16920"/>
                  <a:pt x="4340" y="16930"/>
                </a:cubicBezTo>
                <a:cubicBezTo>
                  <a:pt x="4275" y="16951"/>
                  <a:pt x="4231" y="17006"/>
                  <a:pt x="4193" y="17059"/>
                </a:cubicBezTo>
                <a:cubicBezTo>
                  <a:pt x="4150" y="17119"/>
                  <a:pt x="4129" y="17185"/>
                  <a:pt x="4126" y="17258"/>
                </a:cubicBezTo>
                <a:cubicBezTo>
                  <a:pt x="4123" y="17320"/>
                  <a:pt x="4125" y="17325"/>
                  <a:pt x="4160" y="17369"/>
                </a:cubicBezTo>
              </a:path>
              <a:path w="4974" h="1083">
                <a:moveTo>
                  <a:pt x="4715" y="16935"/>
                </a:moveTo>
                <a:cubicBezTo>
                  <a:pt x="4697" y="16935"/>
                  <a:pt x="4675" y="16932"/>
                  <a:pt x="4658" y="16939"/>
                </a:cubicBezTo>
                <a:cubicBezTo>
                  <a:pt x="4628" y="16952"/>
                  <a:pt x="4576" y="16992"/>
                  <a:pt x="4558" y="17018"/>
                </a:cubicBezTo>
                <a:cubicBezTo>
                  <a:pt x="4539" y="17045"/>
                  <a:pt x="4544" y="17105"/>
                  <a:pt x="4558" y="17133"/>
                </a:cubicBezTo>
                <a:cubicBezTo>
                  <a:pt x="4583" y="17184"/>
                  <a:pt x="4629" y="17218"/>
                  <a:pt x="4667" y="17258"/>
                </a:cubicBezTo>
                <a:cubicBezTo>
                  <a:pt x="4689" y="17281"/>
                  <a:pt x="4717" y="17335"/>
                  <a:pt x="4710" y="17369"/>
                </a:cubicBezTo>
                <a:cubicBezTo>
                  <a:pt x="4700" y="17418"/>
                  <a:pt x="4667" y="17435"/>
                  <a:pt x="4625" y="17452"/>
                </a:cubicBezTo>
                <a:cubicBezTo>
                  <a:pt x="4581" y="17470"/>
                  <a:pt x="4539" y="17466"/>
                  <a:pt x="4492" y="17466"/>
                </a:cubicBezTo>
              </a:path>
              <a:path w="4974" h="1083">
                <a:moveTo>
                  <a:pt x="5019" y="16870"/>
                </a:moveTo>
                <a:cubicBezTo>
                  <a:pt x="4998" y="16871"/>
                  <a:pt x="4990" y="16873"/>
                  <a:pt x="4971" y="16884"/>
                </a:cubicBezTo>
                <a:cubicBezTo>
                  <a:pt x="4936" y="16905"/>
                  <a:pt x="4914" y="16933"/>
                  <a:pt x="4900" y="16972"/>
                </a:cubicBezTo>
                <a:cubicBezTo>
                  <a:pt x="4883" y="17018"/>
                  <a:pt x="4871" y="17075"/>
                  <a:pt x="4886" y="17124"/>
                </a:cubicBezTo>
                <a:cubicBezTo>
                  <a:pt x="4906" y="17191"/>
                  <a:pt x="4953" y="17225"/>
                  <a:pt x="5004" y="17267"/>
                </a:cubicBezTo>
                <a:cubicBezTo>
                  <a:pt x="5046" y="17302"/>
                  <a:pt x="5113" y="17342"/>
                  <a:pt x="5137" y="17392"/>
                </a:cubicBezTo>
                <a:cubicBezTo>
                  <a:pt x="5157" y="17433"/>
                  <a:pt x="5147" y="17490"/>
                  <a:pt x="5113" y="17522"/>
                </a:cubicBezTo>
                <a:cubicBezTo>
                  <a:pt x="5080" y="17552"/>
                  <a:pt x="5026" y="17571"/>
                  <a:pt x="4985" y="17582"/>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021120" y="5788080"/>
            <a:ext cx="4887720" cy="822240"/>
          </a:xfrm>
          <a:custGeom>
            <a:avLst/>
            <a:gdLst/>
            <a:ahLst/>
            <a:rect l="l" t="t" r="r" b="b"/>
            <a:pathLst>
              <a:path w="13578" h="2285">
                <a:moveTo>
                  <a:pt x="9503" y="16135"/>
                </a:moveTo>
                <a:cubicBezTo>
                  <a:pt x="9505" y="16119"/>
                  <a:pt x="9507" y="16106"/>
                  <a:pt x="9508" y="16089"/>
                </a:cubicBezTo>
                <a:cubicBezTo>
                  <a:pt x="9508" y="16084"/>
                  <a:pt x="9508" y="16082"/>
                  <a:pt x="9508" y="16079"/>
                </a:cubicBezTo>
                <a:cubicBezTo>
                  <a:pt x="9491" y="16094"/>
                  <a:pt x="9472" y="16089"/>
                  <a:pt x="9451" y="16116"/>
                </a:cubicBezTo>
                <a:cubicBezTo>
                  <a:pt x="9425" y="16149"/>
                  <a:pt x="9405" y="16187"/>
                  <a:pt x="9384" y="16223"/>
                </a:cubicBezTo>
                <a:cubicBezTo>
                  <a:pt x="9350" y="16283"/>
                  <a:pt x="9312" y="16340"/>
                  <a:pt x="9275" y="16398"/>
                </a:cubicBezTo>
                <a:cubicBezTo>
                  <a:pt x="9242" y="16450"/>
                  <a:pt x="9201" y="16494"/>
                  <a:pt x="9166" y="16542"/>
                </a:cubicBezTo>
                <a:cubicBezTo>
                  <a:pt x="9084" y="16656"/>
                  <a:pt x="9024" y="16778"/>
                  <a:pt x="8952" y="16898"/>
                </a:cubicBezTo>
                <a:cubicBezTo>
                  <a:pt x="8923" y="16947"/>
                  <a:pt x="8892" y="16992"/>
                  <a:pt x="8862" y="17041"/>
                </a:cubicBezTo>
                <a:cubicBezTo>
                  <a:pt x="8833" y="17089"/>
                  <a:pt x="8806" y="17138"/>
                  <a:pt x="8772" y="17184"/>
                </a:cubicBezTo>
                <a:cubicBezTo>
                  <a:pt x="8729" y="17242"/>
                  <a:pt x="8677" y="17295"/>
                  <a:pt x="8634" y="17351"/>
                </a:cubicBezTo>
                <a:cubicBezTo>
                  <a:pt x="8584" y="17416"/>
                  <a:pt x="8530" y="17484"/>
                  <a:pt x="8487" y="17554"/>
                </a:cubicBezTo>
                <a:cubicBezTo>
                  <a:pt x="8467" y="17587"/>
                  <a:pt x="8446" y="17621"/>
                  <a:pt x="8430" y="17656"/>
                </a:cubicBezTo>
                <a:cubicBezTo>
                  <a:pt x="8416" y="17686"/>
                  <a:pt x="8406" y="17719"/>
                  <a:pt x="8397" y="17748"/>
                </a:cubicBezTo>
                <a:cubicBezTo>
                  <a:pt x="8394" y="17759"/>
                  <a:pt x="8395" y="17769"/>
                  <a:pt x="8392" y="17780"/>
                </a:cubicBezTo>
                <a:cubicBezTo>
                  <a:pt x="8419" y="17781"/>
                  <a:pt x="8449" y="17785"/>
                  <a:pt x="8478" y="17785"/>
                </a:cubicBezTo>
                <a:cubicBezTo>
                  <a:pt x="8627" y="17786"/>
                  <a:pt x="8775" y="17793"/>
                  <a:pt x="8924" y="17794"/>
                </a:cubicBezTo>
                <a:cubicBezTo>
                  <a:pt x="9016" y="17794"/>
                  <a:pt x="9103" y="17806"/>
                  <a:pt x="9194" y="17813"/>
                </a:cubicBezTo>
                <a:cubicBezTo>
                  <a:pt x="9399" y="17829"/>
                  <a:pt x="9602" y="17825"/>
                  <a:pt x="9807" y="17845"/>
                </a:cubicBezTo>
                <a:cubicBezTo>
                  <a:pt x="9949" y="17859"/>
                  <a:pt x="10092" y="17867"/>
                  <a:pt x="10234" y="17868"/>
                </a:cubicBezTo>
                <a:cubicBezTo>
                  <a:pt x="10402" y="17869"/>
                  <a:pt x="10567" y="17874"/>
                  <a:pt x="10732" y="17845"/>
                </a:cubicBezTo>
                <a:cubicBezTo>
                  <a:pt x="10792" y="17834"/>
                  <a:pt x="10856" y="17825"/>
                  <a:pt x="10912" y="17799"/>
                </a:cubicBezTo>
                <a:cubicBezTo>
                  <a:pt x="10935" y="17789"/>
                  <a:pt x="10951" y="17780"/>
                  <a:pt x="10969" y="17762"/>
                </a:cubicBezTo>
                <a:cubicBezTo>
                  <a:pt x="11002" y="17730"/>
                  <a:pt x="11002" y="17718"/>
                  <a:pt x="11007" y="17674"/>
                </a:cubicBezTo>
                <a:cubicBezTo>
                  <a:pt x="11018" y="17582"/>
                  <a:pt x="10951" y="17470"/>
                  <a:pt x="10903" y="17397"/>
                </a:cubicBezTo>
                <a:cubicBezTo>
                  <a:pt x="10869" y="17345"/>
                  <a:pt x="10827" y="17302"/>
                  <a:pt x="10784" y="17258"/>
                </a:cubicBezTo>
                <a:cubicBezTo>
                  <a:pt x="10698" y="17170"/>
                  <a:pt x="10600" y="17090"/>
                  <a:pt x="10518" y="16999"/>
                </a:cubicBezTo>
                <a:cubicBezTo>
                  <a:pt x="10475" y="16952"/>
                  <a:pt x="10437" y="16902"/>
                  <a:pt x="10395" y="16856"/>
                </a:cubicBezTo>
                <a:cubicBezTo>
                  <a:pt x="10342" y="16798"/>
                  <a:pt x="10286" y="16744"/>
                  <a:pt x="10229" y="16690"/>
                </a:cubicBezTo>
                <a:cubicBezTo>
                  <a:pt x="10152" y="16616"/>
                  <a:pt x="10069" y="16545"/>
                  <a:pt x="9996" y="16468"/>
                </a:cubicBezTo>
                <a:cubicBezTo>
                  <a:pt x="9959" y="16429"/>
                  <a:pt x="9928" y="16379"/>
                  <a:pt x="9887" y="16343"/>
                </a:cubicBezTo>
                <a:cubicBezTo>
                  <a:pt x="9840" y="16302"/>
                  <a:pt x="9782" y="16260"/>
                  <a:pt x="9731" y="16223"/>
                </a:cubicBezTo>
                <a:cubicBezTo>
                  <a:pt x="9702" y="16202"/>
                  <a:pt x="9672" y="16204"/>
                  <a:pt x="9664" y="16200"/>
                </a:cubicBezTo>
              </a:path>
              <a:path w="13578" h="2285">
                <a:moveTo>
                  <a:pt x="9598" y="16985"/>
                </a:moveTo>
                <a:cubicBezTo>
                  <a:pt x="9591" y="16973"/>
                  <a:pt x="9581" y="16954"/>
                  <a:pt x="9569" y="16944"/>
                </a:cubicBezTo>
                <a:cubicBezTo>
                  <a:pt x="9552" y="16929"/>
                  <a:pt x="9535" y="16916"/>
                  <a:pt x="9512" y="16930"/>
                </a:cubicBezTo>
                <a:cubicBezTo>
                  <a:pt x="9483" y="16948"/>
                  <a:pt x="9469" y="16987"/>
                  <a:pt x="9465" y="17018"/>
                </a:cubicBezTo>
                <a:cubicBezTo>
                  <a:pt x="9461" y="17054"/>
                  <a:pt x="9462" y="17088"/>
                  <a:pt x="9493" y="17110"/>
                </a:cubicBezTo>
                <a:cubicBezTo>
                  <a:pt x="9523" y="17131"/>
                  <a:pt x="9571" y="17118"/>
                  <a:pt x="9602" y="17110"/>
                </a:cubicBezTo>
                <a:cubicBezTo>
                  <a:pt x="9640" y="17100"/>
                  <a:pt x="9664" y="17074"/>
                  <a:pt x="9683" y="17041"/>
                </a:cubicBezTo>
                <a:cubicBezTo>
                  <a:pt x="9695" y="17020"/>
                  <a:pt x="9701" y="16991"/>
                  <a:pt x="9683" y="16972"/>
                </a:cubicBezTo>
                <a:cubicBezTo>
                  <a:pt x="9667" y="16955"/>
                  <a:pt x="9644" y="16953"/>
                  <a:pt x="9626" y="16967"/>
                </a:cubicBezTo>
                <a:cubicBezTo>
                  <a:pt x="9607" y="16981"/>
                  <a:pt x="9588" y="17018"/>
                  <a:pt x="9584" y="17041"/>
                </a:cubicBezTo>
                <a:cubicBezTo>
                  <a:pt x="9580" y="17062"/>
                  <a:pt x="9593" y="17069"/>
                  <a:pt x="9612" y="17064"/>
                </a:cubicBezTo>
                <a:cubicBezTo>
                  <a:pt x="9625" y="17060"/>
                  <a:pt x="9625" y="17052"/>
                  <a:pt x="9626" y="17041"/>
                </a:cubicBezTo>
                <a:cubicBezTo>
                  <a:pt x="9621" y="17031"/>
                  <a:pt x="9619" y="17027"/>
                  <a:pt x="9602" y="17036"/>
                </a:cubicBezTo>
                <a:cubicBezTo>
                  <a:pt x="9589" y="17045"/>
                  <a:pt x="9584" y="17047"/>
                  <a:pt x="9588" y="17059"/>
                </a:cubicBezTo>
              </a:path>
              <a:path w="13578" h="2285">
                <a:moveTo>
                  <a:pt x="15169" y="16546"/>
                </a:moveTo>
                <a:cubicBezTo>
                  <a:pt x="15164" y="16548"/>
                  <a:pt x="15160" y="16549"/>
                  <a:pt x="15155" y="16551"/>
                </a:cubicBezTo>
                <a:cubicBezTo>
                  <a:pt x="15157" y="16551"/>
                  <a:pt x="15168" y="16556"/>
                  <a:pt x="15178" y="16556"/>
                </a:cubicBezTo>
                <a:cubicBezTo>
                  <a:pt x="15382" y="16563"/>
                  <a:pt x="15592" y="16536"/>
                  <a:pt x="15795" y="16560"/>
                </a:cubicBezTo>
                <a:cubicBezTo>
                  <a:pt x="15835" y="16565"/>
                  <a:pt x="15874" y="16565"/>
                  <a:pt x="15914" y="16565"/>
                </a:cubicBezTo>
                <a:cubicBezTo>
                  <a:pt x="15971" y="16565"/>
                  <a:pt x="16028" y="16565"/>
                  <a:pt x="16085" y="16565"/>
                </a:cubicBezTo>
              </a:path>
              <a:path w="13578" h="2285">
                <a:moveTo>
                  <a:pt x="16213" y="17799"/>
                </a:moveTo>
                <a:cubicBezTo>
                  <a:pt x="16213" y="17790"/>
                  <a:pt x="16213" y="17799"/>
                  <a:pt x="16213" y="17790"/>
                </a:cubicBezTo>
                <a:cubicBezTo>
                  <a:pt x="16213" y="17779"/>
                  <a:pt x="16212" y="17771"/>
                  <a:pt x="16217" y="17762"/>
                </a:cubicBezTo>
                <a:cubicBezTo>
                  <a:pt x="16226" y="17747"/>
                  <a:pt x="16230" y="17751"/>
                  <a:pt x="16232" y="17730"/>
                </a:cubicBezTo>
                <a:cubicBezTo>
                  <a:pt x="16234" y="17704"/>
                  <a:pt x="16239" y="17693"/>
                  <a:pt x="16246" y="17669"/>
                </a:cubicBezTo>
                <a:cubicBezTo>
                  <a:pt x="16251" y="17651"/>
                  <a:pt x="16251" y="17634"/>
                  <a:pt x="16251" y="17614"/>
                </a:cubicBezTo>
                <a:cubicBezTo>
                  <a:pt x="16251" y="17592"/>
                  <a:pt x="16252" y="17570"/>
                  <a:pt x="16255" y="17549"/>
                </a:cubicBezTo>
                <a:cubicBezTo>
                  <a:pt x="16259" y="17522"/>
                  <a:pt x="16269" y="17498"/>
                  <a:pt x="16274" y="17471"/>
                </a:cubicBezTo>
                <a:cubicBezTo>
                  <a:pt x="16279" y="17448"/>
                  <a:pt x="16285" y="17425"/>
                  <a:pt x="16289" y="17401"/>
                </a:cubicBezTo>
                <a:cubicBezTo>
                  <a:pt x="16293" y="17379"/>
                  <a:pt x="16301" y="17366"/>
                  <a:pt x="16308" y="17346"/>
                </a:cubicBezTo>
                <a:cubicBezTo>
                  <a:pt x="16313" y="17333"/>
                  <a:pt x="16320" y="17314"/>
                  <a:pt x="16322" y="17300"/>
                </a:cubicBezTo>
                <a:cubicBezTo>
                  <a:pt x="16323" y="17293"/>
                  <a:pt x="16322" y="17285"/>
                  <a:pt x="16322" y="17277"/>
                </a:cubicBezTo>
                <a:cubicBezTo>
                  <a:pt x="16330" y="17278"/>
                  <a:pt x="16337" y="17280"/>
                  <a:pt x="16341" y="17281"/>
                </a:cubicBezTo>
                <a:cubicBezTo>
                  <a:pt x="16352" y="17286"/>
                  <a:pt x="16356" y="17292"/>
                  <a:pt x="16365" y="17300"/>
                </a:cubicBezTo>
                <a:cubicBezTo>
                  <a:pt x="16377" y="17311"/>
                  <a:pt x="16388" y="17328"/>
                  <a:pt x="16398" y="17337"/>
                </a:cubicBezTo>
                <a:cubicBezTo>
                  <a:pt x="16418" y="17356"/>
                  <a:pt x="16435" y="17378"/>
                  <a:pt x="16455" y="17397"/>
                </a:cubicBezTo>
                <a:cubicBezTo>
                  <a:pt x="16484" y="17424"/>
                  <a:pt x="16515" y="17441"/>
                  <a:pt x="16545" y="17466"/>
                </a:cubicBezTo>
                <a:cubicBezTo>
                  <a:pt x="16576" y="17492"/>
                  <a:pt x="16605" y="17521"/>
                  <a:pt x="16635" y="17549"/>
                </a:cubicBezTo>
                <a:cubicBezTo>
                  <a:pt x="16666" y="17577"/>
                  <a:pt x="16693" y="17610"/>
                  <a:pt x="16725" y="17637"/>
                </a:cubicBezTo>
                <a:cubicBezTo>
                  <a:pt x="16768" y="17674"/>
                  <a:pt x="16815" y="17700"/>
                  <a:pt x="16853" y="17743"/>
                </a:cubicBezTo>
              </a:path>
              <a:path w="13578" h="2285">
                <a:moveTo>
                  <a:pt x="16165" y="17258"/>
                </a:moveTo>
                <a:cubicBezTo>
                  <a:pt x="16133" y="17258"/>
                  <a:pt x="16105" y="17255"/>
                  <a:pt x="16075" y="17249"/>
                </a:cubicBezTo>
                <a:cubicBezTo>
                  <a:pt x="16053" y="17244"/>
                  <a:pt x="16031" y="17241"/>
                  <a:pt x="16009" y="17235"/>
                </a:cubicBezTo>
                <a:cubicBezTo>
                  <a:pt x="15986" y="17229"/>
                  <a:pt x="15965" y="17226"/>
                  <a:pt x="15942" y="17226"/>
                </a:cubicBezTo>
                <a:cubicBezTo>
                  <a:pt x="15937" y="17226"/>
                  <a:pt x="15936" y="17226"/>
                  <a:pt x="15933" y="17226"/>
                </a:cubicBezTo>
              </a:path>
              <a:path w="13578" h="2285">
                <a:moveTo>
                  <a:pt x="15705" y="16699"/>
                </a:moveTo>
                <a:cubicBezTo>
                  <a:pt x="15705" y="16748"/>
                  <a:pt x="15705" y="16798"/>
                  <a:pt x="15705" y="16847"/>
                </a:cubicBezTo>
              </a:path>
              <a:path w="13578" h="2285">
                <a:moveTo>
                  <a:pt x="21096" y="16565"/>
                </a:moveTo>
                <a:cubicBezTo>
                  <a:pt x="21065" y="16562"/>
                  <a:pt x="21044" y="16560"/>
                  <a:pt x="21015" y="16546"/>
                </a:cubicBezTo>
                <a:cubicBezTo>
                  <a:pt x="20998" y="16538"/>
                  <a:pt x="20986" y="16523"/>
                  <a:pt x="20963" y="16519"/>
                </a:cubicBezTo>
                <a:cubicBezTo>
                  <a:pt x="20861" y="16500"/>
                  <a:pt x="20731" y="16526"/>
                  <a:pt x="20631" y="16546"/>
                </a:cubicBezTo>
                <a:cubicBezTo>
                  <a:pt x="20588" y="16555"/>
                  <a:pt x="20544" y="16564"/>
                  <a:pt x="20502" y="16579"/>
                </a:cubicBezTo>
                <a:cubicBezTo>
                  <a:pt x="20472" y="16590"/>
                  <a:pt x="20450" y="16604"/>
                  <a:pt x="20427" y="16625"/>
                </a:cubicBezTo>
                <a:cubicBezTo>
                  <a:pt x="20411" y="16640"/>
                  <a:pt x="20399" y="16659"/>
                  <a:pt x="20393" y="16680"/>
                </a:cubicBezTo>
                <a:cubicBezTo>
                  <a:pt x="20382" y="16718"/>
                  <a:pt x="20398" y="16773"/>
                  <a:pt x="20417" y="16805"/>
                </a:cubicBezTo>
                <a:cubicBezTo>
                  <a:pt x="20436" y="16837"/>
                  <a:pt x="20470" y="16870"/>
                  <a:pt x="20502" y="16888"/>
                </a:cubicBezTo>
                <a:cubicBezTo>
                  <a:pt x="20553" y="16917"/>
                  <a:pt x="20613" y="16932"/>
                  <a:pt x="20669" y="16948"/>
                </a:cubicBezTo>
                <a:cubicBezTo>
                  <a:pt x="20741" y="16969"/>
                  <a:pt x="20817" y="16982"/>
                  <a:pt x="20892" y="16990"/>
                </a:cubicBezTo>
                <a:cubicBezTo>
                  <a:pt x="20998" y="17001"/>
                  <a:pt x="21107" y="16995"/>
                  <a:pt x="21214" y="16995"/>
                </a:cubicBezTo>
                <a:cubicBezTo>
                  <a:pt x="21289" y="16995"/>
                  <a:pt x="21355" y="16996"/>
                  <a:pt x="21428" y="16981"/>
                </a:cubicBezTo>
                <a:cubicBezTo>
                  <a:pt x="21479" y="16970"/>
                  <a:pt x="21529" y="16961"/>
                  <a:pt x="21580" y="16948"/>
                </a:cubicBezTo>
                <a:cubicBezTo>
                  <a:pt x="21628" y="16936"/>
                  <a:pt x="21678" y="16921"/>
                  <a:pt x="21722" y="16898"/>
                </a:cubicBezTo>
                <a:cubicBezTo>
                  <a:pt x="21766" y="16875"/>
                  <a:pt x="21793" y="16846"/>
                  <a:pt x="21831" y="16814"/>
                </a:cubicBezTo>
                <a:cubicBezTo>
                  <a:pt x="21861" y="16789"/>
                  <a:pt x="21893" y="16761"/>
                  <a:pt x="21917" y="16731"/>
                </a:cubicBezTo>
                <a:cubicBezTo>
                  <a:pt x="21929" y="16716"/>
                  <a:pt x="21963" y="16679"/>
                  <a:pt x="21969" y="16662"/>
                </a:cubicBezTo>
                <a:cubicBezTo>
                  <a:pt x="21980" y="16630"/>
                  <a:pt x="21959" y="16609"/>
                  <a:pt x="21936" y="16592"/>
                </a:cubicBezTo>
                <a:cubicBezTo>
                  <a:pt x="21918" y="16579"/>
                  <a:pt x="21885" y="16573"/>
                  <a:pt x="21864" y="16565"/>
                </a:cubicBezTo>
                <a:cubicBezTo>
                  <a:pt x="21830" y="16552"/>
                  <a:pt x="21795" y="16533"/>
                  <a:pt x="21760" y="16523"/>
                </a:cubicBezTo>
                <a:cubicBezTo>
                  <a:pt x="21698" y="16506"/>
                  <a:pt x="21633" y="16492"/>
                  <a:pt x="21570" y="16477"/>
                </a:cubicBezTo>
              </a:path>
              <a:path w="13578" h="2285">
                <a:moveTo>
                  <a:pt x="20118" y="17064"/>
                </a:moveTo>
                <a:cubicBezTo>
                  <a:pt x="20118" y="17352"/>
                  <a:pt x="20116" y="17640"/>
                  <a:pt x="20132" y="17928"/>
                </a:cubicBezTo>
                <a:cubicBezTo>
                  <a:pt x="20137" y="18028"/>
                  <a:pt x="20150" y="18134"/>
                  <a:pt x="20170" y="18233"/>
                </a:cubicBezTo>
                <a:cubicBezTo>
                  <a:pt x="20180" y="18283"/>
                  <a:pt x="20198" y="18320"/>
                  <a:pt x="20223" y="18363"/>
                </a:cubicBezTo>
              </a:path>
              <a:path w="13578" h="2285">
                <a:moveTo>
                  <a:pt x="21888" y="16837"/>
                </a:moveTo>
                <a:cubicBezTo>
                  <a:pt x="21874" y="16889"/>
                  <a:pt x="21867" y="16941"/>
                  <a:pt x="21860" y="16995"/>
                </a:cubicBezTo>
                <a:cubicBezTo>
                  <a:pt x="21840" y="17141"/>
                  <a:pt x="21855" y="17291"/>
                  <a:pt x="21855" y="17438"/>
                </a:cubicBezTo>
                <a:cubicBezTo>
                  <a:pt x="21855" y="17552"/>
                  <a:pt x="21865" y="17666"/>
                  <a:pt x="21869" y="17780"/>
                </a:cubicBezTo>
                <a:cubicBezTo>
                  <a:pt x="21869" y="17800"/>
                  <a:pt x="21869" y="17820"/>
                  <a:pt x="21869" y="17840"/>
                </a:cubicBezTo>
              </a:path>
              <a:path w="13578" h="2285">
                <a:moveTo>
                  <a:pt x="20208" y="18229"/>
                </a:moveTo>
                <a:cubicBezTo>
                  <a:pt x="20220" y="18239"/>
                  <a:pt x="20233" y="18253"/>
                  <a:pt x="20251" y="18261"/>
                </a:cubicBezTo>
                <a:cubicBezTo>
                  <a:pt x="20301" y="18284"/>
                  <a:pt x="20368" y="18295"/>
                  <a:pt x="20422" y="18303"/>
                </a:cubicBezTo>
                <a:cubicBezTo>
                  <a:pt x="20583" y="18328"/>
                  <a:pt x="20749" y="18333"/>
                  <a:pt x="20911" y="18321"/>
                </a:cubicBezTo>
                <a:cubicBezTo>
                  <a:pt x="21075" y="18308"/>
                  <a:pt x="21237" y="18279"/>
                  <a:pt x="21399" y="18252"/>
                </a:cubicBezTo>
                <a:cubicBezTo>
                  <a:pt x="21529" y="18231"/>
                  <a:pt x="21657" y="18202"/>
                  <a:pt x="21784" y="18169"/>
                </a:cubicBezTo>
              </a:path>
              <a:path w="13578" h="2285">
                <a:moveTo>
                  <a:pt x="16474" y="17845"/>
                </a:moveTo>
                <a:cubicBezTo>
                  <a:pt x="16479" y="17854"/>
                  <a:pt x="16478" y="17865"/>
                  <a:pt x="16483" y="17873"/>
                </a:cubicBezTo>
                <a:cubicBezTo>
                  <a:pt x="16502" y="17906"/>
                  <a:pt x="16516" y="17950"/>
                  <a:pt x="16550" y="17979"/>
                </a:cubicBezTo>
                <a:cubicBezTo>
                  <a:pt x="16581" y="18006"/>
                  <a:pt x="16612" y="18024"/>
                  <a:pt x="16649" y="18044"/>
                </a:cubicBezTo>
                <a:cubicBezTo>
                  <a:pt x="16757" y="18102"/>
                  <a:pt x="16904" y="18102"/>
                  <a:pt x="17024" y="18099"/>
                </a:cubicBezTo>
                <a:cubicBezTo>
                  <a:pt x="17313" y="18092"/>
                  <a:pt x="17608" y="18033"/>
                  <a:pt x="17893" y="17988"/>
                </a:cubicBezTo>
                <a:cubicBezTo>
                  <a:pt x="18049" y="17963"/>
                  <a:pt x="18202" y="17938"/>
                  <a:pt x="18348" y="17877"/>
                </a:cubicBezTo>
                <a:cubicBezTo>
                  <a:pt x="18527" y="17802"/>
                  <a:pt x="18617" y="17646"/>
                  <a:pt x="18709" y="17485"/>
                </a:cubicBezTo>
                <a:cubicBezTo>
                  <a:pt x="18742" y="17428"/>
                  <a:pt x="18770" y="17368"/>
                  <a:pt x="18808" y="17314"/>
                </a:cubicBezTo>
                <a:cubicBezTo>
                  <a:pt x="18895" y="17192"/>
                  <a:pt x="19002" y="17084"/>
                  <a:pt x="19117" y="16990"/>
                </a:cubicBezTo>
                <a:cubicBezTo>
                  <a:pt x="19292" y="16847"/>
                  <a:pt x="19484" y="16727"/>
                  <a:pt x="19672" y="16602"/>
                </a:cubicBezTo>
                <a:cubicBezTo>
                  <a:pt x="19749" y="16551"/>
                  <a:pt x="19826" y="16502"/>
                  <a:pt x="19900" y="16445"/>
                </a:cubicBezTo>
                <a:cubicBezTo>
                  <a:pt x="20002" y="16367"/>
                  <a:pt x="20094" y="16278"/>
                  <a:pt x="20213" y="16227"/>
                </a:cubicBezTo>
                <a:cubicBezTo>
                  <a:pt x="20295" y="16192"/>
                  <a:pt x="20457" y="16143"/>
                  <a:pt x="20540" y="16204"/>
                </a:cubicBezTo>
                <a:cubicBezTo>
                  <a:pt x="20550" y="16211"/>
                  <a:pt x="20561" y="16234"/>
                  <a:pt x="20569" y="16246"/>
                </a:cubicBezTo>
                <a:cubicBezTo>
                  <a:pt x="20579" y="16263"/>
                  <a:pt x="20574" y="16294"/>
                  <a:pt x="20583" y="16311"/>
                </a:cubicBezTo>
                <a:cubicBezTo>
                  <a:pt x="20596" y="16337"/>
                  <a:pt x="20607" y="16373"/>
                  <a:pt x="20621" y="16398"/>
                </a:cubicBezTo>
                <a:cubicBezTo>
                  <a:pt x="20626" y="16398"/>
                  <a:pt x="20628" y="16398"/>
                  <a:pt x="20631" y="16398"/>
                </a:cubicBezTo>
              </a:path>
              <a:path w="13578" h="2285">
                <a:moveTo>
                  <a:pt x="12592" y="16380"/>
                </a:moveTo>
                <a:cubicBezTo>
                  <a:pt x="12581" y="16385"/>
                  <a:pt x="12566" y="16382"/>
                  <a:pt x="12554" y="16389"/>
                </a:cubicBezTo>
                <a:cubicBezTo>
                  <a:pt x="12541" y="16397"/>
                  <a:pt x="12534" y="16403"/>
                  <a:pt x="12521" y="16412"/>
                </a:cubicBezTo>
                <a:cubicBezTo>
                  <a:pt x="12502" y="16425"/>
                  <a:pt x="12478" y="16443"/>
                  <a:pt x="12464" y="16458"/>
                </a:cubicBezTo>
                <a:cubicBezTo>
                  <a:pt x="12443" y="16480"/>
                  <a:pt x="12423" y="16508"/>
                  <a:pt x="12402" y="16532"/>
                </a:cubicBezTo>
                <a:cubicBezTo>
                  <a:pt x="12364" y="16575"/>
                  <a:pt x="12328" y="16620"/>
                  <a:pt x="12293" y="16666"/>
                </a:cubicBezTo>
                <a:cubicBezTo>
                  <a:pt x="12260" y="16710"/>
                  <a:pt x="12224" y="16754"/>
                  <a:pt x="12193" y="16800"/>
                </a:cubicBezTo>
                <a:cubicBezTo>
                  <a:pt x="12112" y="16921"/>
                  <a:pt x="12044" y="17054"/>
                  <a:pt x="11970" y="17180"/>
                </a:cubicBezTo>
                <a:cubicBezTo>
                  <a:pt x="11945" y="17223"/>
                  <a:pt x="11924" y="17267"/>
                  <a:pt x="11899" y="17309"/>
                </a:cubicBezTo>
                <a:cubicBezTo>
                  <a:pt x="11850" y="17392"/>
                  <a:pt x="11814" y="17475"/>
                  <a:pt x="11785" y="17568"/>
                </a:cubicBezTo>
                <a:cubicBezTo>
                  <a:pt x="11772" y="17610"/>
                  <a:pt x="11761" y="17652"/>
                  <a:pt x="11747" y="17693"/>
                </a:cubicBezTo>
                <a:cubicBezTo>
                  <a:pt x="11736" y="17725"/>
                  <a:pt x="11725" y="17757"/>
                  <a:pt x="11714" y="17790"/>
                </a:cubicBezTo>
                <a:cubicBezTo>
                  <a:pt x="11707" y="17810"/>
                  <a:pt x="11685" y="17856"/>
                  <a:pt x="11695" y="17877"/>
                </a:cubicBezTo>
                <a:cubicBezTo>
                  <a:pt x="11710" y="17908"/>
                  <a:pt x="11735" y="17896"/>
                  <a:pt x="11766" y="17905"/>
                </a:cubicBezTo>
                <a:cubicBezTo>
                  <a:pt x="11913" y="17947"/>
                  <a:pt x="12095" y="17919"/>
                  <a:pt x="12246" y="17919"/>
                </a:cubicBezTo>
                <a:cubicBezTo>
                  <a:pt x="12392" y="17919"/>
                  <a:pt x="12537" y="17915"/>
                  <a:pt x="12682" y="17919"/>
                </a:cubicBezTo>
                <a:cubicBezTo>
                  <a:pt x="12761" y="17921"/>
                  <a:pt x="12837" y="17932"/>
                  <a:pt x="12915" y="17938"/>
                </a:cubicBezTo>
                <a:cubicBezTo>
                  <a:pt x="12981" y="17943"/>
                  <a:pt x="13048" y="17943"/>
                  <a:pt x="13114" y="17947"/>
                </a:cubicBezTo>
                <a:cubicBezTo>
                  <a:pt x="13327" y="17958"/>
                  <a:pt x="13541" y="17947"/>
                  <a:pt x="13755" y="17947"/>
                </a:cubicBezTo>
                <a:cubicBezTo>
                  <a:pt x="13776" y="17947"/>
                  <a:pt x="13867" y="17960"/>
                  <a:pt x="13883" y="17942"/>
                </a:cubicBezTo>
                <a:cubicBezTo>
                  <a:pt x="13887" y="17938"/>
                  <a:pt x="13890" y="17936"/>
                  <a:pt x="13892" y="17928"/>
                </a:cubicBezTo>
                <a:cubicBezTo>
                  <a:pt x="13899" y="17903"/>
                  <a:pt x="13880" y="17908"/>
                  <a:pt x="13873" y="17891"/>
                </a:cubicBezTo>
                <a:cubicBezTo>
                  <a:pt x="13865" y="17873"/>
                  <a:pt x="13846" y="17856"/>
                  <a:pt x="13835" y="17840"/>
                </a:cubicBezTo>
                <a:cubicBezTo>
                  <a:pt x="13813" y="17809"/>
                  <a:pt x="13786" y="17782"/>
                  <a:pt x="13769" y="17748"/>
                </a:cubicBezTo>
                <a:cubicBezTo>
                  <a:pt x="13750" y="17710"/>
                  <a:pt x="13734" y="17669"/>
                  <a:pt x="13721" y="17628"/>
                </a:cubicBezTo>
                <a:cubicBezTo>
                  <a:pt x="13697" y="17550"/>
                  <a:pt x="13682" y="17483"/>
                  <a:pt x="13645" y="17411"/>
                </a:cubicBezTo>
                <a:cubicBezTo>
                  <a:pt x="13608" y="17339"/>
                  <a:pt x="13562" y="17278"/>
                  <a:pt x="13517" y="17212"/>
                </a:cubicBezTo>
                <a:cubicBezTo>
                  <a:pt x="13488" y="17169"/>
                  <a:pt x="13465" y="17123"/>
                  <a:pt x="13437" y="17078"/>
                </a:cubicBezTo>
                <a:cubicBezTo>
                  <a:pt x="13389" y="17000"/>
                  <a:pt x="13346" y="16917"/>
                  <a:pt x="13294" y="16842"/>
                </a:cubicBezTo>
                <a:cubicBezTo>
                  <a:pt x="13275" y="16815"/>
                  <a:pt x="13254" y="16790"/>
                  <a:pt x="13233" y="16764"/>
                </a:cubicBezTo>
                <a:cubicBezTo>
                  <a:pt x="13209" y="16734"/>
                  <a:pt x="13187" y="16700"/>
                  <a:pt x="13161" y="16671"/>
                </a:cubicBezTo>
                <a:cubicBezTo>
                  <a:pt x="13139" y="16646"/>
                  <a:pt x="13117" y="16621"/>
                  <a:pt x="13095" y="16597"/>
                </a:cubicBezTo>
                <a:cubicBezTo>
                  <a:pt x="13059" y="16559"/>
                  <a:pt x="13020" y="16540"/>
                  <a:pt x="12981" y="16509"/>
                </a:cubicBezTo>
                <a:cubicBezTo>
                  <a:pt x="12954" y="16487"/>
                  <a:pt x="12926" y="16463"/>
                  <a:pt x="12905" y="16435"/>
                </a:cubicBezTo>
                <a:cubicBezTo>
                  <a:pt x="12895" y="16422"/>
                  <a:pt x="12891" y="16394"/>
                  <a:pt x="12881" y="16385"/>
                </a:cubicBezTo>
                <a:cubicBezTo>
                  <a:pt x="12868" y="16373"/>
                  <a:pt x="12842" y="16356"/>
                  <a:pt x="12825" y="16348"/>
                </a:cubicBezTo>
                <a:cubicBezTo>
                  <a:pt x="12817" y="16344"/>
                  <a:pt x="12814" y="16340"/>
                  <a:pt x="12806" y="16338"/>
                </a:cubicBezTo>
                <a:cubicBezTo>
                  <a:pt x="12784" y="16333"/>
                  <a:pt x="12768" y="16341"/>
                  <a:pt x="12758" y="16343"/>
                </a:cubicBezTo>
                <a:cubicBezTo>
                  <a:pt x="12753" y="16348"/>
                  <a:pt x="12749" y="16352"/>
                  <a:pt x="12744" y="16357"/>
                </a:cubicBezTo>
              </a:path>
              <a:path w="13578" h="2285">
                <a:moveTo>
                  <a:pt x="12668" y="17392"/>
                </a:moveTo>
                <a:cubicBezTo>
                  <a:pt x="12669" y="17385"/>
                  <a:pt x="12672" y="17380"/>
                  <a:pt x="12673" y="17374"/>
                </a:cubicBezTo>
                <a:cubicBezTo>
                  <a:pt x="12673" y="17368"/>
                  <a:pt x="12673" y="17365"/>
                  <a:pt x="12673" y="17360"/>
                </a:cubicBezTo>
                <a:cubicBezTo>
                  <a:pt x="12652" y="17360"/>
                  <a:pt x="12643" y="17360"/>
                  <a:pt x="12625" y="17369"/>
                </a:cubicBezTo>
                <a:cubicBezTo>
                  <a:pt x="12598" y="17383"/>
                  <a:pt x="12584" y="17404"/>
                  <a:pt x="12568" y="17429"/>
                </a:cubicBezTo>
                <a:cubicBezTo>
                  <a:pt x="12540" y="17473"/>
                  <a:pt x="12514" y="17516"/>
                  <a:pt x="12492" y="17563"/>
                </a:cubicBezTo>
                <a:cubicBezTo>
                  <a:pt x="12469" y="17613"/>
                  <a:pt x="12449" y="17663"/>
                  <a:pt x="12421" y="17711"/>
                </a:cubicBezTo>
                <a:cubicBezTo>
                  <a:pt x="12400" y="17747"/>
                  <a:pt x="12388" y="17786"/>
                  <a:pt x="12369" y="17822"/>
                </a:cubicBezTo>
                <a:cubicBezTo>
                  <a:pt x="12361" y="17836"/>
                  <a:pt x="12356" y="17850"/>
                  <a:pt x="12350" y="17864"/>
                </a:cubicBezTo>
                <a:cubicBezTo>
                  <a:pt x="12356" y="17852"/>
                  <a:pt x="12357" y="17847"/>
                  <a:pt x="12364" y="17836"/>
                </a:cubicBezTo>
                <a:cubicBezTo>
                  <a:pt x="12386" y="17802"/>
                  <a:pt x="12403" y="17771"/>
                  <a:pt x="12421" y="17734"/>
                </a:cubicBezTo>
                <a:cubicBezTo>
                  <a:pt x="12469" y="17635"/>
                  <a:pt x="12517" y="17535"/>
                  <a:pt x="12559" y="17434"/>
                </a:cubicBezTo>
                <a:cubicBezTo>
                  <a:pt x="12571" y="17405"/>
                  <a:pt x="12594" y="17382"/>
                  <a:pt x="12611" y="17355"/>
                </a:cubicBezTo>
                <a:cubicBezTo>
                  <a:pt x="12643" y="17360"/>
                  <a:pt x="12638" y="17365"/>
                  <a:pt x="12663" y="17388"/>
                </a:cubicBezTo>
                <a:cubicBezTo>
                  <a:pt x="12702" y="17424"/>
                  <a:pt x="12727" y="17464"/>
                  <a:pt x="12758" y="17508"/>
                </a:cubicBezTo>
                <a:cubicBezTo>
                  <a:pt x="12795" y="17561"/>
                  <a:pt x="12835" y="17613"/>
                  <a:pt x="12867" y="17669"/>
                </a:cubicBezTo>
                <a:cubicBezTo>
                  <a:pt x="12891" y="17710"/>
                  <a:pt x="12908" y="17755"/>
                  <a:pt x="12934" y="17794"/>
                </a:cubicBezTo>
                <a:cubicBezTo>
                  <a:pt x="12946" y="17813"/>
                  <a:pt x="12964" y="17827"/>
                  <a:pt x="12976" y="17845"/>
                </a:cubicBezTo>
                <a:cubicBezTo>
                  <a:pt x="12980" y="17851"/>
                  <a:pt x="12983" y="17862"/>
                  <a:pt x="12986" y="17868"/>
                </a:cubicBezTo>
              </a:path>
              <a:path w="13578" h="2285">
                <a:moveTo>
                  <a:pt x="12621" y="17008"/>
                </a:moveTo>
                <a:cubicBezTo>
                  <a:pt x="12602" y="17008"/>
                  <a:pt x="12593" y="17006"/>
                  <a:pt x="12578" y="17018"/>
                </a:cubicBezTo>
                <a:cubicBezTo>
                  <a:pt x="12561" y="17032"/>
                  <a:pt x="12568" y="17057"/>
                  <a:pt x="12568" y="17078"/>
                </a:cubicBezTo>
                <a:cubicBezTo>
                  <a:pt x="12568" y="17105"/>
                  <a:pt x="12588" y="17105"/>
                  <a:pt x="12611" y="17106"/>
                </a:cubicBezTo>
                <a:cubicBezTo>
                  <a:pt x="12639" y="17107"/>
                  <a:pt x="12663" y="17099"/>
                  <a:pt x="12682" y="17078"/>
                </a:cubicBezTo>
                <a:cubicBezTo>
                  <a:pt x="12702" y="17056"/>
                  <a:pt x="12701" y="17035"/>
                  <a:pt x="12701" y="17008"/>
                </a:cubicBezTo>
                <a:cubicBezTo>
                  <a:pt x="12701" y="16985"/>
                  <a:pt x="12695" y="16982"/>
                  <a:pt x="12673" y="16981"/>
                </a:cubicBezTo>
                <a:cubicBezTo>
                  <a:pt x="12644" y="16980"/>
                  <a:pt x="12636" y="16988"/>
                  <a:pt x="12616" y="17008"/>
                </a:cubicBezTo>
                <a:cubicBezTo>
                  <a:pt x="12595" y="17028"/>
                  <a:pt x="12592" y="17025"/>
                  <a:pt x="12592" y="17055"/>
                </a:cubicBezTo>
                <a:cubicBezTo>
                  <a:pt x="12592" y="17058"/>
                  <a:pt x="12592" y="17061"/>
                  <a:pt x="12592" y="17064"/>
                </a:cubicBezTo>
              </a:path>
              <a:path w="13578" h="2285">
                <a:moveTo>
                  <a:pt x="12416" y="16602"/>
                </a:moveTo>
                <a:cubicBezTo>
                  <a:pt x="12407" y="16604"/>
                  <a:pt x="12406" y="16600"/>
                  <a:pt x="12402" y="16606"/>
                </a:cubicBezTo>
                <a:cubicBezTo>
                  <a:pt x="12398" y="16612"/>
                  <a:pt x="12393" y="16626"/>
                  <a:pt x="12397" y="16634"/>
                </a:cubicBezTo>
                <a:cubicBezTo>
                  <a:pt x="12400" y="16641"/>
                  <a:pt x="12415" y="16647"/>
                  <a:pt x="12421" y="16648"/>
                </a:cubicBezTo>
                <a:cubicBezTo>
                  <a:pt x="12441" y="16652"/>
                  <a:pt x="12463" y="16651"/>
                  <a:pt x="12483" y="16653"/>
                </a:cubicBezTo>
                <a:cubicBezTo>
                  <a:pt x="12524" y="16658"/>
                  <a:pt x="12561" y="16666"/>
                  <a:pt x="12602" y="16666"/>
                </a:cubicBezTo>
                <a:cubicBezTo>
                  <a:pt x="12732" y="16667"/>
                  <a:pt x="12861" y="16666"/>
                  <a:pt x="12991" y="16666"/>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425840" y="4838760"/>
            <a:ext cx="246240" cy="210960"/>
          </a:xfrm>
          <a:custGeom>
            <a:avLst/>
            <a:gdLst/>
            <a:ahLst/>
            <a:rect l="l" t="t" r="r" b="b"/>
            <a:pathLst>
              <a:path w="684" h="588">
                <a:moveTo>
                  <a:pt x="12469" y="13486"/>
                </a:moveTo>
                <a:cubicBezTo>
                  <a:pt x="12469" y="13492"/>
                  <a:pt x="12469" y="13490"/>
                  <a:pt x="12469" y="13496"/>
                </a:cubicBezTo>
                <a:cubicBezTo>
                  <a:pt x="12469" y="13511"/>
                  <a:pt x="12476" y="13528"/>
                  <a:pt x="12483" y="13542"/>
                </a:cubicBezTo>
                <a:cubicBezTo>
                  <a:pt x="12495" y="13565"/>
                  <a:pt x="12509" y="13589"/>
                  <a:pt x="12526" y="13607"/>
                </a:cubicBezTo>
                <a:cubicBezTo>
                  <a:pt x="12554" y="13636"/>
                  <a:pt x="12581" y="13664"/>
                  <a:pt x="12611" y="13690"/>
                </a:cubicBezTo>
                <a:cubicBezTo>
                  <a:pt x="12639" y="13715"/>
                  <a:pt x="12669" y="13739"/>
                  <a:pt x="12701" y="13759"/>
                </a:cubicBezTo>
                <a:cubicBezTo>
                  <a:pt x="12736" y="13781"/>
                  <a:pt x="12773" y="13804"/>
                  <a:pt x="12810" y="13824"/>
                </a:cubicBezTo>
                <a:cubicBezTo>
                  <a:pt x="12837" y="13838"/>
                  <a:pt x="12864" y="13856"/>
                  <a:pt x="12891" y="13870"/>
                </a:cubicBezTo>
                <a:cubicBezTo>
                  <a:pt x="12904" y="13876"/>
                  <a:pt x="12924" y="13878"/>
                  <a:pt x="12934" y="13884"/>
                </a:cubicBezTo>
                <a:cubicBezTo>
                  <a:pt x="12937" y="13888"/>
                  <a:pt x="12940" y="13890"/>
                  <a:pt x="12934" y="13889"/>
                </a:cubicBezTo>
              </a:path>
              <a:path w="684" h="588">
                <a:moveTo>
                  <a:pt x="12976" y="13459"/>
                </a:moveTo>
                <a:cubicBezTo>
                  <a:pt x="12971" y="13465"/>
                  <a:pt x="12969" y="13470"/>
                  <a:pt x="12962" y="13477"/>
                </a:cubicBezTo>
                <a:cubicBezTo>
                  <a:pt x="12951" y="13488"/>
                  <a:pt x="12944" y="13501"/>
                  <a:pt x="12934" y="13514"/>
                </a:cubicBezTo>
                <a:cubicBezTo>
                  <a:pt x="12919" y="13533"/>
                  <a:pt x="12897" y="13557"/>
                  <a:pt x="12877" y="13574"/>
                </a:cubicBezTo>
                <a:cubicBezTo>
                  <a:pt x="12840" y="13606"/>
                  <a:pt x="12797" y="13633"/>
                  <a:pt x="12758" y="13662"/>
                </a:cubicBezTo>
                <a:cubicBezTo>
                  <a:pt x="12711" y="13696"/>
                  <a:pt x="12671" y="13737"/>
                  <a:pt x="12625" y="13773"/>
                </a:cubicBezTo>
                <a:cubicBezTo>
                  <a:pt x="12587" y="13803"/>
                  <a:pt x="12551" y="13832"/>
                  <a:pt x="12516" y="13865"/>
                </a:cubicBezTo>
                <a:cubicBezTo>
                  <a:pt x="12493" y="13887"/>
                  <a:pt x="12476" y="13913"/>
                  <a:pt x="12454" y="13935"/>
                </a:cubicBezTo>
                <a:cubicBezTo>
                  <a:pt x="12436" y="13953"/>
                  <a:pt x="12420" y="13972"/>
                  <a:pt x="12402" y="13990"/>
                </a:cubicBezTo>
                <a:cubicBezTo>
                  <a:pt x="12390" y="14002"/>
                  <a:pt x="12377" y="14013"/>
                  <a:pt x="12369" y="14027"/>
                </a:cubicBezTo>
                <a:cubicBezTo>
                  <a:pt x="12371" y="14027"/>
                  <a:pt x="12372" y="14027"/>
                  <a:pt x="12374" y="14027"/>
                </a:cubicBezTo>
              </a:path>
              <a:path w="684" h="588">
                <a:moveTo>
                  <a:pt x="12293" y="13902"/>
                </a:moveTo>
                <a:cubicBezTo>
                  <a:pt x="12301" y="13892"/>
                  <a:pt x="12312" y="13883"/>
                  <a:pt x="12326" y="13875"/>
                </a:cubicBezTo>
                <a:cubicBezTo>
                  <a:pt x="12353" y="13859"/>
                  <a:pt x="12383" y="13849"/>
                  <a:pt x="12412" y="13838"/>
                </a:cubicBezTo>
                <a:cubicBezTo>
                  <a:pt x="12450" y="13824"/>
                  <a:pt x="12485" y="13808"/>
                  <a:pt x="12526" y="13805"/>
                </a:cubicBezTo>
                <a:cubicBezTo>
                  <a:pt x="12583" y="13800"/>
                  <a:pt x="12643" y="13803"/>
                  <a:pt x="12701" y="13801"/>
                </a:cubicBezTo>
                <a:cubicBezTo>
                  <a:pt x="12746" y="13799"/>
                  <a:pt x="12789" y="13795"/>
                  <a:pt x="12834" y="13791"/>
                </a:cubicBezTo>
                <a:cubicBezTo>
                  <a:pt x="12858" y="13791"/>
                  <a:pt x="12865" y="13791"/>
                  <a:pt x="12881" y="13791"/>
                </a:cubicBezTo>
              </a:path>
              <a:path w="684" h="588">
                <a:moveTo>
                  <a:pt x="12677" y="13440"/>
                </a:moveTo>
                <a:cubicBezTo>
                  <a:pt x="12674" y="13460"/>
                  <a:pt x="12676" y="13480"/>
                  <a:pt x="12673" y="13500"/>
                </a:cubicBezTo>
                <a:cubicBezTo>
                  <a:pt x="12666" y="13549"/>
                  <a:pt x="12668" y="13599"/>
                  <a:pt x="12663" y="13648"/>
                </a:cubicBezTo>
                <a:cubicBezTo>
                  <a:pt x="12658" y="13693"/>
                  <a:pt x="12642" y="13736"/>
                  <a:pt x="12639" y="13782"/>
                </a:cubicBezTo>
                <a:cubicBezTo>
                  <a:pt x="12636" y="13828"/>
                  <a:pt x="12635" y="13875"/>
                  <a:pt x="12635" y="13921"/>
                </a:cubicBezTo>
                <a:cubicBezTo>
                  <a:pt x="12635" y="13955"/>
                  <a:pt x="12635" y="13989"/>
                  <a:pt x="12635" y="1402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12760" y="3084480"/>
            <a:ext cx="1230120" cy="326880"/>
          </a:xfrm>
          <a:custGeom>
            <a:avLst/>
            <a:gdLst/>
            <a:ahLst/>
            <a:rect l="l" t="t" r="r" b="b"/>
            <a:pathLst>
              <a:path w="3418" h="907">
                <a:moveTo>
                  <a:pt x="733" y="8813"/>
                </a:moveTo>
                <a:cubicBezTo>
                  <a:pt x="762" y="8815"/>
                  <a:pt x="776" y="8823"/>
                  <a:pt x="800" y="8841"/>
                </a:cubicBezTo>
                <a:cubicBezTo>
                  <a:pt x="832" y="8865"/>
                  <a:pt x="871" y="8882"/>
                  <a:pt x="900" y="8910"/>
                </a:cubicBezTo>
                <a:cubicBezTo>
                  <a:pt x="937" y="8946"/>
                  <a:pt x="974" y="8987"/>
                  <a:pt x="1009" y="9026"/>
                </a:cubicBezTo>
                <a:cubicBezTo>
                  <a:pt x="1036" y="9057"/>
                  <a:pt x="1063" y="9091"/>
                  <a:pt x="1094" y="9118"/>
                </a:cubicBezTo>
                <a:cubicBezTo>
                  <a:pt x="1113" y="9134"/>
                  <a:pt x="1134" y="9142"/>
                  <a:pt x="1156" y="9151"/>
                </a:cubicBezTo>
              </a:path>
              <a:path w="3418" h="907">
                <a:moveTo>
                  <a:pt x="1066" y="8753"/>
                </a:moveTo>
                <a:cubicBezTo>
                  <a:pt x="1053" y="8783"/>
                  <a:pt x="1034" y="8812"/>
                  <a:pt x="1018" y="8841"/>
                </a:cubicBezTo>
                <a:cubicBezTo>
                  <a:pt x="994" y="8884"/>
                  <a:pt x="971" y="8930"/>
                  <a:pt x="947" y="8971"/>
                </a:cubicBezTo>
                <a:cubicBezTo>
                  <a:pt x="922" y="9014"/>
                  <a:pt x="896" y="9054"/>
                  <a:pt x="876" y="9100"/>
                </a:cubicBezTo>
                <a:cubicBezTo>
                  <a:pt x="856" y="9145"/>
                  <a:pt x="833" y="9193"/>
                  <a:pt x="805" y="9234"/>
                </a:cubicBezTo>
                <a:cubicBezTo>
                  <a:pt x="786" y="9261"/>
                  <a:pt x="764" y="9291"/>
                  <a:pt x="743" y="9317"/>
                </a:cubicBezTo>
                <a:cubicBezTo>
                  <a:pt x="740" y="9320"/>
                  <a:pt x="736" y="9323"/>
                  <a:pt x="733" y="9326"/>
                </a:cubicBezTo>
              </a:path>
              <a:path w="3418" h="907">
                <a:moveTo>
                  <a:pt x="591" y="9225"/>
                </a:moveTo>
                <a:cubicBezTo>
                  <a:pt x="605" y="9214"/>
                  <a:pt x="615" y="9203"/>
                  <a:pt x="629" y="9192"/>
                </a:cubicBezTo>
                <a:cubicBezTo>
                  <a:pt x="664" y="9166"/>
                  <a:pt x="705" y="9151"/>
                  <a:pt x="743" y="9132"/>
                </a:cubicBezTo>
                <a:cubicBezTo>
                  <a:pt x="797" y="9105"/>
                  <a:pt x="856" y="9090"/>
                  <a:pt x="914" y="9072"/>
                </a:cubicBezTo>
                <a:cubicBezTo>
                  <a:pt x="961" y="9058"/>
                  <a:pt x="977" y="9053"/>
                  <a:pt x="1009" y="9044"/>
                </a:cubicBezTo>
              </a:path>
              <a:path w="3418" h="907">
                <a:moveTo>
                  <a:pt x="909" y="8642"/>
                </a:moveTo>
                <a:cubicBezTo>
                  <a:pt x="909" y="8681"/>
                  <a:pt x="904" y="8719"/>
                  <a:pt x="900" y="8758"/>
                </a:cubicBezTo>
                <a:cubicBezTo>
                  <a:pt x="893" y="8833"/>
                  <a:pt x="890" y="8905"/>
                  <a:pt x="890" y="8980"/>
                </a:cubicBezTo>
                <a:cubicBezTo>
                  <a:pt x="890" y="9055"/>
                  <a:pt x="899" y="9120"/>
                  <a:pt x="919" y="9192"/>
                </a:cubicBezTo>
              </a:path>
              <a:path w="3418" h="907">
                <a:moveTo>
                  <a:pt x="1616" y="8568"/>
                </a:moveTo>
                <a:cubicBezTo>
                  <a:pt x="1615" y="8606"/>
                  <a:pt x="1617" y="8646"/>
                  <a:pt x="1611" y="8684"/>
                </a:cubicBezTo>
                <a:cubicBezTo>
                  <a:pt x="1600" y="8756"/>
                  <a:pt x="1574" y="8823"/>
                  <a:pt x="1554" y="8892"/>
                </a:cubicBezTo>
                <a:cubicBezTo>
                  <a:pt x="1526" y="8989"/>
                  <a:pt x="1492" y="9084"/>
                  <a:pt x="1460" y="9179"/>
                </a:cubicBezTo>
                <a:cubicBezTo>
                  <a:pt x="1434" y="9256"/>
                  <a:pt x="1401" y="9330"/>
                  <a:pt x="1369" y="9405"/>
                </a:cubicBezTo>
                <a:cubicBezTo>
                  <a:pt x="1358" y="9431"/>
                  <a:pt x="1356" y="9445"/>
                  <a:pt x="1336" y="9465"/>
                </a:cubicBezTo>
                <a:cubicBezTo>
                  <a:pt x="1349" y="9411"/>
                  <a:pt x="1370" y="9362"/>
                  <a:pt x="1388" y="9308"/>
                </a:cubicBezTo>
                <a:cubicBezTo>
                  <a:pt x="1417" y="9221"/>
                  <a:pt x="1447" y="9133"/>
                  <a:pt x="1469" y="9044"/>
                </a:cubicBezTo>
                <a:cubicBezTo>
                  <a:pt x="1494" y="8943"/>
                  <a:pt x="1515" y="8846"/>
                  <a:pt x="1554" y="8749"/>
                </a:cubicBezTo>
                <a:cubicBezTo>
                  <a:pt x="1565" y="8722"/>
                  <a:pt x="1571" y="8714"/>
                  <a:pt x="1592" y="8702"/>
                </a:cubicBezTo>
                <a:cubicBezTo>
                  <a:pt x="1597" y="8701"/>
                  <a:pt x="1602" y="8699"/>
                  <a:pt x="1607" y="8698"/>
                </a:cubicBezTo>
                <a:cubicBezTo>
                  <a:pt x="1637" y="8750"/>
                  <a:pt x="1667" y="8800"/>
                  <a:pt x="1692" y="8855"/>
                </a:cubicBezTo>
                <a:cubicBezTo>
                  <a:pt x="1728" y="8934"/>
                  <a:pt x="1759" y="9019"/>
                  <a:pt x="1787" y="9100"/>
                </a:cubicBezTo>
                <a:cubicBezTo>
                  <a:pt x="1805" y="9152"/>
                  <a:pt x="1821" y="9209"/>
                  <a:pt x="1834" y="9262"/>
                </a:cubicBezTo>
                <a:cubicBezTo>
                  <a:pt x="1840" y="9288"/>
                  <a:pt x="1838" y="9310"/>
                  <a:pt x="1839" y="9336"/>
                </a:cubicBezTo>
                <a:cubicBezTo>
                  <a:pt x="1822" y="9322"/>
                  <a:pt x="1804" y="9300"/>
                  <a:pt x="1787" y="9285"/>
                </a:cubicBezTo>
                <a:cubicBezTo>
                  <a:pt x="1747" y="9250"/>
                  <a:pt x="1696" y="9232"/>
                  <a:pt x="1649" y="9211"/>
                </a:cubicBezTo>
                <a:cubicBezTo>
                  <a:pt x="1604" y="9191"/>
                  <a:pt x="1564" y="9192"/>
                  <a:pt x="1516" y="9192"/>
                </a:cubicBezTo>
                <a:cubicBezTo>
                  <a:pt x="1515" y="9192"/>
                  <a:pt x="1513" y="9192"/>
                  <a:pt x="1512" y="9192"/>
                </a:cubicBezTo>
              </a:path>
              <a:path w="3418" h="907">
                <a:moveTo>
                  <a:pt x="1991" y="9095"/>
                </a:moveTo>
                <a:cubicBezTo>
                  <a:pt x="1984" y="9112"/>
                  <a:pt x="1986" y="9127"/>
                  <a:pt x="1986" y="9146"/>
                </a:cubicBezTo>
                <a:cubicBezTo>
                  <a:pt x="1986" y="9184"/>
                  <a:pt x="1985" y="9221"/>
                  <a:pt x="2000" y="9257"/>
                </a:cubicBezTo>
                <a:cubicBezTo>
                  <a:pt x="2019" y="9303"/>
                  <a:pt x="2040" y="9308"/>
                  <a:pt x="2081" y="9326"/>
                </a:cubicBezTo>
                <a:cubicBezTo>
                  <a:pt x="2117" y="9342"/>
                  <a:pt x="2145" y="9336"/>
                  <a:pt x="2171" y="9303"/>
                </a:cubicBezTo>
                <a:cubicBezTo>
                  <a:pt x="2203" y="9262"/>
                  <a:pt x="2223" y="9194"/>
                  <a:pt x="2242" y="9146"/>
                </a:cubicBezTo>
                <a:cubicBezTo>
                  <a:pt x="2251" y="9125"/>
                  <a:pt x="2254" y="9118"/>
                  <a:pt x="2261" y="9105"/>
                </a:cubicBezTo>
              </a:path>
              <a:path w="3418" h="907">
                <a:moveTo>
                  <a:pt x="2513" y="8702"/>
                </a:moveTo>
                <a:cubicBezTo>
                  <a:pt x="2513" y="8746"/>
                  <a:pt x="2520" y="8788"/>
                  <a:pt x="2522" y="8832"/>
                </a:cubicBezTo>
                <a:cubicBezTo>
                  <a:pt x="2525" y="8903"/>
                  <a:pt x="2536" y="8972"/>
                  <a:pt x="2537" y="9044"/>
                </a:cubicBezTo>
                <a:cubicBezTo>
                  <a:pt x="2537" y="9084"/>
                  <a:pt x="2561" y="9225"/>
                  <a:pt x="2532" y="9257"/>
                </a:cubicBezTo>
                <a:cubicBezTo>
                  <a:pt x="2521" y="9269"/>
                  <a:pt x="2489" y="9272"/>
                  <a:pt x="2475" y="9262"/>
                </a:cubicBezTo>
                <a:cubicBezTo>
                  <a:pt x="2458" y="9250"/>
                  <a:pt x="2429" y="9221"/>
                  <a:pt x="2418" y="9202"/>
                </a:cubicBezTo>
                <a:cubicBezTo>
                  <a:pt x="2406" y="9182"/>
                  <a:pt x="2406" y="9173"/>
                  <a:pt x="2404" y="9151"/>
                </a:cubicBezTo>
                <a:cubicBezTo>
                  <a:pt x="2402" y="9133"/>
                  <a:pt x="2428" y="9106"/>
                  <a:pt x="2442" y="9095"/>
                </a:cubicBezTo>
                <a:cubicBezTo>
                  <a:pt x="2476" y="9068"/>
                  <a:pt x="2520" y="9062"/>
                  <a:pt x="2560" y="9049"/>
                </a:cubicBezTo>
                <a:cubicBezTo>
                  <a:pt x="2614" y="9031"/>
                  <a:pt x="2661" y="9022"/>
                  <a:pt x="2717" y="9021"/>
                </a:cubicBezTo>
                <a:cubicBezTo>
                  <a:pt x="2728" y="9021"/>
                  <a:pt x="2739" y="9021"/>
                  <a:pt x="2750" y="9021"/>
                </a:cubicBezTo>
              </a:path>
              <a:path w="3418" h="907">
                <a:moveTo>
                  <a:pt x="3054" y="8989"/>
                </a:moveTo>
                <a:cubicBezTo>
                  <a:pt x="3040" y="9006"/>
                  <a:pt x="3018" y="9015"/>
                  <a:pt x="3006" y="9035"/>
                </a:cubicBezTo>
                <a:cubicBezTo>
                  <a:pt x="2984" y="9071"/>
                  <a:pt x="2976" y="9109"/>
                  <a:pt x="2973" y="9151"/>
                </a:cubicBezTo>
                <a:cubicBezTo>
                  <a:pt x="2970" y="9203"/>
                  <a:pt x="2970" y="9255"/>
                  <a:pt x="2992" y="9303"/>
                </a:cubicBezTo>
                <a:cubicBezTo>
                  <a:pt x="3012" y="9347"/>
                  <a:pt x="3051" y="9364"/>
                  <a:pt x="3097" y="9363"/>
                </a:cubicBezTo>
                <a:cubicBezTo>
                  <a:pt x="3147" y="9362"/>
                  <a:pt x="3191" y="9312"/>
                  <a:pt x="3215" y="9271"/>
                </a:cubicBezTo>
                <a:cubicBezTo>
                  <a:pt x="3242" y="9225"/>
                  <a:pt x="3256" y="9176"/>
                  <a:pt x="3258" y="9123"/>
                </a:cubicBezTo>
                <a:cubicBezTo>
                  <a:pt x="3259" y="9083"/>
                  <a:pt x="3244" y="9049"/>
                  <a:pt x="3211" y="9026"/>
                </a:cubicBezTo>
                <a:cubicBezTo>
                  <a:pt x="3187" y="9012"/>
                  <a:pt x="3179" y="9007"/>
                  <a:pt x="3163" y="8998"/>
                </a:cubicBezTo>
              </a:path>
              <a:path w="3418" h="907">
                <a:moveTo>
                  <a:pt x="3524" y="8971"/>
                </a:moveTo>
                <a:cubicBezTo>
                  <a:pt x="3524" y="8999"/>
                  <a:pt x="3531" y="9022"/>
                  <a:pt x="3538" y="9049"/>
                </a:cubicBezTo>
                <a:cubicBezTo>
                  <a:pt x="3548" y="9091"/>
                  <a:pt x="3552" y="9132"/>
                  <a:pt x="3557" y="9174"/>
                </a:cubicBezTo>
                <a:cubicBezTo>
                  <a:pt x="3561" y="9204"/>
                  <a:pt x="3566" y="9231"/>
                  <a:pt x="3566" y="9262"/>
                </a:cubicBezTo>
                <a:cubicBezTo>
                  <a:pt x="3566" y="9274"/>
                  <a:pt x="3566" y="9280"/>
                  <a:pt x="3566" y="9289"/>
                </a:cubicBezTo>
                <a:cubicBezTo>
                  <a:pt x="3566" y="9281"/>
                  <a:pt x="3566" y="9293"/>
                  <a:pt x="3566" y="9285"/>
                </a:cubicBezTo>
                <a:cubicBezTo>
                  <a:pt x="3566" y="9259"/>
                  <a:pt x="3571" y="9241"/>
                  <a:pt x="3576" y="9216"/>
                </a:cubicBezTo>
                <a:cubicBezTo>
                  <a:pt x="3584" y="9180"/>
                  <a:pt x="3603" y="9152"/>
                  <a:pt x="3614" y="9118"/>
                </a:cubicBezTo>
                <a:cubicBezTo>
                  <a:pt x="3623" y="9089"/>
                  <a:pt x="3638" y="9066"/>
                  <a:pt x="3657" y="9040"/>
                </a:cubicBezTo>
                <a:cubicBezTo>
                  <a:pt x="3667" y="9027"/>
                  <a:pt x="3668" y="9033"/>
                  <a:pt x="3680" y="9031"/>
                </a:cubicBezTo>
                <a:cubicBezTo>
                  <a:pt x="3694" y="9049"/>
                  <a:pt x="3696" y="9068"/>
                  <a:pt x="3704" y="9091"/>
                </a:cubicBezTo>
                <a:cubicBezTo>
                  <a:pt x="3711" y="9112"/>
                  <a:pt x="3711" y="9120"/>
                  <a:pt x="3723" y="9137"/>
                </a:cubicBezTo>
                <a:cubicBezTo>
                  <a:pt x="3737" y="9128"/>
                  <a:pt x="3749" y="9122"/>
                  <a:pt x="3761" y="9105"/>
                </a:cubicBezTo>
                <a:cubicBezTo>
                  <a:pt x="3776" y="9084"/>
                  <a:pt x="3794" y="9061"/>
                  <a:pt x="3813" y="9040"/>
                </a:cubicBezTo>
                <a:cubicBezTo>
                  <a:pt x="3829" y="9022"/>
                  <a:pt x="3849" y="9001"/>
                  <a:pt x="3870" y="8989"/>
                </a:cubicBezTo>
                <a:cubicBezTo>
                  <a:pt x="3888" y="8979"/>
                  <a:pt x="3908" y="8965"/>
                  <a:pt x="3927" y="8961"/>
                </a:cubicBezTo>
                <a:cubicBezTo>
                  <a:pt x="3944" y="8957"/>
                  <a:pt x="3958" y="8969"/>
                  <a:pt x="3965" y="8984"/>
                </a:cubicBezTo>
                <a:cubicBezTo>
                  <a:pt x="3977" y="9010"/>
                  <a:pt x="3979" y="9044"/>
                  <a:pt x="3984" y="9072"/>
                </a:cubicBezTo>
                <a:cubicBezTo>
                  <a:pt x="3991" y="9109"/>
                  <a:pt x="3994" y="9139"/>
                  <a:pt x="4008" y="917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562040" y="3068640"/>
            <a:ext cx="239760" cy="301680"/>
          </a:xfrm>
          <a:custGeom>
            <a:avLst/>
            <a:gdLst/>
            <a:ahLst/>
            <a:rect l="l" t="t" r="r" b="b"/>
            <a:pathLst>
              <a:path w="665" h="838">
                <a:moveTo>
                  <a:pt x="4553" y="8975"/>
                </a:moveTo>
                <a:cubicBezTo>
                  <a:pt x="4531" y="8965"/>
                  <a:pt x="4513" y="8958"/>
                  <a:pt x="4487" y="8961"/>
                </a:cubicBezTo>
                <a:cubicBezTo>
                  <a:pt x="4446" y="8966"/>
                  <a:pt x="4413" y="9000"/>
                  <a:pt x="4387" y="9031"/>
                </a:cubicBezTo>
                <a:cubicBezTo>
                  <a:pt x="4356" y="9067"/>
                  <a:pt x="4344" y="9119"/>
                  <a:pt x="4340" y="9165"/>
                </a:cubicBezTo>
                <a:cubicBezTo>
                  <a:pt x="4338" y="9196"/>
                  <a:pt x="4340" y="9234"/>
                  <a:pt x="4364" y="9257"/>
                </a:cubicBezTo>
                <a:cubicBezTo>
                  <a:pt x="4385" y="9277"/>
                  <a:pt x="4424" y="9244"/>
                  <a:pt x="4440" y="9229"/>
                </a:cubicBezTo>
                <a:cubicBezTo>
                  <a:pt x="4468" y="9202"/>
                  <a:pt x="4477" y="9162"/>
                  <a:pt x="4501" y="9132"/>
                </a:cubicBezTo>
                <a:cubicBezTo>
                  <a:pt x="4513" y="9117"/>
                  <a:pt x="4522" y="9116"/>
                  <a:pt x="4534" y="9109"/>
                </a:cubicBezTo>
                <a:cubicBezTo>
                  <a:pt x="4553" y="9122"/>
                  <a:pt x="4554" y="9143"/>
                  <a:pt x="4563" y="9165"/>
                </a:cubicBezTo>
                <a:cubicBezTo>
                  <a:pt x="4577" y="9201"/>
                  <a:pt x="4599" y="9232"/>
                  <a:pt x="4615" y="9266"/>
                </a:cubicBezTo>
                <a:cubicBezTo>
                  <a:pt x="4627" y="9295"/>
                  <a:pt x="4629" y="9303"/>
                  <a:pt x="4644" y="9317"/>
                </a:cubicBezTo>
              </a:path>
              <a:path w="665" h="838">
                <a:moveTo>
                  <a:pt x="4919" y="8522"/>
                </a:moveTo>
                <a:cubicBezTo>
                  <a:pt x="4919" y="8675"/>
                  <a:pt x="4924" y="8827"/>
                  <a:pt x="4924" y="8980"/>
                </a:cubicBezTo>
                <a:cubicBezTo>
                  <a:pt x="4924" y="9068"/>
                  <a:pt x="4927" y="9155"/>
                  <a:pt x="4928" y="9243"/>
                </a:cubicBezTo>
                <a:cubicBezTo>
                  <a:pt x="4928" y="9282"/>
                  <a:pt x="4928" y="9320"/>
                  <a:pt x="4928" y="9359"/>
                </a:cubicBezTo>
                <a:cubicBezTo>
                  <a:pt x="4911" y="9333"/>
                  <a:pt x="4903" y="9309"/>
                  <a:pt x="4890" y="9280"/>
                </a:cubicBezTo>
                <a:cubicBezTo>
                  <a:pt x="4872" y="9240"/>
                  <a:pt x="4856" y="9219"/>
                  <a:pt x="4852" y="9174"/>
                </a:cubicBezTo>
                <a:cubicBezTo>
                  <a:pt x="4850" y="9143"/>
                  <a:pt x="4852" y="9129"/>
                  <a:pt x="4876" y="9109"/>
                </a:cubicBezTo>
                <a:cubicBezTo>
                  <a:pt x="4913" y="9078"/>
                  <a:pt x="4961" y="9064"/>
                  <a:pt x="5004" y="904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fdef6"/>
                </a:solidFill>
                <a:latin typeface="Arial"/>
              </a:rPr>
              <a:t>Demo der Application</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süme...</a:t>
            </a:r>
            <a:endParaRPr b="0" lang="en-US" sz="4400" spc="-1" strike="noStrike">
              <a:solidFill>
                <a:srgbClr val="dfdef6"/>
              </a:solidFill>
              <a:latin typeface="Arial"/>
            </a:endParaRPr>
          </a:p>
        </p:txBody>
      </p:sp>
      <p:sp>
        <p:nvSpPr>
          <p:cNvPr id="8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Microkernel bringt mehr Vorteile als alles andere womit ich bisher Software entwickelt habe.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s bedarf zwar ein wenig der Gewöhnung an die veränderte Denk- und Arbeitsweise, aber das Resultat ist bemerkenswert.</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nächste Evolutionsschritt in der Entwicklung von Software nach dem Schichtenmodel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5">
                                            <p:txEl>
                                              <p:pRg st="0" end="0"/>
                                            </p:txEl>
                                          </p:spTgt>
                                        </p:tgtEl>
                                        <p:attrNameLst>
                                          <p:attrName>style.visibility</p:attrName>
                                        </p:attrNameLst>
                                      </p:cBhvr>
                                      <p:to>
                                        <p:strVal val="visible"/>
                                      </p:to>
                                    </p:set>
                                    <p:animEffect filter="blinds(horizontal)" transition="in">
                                      <p:cBhvr additive="repl">
                                        <p:cTn id="462" dur="500"/>
                                        <p:tgtEl>
                                          <p:spTgt spid="835">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5">
                                            <p:txEl>
                                              <p:pRg st="1" end="1"/>
                                            </p:txEl>
                                          </p:spTgt>
                                        </p:tgtEl>
                                        <p:attrNameLst>
                                          <p:attrName>style.visibility</p:attrName>
                                        </p:attrNameLst>
                                      </p:cBhvr>
                                      <p:to>
                                        <p:strVal val="visible"/>
                                      </p:to>
                                    </p:set>
                                    <p:animEffect filter="blinds(horizontal)" transition="in">
                                      <p:cBhvr additive="repl">
                                        <p:cTn id="467" dur="500"/>
                                        <p:tgtEl>
                                          <p:spTgt spid="835">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835">
                                            <p:txEl>
                                              <p:pRg st="2" end="2"/>
                                            </p:txEl>
                                          </p:spTgt>
                                        </p:tgtEl>
                                        <p:attrNameLst>
                                          <p:attrName>style.visibility</p:attrName>
                                        </p:attrNameLst>
                                      </p:cBhvr>
                                      <p:to>
                                        <p:strVal val="visible"/>
                                      </p:to>
                                    </p:set>
                                    <p:animEffect filter="blinds(horizontal)" transition="in">
                                      <p:cBhvr additive="repl">
                                        <p:cTn id="472" dur="500"/>
                                        <p:tgtEl>
                                          <p:spTgt spid="8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sourcen 1/2</a:t>
            </a:r>
            <a:endParaRPr b="0" lang="en-US" sz="4400" spc="-1" strike="noStrike">
              <a:solidFill>
                <a:srgbClr val="dfdef6"/>
              </a:solidFill>
              <a:latin typeface="Arial"/>
            </a:endParaRPr>
          </a:p>
        </p:txBody>
      </p:sp>
      <p:sp>
        <p:nvSpPr>
          <p:cNvPr id="8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Evolution von Mehrschichtarchitekturen -Virtuos und flexibel – Torsten Zimmermann - dotnetpro 4-2005</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tract First Design und Microkernel-Framework – Am Anfang war der Vertrag – Ralp Westphal - dotnetpro 6-2005</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tract First Design und Microkernel-Framework – Spicken nicht erlaubt – Ralf Westphal - dotnetpro 9-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sourcen 2/2</a:t>
            </a:r>
            <a:endParaRPr b="0" lang="en-US" sz="4400" spc="-1" strike="noStrike">
              <a:solidFill>
                <a:srgbClr val="dfdef6"/>
              </a:solidFill>
              <a:latin typeface="Arial"/>
            </a:endParaRPr>
          </a:p>
        </p:txBody>
      </p:sp>
      <p:sp>
        <p:nvSpPr>
          <p:cNvPr id="8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oftware einfacher entwickeln – Das Software Universum – Ralf Westphal – dotnetpro 2-2006</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oftware strukturieren mit Softwarezellen</a:t>
            </a:r>
            <a:br>
              <a:rPr sz="2800"/>
            </a:br>
            <a:r>
              <a:rPr b="0" lang="de-DE" sz="2800" spc="-1" strike="noStrike">
                <a:solidFill>
                  <a:srgbClr val="ffffff"/>
                </a:solidFill>
                <a:latin typeface="Arial"/>
              </a:rPr>
              <a:t>Keine Frage der Schichten – </a:t>
            </a:r>
            <a:br>
              <a:rPr sz="2800"/>
            </a:br>
            <a:r>
              <a:rPr b="0" lang="de-DE" sz="2800" spc="-1" strike="noStrike">
                <a:solidFill>
                  <a:srgbClr val="ffffff"/>
                </a:solidFill>
                <a:latin typeface="Arial"/>
              </a:rPr>
              <a:t>Ralf Westphal – dotnetpro 3-2006</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ot Net TV Folge 10 – Microkernel</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sta 2005 – Slideset </a:t>
            </a:r>
            <a:br>
              <a:rPr sz="2800"/>
            </a:br>
            <a:r>
              <a:rPr b="0" lang="de-DE" sz="2800" spc="-1" strike="noStrike">
                <a:solidFill>
                  <a:srgbClr val="ffffff"/>
                </a:solidFill>
                <a:latin typeface="Arial"/>
              </a:rPr>
              <a:t>Pragmatische Anwendungsarchitektur – </a:t>
            </a:r>
            <a:br>
              <a:rPr sz="2800"/>
            </a:br>
            <a:r>
              <a:rPr b="0" lang="de-DE" sz="2800" spc="-1" strike="noStrike">
                <a:solidFill>
                  <a:srgbClr val="ffffff"/>
                </a:solidFill>
                <a:latin typeface="Arial"/>
              </a:rPr>
              <a:t>Zellen statt Schich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Die Applikation...</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s soll eine Software erstellt werden, welche Homöopatische Heilmittel ermittelt, basierend auf einen Frage/Antwort Verfahren. Diese Application soll auf verschiedenen Endgeräten und mit verschiedenen Datenbanken lauf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1">
                                            <p:txEl>
                                              <p:pRg st="0" end="0"/>
                                            </p:txEl>
                                          </p:spTgt>
                                        </p:tgtEl>
                                        <p:attrNameLst>
                                          <p:attrName>style.visibility</p:attrName>
                                        </p:attrNameLst>
                                      </p:cBhvr>
                                      <p:to>
                                        <p:strVal val="visible"/>
                                      </p:to>
                                    </p:set>
                                    <p:animEffect filter="blinds(horizontal)" transition="in">
                                      <p:cBhvr additive="repl">
                                        <p:cTn id="36" dur="500"/>
                                        <p:tgtEl>
                                          <p:spTgt spid="5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fdef6"/>
                </a:solidFill>
                <a:latin typeface="Arial"/>
              </a:rPr>
              <a:t>Fragen ...</a:t>
            </a:r>
            <a:endParaRPr b="0" lang="en-US" sz="5400" spc="-1" strike="noStrike">
              <a:solidFill>
                <a:srgbClr val="dfdef6"/>
              </a:solidFill>
              <a:latin typeface="Arial"/>
            </a:endParaRPr>
          </a:p>
        </p:txBody>
      </p:sp>
      <p:sp>
        <p:nvSpPr>
          <p:cNvPr id="8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Kontakt</a:t>
            </a:r>
            <a:endParaRPr b="0" lang="en-US" sz="4400" spc="-1" strike="noStrike">
              <a:solidFill>
                <a:srgbClr val="dfdef6"/>
              </a:solidFill>
              <a:latin typeface="Arial"/>
            </a:endParaRPr>
          </a:p>
        </p:txBody>
      </p:sp>
      <p:sp>
        <p:nvSpPr>
          <p:cNvPr id="8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ww.bruke.de</a:t>
            </a: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ndreas Bräse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Software Entwicklu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Mail: </a:t>
            </a:r>
            <a:r>
              <a:rPr b="0" lang="de-DE" sz="3200" spc="-1" strike="noStrike" u="sng">
                <a:solidFill>
                  <a:srgbClr val="9999ff"/>
                </a:solidFill>
                <a:uFillTx/>
                <a:latin typeface="Arial"/>
                <a:hlinkClick r:id="rId1"/>
              </a:rPr>
              <a:t>abraesen@bruke.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ie Anforderungen ein wenig genauer...</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zum Finden der Heilmittel muß austauschbar sei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23">
                                            <p:txEl>
                                              <p:pRg st="0" end="0"/>
                                            </p:txEl>
                                          </p:spTgt>
                                        </p:tgtEl>
                                        <p:attrNameLst>
                                          <p:attrName>style.visibility</p:attrName>
                                        </p:attrNameLst>
                                      </p:cBhvr>
                                      <p:to>
                                        <p:strVal val="visible"/>
                                      </p:to>
                                    </p:set>
                                    <p:animEffect filter="blinds(horizontal)" transition="in">
                                      <p:cBhvr additive="repl">
                                        <p:cTn id="43" dur="500"/>
                                        <p:tgtEl>
                                          <p:spTgt spid="52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23">
                                            <p:txEl>
                                              <p:pRg st="1" end="1"/>
                                            </p:txEl>
                                          </p:spTgt>
                                        </p:tgtEl>
                                        <p:attrNameLst>
                                          <p:attrName>style.visibility</p:attrName>
                                        </p:attrNameLst>
                                      </p:cBhvr>
                                      <p:to>
                                        <p:strVal val="visible"/>
                                      </p:to>
                                    </p:set>
                                    <p:animEffect filter="blinds(horizontal)" transition="in">
                                      <p:cBhvr additive="repl">
                                        <p:cTn id="48" dur="500"/>
                                        <p:tgtEl>
                                          <p:spTgt spid="52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23">
                                            <p:txEl>
                                              <p:pRg st="2" end="2"/>
                                            </p:txEl>
                                          </p:spTgt>
                                        </p:tgtEl>
                                        <p:attrNameLst>
                                          <p:attrName>style.visibility</p:attrName>
                                        </p:attrNameLst>
                                      </p:cBhvr>
                                      <p:to>
                                        <p:strVal val="visible"/>
                                      </p:to>
                                    </p:set>
                                    <p:animEffect filter="blinds(horizontal)" transition="in">
                                      <p:cBhvr additive="repl">
                                        <p:cTn id="53" dur="500"/>
                                        <p:tgtEl>
                                          <p:spTgt spid="52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23">
                                            <p:txEl>
                                              <p:pRg st="3" end="3"/>
                                            </p:txEl>
                                          </p:spTgt>
                                        </p:tgtEl>
                                        <p:attrNameLst>
                                          <p:attrName>style.visibility</p:attrName>
                                        </p:attrNameLst>
                                      </p:cBhvr>
                                      <p:to>
                                        <p:strVal val="visible"/>
                                      </p:to>
                                    </p:set>
                                    <p:animEffect filter="blinds(horizontal)" transition="in">
                                      <p:cBhvr additive="repl">
                                        <p:cTn id="58" dur="500"/>
                                        <p:tgtEl>
                                          <p:spTgt spid="52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23">
                                            <p:txEl>
                                              <p:pRg st="4" end="4"/>
                                            </p:txEl>
                                          </p:spTgt>
                                        </p:tgtEl>
                                        <p:attrNameLst>
                                          <p:attrName>style.visibility</p:attrName>
                                        </p:attrNameLst>
                                      </p:cBhvr>
                                      <p:to>
                                        <p:strVal val="visible"/>
                                      </p:to>
                                    </p:set>
                                    <p:animEffect filter="blinds(horizontal)" transition="in">
                                      <p:cBhvr additive="repl">
                                        <p:cTn id="63" dur="500"/>
                                        <p:tgtEl>
                                          <p:spTgt spid="52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523">
                                            <p:txEl>
                                              <p:pRg st="5" end="5"/>
                                            </p:txEl>
                                          </p:spTgt>
                                        </p:tgtEl>
                                        <p:attrNameLst>
                                          <p:attrName>style.visibility</p:attrName>
                                        </p:attrNameLst>
                                      </p:cBhvr>
                                      <p:to>
                                        <p:strVal val="visible"/>
                                      </p:to>
                                    </p:set>
                                    <p:animEffect filter="blinds(horizontal)" transition="in">
                                      <p:cBhvr additive="repl">
                                        <p:cTn id="68" dur="500"/>
                                        <p:tgtEl>
                                          <p:spTgt spid="523">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23">
                                            <p:txEl>
                                              <p:pRg st="6" end="6"/>
                                            </p:txEl>
                                          </p:spTgt>
                                        </p:tgtEl>
                                        <p:attrNameLst>
                                          <p:attrName>style.visibility</p:attrName>
                                        </p:attrNameLst>
                                      </p:cBhvr>
                                      <p:to>
                                        <p:strVal val="visible"/>
                                      </p:to>
                                    </p:set>
                                    <p:animEffect filter="blinds(horizontal)" transition="in">
                                      <p:cBhvr additive="repl">
                                        <p:cTn id="73" dur="500"/>
                                        <p:tgtEl>
                                          <p:spTgt spid="5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Hmm, wie könnte man das Problem lösen ?</a:t>
            </a:r>
            <a:endParaRPr b="0" lang="en-US" sz="40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dfdef6"/>
                </a:solidFill>
                <a:latin typeface="Arial"/>
              </a:rPr>
              <a:t>Das Schichtenmodell - Eine Lösung ?</a:t>
            </a:r>
            <a:endParaRPr b="0" lang="en-US" sz="3200" spc="-1" strike="noStrike">
              <a:solidFill>
                <a:srgbClr val="dfdef6"/>
              </a:solidFill>
              <a:latin typeface="Arial"/>
            </a:endParaRPr>
          </a:p>
        </p:txBody>
      </p:sp>
      <p:sp>
        <p:nvSpPr>
          <p:cNvPr id="526" name=""/>
          <p:cNvSpPr/>
          <p:nvPr/>
        </p:nvSpPr>
        <p:spPr>
          <a:xfrm>
            <a:off x="6270480" y="1743120"/>
            <a:ext cx="362160" cy="2951280"/>
          </a:xfrm>
          <a:custGeom>
            <a:avLst/>
            <a:gdLst/>
            <a:ahLst/>
            <a:rect l="l" t="t" r="r" b="b"/>
            <a:pathLst>
              <a:path w="1007" h="8197">
                <a:moveTo>
                  <a:pt x="16962" y="5435"/>
                </a:moveTo>
                <a:cubicBezTo>
                  <a:pt x="16958" y="5445"/>
                  <a:pt x="16947" y="5469"/>
                  <a:pt x="16943" y="5485"/>
                </a:cubicBezTo>
                <a:cubicBezTo>
                  <a:pt x="16929" y="5546"/>
                  <a:pt x="16929" y="5604"/>
                  <a:pt x="16929" y="5666"/>
                </a:cubicBezTo>
                <a:cubicBezTo>
                  <a:pt x="16929" y="5772"/>
                  <a:pt x="16940" y="5858"/>
                  <a:pt x="16967" y="5961"/>
                </a:cubicBezTo>
                <a:cubicBezTo>
                  <a:pt x="16991" y="6052"/>
                  <a:pt x="17028" y="6131"/>
                  <a:pt x="17091" y="6202"/>
                </a:cubicBezTo>
                <a:cubicBezTo>
                  <a:pt x="17126" y="6241"/>
                  <a:pt x="17180" y="6290"/>
                  <a:pt x="17238" y="6267"/>
                </a:cubicBezTo>
                <a:cubicBezTo>
                  <a:pt x="17305" y="6240"/>
                  <a:pt x="17346" y="6155"/>
                  <a:pt x="17375" y="6096"/>
                </a:cubicBezTo>
                <a:cubicBezTo>
                  <a:pt x="17446" y="5951"/>
                  <a:pt x="17496" y="5788"/>
                  <a:pt x="17541" y="5633"/>
                </a:cubicBezTo>
                <a:cubicBezTo>
                  <a:pt x="17567" y="5543"/>
                  <a:pt x="17588" y="5450"/>
                  <a:pt x="17594" y="5356"/>
                </a:cubicBezTo>
                <a:cubicBezTo>
                  <a:pt x="17596" y="5330"/>
                  <a:pt x="17594" y="5303"/>
                  <a:pt x="17594" y="5277"/>
                </a:cubicBezTo>
              </a:path>
              <a:path w="1007" h="8197">
                <a:moveTo>
                  <a:pt x="17015" y="6960"/>
                </a:moveTo>
                <a:cubicBezTo>
                  <a:pt x="16992" y="6955"/>
                  <a:pt x="16993" y="6955"/>
                  <a:pt x="16977" y="6937"/>
                </a:cubicBezTo>
                <a:cubicBezTo>
                  <a:pt x="16974" y="6932"/>
                  <a:pt x="16970" y="6928"/>
                  <a:pt x="16967" y="6923"/>
                </a:cubicBezTo>
                <a:cubicBezTo>
                  <a:pt x="16986" y="6893"/>
                  <a:pt x="16990" y="6895"/>
                  <a:pt x="17029" y="6881"/>
                </a:cubicBezTo>
                <a:cubicBezTo>
                  <a:pt x="17094" y="6858"/>
                  <a:pt x="17159" y="6852"/>
                  <a:pt x="17228" y="6844"/>
                </a:cubicBezTo>
                <a:cubicBezTo>
                  <a:pt x="17353" y="6829"/>
                  <a:pt x="17477" y="6812"/>
                  <a:pt x="17603" y="6803"/>
                </a:cubicBezTo>
                <a:cubicBezTo>
                  <a:pt x="17627" y="6801"/>
                  <a:pt x="17650" y="6800"/>
                  <a:pt x="17674" y="6798"/>
                </a:cubicBezTo>
              </a:path>
              <a:path w="1007" h="8197">
                <a:moveTo>
                  <a:pt x="17404" y="7145"/>
                </a:moveTo>
                <a:cubicBezTo>
                  <a:pt x="17378" y="7173"/>
                  <a:pt x="17368" y="7216"/>
                  <a:pt x="17361" y="7256"/>
                </a:cubicBezTo>
                <a:cubicBezTo>
                  <a:pt x="17342" y="7356"/>
                  <a:pt x="17331" y="7460"/>
                  <a:pt x="17323" y="7561"/>
                </a:cubicBezTo>
                <a:cubicBezTo>
                  <a:pt x="17313" y="7681"/>
                  <a:pt x="17314" y="7801"/>
                  <a:pt x="17314" y="7921"/>
                </a:cubicBezTo>
                <a:cubicBezTo>
                  <a:pt x="17314" y="7947"/>
                  <a:pt x="17314" y="7974"/>
                  <a:pt x="17314" y="8000"/>
                </a:cubicBezTo>
              </a:path>
              <a:path w="1007" h="8197">
                <a:moveTo>
                  <a:pt x="17162" y="8670"/>
                </a:moveTo>
                <a:cubicBezTo>
                  <a:pt x="17162" y="8767"/>
                  <a:pt x="17166" y="8861"/>
                  <a:pt x="17157" y="8957"/>
                </a:cubicBezTo>
                <a:cubicBezTo>
                  <a:pt x="17145" y="9085"/>
                  <a:pt x="17126" y="9212"/>
                  <a:pt x="17110" y="9340"/>
                </a:cubicBezTo>
                <a:cubicBezTo>
                  <a:pt x="17096" y="9449"/>
                  <a:pt x="17084" y="9558"/>
                  <a:pt x="17095" y="9668"/>
                </a:cubicBezTo>
                <a:cubicBezTo>
                  <a:pt x="17098" y="9690"/>
                  <a:pt x="17102" y="9711"/>
                  <a:pt x="17105" y="9733"/>
                </a:cubicBezTo>
              </a:path>
              <a:path w="1007" h="8197">
                <a:moveTo>
                  <a:pt x="17053" y="10371"/>
                </a:moveTo>
                <a:cubicBezTo>
                  <a:pt x="17053" y="10360"/>
                  <a:pt x="17053" y="10350"/>
                  <a:pt x="17053" y="10339"/>
                </a:cubicBezTo>
                <a:cubicBezTo>
                  <a:pt x="17045" y="10370"/>
                  <a:pt x="17037" y="10404"/>
                  <a:pt x="17029" y="10436"/>
                </a:cubicBezTo>
                <a:cubicBezTo>
                  <a:pt x="17006" y="10529"/>
                  <a:pt x="16972" y="10614"/>
                  <a:pt x="16939" y="10704"/>
                </a:cubicBezTo>
                <a:cubicBezTo>
                  <a:pt x="16896" y="10821"/>
                  <a:pt x="16848" y="10945"/>
                  <a:pt x="16830" y="11069"/>
                </a:cubicBezTo>
                <a:cubicBezTo>
                  <a:pt x="16817" y="11158"/>
                  <a:pt x="16813" y="11293"/>
                  <a:pt x="16877" y="11365"/>
                </a:cubicBezTo>
                <a:cubicBezTo>
                  <a:pt x="16936" y="11433"/>
                  <a:pt x="17048" y="11439"/>
                  <a:pt x="17129" y="11434"/>
                </a:cubicBezTo>
                <a:cubicBezTo>
                  <a:pt x="17224" y="11429"/>
                  <a:pt x="17314" y="11417"/>
                  <a:pt x="17409" y="11420"/>
                </a:cubicBezTo>
              </a:path>
              <a:path w="1007" h="8197">
                <a:moveTo>
                  <a:pt x="17394" y="12317"/>
                </a:moveTo>
                <a:cubicBezTo>
                  <a:pt x="17373" y="12326"/>
                  <a:pt x="17343" y="12335"/>
                  <a:pt x="17323" y="12349"/>
                </a:cubicBezTo>
                <a:cubicBezTo>
                  <a:pt x="17238" y="12409"/>
                  <a:pt x="17145" y="12460"/>
                  <a:pt x="17053" y="12511"/>
                </a:cubicBezTo>
                <a:cubicBezTo>
                  <a:pt x="16996" y="12542"/>
                  <a:pt x="16903" y="12581"/>
                  <a:pt x="16920" y="12664"/>
                </a:cubicBezTo>
                <a:cubicBezTo>
                  <a:pt x="16937" y="12747"/>
                  <a:pt x="17077" y="12810"/>
                  <a:pt x="17133" y="12862"/>
                </a:cubicBezTo>
                <a:cubicBezTo>
                  <a:pt x="17200" y="12925"/>
                  <a:pt x="17253" y="13006"/>
                  <a:pt x="17271" y="13098"/>
                </a:cubicBezTo>
                <a:cubicBezTo>
                  <a:pt x="17288" y="13183"/>
                  <a:pt x="17283" y="13279"/>
                  <a:pt x="17233" y="13352"/>
                </a:cubicBezTo>
                <a:cubicBezTo>
                  <a:pt x="17172" y="13442"/>
                  <a:pt x="17049" y="13469"/>
                  <a:pt x="16948" y="13473"/>
                </a:cubicBezTo>
                <a:cubicBezTo>
                  <a:pt x="16833" y="13478"/>
                  <a:pt x="16755" y="13422"/>
                  <a:pt x="16668" y="1335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3132000" y="2565360"/>
            <a:ext cx="2336760" cy="1919160"/>
          </a:xfrm>
          <a:custGeom>
            <a:avLst/>
            <a:gdLst/>
            <a:ahLst/>
            <a:rect l="l" t="t" r="r" b="b"/>
            <a:pathLst>
              <a:path w="6493" h="5335">
                <a:moveTo>
                  <a:pt x="8611" y="9632"/>
                </a:moveTo>
                <a:cubicBezTo>
                  <a:pt x="8611" y="9653"/>
                  <a:pt x="8615" y="9671"/>
                  <a:pt x="8615" y="9692"/>
                </a:cubicBezTo>
                <a:cubicBezTo>
                  <a:pt x="8616" y="9740"/>
                  <a:pt x="8621" y="9787"/>
                  <a:pt x="8625" y="9835"/>
                </a:cubicBezTo>
                <a:cubicBezTo>
                  <a:pt x="8631" y="9901"/>
                  <a:pt x="8630" y="9967"/>
                  <a:pt x="8630" y="10034"/>
                </a:cubicBezTo>
                <a:cubicBezTo>
                  <a:pt x="8630" y="10075"/>
                  <a:pt x="8628" y="10114"/>
                  <a:pt x="8639" y="10154"/>
                </a:cubicBezTo>
                <a:cubicBezTo>
                  <a:pt x="8642" y="10167"/>
                  <a:pt x="8644" y="10179"/>
                  <a:pt x="8649" y="10191"/>
                </a:cubicBezTo>
              </a:path>
              <a:path w="6493" h="5335">
                <a:moveTo>
                  <a:pt x="7980" y="9913"/>
                </a:moveTo>
                <a:cubicBezTo>
                  <a:pt x="7967" y="9882"/>
                  <a:pt x="7949" y="9878"/>
                  <a:pt x="7951" y="9835"/>
                </a:cubicBezTo>
                <a:cubicBezTo>
                  <a:pt x="7955" y="9758"/>
                  <a:pt x="7986" y="9716"/>
                  <a:pt x="8037" y="9659"/>
                </a:cubicBezTo>
                <a:cubicBezTo>
                  <a:pt x="8125" y="9560"/>
                  <a:pt x="8227" y="9497"/>
                  <a:pt x="8350" y="9447"/>
                </a:cubicBezTo>
                <a:cubicBezTo>
                  <a:pt x="8463" y="9401"/>
                  <a:pt x="8611" y="9364"/>
                  <a:pt x="8715" y="9447"/>
                </a:cubicBezTo>
                <a:cubicBezTo>
                  <a:pt x="8779" y="9498"/>
                  <a:pt x="8787" y="9592"/>
                  <a:pt x="8782" y="9668"/>
                </a:cubicBezTo>
                <a:cubicBezTo>
                  <a:pt x="8777" y="9746"/>
                  <a:pt x="8746" y="9826"/>
                  <a:pt x="8753" y="9904"/>
                </a:cubicBezTo>
                <a:cubicBezTo>
                  <a:pt x="8761" y="9988"/>
                  <a:pt x="8818" y="10000"/>
                  <a:pt x="8881" y="10038"/>
                </a:cubicBezTo>
                <a:cubicBezTo>
                  <a:pt x="8955" y="10082"/>
                  <a:pt x="9035" y="10117"/>
                  <a:pt x="9099" y="10177"/>
                </a:cubicBezTo>
                <a:cubicBezTo>
                  <a:pt x="9169" y="10242"/>
                  <a:pt x="9180" y="10315"/>
                  <a:pt x="9175" y="10408"/>
                </a:cubicBezTo>
                <a:cubicBezTo>
                  <a:pt x="9167" y="10551"/>
                  <a:pt x="9082" y="10720"/>
                  <a:pt x="8957" y="10796"/>
                </a:cubicBezTo>
                <a:cubicBezTo>
                  <a:pt x="8847" y="10863"/>
                  <a:pt x="8711" y="10873"/>
                  <a:pt x="8587" y="10852"/>
                </a:cubicBezTo>
                <a:cubicBezTo>
                  <a:pt x="8459" y="10831"/>
                  <a:pt x="8404" y="10768"/>
                  <a:pt x="8345" y="10662"/>
                </a:cubicBezTo>
              </a:path>
              <a:path w="6493" h="5335">
                <a:moveTo>
                  <a:pt x="9289" y="9849"/>
                </a:moveTo>
                <a:cubicBezTo>
                  <a:pt x="9283" y="9855"/>
                  <a:pt x="9278" y="9851"/>
                  <a:pt x="9270" y="9863"/>
                </a:cubicBezTo>
                <a:cubicBezTo>
                  <a:pt x="9256" y="9884"/>
                  <a:pt x="9251" y="9897"/>
                  <a:pt x="9247" y="9923"/>
                </a:cubicBezTo>
                <a:cubicBezTo>
                  <a:pt x="9230" y="10037"/>
                  <a:pt x="9257" y="10160"/>
                  <a:pt x="9285" y="10269"/>
                </a:cubicBezTo>
                <a:cubicBezTo>
                  <a:pt x="9317" y="10396"/>
                  <a:pt x="9380" y="10592"/>
                  <a:pt x="9531" y="10621"/>
                </a:cubicBezTo>
                <a:cubicBezTo>
                  <a:pt x="9615" y="10637"/>
                  <a:pt x="9685" y="10580"/>
                  <a:pt x="9735" y="10519"/>
                </a:cubicBezTo>
                <a:cubicBezTo>
                  <a:pt x="9806" y="10432"/>
                  <a:pt x="9841" y="10326"/>
                  <a:pt x="9868" y="10219"/>
                </a:cubicBezTo>
                <a:cubicBezTo>
                  <a:pt x="9899" y="10096"/>
                  <a:pt x="9910" y="9969"/>
                  <a:pt x="9930" y="9844"/>
                </a:cubicBezTo>
                <a:cubicBezTo>
                  <a:pt x="9935" y="9802"/>
                  <a:pt x="9937" y="9787"/>
                  <a:pt x="9949" y="9761"/>
                </a:cubicBezTo>
              </a:path>
              <a:path w="6493" h="5335">
                <a:moveTo>
                  <a:pt x="10936" y="9655"/>
                </a:moveTo>
                <a:cubicBezTo>
                  <a:pt x="10918" y="9649"/>
                  <a:pt x="10899" y="9640"/>
                  <a:pt x="10879" y="9636"/>
                </a:cubicBezTo>
                <a:cubicBezTo>
                  <a:pt x="10819" y="9625"/>
                  <a:pt x="10753" y="9630"/>
                  <a:pt x="10694" y="9641"/>
                </a:cubicBezTo>
                <a:cubicBezTo>
                  <a:pt x="10608" y="9656"/>
                  <a:pt x="10532" y="9686"/>
                  <a:pt x="10461" y="9738"/>
                </a:cubicBezTo>
                <a:cubicBezTo>
                  <a:pt x="10406" y="9778"/>
                  <a:pt x="10363" y="9831"/>
                  <a:pt x="10352" y="9900"/>
                </a:cubicBezTo>
                <a:cubicBezTo>
                  <a:pt x="10341" y="9964"/>
                  <a:pt x="10408" y="10033"/>
                  <a:pt x="10447" y="10075"/>
                </a:cubicBezTo>
                <a:cubicBezTo>
                  <a:pt x="10517" y="10151"/>
                  <a:pt x="10593" y="10223"/>
                  <a:pt x="10642" y="10316"/>
                </a:cubicBezTo>
                <a:cubicBezTo>
                  <a:pt x="10696" y="10419"/>
                  <a:pt x="10708" y="10534"/>
                  <a:pt x="10670" y="10644"/>
                </a:cubicBezTo>
                <a:cubicBezTo>
                  <a:pt x="10646" y="10713"/>
                  <a:pt x="10595" y="10766"/>
                  <a:pt x="10528" y="10796"/>
                </a:cubicBezTo>
                <a:cubicBezTo>
                  <a:pt x="10440" y="10835"/>
                  <a:pt x="10350" y="10789"/>
                  <a:pt x="10276" y="10741"/>
                </a:cubicBezTo>
                <a:cubicBezTo>
                  <a:pt x="10225" y="10705"/>
                  <a:pt x="10209" y="10693"/>
                  <a:pt x="10181" y="10662"/>
                </a:cubicBezTo>
              </a:path>
              <a:path w="6493" h="5335">
                <a:moveTo>
                  <a:pt x="11339" y="9789"/>
                </a:moveTo>
                <a:cubicBezTo>
                  <a:pt x="11334" y="9859"/>
                  <a:pt x="11305" y="9919"/>
                  <a:pt x="11287" y="9987"/>
                </a:cubicBezTo>
                <a:cubicBezTo>
                  <a:pt x="11258" y="10099"/>
                  <a:pt x="11228" y="10211"/>
                  <a:pt x="11206" y="10325"/>
                </a:cubicBezTo>
                <a:cubicBezTo>
                  <a:pt x="11189" y="10414"/>
                  <a:pt x="11175" y="10498"/>
                  <a:pt x="11173" y="10588"/>
                </a:cubicBezTo>
              </a:path>
              <a:path w="6493" h="5335">
                <a:moveTo>
                  <a:pt x="11790" y="9784"/>
                </a:moveTo>
                <a:cubicBezTo>
                  <a:pt x="11785" y="9811"/>
                  <a:pt x="11780" y="9839"/>
                  <a:pt x="11776" y="9867"/>
                </a:cubicBezTo>
                <a:cubicBezTo>
                  <a:pt x="11761" y="9975"/>
                  <a:pt x="11743" y="10083"/>
                  <a:pt x="11728" y="10191"/>
                </a:cubicBezTo>
                <a:cubicBezTo>
                  <a:pt x="11709" y="10325"/>
                  <a:pt x="11691" y="10460"/>
                  <a:pt x="11667" y="10593"/>
                </a:cubicBezTo>
                <a:cubicBezTo>
                  <a:pt x="11658" y="10640"/>
                  <a:pt x="11656" y="10689"/>
                  <a:pt x="11648" y="10736"/>
                </a:cubicBezTo>
                <a:cubicBezTo>
                  <a:pt x="11648" y="10730"/>
                  <a:pt x="11648" y="10724"/>
                  <a:pt x="11648" y="10718"/>
                </a:cubicBezTo>
                <a:cubicBezTo>
                  <a:pt x="11650" y="10640"/>
                  <a:pt x="11660" y="10564"/>
                  <a:pt x="11671" y="10487"/>
                </a:cubicBezTo>
                <a:cubicBezTo>
                  <a:pt x="11690" y="10361"/>
                  <a:pt x="11709" y="10234"/>
                  <a:pt x="11728" y="10108"/>
                </a:cubicBezTo>
                <a:cubicBezTo>
                  <a:pt x="11741" y="10021"/>
                  <a:pt x="11756" y="9904"/>
                  <a:pt x="11800" y="9826"/>
                </a:cubicBezTo>
                <a:cubicBezTo>
                  <a:pt x="11803" y="9823"/>
                  <a:pt x="11806" y="9819"/>
                  <a:pt x="11809" y="9816"/>
                </a:cubicBezTo>
                <a:cubicBezTo>
                  <a:pt x="11834" y="9844"/>
                  <a:pt x="11846" y="9869"/>
                  <a:pt x="11857" y="9918"/>
                </a:cubicBezTo>
                <a:cubicBezTo>
                  <a:pt x="11880" y="10020"/>
                  <a:pt x="11904" y="10121"/>
                  <a:pt x="11928" y="10223"/>
                </a:cubicBezTo>
                <a:cubicBezTo>
                  <a:pt x="11950" y="10316"/>
                  <a:pt x="11969" y="10404"/>
                  <a:pt x="12008" y="10491"/>
                </a:cubicBezTo>
                <a:cubicBezTo>
                  <a:pt x="12033" y="10546"/>
                  <a:pt x="12023" y="10515"/>
                  <a:pt x="12061" y="10528"/>
                </a:cubicBezTo>
                <a:cubicBezTo>
                  <a:pt x="12093" y="10464"/>
                  <a:pt x="12118" y="10402"/>
                  <a:pt x="12141" y="10334"/>
                </a:cubicBezTo>
                <a:cubicBezTo>
                  <a:pt x="12185" y="10204"/>
                  <a:pt x="12215" y="10071"/>
                  <a:pt x="12246" y="9937"/>
                </a:cubicBezTo>
                <a:cubicBezTo>
                  <a:pt x="12266" y="9853"/>
                  <a:pt x="12304" y="9743"/>
                  <a:pt x="12293" y="9655"/>
                </a:cubicBezTo>
                <a:cubicBezTo>
                  <a:pt x="12279" y="9609"/>
                  <a:pt x="12273" y="9568"/>
                  <a:pt x="12274" y="9599"/>
                </a:cubicBezTo>
              </a:path>
              <a:path w="6493" h="5335">
                <a:moveTo>
                  <a:pt x="12825" y="9918"/>
                </a:moveTo>
                <a:cubicBezTo>
                  <a:pt x="12825" y="9974"/>
                  <a:pt x="12817" y="10025"/>
                  <a:pt x="12810" y="10080"/>
                </a:cubicBezTo>
                <a:cubicBezTo>
                  <a:pt x="12795" y="10196"/>
                  <a:pt x="12776" y="10312"/>
                  <a:pt x="12753" y="10427"/>
                </a:cubicBezTo>
                <a:cubicBezTo>
                  <a:pt x="12737" y="10504"/>
                  <a:pt x="12718" y="10581"/>
                  <a:pt x="12701" y="10658"/>
                </a:cubicBezTo>
              </a:path>
              <a:path w="6493" h="5335">
                <a:moveTo>
                  <a:pt x="12815" y="9724"/>
                </a:moveTo>
                <a:cubicBezTo>
                  <a:pt x="12835" y="9707"/>
                  <a:pt x="12862" y="9689"/>
                  <a:pt x="12891" y="9678"/>
                </a:cubicBezTo>
                <a:cubicBezTo>
                  <a:pt x="12954" y="9654"/>
                  <a:pt x="13009" y="9646"/>
                  <a:pt x="13076" y="9645"/>
                </a:cubicBezTo>
                <a:cubicBezTo>
                  <a:pt x="13090" y="9645"/>
                  <a:pt x="13105" y="9645"/>
                  <a:pt x="13119" y="9645"/>
                </a:cubicBezTo>
              </a:path>
              <a:path w="6493" h="5335">
                <a:moveTo>
                  <a:pt x="12692" y="10306"/>
                </a:moveTo>
                <a:cubicBezTo>
                  <a:pt x="12756" y="10278"/>
                  <a:pt x="12818" y="10250"/>
                  <a:pt x="12881" y="10219"/>
                </a:cubicBezTo>
                <a:cubicBezTo>
                  <a:pt x="12949" y="10185"/>
                  <a:pt x="13014" y="10159"/>
                  <a:pt x="13086" y="10135"/>
                </a:cubicBezTo>
              </a:path>
              <a:path w="6493" h="5335">
                <a:moveTo>
                  <a:pt x="12497" y="10866"/>
                </a:moveTo>
                <a:cubicBezTo>
                  <a:pt x="12515" y="10884"/>
                  <a:pt x="12522" y="10885"/>
                  <a:pt x="12554" y="10889"/>
                </a:cubicBezTo>
                <a:cubicBezTo>
                  <a:pt x="12634" y="10899"/>
                  <a:pt x="12712" y="10891"/>
                  <a:pt x="12791" y="10884"/>
                </a:cubicBezTo>
                <a:cubicBezTo>
                  <a:pt x="12856" y="10879"/>
                  <a:pt x="12876" y="10877"/>
                  <a:pt x="12919" y="10879"/>
                </a:cubicBezTo>
              </a:path>
              <a:path w="6493" h="5335">
                <a:moveTo>
                  <a:pt x="13821" y="9622"/>
                </a:moveTo>
                <a:cubicBezTo>
                  <a:pt x="13752" y="9622"/>
                  <a:pt x="13684" y="9617"/>
                  <a:pt x="13617" y="9636"/>
                </a:cubicBezTo>
                <a:cubicBezTo>
                  <a:pt x="13528" y="9661"/>
                  <a:pt x="13428" y="9724"/>
                  <a:pt x="13366" y="9793"/>
                </a:cubicBezTo>
                <a:cubicBezTo>
                  <a:pt x="13305" y="9860"/>
                  <a:pt x="13286" y="9944"/>
                  <a:pt x="13318" y="10029"/>
                </a:cubicBezTo>
                <a:cubicBezTo>
                  <a:pt x="13366" y="10159"/>
                  <a:pt x="13504" y="10236"/>
                  <a:pt x="13598" y="10329"/>
                </a:cubicBezTo>
                <a:cubicBezTo>
                  <a:pt x="13670" y="10400"/>
                  <a:pt x="13723" y="10485"/>
                  <a:pt x="13726" y="10588"/>
                </a:cubicBezTo>
                <a:cubicBezTo>
                  <a:pt x="13729" y="10678"/>
                  <a:pt x="13689" y="10756"/>
                  <a:pt x="13622" y="10815"/>
                </a:cubicBezTo>
                <a:cubicBezTo>
                  <a:pt x="13566" y="10864"/>
                  <a:pt x="13501" y="10891"/>
                  <a:pt x="13427" y="10889"/>
                </a:cubicBezTo>
                <a:cubicBezTo>
                  <a:pt x="13388" y="10884"/>
                  <a:pt x="13375" y="10882"/>
                  <a:pt x="13351" y="10870"/>
                </a:cubicBezTo>
              </a:path>
              <a:path w="6493" h="5335">
                <a:moveTo>
                  <a:pt x="14443" y="9655"/>
                </a:moveTo>
                <a:cubicBezTo>
                  <a:pt x="14376" y="9655"/>
                  <a:pt x="14326" y="9665"/>
                  <a:pt x="14262" y="9687"/>
                </a:cubicBezTo>
                <a:cubicBezTo>
                  <a:pt x="14206" y="9707"/>
                  <a:pt x="14129" y="9749"/>
                  <a:pt x="14101" y="9807"/>
                </a:cubicBezTo>
                <a:cubicBezTo>
                  <a:pt x="14071" y="9869"/>
                  <a:pt x="14123" y="9932"/>
                  <a:pt x="14163" y="9974"/>
                </a:cubicBezTo>
                <a:cubicBezTo>
                  <a:pt x="14224" y="10038"/>
                  <a:pt x="14301" y="10083"/>
                  <a:pt x="14357" y="10154"/>
                </a:cubicBezTo>
                <a:cubicBezTo>
                  <a:pt x="14411" y="10222"/>
                  <a:pt x="14436" y="10312"/>
                  <a:pt x="14424" y="10399"/>
                </a:cubicBezTo>
                <a:cubicBezTo>
                  <a:pt x="14411" y="10493"/>
                  <a:pt x="14346" y="10575"/>
                  <a:pt x="14277" y="10635"/>
                </a:cubicBezTo>
                <a:cubicBezTo>
                  <a:pt x="14214" y="10690"/>
                  <a:pt x="14141" y="10715"/>
                  <a:pt x="14058" y="10713"/>
                </a:cubicBezTo>
                <a:cubicBezTo>
                  <a:pt x="14045" y="10711"/>
                  <a:pt x="14033" y="10710"/>
                  <a:pt x="14020" y="10708"/>
                </a:cubicBezTo>
              </a:path>
              <a:path w="6493" h="5335">
                <a:moveTo>
                  <a:pt x="11292" y="7561"/>
                </a:moveTo>
                <a:cubicBezTo>
                  <a:pt x="11272" y="7569"/>
                  <a:pt x="11279" y="7549"/>
                  <a:pt x="11273" y="7575"/>
                </a:cubicBezTo>
                <a:cubicBezTo>
                  <a:pt x="11266" y="7609"/>
                  <a:pt x="11274" y="7647"/>
                  <a:pt x="11268" y="7681"/>
                </a:cubicBezTo>
                <a:cubicBezTo>
                  <a:pt x="11259" y="7730"/>
                  <a:pt x="11262" y="7774"/>
                  <a:pt x="11259" y="7824"/>
                </a:cubicBezTo>
                <a:cubicBezTo>
                  <a:pt x="11254" y="7895"/>
                  <a:pt x="11250" y="7966"/>
                  <a:pt x="11249" y="8037"/>
                </a:cubicBezTo>
                <a:cubicBezTo>
                  <a:pt x="11248" y="8105"/>
                  <a:pt x="11245" y="8169"/>
                  <a:pt x="11240" y="8236"/>
                </a:cubicBezTo>
                <a:cubicBezTo>
                  <a:pt x="11236" y="8285"/>
                  <a:pt x="11235" y="8335"/>
                  <a:pt x="11235" y="8384"/>
                </a:cubicBezTo>
                <a:cubicBezTo>
                  <a:pt x="11235" y="8428"/>
                  <a:pt x="11220" y="8505"/>
                  <a:pt x="11240" y="8545"/>
                </a:cubicBezTo>
                <a:cubicBezTo>
                  <a:pt x="11245" y="8547"/>
                  <a:pt x="11249" y="8548"/>
                  <a:pt x="11254" y="8550"/>
                </a:cubicBezTo>
              </a:path>
              <a:path w="6493" h="5335">
                <a:moveTo>
                  <a:pt x="10964" y="8152"/>
                </a:moveTo>
                <a:cubicBezTo>
                  <a:pt x="10978" y="8175"/>
                  <a:pt x="10976" y="8170"/>
                  <a:pt x="10998" y="8189"/>
                </a:cubicBezTo>
                <a:cubicBezTo>
                  <a:pt x="11028" y="8215"/>
                  <a:pt x="11043" y="8242"/>
                  <a:pt x="11059" y="8277"/>
                </a:cubicBezTo>
                <a:cubicBezTo>
                  <a:pt x="11081" y="8325"/>
                  <a:pt x="11106" y="8370"/>
                  <a:pt x="11130" y="8416"/>
                </a:cubicBezTo>
                <a:cubicBezTo>
                  <a:pt x="11158" y="8471"/>
                  <a:pt x="11184" y="8531"/>
                  <a:pt x="11230" y="8573"/>
                </a:cubicBezTo>
                <a:cubicBezTo>
                  <a:pt x="11246" y="8587"/>
                  <a:pt x="11274" y="8613"/>
                  <a:pt x="11297" y="8610"/>
                </a:cubicBezTo>
                <a:cubicBezTo>
                  <a:pt x="11317" y="8607"/>
                  <a:pt x="11341" y="8577"/>
                  <a:pt x="11354" y="8564"/>
                </a:cubicBezTo>
                <a:cubicBezTo>
                  <a:pt x="11387" y="8532"/>
                  <a:pt x="11418" y="8493"/>
                  <a:pt x="11448" y="8457"/>
                </a:cubicBezTo>
                <a:cubicBezTo>
                  <a:pt x="11483" y="8415"/>
                  <a:pt x="11519" y="8365"/>
                  <a:pt x="11548" y="8319"/>
                </a:cubicBezTo>
                <a:cubicBezTo>
                  <a:pt x="11572" y="8280"/>
                  <a:pt x="11587" y="8235"/>
                  <a:pt x="11605" y="8194"/>
                </a:cubicBezTo>
                <a:cubicBezTo>
                  <a:pt x="11611" y="8179"/>
                  <a:pt x="11625" y="8160"/>
                  <a:pt x="11619" y="8143"/>
                </a:cubicBezTo>
                <a:cubicBezTo>
                  <a:pt x="11614" y="8143"/>
                  <a:pt x="11613" y="8143"/>
                  <a:pt x="11610" y="8143"/>
                </a:cubicBezTo>
              </a:path>
              <a:path w="6493" h="5335">
                <a:moveTo>
                  <a:pt x="11505" y="11656"/>
                </a:moveTo>
                <a:cubicBezTo>
                  <a:pt x="11505" y="11648"/>
                  <a:pt x="11505" y="11641"/>
                  <a:pt x="11505" y="11633"/>
                </a:cubicBezTo>
                <a:cubicBezTo>
                  <a:pt x="11505" y="11749"/>
                  <a:pt x="11495" y="11864"/>
                  <a:pt x="11491" y="11980"/>
                </a:cubicBezTo>
                <a:cubicBezTo>
                  <a:pt x="11488" y="12086"/>
                  <a:pt x="11483" y="12198"/>
                  <a:pt x="11496" y="12303"/>
                </a:cubicBezTo>
                <a:cubicBezTo>
                  <a:pt x="11500" y="12338"/>
                  <a:pt x="11501" y="12370"/>
                  <a:pt x="11501" y="12405"/>
                </a:cubicBezTo>
                <a:cubicBezTo>
                  <a:pt x="11501" y="12433"/>
                  <a:pt x="11501" y="12460"/>
                  <a:pt x="11501" y="12488"/>
                </a:cubicBezTo>
              </a:path>
              <a:path w="6493" h="5335">
                <a:moveTo>
                  <a:pt x="11330" y="12368"/>
                </a:moveTo>
                <a:cubicBezTo>
                  <a:pt x="11309" y="12371"/>
                  <a:pt x="11298" y="12365"/>
                  <a:pt x="11297" y="12391"/>
                </a:cubicBezTo>
                <a:cubicBezTo>
                  <a:pt x="11296" y="12418"/>
                  <a:pt x="11310" y="12449"/>
                  <a:pt x="11320" y="12474"/>
                </a:cubicBezTo>
                <a:cubicBezTo>
                  <a:pt x="11340" y="12524"/>
                  <a:pt x="11361" y="12573"/>
                  <a:pt x="11382" y="12622"/>
                </a:cubicBezTo>
                <a:cubicBezTo>
                  <a:pt x="11405" y="12675"/>
                  <a:pt x="11422" y="12730"/>
                  <a:pt x="11444" y="12784"/>
                </a:cubicBezTo>
                <a:cubicBezTo>
                  <a:pt x="11457" y="12816"/>
                  <a:pt x="11470" y="12853"/>
                  <a:pt x="11496" y="12876"/>
                </a:cubicBezTo>
                <a:cubicBezTo>
                  <a:pt x="11507" y="12886"/>
                  <a:pt x="11522" y="12901"/>
                  <a:pt x="11539" y="12895"/>
                </a:cubicBezTo>
                <a:cubicBezTo>
                  <a:pt x="11556" y="12889"/>
                  <a:pt x="11583" y="12844"/>
                  <a:pt x="11591" y="12830"/>
                </a:cubicBezTo>
                <a:cubicBezTo>
                  <a:pt x="11614" y="12790"/>
                  <a:pt x="11635" y="12750"/>
                  <a:pt x="11657" y="12710"/>
                </a:cubicBezTo>
                <a:cubicBezTo>
                  <a:pt x="11681" y="12667"/>
                  <a:pt x="11699" y="12623"/>
                  <a:pt x="11714" y="12576"/>
                </a:cubicBezTo>
                <a:cubicBezTo>
                  <a:pt x="11724" y="12544"/>
                  <a:pt x="11736" y="12513"/>
                  <a:pt x="11747" y="12483"/>
                </a:cubicBezTo>
                <a:cubicBezTo>
                  <a:pt x="11751" y="12473"/>
                  <a:pt x="11749" y="12470"/>
                  <a:pt x="11752" y="12460"/>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661000" y="1957320"/>
            <a:ext cx="447840" cy="246240"/>
          </a:xfrm>
          <a:custGeom>
            <a:avLst/>
            <a:gdLst/>
            <a:ahLst/>
            <a:rect l="l" t="t" r="r" b="b"/>
            <a:pathLst>
              <a:path w="1244" h="685">
                <a:moveTo>
                  <a:pt x="15022" y="6109"/>
                </a:moveTo>
                <a:cubicBezTo>
                  <a:pt x="15006" y="6109"/>
                  <a:pt x="14983" y="6106"/>
                  <a:pt x="14974" y="6105"/>
                </a:cubicBezTo>
                <a:cubicBezTo>
                  <a:pt x="15140" y="6105"/>
                  <a:pt x="15306" y="6103"/>
                  <a:pt x="15472" y="6096"/>
                </a:cubicBezTo>
                <a:cubicBezTo>
                  <a:pt x="15588" y="6091"/>
                  <a:pt x="15708" y="6065"/>
                  <a:pt x="15824" y="6077"/>
                </a:cubicBezTo>
                <a:cubicBezTo>
                  <a:pt x="15872" y="6082"/>
                  <a:pt x="15918" y="6101"/>
                  <a:pt x="15966" y="6105"/>
                </a:cubicBezTo>
                <a:cubicBezTo>
                  <a:pt x="15993" y="6107"/>
                  <a:pt x="16048" y="6094"/>
                  <a:pt x="16070" y="6109"/>
                </a:cubicBezTo>
                <a:cubicBezTo>
                  <a:pt x="16070" y="6114"/>
                  <a:pt x="16070" y="6118"/>
                  <a:pt x="16070" y="6123"/>
                </a:cubicBezTo>
              </a:path>
              <a:path w="1244" h="685">
                <a:moveTo>
                  <a:pt x="15933" y="5892"/>
                </a:moveTo>
                <a:cubicBezTo>
                  <a:pt x="15941" y="5885"/>
                  <a:pt x="15922" y="5878"/>
                  <a:pt x="15942" y="5874"/>
                </a:cubicBezTo>
                <a:cubicBezTo>
                  <a:pt x="15983" y="5866"/>
                  <a:pt x="16028" y="5875"/>
                  <a:pt x="16066" y="5888"/>
                </a:cubicBezTo>
                <a:cubicBezTo>
                  <a:pt x="16104" y="5901"/>
                  <a:pt x="16132" y="5924"/>
                  <a:pt x="16161" y="5952"/>
                </a:cubicBezTo>
                <a:cubicBezTo>
                  <a:pt x="16187" y="5977"/>
                  <a:pt x="16213" y="6018"/>
                  <a:pt x="16217" y="6054"/>
                </a:cubicBezTo>
                <a:cubicBezTo>
                  <a:pt x="16224" y="6124"/>
                  <a:pt x="16206" y="6176"/>
                  <a:pt x="16179" y="6239"/>
                </a:cubicBezTo>
                <a:cubicBezTo>
                  <a:pt x="16154" y="6299"/>
                  <a:pt x="16121" y="6358"/>
                  <a:pt x="16080" y="6410"/>
                </a:cubicBezTo>
                <a:cubicBezTo>
                  <a:pt x="16048" y="6451"/>
                  <a:pt x="16018" y="6491"/>
                  <a:pt x="15990" y="6535"/>
                </a:cubicBezTo>
                <a:cubicBezTo>
                  <a:pt x="15985" y="6543"/>
                  <a:pt x="15980" y="6550"/>
                  <a:pt x="15975" y="655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127320" y="2844720"/>
            <a:ext cx="2530440" cy="1230480"/>
          </a:xfrm>
          <a:custGeom>
            <a:avLst/>
            <a:gdLst/>
            <a:ahLst/>
            <a:rect l="l" t="t" r="r" b="b"/>
            <a:pathLst>
              <a:path w="7027" h="3416">
                <a:moveTo>
                  <a:pt x="7943" y="8339"/>
                </a:moveTo>
                <a:cubicBezTo>
                  <a:pt x="7956" y="8339"/>
                  <a:pt x="7958" y="8339"/>
                  <a:pt x="7971" y="8339"/>
                </a:cubicBezTo>
                <a:cubicBezTo>
                  <a:pt x="8188" y="8339"/>
                  <a:pt x="8371" y="8387"/>
                  <a:pt x="8583" y="8422"/>
                </a:cubicBezTo>
                <a:cubicBezTo>
                  <a:pt x="8919" y="8477"/>
                  <a:pt x="9268" y="8458"/>
                  <a:pt x="9608" y="8473"/>
                </a:cubicBezTo>
                <a:cubicBezTo>
                  <a:pt x="9981" y="8490"/>
                  <a:pt x="10353" y="8497"/>
                  <a:pt x="10727" y="8505"/>
                </a:cubicBezTo>
                <a:cubicBezTo>
                  <a:pt x="11420" y="8519"/>
                  <a:pt x="12106" y="8593"/>
                  <a:pt x="12800" y="8588"/>
                </a:cubicBezTo>
                <a:cubicBezTo>
                  <a:pt x="13399" y="8583"/>
                  <a:pt x="13996" y="8538"/>
                  <a:pt x="14594" y="8528"/>
                </a:cubicBezTo>
                <a:cubicBezTo>
                  <a:pt x="14730" y="8526"/>
                  <a:pt x="14838" y="8548"/>
                  <a:pt x="14959" y="8570"/>
                </a:cubicBezTo>
                <a:cubicBezTo>
                  <a:pt x="14934" y="8660"/>
                  <a:pt x="14901" y="8764"/>
                  <a:pt x="14874" y="8861"/>
                </a:cubicBezTo>
                <a:cubicBezTo>
                  <a:pt x="14843" y="8970"/>
                  <a:pt x="14823" y="9083"/>
                  <a:pt x="14802" y="9194"/>
                </a:cubicBezTo>
                <a:cubicBezTo>
                  <a:pt x="14663" y="9936"/>
                  <a:pt x="14632" y="10657"/>
                  <a:pt x="14665" y="11407"/>
                </a:cubicBezTo>
                <a:cubicBezTo>
                  <a:pt x="14669" y="11488"/>
                  <a:pt x="14664" y="11573"/>
                  <a:pt x="14665" y="11652"/>
                </a:cubicBezTo>
                <a:cubicBezTo>
                  <a:pt x="14590" y="11654"/>
                  <a:pt x="14509" y="11656"/>
                  <a:pt x="14432" y="11657"/>
                </a:cubicBezTo>
                <a:cubicBezTo>
                  <a:pt x="14037" y="11663"/>
                  <a:pt x="13645" y="11704"/>
                  <a:pt x="13251" y="11731"/>
                </a:cubicBezTo>
                <a:cubicBezTo>
                  <a:pt x="12911" y="11755"/>
                  <a:pt x="12567" y="11753"/>
                  <a:pt x="12226" y="11754"/>
                </a:cubicBezTo>
                <a:cubicBezTo>
                  <a:pt x="11734" y="11756"/>
                  <a:pt x="11241" y="11701"/>
                  <a:pt x="10751" y="11661"/>
                </a:cubicBezTo>
                <a:cubicBezTo>
                  <a:pt x="10277" y="11623"/>
                  <a:pt x="9808" y="11607"/>
                  <a:pt x="9333" y="11592"/>
                </a:cubicBezTo>
                <a:cubicBezTo>
                  <a:pt x="9025" y="11582"/>
                  <a:pt x="8721" y="11564"/>
                  <a:pt x="8412" y="11564"/>
                </a:cubicBezTo>
                <a:cubicBezTo>
                  <a:pt x="8285" y="11564"/>
                  <a:pt x="8139" y="11569"/>
                  <a:pt x="8023" y="1157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103560" y="2841480"/>
            <a:ext cx="34920" cy="1260720"/>
          </a:xfrm>
          <a:custGeom>
            <a:avLst/>
            <a:gdLst/>
            <a:ahLst/>
            <a:rect l="l" t="t" r="r" b="b"/>
            <a:pathLst>
              <a:path w="96" h="3504">
                <a:moveTo>
                  <a:pt x="7871" y="8329"/>
                </a:moveTo>
                <a:cubicBezTo>
                  <a:pt x="7871" y="8586"/>
                  <a:pt x="7886" y="8841"/>
                  <a:pt x="7900" y="9097"/>
                </a:cubicBezTo>
                <a:cubicBezTo>
                  <a:pt x="7909" y="9268"/>
                  <a:pt x="7918" y="9439"/>
                  <a:pt x="7924" y="9610"/>
                </a:cubicBezTo>
                <a:cubicBezTo>
                  <a:pt x="7931" y="9804"/>
                  <a:pt x="7941" y="9998"/>
                  <a:pt x="7947" y="10192"/>
                </a:cubicBezTo>
                <a:cubicBezTo>
                  <a:pt x="7953" y="10374"/>
                  <a:pt x="7965" y="10555"/>
                  <a:pt x="7966" y="10737"/>
                </a:cubicBezTo>
                <a:cubicBezTo>
                  <a:pt x="7967" y="10968"/>
                  <a:pt x="7970" y="11199"/>
                  <a:pt x="7957" y="11430"/>
                </a:cubicBezTo>
                <a:cubicBezTo>
                  <a:pt x="7950" y="11564"/>
                  <a:pt x="7931" y="11697"/>
                  <a:pt x="7928" y="1183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102120" y="1357200"/>
            <a:ext cx="2628720" cy="1201680"/>
          </a:xfrm>
          <a:custGeom>
            <a:avLst/>
            <a:gdLst/>
            <a:ahLst/>
            <a:rect l="l" t="t" r="r" b="b"/>
            <a:pathLst>
              <a:path w="7302" h="3338">
                <a:moveTo>
                  <a:pt x="8075" y="4581"/>
                </a:moveTo>
                <a:cubicBezTo>
                  <a:pt x="8075" y="4594"/>
                  <a:pt x="8071" y="4592"/>
                  <a:pt x="8071" y="4605"/>
                </a:cubicBezTo>
                <a:cubicBezTo>
                  <a:pt x="8068" y="4699"/>
                  <a:pt x="8066" y="4792"/>
                  <a:pt x="8066" y="4886"/>
                </a:cubicBezTo>
                <a:cubicBezTo>
                  <a:pt x="8063" y="5513"/>
                  <a:pt x="8077" y="6129"/>
                  <a:pt x="8014" y="6753"/>
                </a:cubicBezTo>
                <a:cubicBezTo>
                  <a:pt x="8014" y="6755"/>
                  <a:pt x="8014" y="6756"/>
                  <a:pt x="8014" y="6758"/>
                </a:cubicBezTo>
                <a:cubicBezTo>
                  <a:pt x="8025" y="6581"/>
                  <a:pt x="8037" y="6404"/>
                  <a:pt x="8042" y="6227"/>
                </a:cubicBezTo>
                <a:cubicBezTo>
                  <a:pt x="8054" y="5815"/>
                  <a:pt x="7878" y="4906"/>
                  <a:pt x="8090" y="4558"/>
                </a:cubicBezTo>
                <a:cubicBezTo>
                  <a:pt x="8184" y="4404"/>
                  <a:pt x="8513" y="4405"/>
                  <a:pt x="8664" y="4383"/>
                </a:cubicBezTo>
                <a:cubicBezTo>
                  <a:pt x="9976" y="4191"/>
                  <a:pt x="11250" y="4210"/>
                  <a:pt x="12568" y="4313"/>
                </a:cubicBezTo>
                <a:cubicBezTo>
                  <a:pt x="13194" y="4362"/>
                  <a:pt x="14488" y="4239"/>
                  <a:pt x="15035" y="4600"/>
                </a:cubicBezTo>
                <a:cubicBezTo>
                  <a:pt x="15161" y="4683"/>
                  <a:pt x="15173" y="4808"/>
                  <a:pt x="15168" y="4951"/>
                </a:cubicBezTo>
                <a:cubicBezTo>
                  <a:pt x="15160" y="5186"/>
                  <a:pt x="15067" y="5438"/>
                  <a:pt x="15016" y="5667"/>
                </a:cubicBezTo>
                <a:cubicBezTo>
                  <a:pt x="14906" y="6158"/>
                  <a:pt x="14967" y="6965"/>
                  <a:pt x="14750" y="7405"/>
                </a:cubicBezTo>
                <a:cubicBezTo>
                  <a:pt x="14722" y="7461"/>
                  <a:pt x="14724" y="7481"/>
                  <a:pt x="14670" y="7516"/>
                </a:cubicBezTo>
                <a:cubicBezTo>
                  <a:pt x="14603" y="7560"/>
                  <a:pt x="14506" y="7513"/>
                  <a:pt x="14437" y="7511"/>
                </a:cubicBezTo>
                <a:cubicBezTo>
                  <a:pt x="13777" y="7494"/>
                  <a:pt x="13124" y="7534"/>
                  <a:pt x="12464" y="7534"/>
                </a:cubicBezTo>
                <a:cubicBezTo>
                  <a:pt x="11448" y="7534"/>
                  <a:pt x="10431" y="7567"/>
                  <a:pt x="9418" y="7465"/>
                </a:cubicBezTo>
                <a:cubicBezTo>
                  <a:pt x="9139" y="7437"/>
                  <a:pt x="8102" y="7447"/>
                  <a:pt x="7895" y="7197"/>
                </a:cubicBezTo>
                <a:cubicBezTo>
                  <a:pt x="7881" y="7181"/>
                  <a:pt x="7882" y="7172"/>
                  <a:pt x="7871" y="7151"/>
                </a:cubicBezTo>
                <a:cubicBezTo>
                  <a:pt x="7825" y="7063"/>
                  <a:pt x="7869" y="6827"/>
                  <a:pt x="7867" y="672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670200" y="1693800"/>
            <a:ext cx="981000" cy="376200"/>
          </a:xfrm>
          <a:custGeom>
            <a:avLst/>
            <a:gdLst/>
            <a:ahLst/>
            <a:rect l="l" t="t" r="r" b="b"/>
            <a:pathLst>
              <a:path w="2725" h="1046">
                <a:moveTo>
                  <a:pt x="10324" y="5162"/>
                </a:moveTo>
                <a:cubicBezTo>
                  <a:pt x="10313" y="5160"/>
                  <a:pt x="10305" y="5160"/>
                  <a:pt x="10295" y="5157"/>
                </a:cubicBezTo>
                <a:cubicBezTo>
                  <a:pt x="10277" y="5151"/>
                  <a:pt x="10262" y="5145"/>
                  <a:pt x="10243" y="5143"/>
                </a:cubicBezTo>
                <a:cubicBezTo>
                  <a:pt x="10159" y="5136"/>
                  <a:pt x="10053" y="5132"/>
                  <a:pt x="9973" y="5157"/>
                </a:cubicBezTo>
                <a:cubicBezTo>
                  <a:pt x="9913" y="5176"/>
                  <a:pt x="9854" y="5202"/>
                  <a:pt x="9802" y="5236"/>
                </a:cubicBezTo>
                <a:cubicBezTo>
                  <a:pt x="9758" y="5265"/>
                  <a:pt x="9715" y="5301"/>
                  <a:pt x="9678" y="5338"/>
                </a:cubicBezTo>
                <a:cubicBezTo>
                  <a:pt x="9635" y="5381"/>
                  <a:pt x="9598" y="5430"/>
                  <a:pt x="9565" y="5481"/>
                </a:cubicBezTo>
                <a:cubicBezTo>
                  <a:pt x="9528" y="5537"/>
                  <a:pt x="9499" y="5602"/>
                  <a:pt x="9479" y="5666"/>
                </a:cubicBezTo>
                <a:cubicBezTo>
                  <a:pt x="9459" y="5730"/>
                  <a:pt x="9447" y="5797"/>
                  <a:pt x="9446" y="5864"/>
                </a:cubicBezTo>
                <a:cubicBezTo>
                  <a:pt x="9445" y="5926"/>
                  <a:pt x="9454" y="5976"/>
                  <a:pt x="9484" y="6031"/>
                </a:cubicBezTo>
                <a:cubicBezTo>
                  <a:pt x="9515" y="6088"/>
                  <a:pt x="9582" y="6133"/>
                  <a:pt x="9645" y="6146"/>
                </a:cubicBezTo>
                <a:cubicBezTo>
                  <a:pt x="9709" y="6159"/>
                  <a:pt x="9785" y="6154"/>
                  <a:pt x="9849" y="6146"/>
                </a:cubicBezTo>
                <a:cubicBezTo>
                  <a:pt x="9921" y="6137"/>
                  <a:pt x="9990" y="6120"/>
                  <a:pt x="10058" y="6096"/>
                </a:cubicBezTo>
                <a:cubicBezTo>
                  <a:pt x="10124" y="6072"/>
                  <a:pt x="10191" y="6036"/>
                  <a:pt x="10243" y="5989"/>
                </a:cubicBezTo>
                <a:cubicBezTo>
                  <a:pt x="10286" y="5950"/>
                  <a:pt x="10317" y="5912"/>
                  <a:pt x="10343" y="5860"/>
                </a:cubicBezTo>
                <a:cubicBezTo>
                  <a:pt x="10352" y="5841"/>
                  <a:pt x="10356" y="5825"/>
                  <a:pt x="10357" y="5804"/>
                </a:cubicBezTo>
                <a:cubicBezTo>
                  <a:pt x="10358" y="5789"/>
                  <a:pt x="10352" y="5776"/>
                  <a:pt x="10343" y="5767"/>
                </a:cubicBezTo>
                <a:cubicBezTo>
                  <a:pt x="10329" y="5753"/>
                  <a:pt x="10307" y="5749"/>
                  <a:pt x="10291" y="5744"/>
                </a:cubicBezTo>
                <a:cubicBezTo>
                  <a:pt x="10274" y="5739"/>
                  <a:pt x="10252" y="5735"/>
                  <a:pt x="10234" y="5730"/>
                </a:cubicBezTo>
                <a:cubicBezTo>
                  <a:pt x="10220" y="5726"/>
                  <a:pt x="10204" y="5725"/>
                  <a:pt x="10191" y="5721"/>
                </a:cubicBezTo>
                <a:cubicBezTo>
                  <a:pt x="10189" y="5720"/>
                  <a:pt x="10188" y="5718"/>
                  <a:pt x="10186" y="5717"/>
                </a:cubicBezTo>
                <a:cubicBezTo>
                  <a:pt x="10252" y="5717"/>
                  <a:pt x="10361" y="5703"/>
                  <a:pt x="10400" y="5772"/>
                </a:cubicBezTo>
                <a:cubicBezTo>
                  <a:pt x="10412" y="5794"/>
                  <a:pt x="10411" y="5826"/>
                  <a:pt x="10409" y="5851"/>
                </a:cubicBezTo>
                <a:cubicBezTo>
                  <a:pt x="10405" y="5890"/>
                  <a:pt x="10386" y="5927"/>
                  <a:pt x="10381" y="5966"/>
                </a:cubicBezTo>
                <a:cubicBezTo>
                  <a:pt x="10379" y="5978"/>
                  <a:pt x="10372" y="6083"/>
                  <a:pt x="10390" y="6086"/>
                </a:cubicBezTo>
                <a:cubicBezTo>
                  <a:pt x="10414" y="6090"/>
                  <a:pt x="10383" y="6177"/>
                  <a:pt x="10404" y="6063"/>
                </a:cubicBezTo>
                <a:cubicBezTo>
                  <a:pt x="10404" y="6058"/>
                  <a:pt x="10404" y="6054"/>
                  <a:pt x="10404" y="6049"/>
                </a:cubicBezTo>
              </a:path>
              <a:path w="2725" h="1046">
                <a:moveTo>
                  <a:pt x="10898" y="5277"/>
                </a:moveTo>
                <a:cubicBezTo>
                  <a:pt x="10895" y="5283"/>
                  <a:pt x="10892" y="5289"/>
                  <a:pt x="10888" y="5296"/>
                </a:cubicBezTo>
                <a:cubicBezTo>
                  <a:pt x="10879" y="5314"/>
                  <a:pt x="10872" y="5327"/>
                  <a:pt x="10865" y="5347"/>
                </a:cubicBezTo>
                <a:cubicBezTo>
                  <a:pt x="10853" y="5384"/>
                  <a:pt x="10844" y="5424"/>
                  <a:pt x="10836" y="5462"/>
                </a:cubicBezTo>
                <a:cubicBezTo>
                  <a:pt x="10822" y="5530"/>
                  <a:pt x="10818" y="5597"/>
                  <a:pt x="10817" y="5666"/>
                </a:cubicBezTo>
                <a:cubicBezTo>
                  <a:pt x="10816" y="5738"/>
                  <a:pt x="10828" y="5804"/>
                  <a:pt x="10860" y="5869"/>
                </a:cubicBezTo>
                <a:cubicBezTo>
                  <a:pt x="10888" y="5925"/>
                  <a:pt x="10935" y="5965"/>
                  <a:pt x="10993" y="5989"/>
                </a:cubicBezTo>
                <a:cubicBezTo>
                  <a:pt x="11063" y="6018"/>
                  <a:pt x="11145" y="6007"/>
                  <a:pt x="11216" y="5985"/>
                </a:cubicBezTo>
                <a:cubicBezTo>
                  <a:pt x="11306" y="5957"/>
                  <a:pt x="11377" y="5881"/>
                  <a:pt x="11434" y="5809"/>
                </a:cubicBezTo>
                <a:cubicBezTo>
                  <a:pt x="11524" y="5696"/>
                  <a:pt x="11591" y="5560"/>
                  <a:pt x="11638" y="5425"/>
                </a:cubicBezTo>
                <a:cubicBezTo>
                  <a:pt x="11650" y="5391"/>
                  <a:pt x="11651" y="5353"/>
                  <a:pt x="11657" y="5319"/>
                </a:cubicBezTo>
                <a:cubicBezTo>
                  <a:pt x="11657" y="5317"/>
                  <a:pt x="11657" y="5316"/>
                  <a:pt x="11657" y="5314"/>
                </a:cubicBezTo>
              </a:path>
              <a:path w="2725" h="1046">
                <a:moveTo>
                  <a:pt x="12165" y="5310"/>
                </a:moveTo>
                <a:cubicBezTo>
                  <a:pt x="12167" y="5317"/>
                  <a:pt x="12170" y="5332"/>
                  <a:pt x="12170" y="5347"/>
                </a:cubicBezTo>
                <a:cubicBezTo>
                  <a:pt x="12170" y="5441"/>
                  <a:pt x="12171" y="5535"/>
                  <a:pt x="12165" y="5629"/>
                </a:cubicBezTo>
                <a:cubicBezTo>
                  <a:pt x="12159" y="5729"/>
                  <a:pt x="12165" y="5829"/>
                  <a:pt x="12165" y="5929"/>
                </a:cubicBezTo>
                <a:cubicBezTo>
                  <a:pt x="12165" y="6015"/>
                  <a:pt x="12165" y="6102"/>
                  <a:pt x="12165" y="618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102120" y="4511520"/>
            <a:ext cx="31680" cy="1065240"/>
          </a:xfrm>
          <a:custGeom>
            <a:avLst/>
            <a:gdLst/>
            <a:ahLst/>
            <a:rect l="l" t="t" r="r" b="b"/>
            <a:pathLst>
              <a:path w="91" h="2959">
                <a:moveTo>
                  <a:pt x="7956" y="12996"/>
                </a:moveTo>
                <a:cubicBezTo>
                  <a:pt x="7955" y="12986"/>
                  <a:pt x="7953" y="12981"/>
                  <a:pt x="7951" y="12973"/>
                </a:cubicBezTo>
                <a:cubicBezTo>
                  <a:pt x="7948" y="12976"/>
                  <a:pt x="7927" y="12963"/>
                  <a:pt x="7918" y="12978"/>
                </a:cubicBezTo>
                <a:cubicBezTo>
                  <a:pt x="7898" y="13011"/>
                  <a:pt x="7898" y="13067"/>
                  <a:pt x="7894" y="13103"/>
                </a:cubicBezTo>
                <a:cubicBezTo>
                  <a:pt x="7868" y="13329"/>
                  <a:pt x="7889" y="13560"/>
                  <a:pt x="7880" y="13787"/>
                </a:cubicBezTo>
                <a:cubicBezTo>
                  <a:pt x="7866" y="14136"/>
                  <a:pt x="7877" y="14487"/>
                  <a:pt x="7870" y="14836"/>
                </a:cubicBezTo>
                <a:cubicBezTo>
                  <a:pt x="7867" y="14963"/>
                  <a:pt x="7869" y="15088"/>
                  <a:pt x="7870" y="15215"/>
                </a:cubicBezTo>
                <a:cubicBezTo>
                  <a:pt x="7871" y="15452"/>
                  <a:pt x="7870" y="15690"/>
                  <a:pt x="7870" y="1592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929200" y="1479600"/>
            <a:ext cx="208080" cy="4354560"/>
          </a:xfrm>
          <a:custGeom>
            <a:avLst/>
            <a:gdLst/>
            <a:ahLst/>
            <a:rect l="l" t="t" r="r" b="b"/>
            <a:pathLst>
              <a:path w="580" h="12097">
                <a:moveTo>
                  <a:pt x="16232" y="4547"/>
                </a:moveTo>
                <a:cubicBezTo>
                  <a:pt x="16222" y="4656"/>
                  <a:pt x="16207" y="4762"/>
                  <a:pt x="16208" y="4875"/>
                </a:cubicBezTo>
                <a:cubicBezTo>
                  <a:pt x="16216" y="5695"/>
                  <a:pt x="16320" y="6498"/>
                  <a:pt x="16270" y="7320"/>
                </a:cubicBezTo>
                <a:cubicBezTo>
                  <a:pt x="16229" y="7995"/>
                  <a:pt x="16224" y="8671"/>
                  <a:pt x="16175" y="9345"/>
                </a:cubicBezTo>
                <a:cubicBezTo>
                  <a:pt x="16091" y="10517"/>
                  <a:pt x="15989" y="11687"/>
                  <a:pt x="15890" y="12858"/>
                </a:cubicBezTo>
                <a:cubicBezTo>
                  <a:pt x="15798" y="13946"/>
                  <a:pt x="15766" y="15027"/>
                  <a:pt x="15729" y="16116"/>
                </a:cubicBezTo>
                <a:cubicBezTo>
                  <a:pt x="15723" y="16299"/>
                  <a:pt x="15731" y="16464"/>
                  <a:pt x="15748" y="1664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921280" y="1370160"/>
            <a:ext cx="1063800" cy="4529160"/>
          </a:xfrm>
          <a:custGeom>
            <a:avLst/>
            <a:gdLst/>
            <a:ahLst/>
            <a:rect l="l" t="t" r="r" b="b"/>
            <a:pathLst>
              <a:path w="2953" h="12583">
                <a:moveTo>
                  <a:pt x="16312" y="4242"/>
                </a:moveTo>
                <a:cubicBezTo>
                  <a:pt x="16383" y="4270"/>
                  <a:pt x="16452" y="4345"/>
                  <a:pt x="16569" y="4362"/>
                </a:cubicBezTo>
                <a:cubicBezTo>
                  <a:pt x="17045" y="4431"/>
                  <a:pt x="17538" y="4340"/>
                  <a:pt x="18016" y="4418"/>
                </a:cubicBezTo>
                <a:cubicBezTo>
                  <a:pt x="18118" y="4435"/>
                  <a:pt x="18209" y="4466"/>
                  <a:pt x="18305" y="4492"/>
                </a:cubicBezTo>
                <a:cubicBezTo>
                  <a:pt x="18318" y="4495"/>
                  <a:pt x="18324" y="4526"/>
                  <a:pt x="18362" y="4533"/>
                </a:cubicBezTo>
                <a:cubicBezTo>
                  <a:pt x="18438" y="4547"/>
                  <a:pt x="18512" y="4537"/>
                  <a:pt x="18585" y="4547"/>
                </a:cubicBezTo>
                <a:cubicBezTo>
                  <a:pt x="18587" y="4547"/>
                  <a:pt x="18588" y="4547"/>
                  <a:pt x="18590" y="4547"/>
                </a:cubicBezTo>
                <a:cubicBezTo>
                  <a:pt x="18601" y="4912"/>
                  <a:pt x="18593" y="5278"/>
                  <a:pt x="18604" y="5643"/>
                </a:cubicBezTo>
                <a:cubicBezTo>
                  <a:pt x="18629" y="6465"/>
                  <a:pt x="18652" y="7283"/>
                  <a:pt x="18652" y="8106"/>
                </a:cubicBezTo>
                <a:cubicBezTo>
                  <a:pt x="18652" y="9295"/>
                  <a:pt x="18586" y="10487"/>
                  <a:pt x="18547" y="11675"/>
                </a:cubicBezTo>
                <a:cubicBezTo>
                  <a:pt x="18530" y="12196"/>
                  <a:pt x="18531" y="12717"/>
                  <a:pt x="18514" y="13237"/>
                </a:cubicBezTo>
                <a:cubicBezTo>
                  <a:pt x="18486" y="14102"/>
                  <a:pt x="18387" y="14954"/>
                  <a:pt x="18396" y="15821"/>
                </a:cubicBezTo>
                <a:cubicBezTo>
                  <a:pt x="18398" y="16066"/>
                  <a:pt x="18413" y="16317"/>
                  <a:pt x="18424" y="16556"/>
                </a:cubicBezTo>
                <a:cubicBezTo>
                  <a:pt x="18389" y="16557"/>
                  <a:pt x="18352" y="16549"/>
                  <a:pt x="18310" y="16551"/>
                </a:cubicBezTo>
                <a:cubicBezTo>
                  <a:pt x="17842" y="16574"/>
                  <a:pt x="17398" y="16710"/>
                  <a:pt x="16934" y="16768"/>
                </a:cubicBezTo>
                <a:cubicBezTo>
                  <a:pt x="16523" y="16819"/>
                  <a:pt x="16113" y="16818"/>
                  <a:pt x="15700" y="16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2843280" y="1887480"/>
            <a:ext cx="280800" cy="201600"/>
          </a:xfrm>
          <a:custGeom>
            <a:avLst/>
            <a:gdLst/>
            <a:ahLst/>
            <a:rect l="l" t="t" r="r" b="b"/>
            <a:pathLst>
              <a:path w="779" h="560">
                <a:moveTo>
                  <a:pt x="7287" y="5966"/>
                </a:moveTo>
                <a:cubicBezTo>
                  <a:pt x="7306" y="5966"/>
                  <a:pt x="7306" y="5966"/>
                  <a:pt x="7325" y="5966"/>
                </a:cubicBezTo>
                <a:cubicBezTo>
                  <a:pt x="7382" y="5966"/>
                  <a:pt x="7439" y="5965"/>
                  <a:pt x="7496" y="5971"/>
                </a:cubicBezTo>
                <a:cubicBezTo>
                  <a:pt x="7552" y="5977"/>
                  <a:pt x="7606" y="5980"/>
                  <a:pt x="7662" y="5980"/>
                </a:cubicBezTo>
                <a:cubicBezTo>
                  <a:pt x="7723" y="5980"/>
                  <a:pt x="7782" y="5975"/>
                  <a:pt x="7842" y="5961"/>
                </a:cubicBezTo>
                <a:cubicBezTo>
                  <a:pt x="7872" y="5954"/>
                  <a:pt x="7896" y="5949"/>
                  <a:pt x="7927" y="5948"/>
                </a:cubicBezTo>
              </a:path>
              <a:path w="779" h="560">
                <a:moveTo>
                  <a:pt x="7538" y="5680"/>
                </a:moveTo>
                <a:cubicBezTo>
                  <a:pt x="7529" y="5687"/>
                  <a:pt x="7520" y="5698"/>
                  <a:pt x="7510" y="5703"/>
                </a:cubicBezTo>
                <a:cubicBezTo>
                  <a:pt x="7491" y="5713"/>
                  <a:pt x="7480" y="5727"/>
                  <a:pt x="7462" y="5735"/>
                </a:cubicBezTo>
                <a:cubicBezTo>
                  <a:pt x="7433" y="5748"/>
                  <a:pt x="7408" y="5758"/>
                  <a:pt x="7382" y="5777"/>
                </a:cubicBezTo>
                <a:cubicBezTo>
                  <a:pt x="7341" y="5807"/>
                  <a:pt x="7306" y="5842"/>
                  <a:pt x="7268" y="5874"/>
                </a:cubicBezTo>
                <a:cubicBezTo>
                  <a:pt x="7237" y="5900"/>
                  <a:pt x="7208" y="5922"/>
                  <a:pt x="7187" y="5957"/>
                </a:cubicBezTo>
                <a:cubicBezTo>
                  <a:pt x="7177" y="5974"/>
                  <a:pt x="7156" y="5994"/>
                  <a:pt x="7149" y="6012"/>
                </a:cubicBezTo>
                <a:cubicBezTo>
                  <a:pt x="7142" y="6031"/>
                  <a:pt x="7152" y="6054"/>
                  <a:pt x="7163" y="6068"/>
                </a:cubicBezTo>
                <a:cubicBezTo>
                  <a:pt x="7182" y="6092"/>
                  <a:pt x="7210" y="6121"/>
                  <a:pt x="7235" y="6137"/>
                </a:cubicBezTo>
                <a:cubicBezTo>
                  <a:pt x="7275" y="6163"/>
                  <a:pt x="7322" y="6174"/>
                  <a:pt x="7363" y="6197"/>
                </a:cubicBezTo>
                <a:cubicBezTo>
                  <a:pt x="7395" y="6214"/>
                  <a:pt x="7424" y="6225"/>
                  <a:pt x="7458" y="623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735280" y="3446640"/>
            <a:ext cx="361800" cy="236520"/>
          </a:xfrm>
          <a:custGeom>
            <a:avLst/>
            <a:gdLst/>
            <a:ahLst/>
            <a:rect l="l" t="t" r="r" b="b"/>
            <a:pathLst>
              <a:path w="1002" h="657">
                <a:moveTo>
                  <a:pt x="7851" y="10302"/>
                </a:moveTo>
                <a:cubicBezTo>
                  <a:pt x="7825" y="10302"/>
                  <a:pt x="7801" y="10302"/>
                  <a:pt x="7776" y="10297"/>
                </a:cubicBezTo>
                <a:cubicBezTo>
                  <a:pt x="7734" y="10289"/>
                  <a:pt x="7695" y="10288"/>
                  <a:pt x="7652" y="10288"/>
                </a:cubicBezTo>
                <a:cubicBezTo>
                  <a:pt x="7514" y="10288"/>
                  <a:pt x="7157" y="10199"/>
                  <a:pt x="7258" y="10292"/>
                </a:cubicBezTo>
              </a:path>
              <a:path w="1002" h="657">
                <a:moveTo>
                  <a:pt x="7273" y="10011"/>
                </a:moveTo>
                <a:cubicBezTo>
                  <a:pt x="7267" y="10022"/>
                  <a:pt x="7268" y="10024"/>
                  <a:pt x="7258" y="10034"/>
                </a:cubicBezTo>
                <a:cubicBezTo>
                  <a:pt x="7236" y="10056"/>
                  <a:pt x="7217" y="10080"/>
                  <a:pt x="7192" y="10098"/>
                </a:cubicBezTo>
                <a:cubicBezTo>
                  <a:pt x="7152" y="10127"/>
                  <a:pt x="7109" y="10155"/>
                  <a:pt x="7068" y="10182"/>
                </a:cubicBezTo>
                <a:cubicBezTo>
                  <a:pt x="7021" y="10213"/>
                  <a:pt x="6977" y="10244"/>
                  <a:pt x="6936" y="10283"/>
                </a:cubicBezTo>
                <a:cubicBezTo>
                  <a:pt x="6904" y="10313"/>
                  <a:pt x="6871" y="10342"/>
                  <a:pt x="6855" y="10385"/>
                </a:cubicBezTo>
                <a:cubicBezTo>
                  <a:pt x="6846" y="10408"/>
                  <a:pt x="6844" y="10458"/>
                  <a:pt x="6850" y="10482"/>
                </a:cubicBezTo>
                <a:cubicBezTo>
                  <a:pt x="6859" y="10517"/>
                  <a:pt x="6909" y="10544"/>
                  <a:pt x="6936" y="10561"/>
                </a:cubicBezTo>
                <a:cubicBezTo>
                  <a:pt x="6999" y="10601"/>
                  <a:pt x="7071" y="10612"/>
                  <a:pt x="7140" y="10639"/>
                </a:cubicBezTo>
                <a:cubicBezTo>
                  <a:pt x="7160" y="10648"/>
                  <a:pt x="7181" y="10658"/>
                  <a:pt x="7201" y="1066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685960" y="4967280"/>
            <a:ext cx="378000" cy="276120"/>
          </a:xfrm>
          <a:custGeom>
            <a:avLst/>
            <a:gdLst/>
            <a:ahLst/>
            <a:rect l="l" t="t" r="r" b="b"/>
            <a:pathLst>
              <a:path w="1049" h="768">
                <a:moveTo>
                  <a:pt x="7761" y="14651"/>
                </a:moveTo>
                <a:cubicBezTo>
                  <a:pt x="7746" y="14649"/>
                  <a:pt x="7739" y="14647"/>
                  <a:pt x="7723" y="14642"/>
                </a:cubicBezTo>
                <a:cubicBezTo>
                  <a:pt x="7695" y="14633"/>
                  <a:pt x="7672" y="14633"/>
                  <a:pt x="7643" y="14633"/>
                </a:cubicBezTo>
                <a:cubicBezTo>
                  <a:pt x="7455" y="14633"/>
                  <a:pt x="7201" y="14633"/>
                  <a:pt x="7050" y="14633"/>
                </a:cubicBezTo>
              </a:path>
              <a:path w="1049" h="768">
                <a:moveTo>
                  <a:pt x="7106" y="14235"/>
                </a:moveTo>
                <a:cubicBezTo>
                  <a:pt x="7102" y="14256"/>
                  <a:pt x="7106" y="14264"/>
                  <a:pt x="7087" y="14281"/>
                </a:cubicBezTo>
                <a:cubicBezTo>
                  <a:pt x="7060" y="14307"/>
                  <a:pt x="7029" y="14329"/>
                  <a:pt x="7002" y="14355"/>
                </a:cubicBezTo>
                <a:cubicBezTo>
                  <a:pt x="6948" y="14408"/>
                  <a:pt x="6894" y="14460"/>
                  <a:pt x="6845" y="14517"/>
                </a:cubicBezTo>
                <a:cubicBezTo>
                  <a:pt x="6808" y="14561"/>
                  <a:pt x="6780" y="14601"/>
                  <a:pt x="6751" y="14651"/>
                </a:cubicBezTo>
                <a:cubicBezTo>
                  <a:pt x="6727" y="14693"/>
                  <a:pt x="6715" y="14732"/>
                  <a:pt x="6713" y="14781"/>
                </a:cubicBezTo>
                <a:cubicBezTo>
                  <a:pt x="6711" y="14826"/>
                  <a:pt x="6718" y="14858"/>
                  <a:pt x="6755" y="14887"/>
                </a:cubicBezTo>
                <a:cubicBezTo>
                  <a:pt x="6818" y="14936"/>
                  <a:pt x="6893" y="14957"/>
                  <a:pt x="6969" y="14975"/>
                </a:cubicBezTo>
                <a:cubicBezTo>
                  <a:pt x="7044" y="14990"/>
                  <a:pt x="7073" y="14995"/>
                  <a:pt x="7125" y="1500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2176560" y="1681200"/>
            <a:ext cx="365040" cy="3876480"/>
          </a:xfrm>
          <a:custGeom>
            <a:avLst/>
            <a:gdLst/>
            <a:ahLst/>
            <a:rect l="l" t="t" r="r" b="b"/>
            <a:pathLst>
              <a:path w="1016" h="10771">
                <a:moveTo>
                  <a:pt x="6100" y="5324"/>
                </a:moveTo>
                <a:cubicBezTo>
                  <a:pt x="6100" y="5409"/>
                  <a:pt x="6150" y="5741"/>
                  <a:pt x="6096" y="5786"/>
                </a:cubicBezTo>
                <a:cubicBezTo>
                  <a:pt x="6091" y="5781"/>
                  <a:pt x="6089" y="5778"/>
                  <a:pt x="6091" y="5772"/>
                </a:cubicBezTo>
              </a:path>
              <a:path w="1016" h="10771">
                <a:moveTo>
                  <a:pt x="5384" y="5684"/>
                </a:moveTo>
                <a:cubicBezTo>
                  <a:pt x="5355" y="5671"/>
                  <a:pt x="5340" y="5673"/>
                  <a:pt x="5317" y="5643"/>
                </a:cubicBezTo>
                <a:cubicBezTo>
                  <a:pt x="5292" y="5611"/>
                  <a:pt x="5285" y="5551"/>
                  <a:pt x="5298" y="5513"/>
                </a:cubicBezTo>
                <a:cubicBezTo>
                  <a:pt x="5331" y="5419"/>
                  <a:pt x="5429" y="5342"/>
                  <a:pt x="5503" y="5282"/>
                </a:cubicBezTo>
                <a:cubicBezTo>
                  <a:pt x="5611" y="5194"/>
                  <a:pt x="5732" y="5120"/>
                  <a:pt x="5873" y="5106"/>
                </a:cubicBezTo>
                <a:cubicBezTo>
                  <a:pt x="5985" y="5094"/>
                  <a:pt x="6100" y="5116"/>
                  <a:pt x="6191" y="5185"/>
                </a:cubicBezTo>
                <a:cubicBezTo>
                  <a:pt x="6268" y="5243"/>
                  <a:pt x="6302" y="5332"/>
                  <a:pt x="6309" y="5425"/>
                </a:cubicBezTo>
                <a:cubicBezTo>
                  <a:pt x="6317" y="5528"/>
                  <a:pt x="6289" y="5644"/>
                  <a:pt x="6252" y="5740"/>
                </a:cubicBezTo>
                <a:cubicBezTo>
                  <a:pt x="6212" y="5843"/>
                  <a:pt x="6145" y="5945"/>
                  <a:pt x="6034" y="5975"/>
                </a:cubicBezTo>
                <a:cubicBezTo>
                  <a:pt x="5977" y="5990"/>
                  <a:pt x="5925" y="5984"/>
                  <a:pt x="5868" y="5980"/>
                </a:cubicBezTo>
              </a:path>
              <a:path w="1016" h="10771">
                <a:moveTo>
                  <a:pt x="6048" y="6627"/>
                </a:moveTo>
                <a:cubicBezTo>
                  <a:pt x="6031" y="6641"/>
                  <a:pt x="6028" y="6657"/>
                  <a:pt x="6010" y="6683"/>
                </a:cubicBezTo>
                <a:cubicBezTo>
                  <a:pt x="5972" y="6740"/>
                  <a:pt x="5947" y="6802"/>
                  <a:pt x="5915" y="6863"/>
                </a:cubicBezTo>
                <a:cubicBezTo>
                  <a:pt x="5870" y="6947"/>
                  <a:pt x="5827" y="7032"/>
                  <a:pt x="5783" y="7117"/>
                </a:cubicBezTo>
                <a:cubicBezTo>
                  <a:pt x="5757" y="7167"/>
                  <a:pt x="5734" y="7225"/>
                  <a:pt x="5692" y="7265"/>
                </a:cubicBezTo>
                <a:cubicBezTo>
                  <a:pt x="5685" y="7272"/>
                  <a:pt x="5684" y="7275"/>
                  <a:pt x="5678" y="7274"/>
                </a:cubicBezTo>
                <a:cubicBezTo>
                  <a:pt x="5681" y="7232"/>
                  <a:pt x="5688" y="7200"/>
                  <a:pt x="5702" y="7159"/>
                </a:cubicBezTo>
                <a:cubicBezTo>
                  <a:pt x="5730" y="7080"/>
                  <a:pt x="5776" y="7005"/>
                  <a:pt x="5811" y="6928"/>
                </a:cubicBezTo>
                <a:cubicBezTo>
                  <a:pt x="5853" y="6837"/>
                  <a:pt x="5890" y="6746"/>
                  <a:pt x="5920" y="6650"/>
                </a:cubicBezTo>
                <a:cubicBezTo>
                  <a:pt x="5933" y="6609"/>
                  <a:pt x="5943" y="6569"/>
                  <a:pt x="5958" y="6530"/>
                </a:cubicBezTo>
                <a:cubicBezTo>
                  <a:pt x="5969" y="6559"/>
                  <a:pt x="5973" y="6589"/>
                  <a:pt x="5977" y="6622"/>
                </a:cubicBezTo>
                <a:cubicBezTo>
                  <a:pt x="5986" y="6706"/>
                  <a:pt x="6001" y="6791"/>
                  <a:pt x="6020" y="6872"/>
                </a:cubicBezTo>
                <a:cubicBezTo>
                  <a:pt x="6043" y="6971"/>
                  <a:pt x="6070" y="7070"/>
                  <a:pt x="6096" y="7168"/>
                </a:cubicBezTo>
                <a:cubicBezTo>
                  <a:pt x="6110" y="7219"/>
                  <a:pt x="6123" y="7272"/>
                  <a:pt x="6143" y="7320"/>
                </a:cubicBezTo>
                <a:cubicBezTo>
                  <a:pt x="6151" y="7331"/>
                  <a:pt x="6154" y="7331"/>
                  <a:pt x="6153" y="7339"/>
                </a:cubicBezTo>
                <a:cubicBezTo>
                  <a:pt x="6137" y="7321"/>
                  <a:pt x="6118" y="7303"/>
                  <a:pt x="6096" y="7288"/>
                </a:cubicBezTo>
                <a:cubicBezTo>
                  <a:pt x="6049" y="7256"/>
                  <a:pt x="6000" y="7236"/>
                  <a:pt x="5949" y="7214"/>
                </a:cubicBezTo>
                <a:cubicBezTo>
                  <a:pt x="5921" y="7201"/>
                  <a:pt x="5913" y="7196"/>
                  <a:pt x="5892" y="7196"/>
                </a:cubicBezTo>
              </a:path>
              <a:path w="1016" h="10771">
                <a:moveTo>
                  <a:pt x="5574" y="7963"/>
                </a:moveTo>
                <a:cubicBezTo>
                  <a:pt x="5534" y="7963"/>
                  <a:pt x="5576" y="7962"/>
                  <a:pt x="5593" y="7958"/>
                </a:cubicBezTo>
                <a:cubicBezTo>
                  <a:pt x="5664" y="7942"/>
                  <a:pt x="5732" y="7909"/>
                  <a:pt x="5801" y="7884"/>
                </a:cubicBezTo>
                <a:cubicBezTo>
                  <a:pt x="5878" y="7856"/>
                  <a:pt x="5954" y="7835"/>
                  <a:pt x="6034" y="7815"/>
                </a:cubicBezTo>
              </a:path>
              <a:path w="1016" h="10771">
                <a:moveTo>
                  <a:pt x="5844" y="8171"/>
                </a:moveTo>
                <a:cubicBezTo>
                  <a:pt x="5844" y="8195"/>
                  <a:pt x="5832" y="8212"/>
                  <a:pt x="5830" y="8236"/>
                </a:cubicBezTo>
                <a:cubicBezTo>
                  <a:pt x="5824" y="8302"/>
                  <a:pt x="5830" y="8372"/>
                  <a:pt x="5830" y="8439"/>
                </a:cubicBezTo>
              </a:path>
              <a:path w="1016" h="10771">
                <a:moveTo>
                  <a:pt x="5915" y="8943"/>
                </a:moveTo>
                <a:cubicBezTo>
                  <a:pt x="5911" y="8950"/>
                  <a:pt x="5897" y="8972"/>
                  <a:pt x="5892" y="8984"/>
                </a:cubicBezTo>
                <a:cubicBezTo>
                  <a:pt x="5867" y="9042"/>
                  <a:pt x="5855" y="9109"/>
                  <a:pt x="5835" y="9169"/>
                </a:cubicBezTo>
                <a:cubicBezTo>
                  <a:pt x="5804" y="9263"/>
                  <a:pt x="5774" y="9358"/>
                  <a:pt x="5740" y="9451"/>
                </a:cubicBezTo>
                <a:cubicBezTo>
                  <a:pt x="5712" y="9527"/>
                  <a:pt x="5675" y="9601"/>
                  <a:pt x="5650" y="9678"/>
                </a:cubicBezTo>
                <a:cubicBezTo>
                  <a:pt x="5638" y="9714"/>
                  <a:pt x="5631" y="9748"/>
                  <a:pt x="5607" y="9779"/>
                </a:cubicBezTo>
                <a:cubicBezTo>
                  <a:pt x="5605" y="9779"/>
                  <a:pt x="5604" y="9779"/>
                  <a:pt x="5602" y="9779"/>
                </a:cubicBezTo>
                <a:cubicBezTo>
                  <a:pt x="5603" y="9743"/>
                  <a:pt x="5607" y="9717"/>
                  <a:pt x="5621" y="9682"/>
                </a:cubicBezTo>
                <a:cubicBezTo>
                  <a:pt x="5657" y="9589"/>
                  <a:pt x="5695" y="9496"/>
                  <a:pt x="5721" y="9400"/>
                </a:cubicBezTo>
                <a:cubicBezTo>
                  <a:pt x="5753" y="9281"/>
                  <a:pt x="5773" y="9158"/>
                  <a:pt x="5806" y="9040"/>
                </a:cubicBezTo>
                <a:cubicBezTo>
                  <a:pt x="5818" y="8997"/>
                  <a:pt x="5834" y="8949"/>
                  <a:pt x="5849" y="8910"/>
                </a:cubicBezTo>
                <a:cubicBezTo>
                  <a:pt x="5871" y="8949"/>
                  <a:pt x="5887" y="8988"/>
                  <a:pt x="5901" y="9031"/>
                </a:cubicBezTo>
                <a:cubicBezTo>
                  <a:pt x="5932" y="9128"/>
                  <a:pt x="5976" y="9220"/>
                  <a:pt x="6010" y="9317"/>
                </a:cubicBezTo>
                <a:cubicBezTo>
                  <a:pt x="6043" y="9411"/>
                  <a:pt x="6080" y="9504"/>
                  <a:pt x="6110" y="9599"/>
                </a:cubicBezTo>
                <a:cubicBezTo>
                  <a:pt x="6128" y="9654"/>
                  <a:pt x="6152" y="9712"/>
                  <a:pt x="6157" y="9770"/>
                </a:cubicBezTo>
                <a:cubicBezTo>
                  <a:pt x="6157" y="9786"/>
                  <a:pt x="6157" y="9789"/>
                  <a:pt x="6157" y="9798"/>
                </a:cubicBezTo>
                <a:cubicBezTo>
                  <a:pt x="6140" y="9786"/>
                  <a:pt x="6119" y="9768"/>
                  <a:pt x="6100" y="9756"/>
                </a:cubicBezTo>
                <a:cubicBezTo>
                  <a:pt x="6048" y="9721"/>
                  <a:pt x="5999" y="9688"/>
                  <a:pt x="5939" y="9668"/>
                </a:cubicBezTo>
                <a:cubicBezTo>
                  <a:pt x="5906" y="9658"/>
                  <a:pt x="5877" y="9653"/>
                  <a:pt x="5844" y="9650"/>
                </a:cubicBezTo>
              </a:path>
              <a:path w="1016" h="10771">
                <a:moveTo>
                  <a:pt x="5493" y="10376"/>
                </a:moveTo>
                <a:cubicBezTo>
                  <a:pt x="5493" y="10363"/>
                  <a:pt x="5489" y="10351"/>
                  <a:pt x="5503" y="10343"/>
                </a:cubicBezTo>
                <a:cubicBezTo>
                  <a:pt x="5538" y="10322"/>
                  <a:pt x="5591" y="10313"/>
                  <a:pt x="5631" y="10311"/>
                </a:cubicBezTo>
                <a:cubicBezTo>
                  <a:pt x="5749" y="10304"/>
                  <a:pt x="5869" y="10311"/>
                  <a:pt x="5987" y="10311"/>
                </a:cubicBezTo>
              </a:path>
              <a:path w="1016" h="10771">
                <a:moveTo>
                  <a:pt x="5801" y="10732"/>
                </a:moveTo>
                <a:cubicBezTo>
                  <a:pt x="5780" y="10764"/>
                  <a:pt x="5773" y="10804"/>
                  <a:pt x="5768" y="10843"/>
                </a:cubicBezTo>
                <a:cubicBezTo>
                  <a:pt x="5760" y="10904"/>
                  <a:pt x="5764" y="10966"/>
                  <a:pt x="5764" y="11027"/>
                </a:cubicBezTo>
              </a:path>
              <a:path w="1016" h="10771">
                <a:moveTo>
                  <a:pt x="5436" y="11564"/>
                </a:moveTo>
                <a:cubicBezTo>
                  <a:pt x="5447" y="11572"/>
                  <a:pt x="5452" y="11571"/>
                  <a:pt x="5460" y="11582"/>
                </a:cubicBezTo>
                <a:cubicBezTo>
                  <a:pt x="5487" y="11618"/>
                  <a:pt x="5502" y="11660"/>
                  <a:pt x="5517" y="11702"/>
                </a:cubicBezTo>
                <a:cubicBezTo>
                  <a:pt x="5539" y="11767"/>
                  <a:pt x="5562" y="11831"/>
                  <a:pt x="5583" y="11896"/>
                </a:cubicBezTo>
                <a:cubicBezTo>
                  <a:pt x="5599" y="11947"/>
                  <a:pt x="5619" y="12016"/>
                  <a:pt x="5654" y="12058"/>
                </a:cubicBezTo>
                <a:cubicBezTo>
                  <a:pt x="5682" y="12091"/>
                  <a:pt x="5729" y="12096"/>
                  <a:pt x="5764" y="12072"/>
                </a:cubicBezTo>
                <a:cubicBezTo>
                  <a:pt x="5832" y="12026"/>
                  <a:pt x="5862" y="11919"/>
                  <a:pt x="5896" y="11850"/>
                </a:cubicBezTo>
                <a:cubicBezTo>
                  <a:pt x="5955" y="11729"/>
                  <a:pt x="6002" y="11599"/>
                  <a:pt x="6072" y="11485"/>
                </a:cubicBezTo>
              </a:path>
              <a:path w="1016" h="10771">
                <a:moveTo>
                  <a:pt x="5716" y="12308"/>
                </a:moveTo>
                <a:cubicBezTo>
                  <a:pt x="5719" y="12323"/>
                  <a:pt x="5725" y="12329"/>
                  <a:pt x="5726" y="12345"/>
                </a:cubicBezTo>
                <a:cubicBezTo>
                  <a:pt x="5731" y="12421"/>
                  <a:pt x="5696" y="12549"/>
                  <a:pt x="5730" y="12617"/>
                </a:cubicBezTo>
                <a:cubicBezTo>
                  <a:pt x="5735" y="12622"/>
                  <a:pt x="5740" y="12626"/>
                  <a:pt x="5745" y="12631"/>
                </a:cubicBezTo>
              </a:path>
              <a:path w="1016" h="10771">
                <a:moveTo>
                  <a:pt x="5588" y="13343"/>
                </a:moveTo>
                <a:cubicBezTo>
                  <a:pt x="5589" y="13364"/>
                  <a:pt x="5589" y="13382"/>
                  <a:pt x="5593" y="13403"/>
                </a:cubicBezTo>
                <a:cubicBezTo>
                  <a:pt x="5600" y="13446"/>
                  <a:pt x="5597" y="13490"/>
                  <a:pt x="5597" y="13533"/>
                </a:cubicBezTo>
                <a:cubicBezTo>
                  <a:pt x="5597" y="13575"/>
                  <a:pt x="5611" y="13646"/>
                  <a:pt x="5593" y="13685"/>
                </a:cubicBezTo>
                <a:cubicBezTo>
                  <a:pt x="5578" y="13719"/>
                  <a:pt x="5572" y="13711"/>
                  <a:pt x="5545" y="13722"/>
                </a:cubicBezTo>
                <a:cubicBezTo>
                  <a:pt x="5520" y="13697"/>
                  <a:pt x="5497" y="13653"/>
                  <a:pt x="5493" y="13616"/>
                </a:cubicBezTo>
                <a:cubicBezTo>
                  <a:pt x="5483" y="13526"/>
                  <a:pt x="5494" y="13428"/>
                  <a:pt x="5526" y="13343"/>
                </a:cubicBezTo>
                <a:cubicBezTo>
                  <a:pt x="5555" y="13265"/>
                  <a:pt x="5622" y="13179"/>
                  <a:pt x="5697" y="13140"/>
                </a:cubicBezTo>
                <a:cubicBezTo>
                  <a:pt x="5757" y="13109"/>
                  <a:pt x="5831" y="13092"/>
                  <a:pt x="5892" y="13126"/>
                </a:cubicBezTo>
                <a:cubicBezTo>
                  <a:pt x="5938" y="13151"/>
                  <a:pt x="5960" y="13202"/>
                  <a:pt x="5968" y="13251"/>
                </a:cubicBezTo>
                <a:cubicBezTo>
                  <a:pt x="5975" y="13292"/>
                  <a:pt x="5978" y="13348"/>
                  <a:pt x="5953" y="13385"/>
                </a:cubicBezTo>
                <a:cubicBezTo>
                  <a:pt x="5926" y="13425"/>
                  <a:pt x="5871" y="13425"/>
                  <a:pt x="5830" y="13426"/>
                </a:cubicBezTo>
                <a:cubicBezTo>
                  <a:pt x="5817" y="13426"/>
                  <a:pt x="5805" y="13426"/>
                  <a:pt x="5792" y="13426"/>
                </a:cubicBezTo>
              </a:path>
              <a:path w="1016" h="10771">
                <a:moveTo>
                  <a:pt x="5593" y="14083"/>
                </a:moveTo>
                <a:cubicBezTo>
                  <a:pt x="5575" y="14093"/>
                  <a:pt x="5570" y="14095"/>
                  <a:pt x="5569" y="14120"/>
                </a:cubicBezTo>
                <a:cubicBezTo>
                  <a:pt x="5567" y="14158"/>
                  <a:pt x="5573" y="14197"/>
                  <a:pt x="5574" y="14235"/>
                </a:cubicBezTo>
                <a:cubicBezTo>
                  <a:pt x="5575" y="14314"/>
                  <a:pt x="5581" y="14398"/>
                  <a:pt x="5569" y="14476"/>
                </a:cubicBezTo>
                <a:cubicBezTo>
                  <a:pt x="5563" y="14516"/>
                  <a:pt x="5556" y="14560"/>
                  <a:pt x="5545" y="14600"/>
                </a:cubicBezTo>
                <a:cubicBezTo>
                  <a:pt x="5543" y="14605"/>
                  <a:pt x="5542" y="14609"/>
                  <a:pt x="5540" y="14614"/>
                </a:cubicBezTo>
              </a:path>
              <a:path w="1016" h="10771">
                <a:moveTo>
                  <a:pt x="5526" y="14134"/>
                </a:moveTo>
                <a:cubicBezTo>
                  <a:pt x="5543" y="14110"/>
                  <a:pt x="5559" y="14094"/>
                  <a:pt x="5588" y="14078"/>
                </a:cubicBezTo>
                <a:cubicBezTo>
                  <a:pt x="5644" y="14047"/>
                  <a:pt x="5712" y="14036"/>
                  <a:pt x="5773" y="14018"/>
                </a:cubicBezTo>
              </a:path>
              <a:path w="1016" h="10771">
                <a:moveTo>
                  <a:pt x="5602" y="14448"/>
                </a:moveTo>
                <a:cubicBezTo>
                  <a:pt x="5641" y="14434"/>
                  <a:pt x="5676" y="14420"/>
                  <a:pt x="5716" y="14411"/>
                </a:cubicBezTo>
                <a:cubicBezTo>
                  <a:pt x="5762" y="14402"/>
                  <a:pt x="5776" y="14400"/>
                  <a:pt x="5806" y="14397"/>
                </a:cubicBezTo>
              </a:path>
              <a:path w="1016" h="10771">
                <a:moveTo>
                  <a:pt x="5484" y="14831"/>
                </a:moveTo>
                <a:cubicBezTo>
                  <a:pt x="5526" y="14820"/>
                  <a:pt x="5569" y="14808"/>
                  <a:pt x="5612" y="14799"/>
                </a:cubicBezTo>
                <a:cubicBezTo>
                  <a:pt x="5672" y="14789"/>
                  <a:pt x="5694" y="14786"/>
                  <a:pt x="5735" y="14776"/>
                </a:cubicBezTo>
              </a:path>
              <a:path w="1016" h="10771">
                <a:moveTo>
                  <a:pt x="5754" y="15201"/>
                </a:moveTo>
                <a:cubicBezTo>
                  <a:pt x="5681" y="15246"/>
                  <a:pt x="5619" y="15307"/>
                  <a:pt x="5564" y="15372"/>
                </a:cubicBezTo>
                <a:cubicBezTo>
                  <a:pt x="5539" y="15402"/>
                  <a:pt x="5523" y="15421"/>
                  <a:pt x="5507" y="15455"/>
                </a:cubicBezTo>
                <a:cubicBezTo>
                  <a:pt x="5532" y="15485"/>
                  <a:pt x="5548" y="15489"/>
                  <a:pt x="5593" y="15506"/>
                </a:cubicBezTo>
                <a:cubicBezTo>
                  <a:pt x="5658" y="15531"/>
                  <a:pt x="5731" y="15549"/>
                  <a:pt x="5783" y="15599"/>
                </a:cubicBezTo>
                <a:cubicBezTo>
                  <a:pt x="5832" y="15645"/>
                  <a:pt x="5863" y="15693"/>
                  <a:pt x="5868" y="15761"/>
                </a:cubicBezTo>
                <a:cubicBezTo>
                  <a:pt x="5873" y="15826"/>
                  <a:pt x="5835" y="15856"/>
                  <a:pt x="5773" y="15871"/>
                </a:cubicBezTo>
                <a:cubicBezTo>
                  <a:pt x="5695" y="15890"/>
                  <a:pt x="5621" y="15870"/>
                  <a:pt x="5550" y="15839"/>
                </a:cubicBezTo>
                <a:cubicBezTo>
                  <a:pt x="5534" y="15831"/>
                  <a:pt x="5519" y="15824"/>
                  <a:pt x="5503" y="158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570640" y="3448080"/>
            <a:ext cx="412560" cy="249120"/>
          </a:xfrm>
          <a:custGeom>
            <a:avLst/>
            <a:gdLst/>
            <a:ahLst/>
            <a:rect l="l" t="t" r="r" b="b"/>
            <a:pathLst>
              <a:path w="1149" h="694">
                <a:moveTo>
                  <a:pt x="14723" y="10260"/>
                </a:moveTo>
                <a:cubicBezTo>
                  <a:pt x="14863" y="10260"/>
                  <a:pt x="15001" y="10259"/>
                  <a:pt x="15140" y="10274"/>
                </a:cubicBezTo>
                <a:cubicBezTo>
                  <a:pt x="15213" y="10282"/>
                  <a:pt x="15286" y="10285"/>
                  <a:pt x="15359" y="10292"/>
                </a:cubicBezTo>
                <a:cubicBezTo>
                  <a:pt x="15410" y="10297"/>
                  <a:pt x="15459" y="10297"/>
                  <a:pt x="15510" y="10297"/>
                </a:cubicBezTo>
                <a:cubicBezTo>
                  <a:pt x="15529" y="10297"/>
                  <a:pt x="15533" y="10297"/>
                  <a:pt x="15544" y="10297"/>
                </a:cubicBezTo>
              </a:path>
              <a:path w="1149" h="694">
                <a:moveTo>
                  <a:pt x="15321" y="10015"/>
                </a:moveTo>
                <a:cubicBezTo>
                  <a:pt x="15339" y="10027"/>
                  <a:pt x="15355" y="10031"/>
                  <a:pt x="15382" y="10038"/>
                </a:cubicBezTo>
                <a:cubicBezTo>
                  <a:pt x="15445" y="10054"/>
                  <a:pt x="15509" y="10063"/>
                  <a:pt x="15572" y="10080"/>
                </a:cubicBezTo>
                <a:cubicBezTo>
                  <a:pt x="15650" y="10101"/>
                  <a:pt x="15711" y="10130"/>
                  <a:pt x="15776" y="10177"/>
                </a:cubicBezTo>
                <a:cubicBezTo>
                  <a:pt x="15811" y="10202"/>
                  <a:pt x="15849" y="10240"/>
                  <a:pt x="15862" y="10283"/>
                </a:cubicBezTo>
                <a:cubicBezTo>
                  <a:pt x="15878" y="10334"/>
                  <a:pt x="15870" y="10393"/>
                  <a:pt x="15866" y="10445"/>
                </a:cubicBezTo>
                <a:cubicBezTo>
                  <a:pt x="15861" y="10508"/>
                  <a:pt x="15831" y="10567"/>
                  <a:pt x="15790" y="10616"/>
                </a:cubicBezTo>
                <a:cubicBezTo>
                  <a:pt x="15759" y="10653"/>
                  <a:pt x="15717" y="10678"/>
                  <a:pt x="15681" y="1070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553000" y="4989600"/>
            <a:ext cx="409680" cy="279360"/>
          </a:xfrm>
          <a:custGeom>
            <a:avLst/>
            <a:gdLst/>
            <a:ahLst/>
            <a:rect l="l" t="t" r="r" b="b"/>
            <a:pathLst>
              <a:path w="1140" h="778">
                <a:moveTo>
                  <a:pt x="14723" y="14443"/>
                </a:moveTo>
                <a:cubicBezTo>
                  <a:pt x="14710" y="14450"/>
                  <a:pt x="14698" y="14458"/>
                  <a:pt x="14685" y="14466"/>
                </a:cubicBezTo>
                <a:cubicBezTo>
                  <a:pt x="14680" y="14471"/>
                  <a:pt x="14680" y="14472"/>
                  <a:pt x="14675" y="14471"/>
                </a:cubicBezTo>
                <a:cubicBezTo>
                  <a:pt x="14686" y="14479"/>
                  <a:pt x="14684" y="14481"/>
                  <a:pt x="14704" y="14485"/>
                </a:cubicBezTo>
                <a:cubicBezTo>
                  <a:pt x="14743" y="14492"/>
                  <a:pt x="14787" y="14492"/>
                  <a:pt x="14827" y="14494"/>
                </a:cubicBezTo>
                <a:cubicBezTo>
                  <a:pt x="14893" y="14497"/>
                  <a:pt x="14960" y="14497"/>
                  <a:pt x="15026" y="14499"/>
                </a:cubicBezTo>
                <a:cubicBezTo>
                  <a:pt x="15102" y="14501"/>
                  <a:pt x="15178" y="14502"/>
                  <a:pt x="15254" y="14503"/>
                </a:cubicBezTo>
                <a:cubicBezTo>
                  <a:pt x="15308" y="14503"/>
                  <a:pt x="15357" y="14504"/>
                  <a:pt x="15411" y="14513"/>
                </a:cubicBezTo>
              </a:path>
              <a:path w="1140" h="778">
                <a:moveTo>
                  <a:pt x="15434" y="14295"/>
                </a:moveTo>
                <a:cubicBezTo>
                  <a:pt x="15456" y="14295"/>
                  <a:pt x="15460" y="14293"/>
                  <a:pt x="15482" y="14295"/>
                </a:cubicBezTo>
                <a:cubicBezTo>
                  <a:pt x="15542" y="14300"/>
                  <a:pt x="15605" y="14319"/>
                  <a:pt x="15662" y="14337"/>
                </a:cubicBezTo>
                <a:cubicBezTo>
                  <a:pt x="15726" y="14358"/>
                  <a:pt x="15778" y="14378"/>
                  <a:pt x="15805" y="14443"/>
                </a:cubicBezTo>
                <a:cubicBezTo>
                  <a:pt x="15823" y="14485"/>
                  <a:pt x="15821" y="14562"/>
                  <a:pt x="15809" y="14605"/>
                </a:cubicBezTo>
                <a:cubicBezTo>
                  <a:pt x="15783" y="14699"/>
                  <a:pt x="15707" y="14776"/>
                  <a:pt x="15639" y="14841"/>
                </a:cubicBezTo>
                <a:cubicBezTo>
                  <a:pt x="15570" y="14907"/>
                  <a:pt x="15492" y="14966"/>
                  <a:pt x="15415" y="15021"/>
                </a:cubicBezTo>
                <a:cubicBezTo>
                  <a:pt x="15388" y="15040"/>
                  <a:pt x="15360" y="15052"/>
                  <a:pt x="15335" y="1507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1965240" y="1371600"/>
            <a:ext cx="868320" cy="4573440"/>
          </a:xfrm>
          <a:custGeom>
            <a:avLst/>
            <a:gdLst/>
            <a:ahLst/>
            <a:rect l="l" t="t" r="r" b="b"/>
            <a:pathLst>
              <a:path w="2412" h="12702">
                <a:moveTo>
                  <a:pt x="5042" y="4270"/>
                </a:moveTo>
                <a:cubicBezTo>
                  <a:pt x="5022" y="4260"/>
                  <a:pt x="5004" y="4255"/>
                  <a:pt x="4985" y="4247"/>
                </a:cubicBezTo>
                <a:cubicBezTo>
                  <a:pt x="5022" y="4256"/>
                  <a:pt x="5038" y="4270"/>
                  <a:pt x="5075" y="4279"/>
                </a:cubicBezTo>
                <a:cubicBezTo>
                  <a:pt x="5402" y="4355"/>
                  <a:pt x="5737" y="4374"/>
                  <a:pt x="6072" y="4381"/>
                </a:cubicBezTo>
                <a:cubicBezTo>
                  <a:pt x="6288" y="4385"/>
                  <a:pt x="6807" y="4281"/>
                  <a:pt x="7002" y="4404"/>
                </a:cubicBezTo>
                <a:cubicBezTo>
                  <a:pt x="7108" y="4471"/>
                  <a:pt x="7054" y="4368"/>
                  <a:pt x="7106" y="4506"/>
                </a:cubicBezTo>
                <a:cubicBezTo>
                  <a:pt x="7306" y="5043"/>
                  <a:pt x="7077" y="5941"/>
                  <a:pt x="7068" y="6502"/>
                </a:cubicBezTo>
                <a:cubicBezTo>
                  <a:pt x="7052" y="7433"/>
                  <a:pt x="6945" y="8357"/>
                  <a:pt x="6926" y="9289"/>
                </a:cubicBezTo>
                <a:cubicBezTo>
                  <a:pt x="6912" y="9988"/>
                  <a:pt x="6874" y="10690"/>
                  <a:pt x="6845" y="11388"/>
                </a:cubicBezTo>
                <a:cubicBezTo>
                  <a:pt x="6786" y="12823"/>
                  <a:pt x="6753" y="14255"/>
                  <a:pt x="6751" y="15691"/>
                </a:cubicBezTo>
                <a:cubicBezTo>
                  <a:pt x="6751" y="15922"/>
                  <a:pt x="6867" y="16507"/>
                  <a:pt x="6741" y="16713"/>
                </a:cubicBezTo>
                <a:cubicBezTo>
                  <a:pt x="6686" y="16802"/>
                  <a:pt x="6720" y="16766"/>
                  <a:pt x="6622" y="16805"/>
                </a:cubicBezTo>
                <a:cubicBezTo>
                  <a:pt x="6490" y="16858"/>
                  <a:pt x="6258" y="16777"/>
                  <a:pt x="6119" y="16777"/>
                </a:cubicBezTo>
                <a:cubicBezTo>
                  <a:pt x="5933" y="16777"/>
                  <a:pt x="5744" y="16817"/>
                  <a:pt x="5559" y="16842"/>
                </a:cubicBezTo>
                <a:cubicBezTo>
                  <a:pt x="5315" y="16876"/>
                  <a:pt x="5074" y="16928"/>
                  <a:pt x="4829" y="16948"/>
                </a:cubicBezTo>
                <a:cubicBezTo>
                  <a:pt x="4801" y="16950"/>
                  <a:pt x="4727" y="16947"/>
                  <a:pt x="4715" y="1694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1954080" y="1427040"/>
            <a:ext cx="65160" cy="4560840"/>
          </a:xfrm>
          <a:custGeom>
            <a:avLst/>
            <a:gdLst/>
            <a:ahLst/>
            <a:rect l="l" t="t" r="r" b="b"/>
            <a:pathLst>
              <a:path w="181" h="12671">
                <a:moveTo>
                  <a:pt x="4857" y="4399"/>
                </a:moveTo>
                <a:cubicBezTo>
                  <a:pt x="4854" y="4437"/>
                  <a:pt x="4835" y="4476"/>
                  <a:pt x="4833" y="4519"/>
                </a:cubicBezTo>
                <a:cubicBezTo>
                  <a:pt x="4757" y="6080"/>
                  <a:pt x="4850" y="7658"/>
                  <a:pt x="4843" y="9220"/>
                </a:cubicBezTo>
                <a:cubicBezTo>
                  <a:pt x="4841" y="9773"/>
                  <a:pt x="4855" y="10324"/>
                  <a:pt x="4819" y="10875"/>
                </a:cubicBezTo>
                <a:cubicBezTo>
                  <a:pt x="4782" y="11445"/>
                  <a:pt x="4754" y="12014"/>
                  <a:pt x="4734" y="12585"/>
                </a:cubicBezTo>
                <a:cubicBezTo>
                  <a:pt x="4707" y="13364"/>
                  <a:pt x="4691" y="14145"/>
                  <a:pt x="4691" y="14924"/>
                </a:cubicBezTo>
                <a:cubicBezTo>
                  <a:pt x="4691" y="15614"/>
                  <a:pt x="4653" y="16313"/>
                  <a:pt x="4691" y="16999"/>
                </a:cubicBezTo>
                <a:cubicBezTo>
                  <a:pt x="4691" y="17033"/>
                  <a:pt x="4691" y="17046"/>
                  <a:pt x="4696" y="1706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3159000" y="4897440"/>
            <a:ext cx="1030320" cy="385920"/>
          </a:xfrm>
          <a:custGeom>
            <a:avLst/>
            <a:gdLst/>
            <a:ahLst/>
            <a:rect l="l" t="t" r="r" b="b"/>
            <a:pathLst>
              <a:path w="2862" h="1069">
                <a:moveTo>
                  <a:pt x="8430" y="14328"/>
                </a:moveTo>
                <a:cubicBezTo>
                  <a:pt x="8424" y="14341"/>
                  <a:pt x="8421" y="14352"/>
                  <a:pt x="8416" y="14365"/>
                </a:cubicBezTo>
                <a:cubicBezTo>
                  <a:pt x="8408" y="14387"/>
                  <a:pt x="8408" y="14416"/>
                  <a:pt x="8407" y="14439"/>
                </a:cubicBezTo>
                <a:cubicBezTo>
                  <a:pt x="8403" y="14514"/>
                  <a:pt x="8405" y="14590"/>
                  <a:pt x="8402" y="14665"/>
                </a:cubicBezTo>
                <a:cubicBezTo>
                  <a:pt x="8400" y="14715"/>
                  <a:pt x="8395" y="14764"/>
                  <a:pt x="8392" y="14813"/>
                </a:cubicBezTo>
                <a:cubicBezTo>
                  <a:pt x="8390" y="14839"/>
                  <a:pt x="8388" y="14866"/>
                  <a:pt x="8388" y="14892"/>
                </a:cubicBezTo>
                <a:cubicBezTo>
                  <a:pt x="8388" y="14913"/>
                  <a:pt x="8392" y="14912"/>
                  <a:pt x="8378" y="14919"/>
                </a:cubicBezTo>
                <a:cubicBezTo>
                  <a:pt x="8378" y="14918"/>
                  <a:pt x="8378" y="14916"/>
                  <a:pt x="8378" y="14915"/>
                </a:cubicBezTo>
              </a:path>
              <a:path w="2862" h="1069">
                <a:moveTo>
                  <a:pt x="8074" y="14494"/>
                </a:moveTo>
                <a:cubicBezTo>
                  <a:pt x="8065" y="14487"/>
                  <a:pt x="8040" y="14491"/>
                  <a:pt x="8032" y="14476"/>
                </a:cubicBezTo>
                <a:cubicBezTo>
                  <a:pt x="8016" y="14445"/>
                  <a:pt x="8033" y="14419"/>
                  <a:pt x="8041" y="14392"/>
                </a:cubicBezTo>
                <a:cubicBezTo>
                  <a:pt x="8061" y="14329"/>
                  <a:pt x="8116" y="14273"/>
                  <a:pt x="8165" y="14231"/>
                </a:cubicBezTo>
                <a:cubicBezTo>
                  <a:pt x="8250" y="14159"/>
                  <a:pt x="8353" y="14103"/>
                  <a:pt x="8459" y="14069"/>
                </a:cubicBezTo>
                <a:cubicBezTo>
                  <a:pt x="8576" y="14031"/>
                  <a:pt x="8710" y="14026"/>
                  <a:pt x="8824" y="14073"/>
                </a:cubicBezTo>
                <a:cubicBezTo>
                  <a:pt x="8902" y="14105"/>
                  <a:pt x="8947" y="14169"/>
                  <a:pt x="8971" y="14249"/>
                </a:cubicBezTo>
                <a:cubicBezTo>
                  <a:pt x="9002" y="14354"/>
                  <a:pt x="8980" y="14460"/>
                  <a:pt x="8952" y="14563"/>
                </a:cubicBezTo>
                <a:cubicBezTo>
                  <a:pt x="8920" y="14683"/>
                  <a:pt x="8874" y="14797"/>
                  <a:pt x="8786" y="14887"/>
                </a:cubicBezTo>
                <a:cubicBezTo>
                  <a:pt x="8707" y="14968"/>
                  <a:pt x="8591" y="15014"/>
                  <a:pt x="8483" y="15039"/>
                </a:cubicBezTo>
                <a:cubicBezTo>
                  <a:pt x="8428" y="15052"/>
                  <a:pt x="8373" y="15052"/>
                  <a:pt x="8317" y="15053"/>
                </a:cubicBezTo>
              </a:path>
              <a:path w="2862" h="1069">
                <a:moveTo>
                  <a:pt x="9389" y="14046"/>
                </a:moveTo>
                <a:cubicBezTo>
                  <a:pt x="9374" y="14065"/>
                  <a:pt x="9353" y="14085"/>
                  <a:pt x="9341" y="14106"/>
                </a:cubicBezTo>
                <a:cubicBezTo>
                  <a:pt x="9305" y="14166"/>
                  <a:pt x="9278" y="14236"/>
                  <a:pt x="9251" y="14300"/>
                </a:cubicBezTo>
                <a:cubicBezTo>
                  <a:pt x="9205" y="14408"/>
                  <a:pt x="9174" y="14523"/>
                  <a:pt x="9147" y="14637"/>
                </a:cubicBezTo>
                <a:cubicBezTo>
                  <a:pt x="9123" y="14738"/>
                  <a:pt x="9088" y="14836"/>
                  <a:pt x="9066" y="14938"/>
                </a:cubicBezTo>
                <a:cubicBezTo>
                  <a:pt x="9057" y="14980"/>
                  <a:pt x="9053" y="15020"/>
                  <a:pt x="9033" y="15058"/>
                </a:cubicBezTo>
                <a:cubicBezTo>
                  <a:pt x="9033" y="15056"/>
                  <a:pt x="9033" y="15055"/>
                  <a:pt x="9033" y="15053"/>
                </a:cubicBezTo>
                <a:cubicBezTo>
                  <a:pt x="9044" y="14948"/>
                  <a:pt x="9064" y="14845"/>
                  <a:pt x="9095" y="14744"/>
                </a:cubicBezTo>
                <a:cubicBezTo>
                  <a:pt x="9128" y="14635"/>
                  <a:pt x="9166" y="14517"/>
                  <a:pt x="9218" y="14415"/>
                </a:cubicBezTo>
                <a:cubicBezTo>
                  <a:pt x="9240" y="14371"/>
                  <a:pt x="9254" y="14355"/>
                  <a:pt x="9294" y="14337"/>
                </a:cubicBezTo>
                <a:cubicBezTo>
                  <a:pt x="9339" y="14356"/>
                  <a:pt x="9365" y="14402"/>
                  <a:pt x="9389" y="14448"/>
                </a:cubicBezTo>
                <a:cubicBezTo>
                  <a:pt x="9432" y="14530"/>
                  <a:pt x="9462" y="14619"/>
                  <a:pt x="9503" y="14702"/>
                </a:cubicBezTo>
                <a:cubicBezTo>
                  <a:pt x="9534" y="14764"/>
                  <a:pt x="9582" y="14829"/>
                  <a:pt x="9602" y="14896"/>
                </a:cubicBezTo>
                <a:cubicBezTo>
                  <a:pt x="9602" y="14899"/>
                  <a:pt x="9602" y="14902"/>
                  <a:pt x="9602" y="14905"/>
                </a:cubicBezTo>
                <a:cubicBezTo>
                  <a:pt x="9572" y="14890"/>
                  <a:pt x="9538" y="14869"/>
                  <a:pt x="9508" y="14850"/>
                </a:cubicBezTo>
                <a:cubicBezTo>
                  <a:pt x="9442" y="14808"/>
                  <a:pt x="9376" y="14770"/>
                  <a:pt x="9308" y="14730"/>
                </a:cubicBezTo>
                <a:cubicBezTo>
                  <a:pt x="9276" y="14711"/>
                  <a:pt x="9246" y="14695"/>
                  <a:pt x="9213" y="14679"/>
                </a:cubicBezTo>
              </a:path>
              <a:path w="2862" h="1069">
                <a:moveTo>
                  <a:pt x="9788" y="14244"/>
                </a:moveTo>
                <a:cubicBezTo>
                  <a:pt x="9807" y="14225"/>
                  <a:pt x="9828" y="14225"/>
                  <a:pt x="9859" y="14217"/>
                </a:cubicBezTo>
                <a:cubicBezTo>
                  <a:pt x="9939" y="14195"/>
                  <a:pt x="10018" y="14178"/>
                  <a:pt x="10101" y="14166"/>
                </a:cubicBezTo>
                <a:cubicBezTo>
                  <a:pt x="10166" y="14157"/>
                  <a:pt x="10186" y="14154"/>
                  <a:pt x="10229" y="14147"/>
                </a:cubicBezTo>
              </a:path>
              <a:path w="2862" h="1069">
                <a:moveTo>
                  <a:pt x="10063" y="14494"/>
                </a:moveTo>
                <a:cubicBezTo>
                  <a:pt x="10044" y="14538"/>
                  <a:pt x="10027" y="14589"/>
                  <a:pt x="10020" y="14637"/>
                </a:cubicBezTo>
                <a:cubicBezTo>
                  <a:pt x="10011" y="14693"/>
                  <a:pt x="10012" y="14751"/>
                  <a:pt x="10011" y="14808"/>
                </a:cubicBezTo>
              </a:path>
              <a:path w="2862" h="1069">
                <a:moveTo>
                  <a:pt x="10670" y="14309"/>
                </a:moveTo>
                <a:cubicBezTo>
                  <a:pt x="10667" y="14311"/>
                  <a:pt x="10666" y="14301"/>
                  <a:pt x="10651" y="14318"/>
                </a:cubicBezTo>
                <a:cubicBezTo>
                  <a:pt x="10584" y="14396"/>
                  <a:pt x="10556" y="14518"/>
                  <a:pt x="10518" y="14610"/>
                </a:cubicBezTo>
                <a:cubicBezTo>
                  <a:pt x="10471" y="14723"/>
                  <a:pt x="10433" y="14839"/>
                  <a:pt x="10385" y="14952"/>
                </a:cubicBezTo>
                <a:cubicBezTo>
                  <a:pt x="10362" y="15006"/>
                  <a:pt x="10336" y="15056"/>
                  <a:pt x="10314" y="15109"/>
                </a:cubicBezTo>
                <a:cubicBezTo>
                  <a:pt x="10339" y="15018"/>
                  <a:pt x="10365" y="14927"/>
                  <a:pt x="10390" y="14836"/>
                </a:cubicBezTo>
                <a:cubicBezTo>
                  <a:pt x="10431" y="14684"/>
                  <a:pt x="10470" y="14538"/>
                  <a:pt x="10528" y="14392"/>
                </a:cubicBezTo>
                <a:cubicBezTo>
                  <a:pt x="10545" y="14349"/>
                  <a:pt x="10564" y="14309"/>
                  <a:pt x="10585" y="14268"/>
                </a:cubicBezTo>
                <a:cubicBezTo>
                  <a:pt x="10626" y="14295"/>
                  <a:pt x="10629" y="14303"/>
                  <a:pt x="10646" y="14365"/>
                </a:cubicBezTo>
                <a:cubicBezTo>
                  <a:pt x="10681" y="14494"/>
                  <a:pt x="10715" y="14621"/>
                  <a:pt x="10756" y="14748"/>
                </a:cubicBezTo>
                <a:cubicBezTo>
                  <a:pt x="10781" y="14826"/>
                  <a:pt x="10809" y="14904"/>
                  <a:pt x="10851" y="14975"/>
                </a:cubicBezTo>
                <a:cubicBezTo>
                  <a:pt x="10861" y="14992"/>
                  <a:pt x="10875" y="15002"/>
                  <a:pt x="10888" y="15016"/>
                </a:cubicBezTo>
                <a:cubicBezTo>
                  <a:pt x="10856" y="14992"/>
                  <a:pt x="10822" y="14974"/>
                  <a:pt x="10784" y="14956"/>
                </a:cubicBezTo>
                <a:cubicBezTo>
                  <a:pt x="10708" y="14920"/>
                  <a:pt x="10630" y="14897"/>
                  <a:pt x="10552" y="14868"/>
                </a:cubicBezTo>
                <a:cubicBezTo>
                  <a:pt x="10528" y="14859"/>
                  <a:pt x="10520" y="14856"/>
                  <a:pt x="10509" y="1484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357800" y="4925880"/>
            <a:ext cx="588960" cy="362160"/>
          </a:xfrm>
          <a:custGeom>
            <a:avLst/>
            <a:gdLst/>
            <a:ahLst/>
            <a:rect l="l" t="t" r="r" b="b"/>
            <a:pathLst>
              <a:path w="1634" h="1005">
                <a:moveTo>
                  <a:pt x="11611" y="14198"/>
                </a:moveTo>
                <a:cubicBezTo>
                  <a:pt x="11617" y="14176"/>
                  <a:pt x="11623" y="14148"/>
                  <a:pt x="11639" y="14129"/>
                </a:cubicBezTo>
                <a:cubicBezTo>
                  <a:pt x="11647" y="14122"/>
                  <a:pt x="11647" y="14119"/>
                  <a:pt x="11654" y="14120"/>
                </a:cubicBezTo>
                <a:cubicBezTo>
                  <a:pt x="11651" y="14170"/>
                  <a:pt x="11644" y="14219"/>
                  <a:pt x="11630" y="14268"/>
                </a:cubicBezTo>
                <a:cubicBezTo>
                  <a:pt x="11593" y="14394"/>
                  <a:pt x="11549" y="14519"/>
                  <a:pt x="11502" y="14642"/>
                </a:cubicBezTo>
                <a:cubicBezTo>
                  <a:pt x="11463" y="14745"/>
                  <a:pt x="11415" y="14842"/>
                  <a:pt x="11373" y="14943"/>
                </a:cubicBezTo>
                <a:cubicBezTo>
                  <a:pt x="11361" y="14971"/>
                  <a:pt x="11361" y="14981"/>
                  <a:pt x="11355" y="15008"/>
                </a:cubicBezTo>
                <a:cubicBezTo>
                  <a:pt x="11378" y="14948"/>
                  <a:pt x="11399" y="14885"/>
                  <a:pt x="11421" y="14823"/>
                </a:cubicBezTo>
                <a:cubicBezTo>
                  <a:pt x="11465" y="14703"/>
                  <a:pt x="11505" y="14580"/>
                  <a:pt x="11554" y="14462"/>
                </a:cubicBezTo>
                <a:cubicBezTo>
                  <a:pt x="11582" y="14394"/>
                  <a:pt x="11613" y="14328"/>
                  <a:pt x="11654" y="14268"/>
                </a:cubicBezTo>
                <a:cubicBezTo>
                  <a:pt x="11657" y="14263"/>
                  <a:pt x="11660" y="14259"/>
                  <a:pt x="11663" y="14254"/>
                </a:cubicBezTo>
                <a:cubicBezTo>
                  <a:pt x="11681" y="14309"/>
                  <a:pt x="11688" y="14359"/>
                  <a:pt x="11692" y="14420"/>
                </a:cubicBezTo>
                <a:cubicBezTo>
                  <a:pt x="11699" y="14534"/>
                  <a:pt x="11704" y="14655"/>
                  <a:pt x="11725" y="14767"/>
                </a:cubicBezTo>
                <a:cubicBezTo>
                  <a:pt x="11737" y="14832"/>
                  <a:pt x="11757" y="14896"/>
                  <a:pt x="11768" y="14962"/>
                </a:cubicBezTo>
                <a:cubicBezTo>
                  <a:pt x="11771" y="14977"/>
                  <a:pt x="11773" y="14980"/>
                  <a:pt x="11772" y="14989"/>
                </a:cubicBezTo>
                <a:cubicBezTo>
                  <a:pt x="11745" y="14964"/>
                  <a:pt x="11718" y="14941"/>
                  <a:pt x="11687" y="14920"/>
                </a:cubicBezTo>
                <a:cubicBezTo>
                  <a:pt x="11635" y="14886"/>
                  <a:pt x="11584" y="14854"/>
                  <a:pt x="11525" y="14832"/>
                </a:cubicBezTo>
                <a:cubicBezTo>
                  <a:pt x="11494" y="14824"/>
                  <a:pt x="11485" y="14822"/>
                  <a:pt x="11468" y="14809"/>
                </a:cubicBezTo>
              </a:path>
              <a:path w="1634" h="1005">
                <a:moveTo>
                  <a:pt x="12503" y="14147"/>
                </a:moveTo>
                <a:cubicBezTo>
                  <a:pt x="12464" y="14151"/>
                  <a:pt x="12431" y="14157"/>
                  <a:pt x="12394" y="14175"/>
                </a:cubicBezTo>
                <a:cubicBezTo>
                  <a:pt x="12321" y="14212"/>
                  <a:pt x="12253" y="14266"/>
                  <a:pt x="12195" y="14323"/>
                </a:cubicBezTo>
                <a:cubicBezTo>
                  <a:pt x="12104" y="14412"/>
                  <a:pt x="12046" y="14509"/>
                  <a:pt x="12014" y="14633"/>
                </a:cubicBezTo>
                <a:cubicBezTo>
                  <a:pt x="11983" y="14752"/>
                  <a:pt x="11987" y="14901"/>
                  <a:pt x="12086" y="14985"/>
                </a:cubicBezTo>
                <a:cubicBezTo>
                  <a:pt x="12143" y="15033"/>
                  <a:pt x="12196" y="15036"/>
                  <a:pt x="12266" y="15045"/>
                </a:cubicBezTo>
              </a:path>
              <a:path w="1634" h="1005">
                <a:moveTo>
                  <a:pt x="12988" y="14309"/>
                </a:moveTo>
                <a:cubicBezTo>
                  <a:pt x="12982" y="14303"/>
                  <a:pt x="12972" y="14282"/>
                  <a:pt x="12964" y="14277"/>
                </a:cubicBezTo>
                <a:cubicBezTo>
                  <a:pt x="12922" y="14251"/>
                  <a:pt x="12879" y="14267"/>
                  <a:pt x="12836" y="14282"/>
                </a:cubicBezTo>
                <a:cubicBezTo>
                  <a:pt x="12741" y="14316"/>
                  <a:pt x="12663" y="14376"/>
                  <a:pt x="12594" y="14448"/>
                </a:cubicBezTo>
                <a:cubicBezTo>
                  <a:pt x="12508" y="14538"/>
                  <a:pt x="12442" y="14652"/>
                  <a:pt x="12408" y="14772"/>
                </a:cubicBezTo>
                <a:cubicBezTo>
                  <a:pt x="12383" y="14862"/>
                  <a:pt x="12362" y="14962"/>
                  <a:pt x="12413" y="15045"/>
                </a:cubicBezTo>
                <a:cubicBezTo>
                  <a:pt x="12457" y="15117"/>
                  <a:pt x="12543" y="15113"/>
                  <a:pt x="12617" y="151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3801960" y="5856120"/>
            <a:ext cx="930240" cy="295560"/>
          </a:xfrm>
          <a:custGeom>
            <a:avLst/>
            <a:gdLst/>
            <a:ahLst/>
            <a:rect l="l" t="t" r="r" b="b"/>
            <a:pathLst>
              <a:path w="2583" h="820">
                <a:moveTo>
                  <a:pt x="11562" y="16740"/>
                </a:moveTo>
                <a:cubicBezTo>
                  <a:pt x="11552" y="16738"/>
                  <a:pt x="11544" y="16738"/>
                  <a:pt x="11534" y="16736"/>
                </a:cubicBezTo>
                <a:cubicBezTo>
                  <a:pt x="11516" y="16732"/>
                  <a:pt x="11501" y="16725"/>
                  <a:pt x="11482" y="16722"/>
                </a:cubicBezTo>
                <a:cubicBezTo>
                  <a:pt x="11454" y="16718"/>
                  <a:pt x="11425" y="16717"/>
                  <a:pt x="11396" y="16713"/>
                </a:cubicBezTo>
                <a:cubicBezTo>
                  <a:pt x="11354" y="16707"/>
                  <a:pt x="11316" y="16704"/>
                  <a:pt x="11273" y="16703"/>
                </a:cubicBezTo>
                <a:cubicBezTo>
                  <a:pt x="11053" y="16699"/>
                  <a:pt x="10822" y="16687"/>
                  <a:pt x="10604" y="16717"/>
                </a:cubicBezTo>
                <a:cubicBezTo>
                  <a:pt x="10532" y="16727"/>
                  <a:pt x="10462" y="16741"/>
                  <a:pt x="10390" y="16754"/>
                </a:cubicBezTo>
                <a:cubicBezTo>
                  <a:pt x="10316" y="16768"/>
                  <a:pt x="10245" y="16784"/>
                  <a:pt x="10172" y="16805"/>
                </a:cubicBezTo>
                <a:cubicBezTo>
                  <a:pt x="10056" y="16839"/>
                  <a:pt x="9936" y="16869"/>
                  <a:pt x="9854" y="16962"/>
                </a:cubicBezTo>
                <a:cubicBezTo>
                  <a:pt x="9770" y="17057"/>
                  <a:pt x="9828" y="17126"/>
                  <a:pt x="9911" y="17193"/>
                </a:cubicBezTo>
                <a:cubicBezTo>
                  <a:pt x="9988" y="17255"/>
                  <a:pt x="10074" y="17301"/>
                  <a:pt x="10162" y="17346"/>
                </a:cubicBezTo>
                <a:cubicBezTo>
                  <a:pt x="10249" y="17390"/>
                  <a:pt x="10345" y="17421"/>
                  <a:pt x="10438" y="17448"/>
                </a:cubicBezTo>
                <a:cubicBezTo>
                  <a:pt x="10587" y="17491"/>
                  <a:pt x="10743" y="17508"/>
                  <a:pt x="10898" y="17517"/>
                </a:cubicBezTo>
                <a:cubicBezTo>
                  <a:pt x="11072" y="17527"/>
                  <a:pt x="11251" y="17529"/>
                  <a:pt x="11425" y="17517"/>
                </a:cubicBezTo>
                <a:cubicBezTo>
                  <a:pt x="11545" y="17508"/>
                  <a:pt x="11664" y="17490"/>
                  <a:pt x="11781" y="17461"/>
                </a:cubicBezTo>
                <a:cubicBezTo>
                  <a:pt x="11923" y="17426"/>
                  <a:pt x="12082" y="17374"/>
                  <a:pt x="12203" y="17290"/>
                </a:cubicBezTo>
                <a:cubicBezTo>
                  <a:pt x="12257" y="17253"/>
                  <a:pt x="12326" y="17205"/>
                  <a:pt x="12360" y="17147"/>
                </a:cubicBezTo>
                <a:cubicBezTo>
                  <a:pt x="12406" y="17070"/>
                  <a:pt x="12406" y="16973"/>
                  <a:pt x="12355" y="16902"/>
                </a:cubicBezTo>
                <a:cubicBezTo>
                  <a:pt x="12304" y="16830"/>
                  <a:pt x="12222" y="16787"/>
                  <a:pt x="12141" y="16759"/>
                </a:cubicBezTo>
                <a:cubicBezTo>
                  <a:pt x="12038" y="16723"/>
                  <a:pt x="11926" y="16726"/>
                  <a:pt x="11819" y="16736"/>
                </a:cubicBezTo>
                <a:cubicBezTo>
                  <a:pt x="11803" y="16739"/>
                  <a:pt x="11787" y="16742"/>
                  <a:pt x="11771" y="1674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994280" y="5022720"/>
            <a:ext cx="487440" cy="312840"/>
          </a:xfrm>
          <a:custGeom>
            <a:avLst/>
            <a:gdLst/>
            <a:ahLst/>
            <a:rect l="l" t="t" r="r" b="b"/>
            <a:pathLst>
              <a:path w="1353" h="870">
                <a:moveTo>
                  <a:pt x="13190" y="14434"/>
                </a:moveTo>
                <a:cubicBezTo>
                  <a:pt x="13190" y="14497"/>
                  <a:pt x="13184" y="14557"/>
                  <a:pt x="13180" y="14619"/>
                </a:cubicBezTo>
                <a:cubicBezTo>
                  <a:pt x="13176" y="14674"/>
                  <a:pt x="13169" y="14726"/>
                  <a:pt x="13161" y="14781"/>
                </a:cubicBezTo>
                <a:cubicBezTo>
                  <a:pt x="13153" y="14836"/>
                  <a:pt x="13149" y="14892"/>
                  <a:pt x="13142" y="14947"/>
                </a:cubicBezTo>
                <a:cubicBezTo>
                  <a:pt x="13138" y="14984"/>
                  <a:pt x="13129" y="15021"/>
                  <a:pt x="13128" y="15058"/>
                </a:cubicBezTo>
                <a:cubicBezTo>
                  <a:pt x="13128" y="15077"/>
                  <a:pt x="13124" y="15094"/>
                  <a:pt x="13124" y="15113"/>
                </a:cubicBezTo>
                <a:cubicBezTo>
                  <a:pt x="13124" y="15130"/>
                  <a:pt x="13124" y="15147"/>
                  <a:pt x="13124" y="15164"/>
                </a:cubicBezTo>
              </a:path>
              <a:path w="1353" h="870">
                <a:moveTo>
                  <a:pt x="13195" y="14434"/>
                </a:moveTo>
                <a:cubicBezTo>
                  <a:pt x="13199" y="14426"/>
                  <a:pt x="13209" y="14413"/>
                  <a:pt x="13218" y="14411"/>
                </a:cubicBezTo>
                <a:cubicBezTo>
                  <a:pt x="13237" y="14406"/>
                  <a:pt x="13265" y="14399"/>
                  <a:pt x="13285" y="14397"/>
                </a:cubicBezTo>
                <a:cubicBezTo>
                  <a:pt x="13307" y="14397"/>
                  <a:pt x="13314" y="14397"/>
                  <a:pt x="13328" y="14397"/>
                </a:cubicBezTo>
              </a:path>
              <a:path w="1353" h="870">
                <a:moveTo>
                  <a:pt x="13242" y="14753"/>
                </a:moveTo>
                <a:cubicBezTo>
                  <a:pt x="13268" y="14753"/>
                  <a:pt x="13292" y="14752"/>
                  <a:pt x="13318" y="14748"/>
                </a:cubicBezTo>
                <a:cubicBezTo>
                  <a:pt x="13348" y="14743"/>
                  <a:pt x="13378" y="14736"/>
                  <a:pt x="13408" y="14730"/>
                </a:cubicBezTo>
              </a:path>
              <a:path w="1353" h="870">
                <a:moveTo>
                  <a:pt x="13157" y="15257"/>
                </a:moveTo>
                <a:cubicBezTo>
                  <a:pt x="13173" y="15255"/>
                  <a:pt x="13184" y="15249"/>
                  <a:pt x="13199" y="15243"/>
                </a:cubicBezTo>
                <a:cubicBezTo>
                  <a:pt x="13236" y="15228"/>
                  <a:pt x="13271" y="15209"/>
                  <a:pt x="13309" y="15197"/>
                </a:cubicBezTo>
                <a:cubicBezTo>
                  <a:pt x="13340" y="15187"/>
                  <a:pt x="13372" y="15179"/>
                  <a:pt x="13403" y="15169"/>
                </a:cubicBezTo>
              </a:path>
              <a:path w="1353" h="870">
                <a:moveTo>
                  <a:pt x="13318" y="14439"/>
                </a:moveTo>
                <a:cubicBezTo>
                  <a:pt x="13328" y="14435"/>
                  <a:pt x="13351" y="14426"/>
                  <a:pt x="13361" y="14420"/>
                </a:cubicBezTo>
                <a:cubicBezTo>
                  <a:pt x="13381" y="14408"/>
                  <a:pt x="13403" y="14398"/>
                  <a:pt x="13427" y="14392"/>
                </a:cubicBezTo>
                <a:cubicBezTo>
                  <a:pt x="13447" y="14388"/>
                  <a:pt x="13455" y="14386"/>
                  <a:pt x="13470" y="14388"/>
                </a:cubicBezTo>
              </a:path>
              <a:path w="1353" h="870">
                <a:moveTo>
                  <a:pt x="13940" y="14517"/>
                </a:moveTo>
                <a:cubicBezTo>
                  <a:pt x="13938" y="14500"/>
                  <a:pt x="13944" y="14494"/>
                  <a:pt x="13930" y="14480"/>
                </a:cubicBezTo>
                <a:cubicBezTo>
                  <a:pt x="13908" y="14458"/>
                  <a:pt x="13887" y="14461"/>
                  <a:pt x="13859" y="14466"/>
                </a:cubicBezTo>
                <a:cubicBezTo>
                  <a:pt x="13806" y="14475"/>
                  <a:pt x="13779" y="14501"/>
                  <a:pt x="13745" y="14540"/>
                </a:cubicBezTo>
                <a:cubicBezTo>
                  <a:pt x="13691" y="14602"/>
                  <a:pt x="13669" y="14673"/>
                  <a:pt x="13693" y="14753"/>
                </a:cubicBezTo>
                <a:cubicBezTo>
                  <a:pt x="13709" y="14807"/>
                  <a:pt x="13740" y="14825"/>
                  <a:pt x="13774" y="14864"/>
                </a:cubicBezTo>
                <a:cubicBezTo>
                  <a:pt x="13803" y="14897"/>
                  <a:pt x="13825" y="14936"/>
                  <a:pt x="13845" y="14975"/>
                </a:cubicBezTo>
                <a:cubicBezTo>
                  <a:pt x="13866" y="15015"/>
                  <a:pt x="13869" y="15045"/>
                  <a:pt x="13869" y="15090"/>
                </a:cubicBezTo>
                <a:cubicBezTo>
                  <a:pt x="13869" y="15126"/>
                  <a:pt x="13868" y="15144"/>
                  <a:pt x="13845" y="15173"/>
                </a:cubicBezTo>
                <a:cubicBezTo>
                  <a:pt x="13822" y="15202"/>
                  <a:pt x="13774" y="15208"/>
                  <a:pt x="13740" y="15210"/>
                </a:cubicBezTo>
                <a:cubicBezTo>
                  <a:pt x="13683" y="15214"/>
                  <a:pt x="13621" y="15211"/>
                  <a:pt x="13565" y="15206"/>
                </a:cubicBezTo>
              </a:path>
              <a:path w="1353" h="870">
                <a:moveTo>
                  <a:pt x="14395" y="14457"/>
                </a:moveTo>
                <a:cubicBezTo>
                  <a:pt x="14364" y="14463"/>
                  <a:pt x="14329" y="14468"/>
                  <a:pt x="14300" y="14480"/>
                </a:cubicBezTo>
                <a:cubicBezTo>
                  <a:pt x="14280" y="14488"/>
                  <a:pt x="14213" y="14528"/>
                  <a:pt x="14205" y="14549"/>
                </a:cubicBezTo>
                <a:cubicBezTo>
                  <a:pt x="14195" y="14576"/>
                  <a:pt x="14222" y="14634"/>
                  <a:pt x="14234" y="14656"/>
                </a:cubicBezTo>
                <a:cubicBezTo>
                  <a:pt x="14264" y="14712"/>
                  <a:pt x="14298" y="14761"/>
                  <a:pt x="14334" y="14813"/>
                </a:cubicBezTo>
                <a:cubicBezTo>
                  <a:pt x="14366" y="14859"/>
                  <a:pt x="14392" y="14911"/>
                  <a:pt x="14419" y="14961"/>
                </a:cubicBezTo>
                <a:cubicBezTo>
                  <a:pt x="14441" y="15002"/>
                  <a:pt x="14460" y="15045"/>
                  <a:pt x="14471" y="15090"/>
                </a:cubicBezTo>
                <a:cubicBezTo>
                  <a:pt x="14478" y="15120"/>
                  <a:pt x="14480" y="15153"/>
                  <a:pt x="14457" y="15178"/>
                </a:cubicBezTo>
                <a:cubicBezTo>
                  <a:pt x="14432" y="15205"/>
                  <a:pt x="14393" y="15195"/>
                  <a:pt x="14362" y="15197"/>
                </a:cubicBezTo>
                <a:cubicBezTo>
                  <a:pt x="14325" y="15200"/>
                  <a:pt x="14312" y="15195"/>
                  <a:pt x="14277" y="151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3778200" y="5705640"/>
            <a:ext cx="1185840" cy="942840"/>
          </a:xfrm>
          <a:custGeom>
            <a:avLst/>
            <a:gdLst/>
            <a:ahLst/>
            <a:rect l="l" t="t" r="r" b="b"/>
            <a:pathLst>
              <a:path w="3294" h="2618">
                <a:moveTo>
                  <a:pt x="9745" y="17189"/>
                </a:moveTo>
                <a:cubicBezTo>
                  <a:pt x="9748" y="17196"/>
                  <a:pt x="9755" y="17186"/>
                  <a:pt x="9759" y="17193"/>
                </a:cubicBezTo>
                <a:cubicBezTo>
                  <a:pt x="9796" y="17265"/>
                  <a:pt x="9807" y="17343"/>
                  <a:pt x="9811" y="17424"/>
                </a:cubicBezTo>
                <a:cubicBezTo>
                  <a:pt x="9818" y="17550"/>
                  <a:pt x="9806" y="17679"/>
                  <a:pt x="9792" y="17804"/>
                </a:cubicBezTo>
                <a:cubicBezTo>
                  <a:pt x="9781" y="17901"/>
                  <a:pt x="9761" y="17998"/>
                  <a:pt x="9754" y="18095"/>
                </a:cubicBezTo>
                <a:cubicBezTo>
                  <a:pt x="9748" y="18168"/>
                  <a:pt x="9706" y="18425"/>
                  <a:pt x="9754" y="18492"/>
                </a:cubicBezTo>
                <a:cubicBezTo>
                  <a:pt x="9760" y="18500"/>
                  <a:pt x="9759" y="18497"/>
                  <a:pt x="9769" y="18506"/>
                </a:cubicBezTo>
                <a:cubicBezTo>
                  <a:pt x="9792" y="18528"/>
                  <a:pt x="9876" y="18555"/>
                  <a:pt x="9906" y="18566"/>
                </a:cubicBezTo>
                <a:cubicBezTo>
                  <a:pt x="10001" y="18600"/>
                  <a:pt x="10098" y="18624"/>
                  <a:pt x="10191" y="18659"/>
                </a:cubicBezTo>
                <a:cubicBezTo>
                  <a:pt x="10342" y="18716"/>
                  <a:pt x="10488" y="18768"/>
                  <a:pt x="10646" y="18802"/>
                </a:cubicBezTo>
                <a:cubicBezTo>
                  <a:pt x="10772" y="18829"/>
                  <a:pt x="10903" y="18847"/>
                  <a:pt x="11031" y="18862"/>
                </a:cubicBezTo>
                <a:cubicBezTo>
                  <a:pt x="11160" y="18877"/>
                  <a:pt x="11290" y="18890"/>
                  <a:pt x="11420" y="18899"/>
                </a:cubicBezTo>
                <a:cubicBezTo>
                  <a:pt x="11535" y="18907"/>
                  <a:pt x="11651" y="18908"/>
                  <a:pt x="11766" y="18894"/>
                </a:cubicBezTo>
                <a:cubicBezTo>
                  <a:pt x="11885" y="18879"/>
                  <a:pt x="11997" y="18852"/>
                  <a:pt x="12113" y="18820"/>
                </a:cubicBezTo>
                <a:cubicBezTo>
                  <a:pt x="12290" y="18771"/>
                  <a:pt x="12465" y="18701"/>
                  <a:pt x="12630" y="18622"/>
                </a:cubicBezTo>
                <a:cubicBezTo>
                  <a:pt x="12720" y="18579"/>
                  <a:pt x="12807" y="18528"/>
                  <a:pt x="12891" y="18474"/>
                </a:cubicBezTo>
                <a:cubicBezTo>
                  <a:pt x="12941" y="18442"/>
                  <a:pt x="12989" y="18402"/>
                  <a:pt x="13033" y="18367"/>
                </a:cubicBezTo>
                <a:cubicBezTo>
                  <a:pt x="13035" y="18366"/>
                  <a:pt x="13036" y="18364"/>
                  <a:pt x="13038" y="18363"/>
                </a:cubicBezTo>
              </a:path>
              <a:path w="3294" h="2618">
                <a:moveTo>
                  <a:pt x="12559" y="17147"/>
                </a:moveTo>
                <a:cubicBezTo>
                  <a:pt x="12559" y="17142"/>
                  <a:pt x="12559" y="17138"/>
                  <a:pt x="12559" y="17133"/>
                </a:cubicBezTo>
                <a:cubicBezTo>
                  <a:pt x="12552" y="17149"/>
                  <a:pt x="12555" y="17139"/>
                  <a:pt x="12559" y="17156"/>
                </a:cubicBezTo>
                <a:cubicBezTo>
                  <a:pt x="12579" y="17232"/>
                  <a:pt x="12591" y="17311"/>
                  <a:pt x="12606" y="17388"/>
                </a:cubicBezTo>
                <a:cubicBezTo>
                  <a:pt x="12650" y="17607"/>
                  <a:pt x="12700" y="17827"/>
                  <a:pt x="12734" y="18048"/>
                </a:cubicBezTo>
                <a:cubicBezTo>
                  <a:pt x="12747" y="18131"/>
                  <a:pt x="12759" y="18215"/>
                  <a:pt x="12768" y="18298"/>
                </a:cubicBezTo>
                <a:cubicBezTo>
                  <a:pt x="12772" y="18334"/>
                  <a:pt x="12778" y="18361"/>
                  <a:pt x="12787" y="18395"/>
                </a:cubicBezTo>
              </a:path>
              <a:path w="3294" h="2618">
                <a:moveTo>
                  <a:pt x="11330" y="16292"/>
                </a:moveTo>
                <a:cubicBezTo>
                  <a:pt x="11335" y="16291"/>
                  <a:pt x="11337" y="16277"/>
                  <a:pt x="11339" y="16297"/>
                </a:cubicBezTo>
                <a:cubicBezTo>
                  <a:pt x="11343" y="16347"/>
                  <a:pt x="11340" y="16400"/>
                  <a:pt x="11335" y="16449"/>
                </a:cubicBezTo>
                <a:cubicBezTo>
                  <a:pt x="11330" y="16493"/>
                  <a:pt x="11326" y="16539"/>
                  <a:pt x="11330" y="16583"/>
                </a:cubicBezTo>
                <a:cubicBezTo>
                  <a:pt x="11335" y="16610"/>
                  <a:pt x="11336" y="16618"/>
                  <a:pt x="11344" y="16634"/>
                </a:cubicBezTo>
              </a:path>
              <a:path w="3294" h="2618">
                <a:moveTo>
                  <a:pt x="11202" y="16606"/>
                </a:moveTo>
                <a:cubicBezTo>
                  <a:pt x="11204" y="16616"/>
                  <a:pt x="11203" y="16616"/>
                  <a:pt x="11211" y="16625"/>
                </a:cubicBezTo>
                <a:cubicBezTo>
                  <a:pt x="11225" y="16640"/>
                  <a:pt x="11245" y="16640"/>
                  <a:pt x="11259" y="16653"/>
                </a:cubicBezTo>
                <a:cubicBezTo>
                  <a:pt x="11278" y="16671"/>
                  <a:pt x="11295" y="16691"/>
                  <a:pt x="11316" y="16708"/>
                </a:cubicBezTo>
                <a:cubicBezTo>
                  <a:pt x="11340" y="16728"/>
                  <a:pt x="11365" y="16750"/>
                  <a:pt x="11391" y="16768"/>
                </a:cubicBezTo>
                <a:cubicBezTo>
                  <a:pt x="11405" y="16777"/>
                  <a:pt x="11424" y="16790"/>
                  <a:pt x="11439" y="16796"/>
                </a:cubicBezTo>
                <a:cubicBezTo>
                  <a:pt x="11446" y="16799"/>
                  <a:pt x="11455" y="16800"/>
                  <a:pt x="11463" y="16800"/>
                </a:cubicBezTo>
                <a:cubicBezTo>
                  <a:pt x="11474" y="16800"/>
                  <a:pt x="11488" y="16796"/>
                  <a:pt x="11496" y="16787"/>
                </a:cubicBezTo>
                <a:cubicBezTo>
                  <a:pt x="11512" y="16770"/>
                  <a:pt x="11525" y="16750"/>
                  <a:pt x="11539" y="16731"/>
                </a:cubicBezTo>
                <a:cubicBezTo>
                  <a:pt x="11563" y="16698"/>
                  <a:pt x="11589" y="16662"/>
                  <a:pt x="11619" y="16634"/>
                </a:cubicBezTo>
                <a:cubicBezTo>
                  <a:pt x="11635" y="16622"/>
                  <a:pt x="11639" y="16620"/>
                  <a:pt x="11648" y="1661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168720" y="4543560"/>
            <a:ext cx="2406600" cy="1153800"/>
          </a:xfrm>
          <a:custGeom>
            <a:avLst/>
            <a:gdLst/>
            <a:ahLst/>
            <a:rect l="l" t="t" r="r" b="b"/>
            <a:pathLst>
              <a:path w="6687" h="3208">
                <a:moveTo>
                  <a:pt x="8212" y="13057"/>
                </a:moveTo>
                <a:cubicBezTo>
                  <a:pt x="8279" y="13064"/>
                  <a:pt x="8346" y="13077"/>
                  <a:pt x="8416" y="13080"/>
                </a:cubicBezTo>
                <a:cubicBezTo>
                  <a:pt x="8923" y="13104"/>
                  <a:pt x="9432" y="13055"/>
                  <a:pt x="9935" y="13117"/>
                </a:cubicBezTo>
                <a:cubicBezTo>
                  <a:pt x="10145" y="13143"/>
                  <a:pt x="10355" y="13136"/>
                  <a:pt x="10566" y="13126"/>
                </a:cubicBezTo>
                <a:cubicBezTo>
                  <a:pt x="10792" y="13115"/>
                  <a:pt x="11012" y="13090"/>
                  <a:pt x="11240" y="13089"/>
                </a:cubicBezTo>
                <a:cubicBezTo>
                  <a:pt x="11485" y="13088"/>
                  <a:pt x="11731" y="13096"/>
                  <a:pt x="11975" y="13107"/>
                </a:cubicBezTo>
                <a:cubicBezTo>
                  <a:pt x="12500" y="13131"/>
                  <a:pt x="13025" y="13135"/>
                  <a:pt x="13551" y="13135"/>
                </a:cubicBezTo>
                <a:cubicBezTo>
                  <a:pt x="13741" y="13135"/>
                  <a:pt x="13930" y="13128"/>
                  <a:pt x="14120" y="13117"/>
                </a:cubicBezTo>
                <a:cubicBezTo>
                  <a:pt x="14250" y="13110"/>
                  <a:pt x="14395" y="13083"/>
                  <a:pt x="14519" y="13117"/>
                </a:cubicBezTo>
                <a:cubicBezTo>
                  <a:pt x="14543" y="13123"/>
                  <a:pt x="14613" y="13155"/>
                  <a:pt x="14628" y="13177"/>
                </a:cubicBezTo>
                <a:cubicBezTo>
                  <a:pt x="14646" y="13203"/>
                  <a:pt x="14635" y="13223"/>
                  <a:pt x="14647" y="13274"/>
                </a:cubicBezTo>
                <a:cubicBezTo>
                  <a:pt x="14694" y="13476"/>
                  <a:pt x="14666" y="13754"/>
                  <a:pt x="14670" y="13962"/>
                </a:cubicBezTo>
                <a:cubicBezTo>
                  <a:pt x="14673" y="14133"/>
                  <a:pt x="14689" y="14301"/>
                  <a:pt x="14694" y="14471"/>
                </a:cubicBezTo>
                <a:cubicBezTo>
                  <a:pt x="14704" y="14829"/>
                  <a:pt x="14866" y="15678"/>
                  <a:pt x="14737" y="15996"/>
                </a:cubicBezTo>
                <a:cubicBezTo>
                  <a:pt x="14718" y="16043"/>
                  <a:pt x="14749" y="16037"/>
                  <a:pt x="14708" y="16066"/>
                </a:cubicBezTo>
                <a:cubicBezTo>
                  <a:pt x="14645" y="16111"/>
                  <a:pt x="14351" y="16067"/>
                  <a:pt x="14281" y="16075"/>
                </a:cubicBezTo>
                <a:cubicBezTo>
                  <a:pt x="14075" y="16100"/>
                  <a:pt x="13870" y="16142"/>
                  <a:pt x="13669" y="16190"/>
                </a:cubicBezTo>
                <a:cubicBezTo>
                  <a:pt x="13272" y="16284"/>
                  <a:pt x="12861" y="16276"/>
                  <a:pt x="12454" y="16255"/>
                </a:cubicBezTo>
                <a:cubicBezTo>
                  <a:pt x="12190" y="16242"/>
                  <a:pt x="11927" y="16228"/>
                  <a:pt x="11662" y="16227"/>
                </a:cubicBezTo>
                <a:cubicBezTo>
                  <a:pt x="11245" y="16225"/>
                  <a:pt x="10835" y="16219"/>
                  <a:pt x="10419" y="16177"/>
                </a:cubicBezTo>
                <a:cubicBezTo>
                  <a:pt x="10274" y="16162"/>
                  <a:pt x="10127" y="16147"/>
                  <a:pt x="9982" y="16130"/>
                </a:cubicBezTo>
                <a:cubicBezTo>
                  <a:pt x="9337" y="16054"/>
                  <a:pt x="8695" y="16063"/>
                  <a:pt x="8051" y="1604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Nicht so richtig !</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muß austauschbar sei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p:txBody>
      </p:sp>
      <p:sp>
        <p:nvSpPr>
          <p:cNvPr id="552" name=""/>
          <p:cNvSpPr/>
          <p:nvPr/>
        </p:nvSpPr>
        <p:spPr>
          <a:xfrm>
            <a:off x="398520" y="4119480"/>
            <a:ext cx="507960" cy="540000"/>
          </a:xfrm>
          <a:custGeom>
            <a:avLst/>
            <a:gdLst/>
            <a:ahLst/>
            <a:rect l="l" t="t" r="r" b="b"/>
            <a:pathLst>
              <a:path w="1411" h="1499">
                <a:moveTo>
                  <a:pt x="1597" y="11471"/>
                </a:moveTo>
                <a:cubicBezTo>
                  <a:pt x="1588" y="11484"/>
                  <a:pt x="1578" y="11463"/>
                  <a:pt x="1569" y="11494"/>
                </a:cubicBezTo>
                <a:cubicBezTo>
                  <a:pt x="1563" y="11517"/>
                  <a:pt x="1562" y="11540"/>
                  <a:pt x="1564" y="11564"/>
                </a:cubicBezTo>
                <a:cubicBezTo>
                  <a:pt x="1570" y="11632"/>
                  <a:pt x="1603" y="11664"/>
                  <a:pt x="1645" y="11716"/>
                </a:cubicBezTo>
                <a:cubicBezTo>
                  <a:pt x="1700" y="11783"/>
                  <a:pt x="1759" y="11846"/>
                  <a:pt x="1811" y="11915"/>
                </a:cubicBezTo>
                <a:cubicBezTo>
                  <a:pt x="1877" y="12003"/>
                  <a:pt x="1939" y="12094"/>
                  <a:pt x="2010" y="12178"/>
                </a:cubicBezTo>
                <a:cubicBezTo>
                  <a:pt x="2074" y="12254"/>
                  <a:pt x="2134" y="12332"/>
                  <a:pt x="2200" y="12405"/>
                </a:cubicBezTo>
                <a:cubicBezTo>
                  <a:pt x="2246" y="12456"/>
                  <a:pt x="2297" y="12502"/>
                  <a:pt x="2342" y="12553"/>
                </a:cubicBezTo>
                <a:cubicBezTo>
                  <a:pt x="2359" y="12572"/>
                  <a:pt x="2404" y="12616"/>
                  <a:pt x="2413" y="12641"/>
                </a:cubicBezTo>
                <a:cubicBezTo>
                  <a:pt x="2417" y="12653"/>
                  <a:pt x="2407" y="12656"/>
                  <a:pt x="2409" y="12668"/>
                </a:cubicBezTo>
              </a:path>
              <a:path w="1411" h="1499">
                <a:moveTo>
                  <a:pt x="2518" y="11448"/>
                </a:moveTo>
                <a:cubicBezTo>
                  <a:pt x="2509" y="11450"/>
                  <a:pt x="2501" y="11438"/>
                  <a:pt x="2489" y="11443"/>
                </a:cubicBezTo>
                <a:cubicBezTo>
                  <a:pt x="2446" y="11461"/>
                  <a:pt x="2414" y="11485"/>
                  <a:pt x="2375" y="11513"/>
                </a:cubicBezTo>
                <a:cubicBezTo>
                  <a:pt x="2278" y="11583"/>
                  <a:pt x="2195" y="11669"/>
                  <a:pt x="2119" y="11762"/>
                </a:cubicBezTo>
                <a:cubicBezTo>
                  <a:pt x="1987" y="11923"/>
                  <a:pt x="1846" y="12065"/>
                  <a:pt x="1697" y="12211"/>
                </a:cubicBezTo>
                <a:cubicBezTo>
                  <a:pt x="1518" y="12387"/>
                  <a:pt x="1344" y="12573"/>
                  <a:pt x="1199" y="12779"/>
                </a:cubicBezTo>
                <a:cubicBezTo>
                  <a:pt x="1146" y="12860"/>
                  <a:pt x="1131" y="12883"/>
                  <a:pt x="1108" y="12941"/>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96800" y="1693800"/>
            <a:ext cx="411120" cy="1451160"/>
          </a:xfrm>
          <a:custGeom>
            <a:avLst/>
            <a:gdLst/>
            <a:ahLst/>
            <a:rect l="l" t="t" r="r" b="b"/>
            <a:pathLst>
              <a:path w="1144" h="4032">
                <a:moveTo>
                  <a:pt x="1493" y="7552"/>
                </a:moveTo>
                <a:cubicBezTo>
                  <a:pt x="1487" y="7541"/>
                  <a:pt x="1493" y="7539"/>
                  <a:pt x="1483" y="7528"/>
                </a:cubicBezTo>
                <a:cubicBezTo>
                  <a:pt x="1476" y="7520"/>
                  <a:pt x="1465" y="7515"/>
                  <a:pt x="1460" y="7510"/>
                </a:cubicBezTo>
                <a:cubicBezTo>
                  <a:pt x="1483" y="7528"/>
                  <a:pt x="1504" y="7544"/>
                  <a:pt x="1526" y="7565"/>
                </a:cubicBezTo>
                <a:cubicBezTo>
                  <a:pt x="1586" y="7622"/>
                  <a:pt x="1636" y="7676"/>
                  <a:pt x="1683" y="7746"/>
                </a:cubicBezTo>
                <a:cubicBezTo>
                  <a:pt x="1740" y="7831"/>
                  <a:pt x="1789" y="7922"/>
                  <a:pt x="1844" y="8009"/>
                </a:cubicBezTo>
                <a:cubicBezTo>
                  <a:pt x="1899" y="8096"/>
                  <a:pt x="1959" y="8175"/>
                  <a:pt x="2019" y="8259"/>
                </a:cubicBezTo>
                <a:cubicBezTo>
                  <a:pt x="2074" y="8336"/>
                  <a:pt x="2138" y="8405"/>
                  <a:pt x="2200" y="8476"/>
                </a:cubicBezTo>
                <a:cubicBezTo>
                  <a:pt x="2221" y="8500"/>
                  <a:pt x="2244" y="8537"/>
                  <a:pt x="2271" y="8555"/>
                </a:cubicBezTo>
                <a:cubicBezTo>
                  <a:pt x="2298" y="8573"/>
                  <a:pt x="2264" y="8546"/>
                  <a:pt x="2271" y="8545"/>
                </a:cubicBezTo>
              </a:path>
              <a:path w="1144" h="4032">
                <a:moveTo>
                  <a:pt x="2342" y="7464"/>
                </a:moveTo>
                <a:cubicBezTo>
                  <a:pt x="2335" y="7460"/>
                  <a:pt x="2348" y="7443"/>
                  <a:pt x="2328" y="7441"/>
                </a:cubicBezTo>
                <a:cubicBezTo>
                  <a:pt x="2297" y="7438"/>
                  <a:pt x="2281" y="7451"/>
                  <a:pt x="2257" y="7468"/>
                </a:cubicBezTo>
                <a:cubicBezTo>
                  <a:pt x="2180" y="7522"/>
                  <a:pt x="2132" y="7620"/>
                  <a:pt x="2081" y="7695"/>
                </a:cubicBezTo>
                <a:cubicBezTo>
                  <a:pt x="1995" y="7822"/>
                  <a:pt x="1918" y="7955"/>
                  <a:pt x="1825" y="8078"/>
                </a:cubicBezTo>
                <a:cubicBezTo>
                  <a:pt x="1728" y="8207"/>
                  <a:pt x="1625" y="8330"/>
                  <a:pt x="1531" y="8462"/>
                </a:cubicBezTo>
                <a:cubicBezTo>
                  <a:pt x="1480" y="8534"/>
                  <a:pt x="1419" y="8614"/>
                  <a:pt x="1388" y="8698"/>
                </a:cubicBezTo>
                <a:cubicBezTo>
                  <a:pt x="1385" y="8710"/>
                  <a:pt x="1382" y="8723"/>
                  <a:pt x="1379" y="8735"/>
                </a:cubicBezTo>
              </a:path>
              <a:path w="1144" h="4032">
                <a:moveTo>
                  <a:pt x="1678" y="4945"/>
                </a:moveTo>
                <a:cubicBezTo>
                  <a:pt x="1677" y="4949"/>
                  <a:pt x="1670" y="4951"/>
                  <a:pt x="1668" y="4963"/>
                </a:cubicBezTo>
                <a:cubicBezTo>
                  <a:pt x="1661" y="5019"/>
                  <a:pt x="1667" y="5081"/>
                  <a:pt x="1683" y="5134"/>
                </a:cubicBezTo>
                <a:cubicBezTo>
                  <a:pt x="1695" y="5174"/>
                  <a:pt x="1709" y="5217"/>
                  <a:pt x="1725" y="5254"/>
                </a:cubicBezTo>
                <a:cubicBezTo>
                  <a:pt x="1742" y="5293"/>
                  <a:pt x="1768" y="5339"/>
                  <a:pt x="1792" y="5374"/>
                </a:cubicBezTo>
                <a:cubicBezTo>
                  <a:pt x="1814" y="5407"/>
                  <a:pt x="1834" y="5441"/>
                  <a:pt x="1853" y="5476"/>
                </a:cubicBezTo>
                <a:cubicBezTo>
                  <a:pt x="1870" y="5507"/>
                  <a:pt x="1895" y="5529"/>
                  <a:pt x="1915" y="5559"/>
                </a:cubicBezTo>
                <a:cubicBezTo>
                  <a:pt x="1927" y="5577"/>
                  <a:pt x="1935" y="5604"/>
                  <a:pt x="1953" y="5619"/>
                </a:cubicBezTo>
                <a:cubicBezTo>
                  <a:pt x="1956" y="5621"/>
                  <a:pt x="1974" y="5630"/>
                  <a:pt x="1977" y="5629"/>
                </a:cubicBezTo>
                <a:cubicBezTo>
                  <a:pt x="1995" y="5625"/>
                  <a:pt x="1991" y="5620"/>
                  <a:pt x="2005" y="5606"/>
                </a:cubicBezTo>
                <a:cubicBezTo>
                  <a:pt x="2043" y="5567"/>
                  <a:pt x="2070" y="5517"/>
                  <a:pt x="2100" y="5472"/>
                </a:cubicBezTo>
                <a:cubicBezTo>
                  <a:pt x="2165" y="5374"/>
                  <a:pt x="2208" y="5262"/>
                  <a:pt x="2261" y="5157"/>
                </a:cubicBezTo>
                <a:cubicBezTo>
                  <a:pt x="2326" y="5028"/>
                  <a:pt x="2390" y="4898"/>
                  <a:pt x="2470" y="4778"/>
                </a:cubicBezTo>
                <a:cubicBezTo>
                  <a:pt x="2487" y="4753"/>
                  <a:pt x="2505" y="4729"/>
                  <a:pt x="2522" y="4704"/>
                </a:cubicBezTo>
              </a:path>
              <a:path w="1144" h="4032">
                <a:moveTo>
                  <a:pt x="1744" y="6364"/>
                </a:moveTo>
                <a:cubicBezTo>
                  <a:pt x="1743" y="6369"/>
                  <a:pt x="1730" y="6357"/>
                  <a:pt x="1730" y="6368"/>
                </a:cubicBezTo>
                <a:cubicBezTo>
                  <a:pt x="1730" y="6383"/>
                  <a:pt x="1753" y="6427"/>
                  <a:pt x="1758" y="6438"/>
                </a:cubicBezTo>
                <a:cubicBezTo>
                  <a:pt x="1778" y="6489"/>
                  <a:pt x="1806" y="6536"/>
                  <a:pt x="1830" y="6585"/>
                </a:cubicBezTo>
                <a:cubicBezTo>
                  <a:pt x="1853" y="6633"/>
                  <a:pt x="1880" y="6678"/>
                  <a:pt x="1906" y="6724"/>
                </a:cubicBezTo>
                <a:cubicBezTo>
                  <a:pt x="1923" y="6754"/>
                  <a:pt x="1940" y="6784"/>
                  <a:pt x="1958" y="6812"/>
                </a:cubicBezTo>
                <a:cubicBezTo>
                  <a:pt x="1970" y="6830"/>
                  <a:pt x="1981" y="6851"/>
                  <a:pt x="1996" y="6867"/>
                </a:cubicBezTo>
                <a:cubicBezTo>
                  <a:pt x="2010" y="6882"/>
                  <a:pt x="2024" y="6881"/>
                  <a:pt x="2043" y="6881"/>
                </a:cubicBezTo>
                <a:cubicBezTo>
                  <a:pt x="2082" y="6880"/>
                  <a:pt x="2102" y="6858"/>
                  <a:pt x="2129" y="6830"/>
                </a:cubicBezTo>
                <a:cubicBezTo>
                  <a:pt x="2234" y="6720"/>
                  <a:pt x="2300" y="6573"/>
                  <a:pt x="2390" y="6451"/>
                </a:cubicBezTo>
                <a:cubicBezTo>
                  <a:pt x="2415" y="6419"/>
                  <a:pt x="2441" y="6386"/>
                  <a:pt x="2466" y="6354"/>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49280" y="5029200"/>
            <a:ext cx="517680" cy="1004760"/>
          </a:xfrm>
          <a:custGeom>
            <a:avLst/>
            <a:gdLst/>
            <a:ahLst/>
            <a:rect l="l" t="t" r="r" b="b"/>
            <a:pathLst>
              <a:path w="1439" h="2788">
                <a:moveTo>
                  <a:pt x="1531" y="14203"/>
                </a:moveTo>
                <a:cubicBezTo>
                  <a:pt x="1554" y="14241"/>
                  <a:pt x="1574" y="14258"/>
                  <a:pt x="1611" y="14286"/>
                </a:cubicBezTo>
                <a:cubicBezTo>
                  <a:pt x="1675" y="14335"/>
                  <a:pt x="1746" y="14373"/>
                  <a:pt x="1815" y="14415"/>
                </a:cubicBezTo>
                <a:cubicBezTo>
                  <a:pt x="1887" y="14459"/>
                  <a:pt x="1965" y="14515"/>
                  <a:pt x="2029" y="14568"/>
                </a:cubicBezTo>
                <a:cubicBezTo>
                  <a:pt x="2110" y="14634"/>
                  <a:pt x="2181" y="14714"/>
                  <a:pt x="2261" y="14781"/>
                </a:cubicBezTo>
                <a:cubicBezTo>
                  <a:pt x="2332" y="14840"/>
                  <a:pt x="2410" y="14894"/>
                  <a:pt x="2485" y="14947"/>
                </a:cubicBezTo>
                <a:cubicBezTo>
                  <a:pt x="2531" y="14979"/>
                  <a:pt x="2580" y="15007"/>
                  <a:pt x="2627" y="15035"/>
                </a:cubicBezTo>
                <a:cubicBezTo>
                  <a:pt x="2645" y="15045"/>
                  <a:pt x="2657" y="15051"/>
                  <a:pt x="2674" y="15058"/>
                </a:cubicBezTo>
              </a:path>
              <a:path w="1439" h="2788">
                <a:moveTo>
                  <a:pt x="2684" y="13972"/>
                </a:moveTo>
                <a:cubicBezTo>
                  <a:pt x="2662" y="13981"/>
                  <a:pt x="2641" y="13981"/>
                  <a:pt x="2617" y="13995"/>
                </a:cubicBezTo>
                <a:cubicBezTo>
                  <a:pt x="2533" y="14045"/>
                  <a:pt x="2464" y="14112"/>
                  <a:pt x="2390" y="14175"/>
                </a:cubicBezTo>
                <a:cubicBezTo>
                  <a:pt x="2218" y="14323"/>
                  <a:pt x="2080" y="14504"/>
                  <a:pt x="1915" y="14660"/>
                </a:cubicBezTo>
                <a:cubicBezTo>
                  <a:pt x="1742" y="14825"/>
                  <a:pt x="1564" y="14983"/>
                  <a:pt x="1398" y="15155"/>
                </a:cubicBezTo>
                <a:cubicBezTo>
                  <a:pt x="1335" y="15220"/>
                  <a:pt x="1292" y="15277"/>
                  <a:pt x="1246" y="15354"/>
                </a:cubicBezTo>
              </a:path>
              <a:path w="1439" h="2788">
                <a:moveTo>
                  <a:pt x="1640" y="15969"/>
                </a:moveTo>
                <a:cubicBezTo>
                  <a:pt x="1629" y="15964"/>
                  <a:pt x="1624" y="15959"/>
                  <a:pt x="1611" y="15955"/>
                </a:cubicBezTo>
                <a:cubicBezTo>
                  <a:pt x="1584" y="15946"/>
                  <a:pt x="1563" y="15946"/>
                  <a:pt x="1535" y="15945"/>
                </a:cubicBezTo>
                <a:cubicBezTo>
                  <a:pt x="1510" y="15945"/>
                  <a:pt x="1491" y="15944"/>
                  <a:pt x="1469" y="15959"/>
                </a:cubicBezTo>
                <a:cubicBezTo>
                  <a:pt x="1453" y="15970"/>
                  <a:pt x="1454" y="15969"/>
                  <a:pt x="1455" y="15996"/>
                </a:cubicBezTo>
                <a:cubicBezTo>
                  <a:pt x="1457" y="16039"/>
                  <a:pt x="1480" y="16075"/>
                  <a:pt x="1502" y="16112"/>
                </a:cubicBezTo>
                <a:cubicBezTo>
                  <a:pt x="1546" y="16184"/>
                  <a:pt x="1592" y="16245"/>
                  <a:pt x="1645" y="16311"/>
                </a:cubicBezTo>
                <a:cubicBezTo>
                  <a:pt x="1700" y="16379"/>
                  <a:pt x="1751" y="16450"/>
                  <a:pt x="1811" y="16514"/>
                </a:cubicBezTo>
                <a:cubicBezTo>
                  <a:pt x="1870" y="16578"/>
                  <a:pt x="1923" y="16642"/>
                  <a:pt x="1986" y="16703"/>
                </a:cubicBezTo>
                <a:cubicBezTo>
                  <a:pt x="2000" y="16716"/>
                  <a:pt x="2035" y="16756"/>
                  <a:pt x="2057" y="16759"/>
                </a:cubicBezTo>
                <a:cubicBezTo>
                  <a:pt x="2076" y="16761"/>
                  <a:pt x="2066" y="16751"/>
                  <a:pt x="2076" y="16750"/>
                </a:cubicBezTo>
              </a:path>
              <a:path w="1439" h="2788">
                <a:moveTo>
                  <a:pt x="2418" y="15520"/>
                </a:moveTo>
                <a:cubicBezTo>
                  <a:pt x="2372" y="15530"/>
                  <a:pt x="2344" y="15539"/>
                  <a:pt x="2304" y="15571"/>
                </a:cubicBezTo>
                <a:cubicBezTo>
                  <a:pt x="2213" y="15644"/>
                  <a:pt x="2129" y="15739"/>
                  <a:pt x="2062" y="15834"/>
                </a:cubicBezTo>
                <a:cubicBezTo>
                  <a:pt x="1953" y="15988"/>
                  <a:pt x="1841" y="16137"/>
                  <a:pt x="1721" y="16283"/>
                </a:cubicBezTo>
                <a:cubicBezTo>
                  <a:pt x="1645" y="16375"/>
                  <a:pt x="1575" y="16467"/>
                  <a:pt x="1507" y="16565"/>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356000" y="3645000"/>
            <a:ext cx="1871640" cy="0"/>
          </a:xfrm>
          <a:prstGeom prst="line">
            <a:avLst/>
          </a:prstGeom>
          <a:ln w="57240">
            <a:solidFill>
              <a:srgbClr val="cf540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as Schichtenmodell – Die Zweite..</a:t>
            </a:r>
            <a:endParaRPr b="0" lang="en-US" sz="4000" spc="-1" strike="noStrike">
              <a:solidFill>
                <a:srgbClr val="dfdef6"/>
              </a:solidFill>
              <a:latin typeface="Arial"/>
            </a:endParaRPr>
          </a:p>
        </p:txBody>
      </p:sp>
      <p:sp>
        <p:nvSpPr>
          <p:cNvPr id="557" name=""/>
          <p:cNvSpPr/>
          <p:nvPr/>
        </p:nvSpPr>
        <p:spPr>
          <a:xfrm>
            <a:off x="6937200" y="1714680"/>
            <a:ext cx="362160" cy="2950920"/>
          </a:xfrm>
          <a:custGeom>
            <a:avLst/>
            <a:gdLst/>
            <a:ahLst/>
            <a:rect l="l" t="t" r="r" b="b"/>
            <a:pathLst>
              <a:path w="1007" h="8197">
                <a:moveTo>
                  <a:pt x="16962" y="5435"/>
                </a:moveTo>
                <a:cubicBezTo>
                  <a:pt x="16958" y="5445"/>
                  <a:pt x="16947" y="5469"/>
                  <a:pt x="16943" y="5485"/>
                </a:cubicBezTo>
                <a:cubicBezTo>
                  <a:pt x="16929" y="5546"/>
                  <a:pt x="16929" y="5604"/>
                  <a:pt x="16929" y="5666"/>
                </a:cubicBezTo>
                <a:cubicBezTo>
                  <a:pt x="16929" y="5772"/>
                  <a:pt x="16940" y="5858"/>
                  <a:pt x="16967" y="5961"/>
                </a:cubicBezTo>
                <a:cubicBezTo>
                  <a:pt x="16991" y="6052"/>
                  <a:pt x="17028" y="6131"/>
                  <a:pt x="17091" y="6202"/>
                </a:cubicBezTo>
                <a:cubicBezTo>
                  <a:pt x="17126" y="6241"/>
                  <a:pt x="17180" y="6290"/>
                  <a:pt x="17238" y="6267"/>
                </a:cubicBezTo>
                <a:cubicBezTo>
                  <a:pt x="17305" y="6240"/>
                  <a:pt x="17346" y="6155"/>
                  <a:pt x="17375" y="6096"/>
                </a:cubicBezTo>
                <a:cubicBezTo>
                  <a:pt x="17446" y="5951"/>
                  <a:pt x="17496" y="5788"/>
                  <a:pt x="17541" y="5633"/>
                </a:cubicBezTo>
                <a:cubicBezTo>
                  <a:pt x="17567" y="5543"/>
                  <a:pt x="17588" y="5450"/>
                  <a:pt x="17594" y="5356"/>
                </a:cubicBezTo>
                <a:cubicBezTo>
                  <a:pt x="17596" y="5330"/>
                  <a:pt x="17594" y="5303"/>
                  <a:pt x="17594" y="5277"/>
                </a:cubicBezTo>
              </a:path>
              <a:path w="1007" h="8197">
                <a:moveTo>
                  <a:pt x="17015" y="6960"/>
                </a:moveTo>
                <a:cubicBezTo>
                  <a:pt x="16992" y="6955"/>
                  <a:pt x="16993" y="6955"/>
                  <a:pt x="16977" y="6937"/>
                </a:cubicBezTo>
                <a:cubicBezTo>
                  <a:pt x="16974" y="6932"/>
                  <a:pt x="16970" y="6928"/>
                  <a:pt x="16967" y="6923"/>
                </a:cubicBezTo>
                <a:cubicBezTo>
                  <a:pt x="16986" y="6893"/>
                  <a:pt x="16990" y="6895"/>
                  <a:pt x="17029" y="6881"/>
                </a:cubicBezTo>
                <a:cubicBezTo>
                  <a:pt x="17094" y="6858"/>
                  <a:pt x="17159" y="6852"/>
                  <a:pt x="17228" y="6844"/>
                </a:cubicBezTo>
                <a:cubicBezTo>
                  <a:pt x="17353" y="6829"/>
                  <a:pt x="17477" y="6812"/>
                  <a:pt x="17603" y="6803"/>
                </a:cubicBezTo>
                <a:cubicBezTo>
                  <a:pt x="17627" y="6801"/>
                  <a:pt x="17650" y="6800"/>
                  <a:pt x="17674" y="6798"/>
                </a:cubicBezTo>
              </a:path>
              <a:path w="1007" h="8197">
                <a:moveTo>
                  <a:pt x="17404" y="7145"/>
                </a:moveTo>
                <a:cubicBezTo>
                  <a:pt x="17378" y="7173"/>
                  <a:pt x="17368" y="7216"/>
                  <a:pt x="17361" y="7256"/>
                </a:cubicBezTo>
                <a:cubicBezTo>
                  <a:pt x="17342" y="7356"/>
                  <a:pt x="17331" y="7460"/>
                  <a:pt x="17323" y="7561"/>
                </a:cubicBezTo>
                <a:cubicBezTo>
                  <a:pt x="17313" y="7681"/>
                  <a:pt x="17314" y="7801"/>
                  <a:pt x="17314" y="7921"/>
                </a:cubicBezTo>
                <a:cubicBezTo>
                  <a:pt x="17314" y="7947"/>
                  <a:pt x="17314" y="7974"/>
                  <a:pt x="17314" y="8000"/>
                </a:cubicBezTo>
              </a:path>
              <a:path w="1007" h="8197">
                <a:moveTo>
                  <a:pt x="17162" y="8670"/>
                </a:moveTo>
                <a:cubicBezTo>
                  <a:pt x="17162" y="8767"/>
                  <a:pt x="17166" y="8861"/>
                  <a:pt x="17157" y="8957"/>
                </a:cubicBezTo>
                <a:cubicBezTo>
                  <a:pt x="17145" y="9085"/>
                  <a:pt x="17126" y="9212"/>
                  <a:pt x="17110" y="9340"/>
                </a:cubicBezTo>
                <a:cubicBezTo>
                  <a:pt x="17096" y="9449"/>
                  <a:pt x="17084" y="9558"/>
                  <a:pt x="17095" y="9668"/>
                </a:cubicBezTo>
                <a:cubicBezTo>
                  <a:pt x="17098" y="9690"/>
                  <a:pt x="17102" y="9711"/>
                  <a:pt x="17105" y="9733"/>
                </a:cubicBezTo>
              </a:path>
              <a:path w="1007" h="8197">
                <a:moveTo>
                  <a:pt x="17053" y="10371"/>
                </a:moveTo>
                <a:cubicBezTo>
                  <a:pt x="17053" y="10360"/>
                  <a:pt x="17053" y="10350"/>
                  <a:pt x="17053" y="10339"/>
                </a:cubicBezTo>
                <a:cubicBezTo>
                  <a:pt x="17045" y="10370"/>
                  <a:pt x="17037" y="10404"/>
                  <a:pt x="17029" y="10436"/>
                </a:cubicBezTo>
                <a:cubicBezTo>
                  <a:pt x="17006" y="10529"/>
                  <a:pt x="16972" y="10614"/>
                  <a:pt x="16939" y="10704"/>
                </a:cubicBezTo>
                <a:cubicBezTo>
                  <a:pt x="16896" y="10821"/>
                  <a:pt x="16848" y="10945"/>
                  <a:pt x="16830" y="11069"/>
                </a:cubicBezTo>
                <a:cubicBezTo>
                  <a:pt x="16817" y="11158"/>
                  <a:pt x="16813" y="11293"/>
                  <a:pt x="16877" y="11365"/>
                </a:cubicBezTo>
                <a:cubicBezTo>
                  <a:pt x="16936" y="11433"/>
                  <a:pt x="17048" y="11439"/>
                  <a:pt x="17129" y="11434"/>
                </a:cubicBezTo>
                <a:cubicBezTo>
                  <a:pt x="17224" y="11429"/>
                  <a:pt x="17314" y="11417"/>
                  <a:pt x="17409" y="11420"/>
                </a:cubicBezTo>
              </a:path>
              <a:path w="1007" h="8197">
                <a:moveTo>
                  <a:pt x="17394" y="12317"/>
                </a:moveTo>
                <a:cubicBezTo>
                  <a:pt x="17373" y="12326"/>
                  <a:pt x="17343" y="12335"/>
                  <a:pt x="17323" y="12349"/>
                </a:cubicBezTo>
                <a:cubicBezTo>
                  <a:pt x="17238" y="12409"/>
                  <a:pt x="17145" y="12460"/>
                  <a:pt x="17053" y="12511"/>
                </a:cubicBezTo>
                <a:cubicBezTo>
                  <a:pt x="16996" y="12542"/>
                  <a:pt x="16903" y="12581"/>
                  <a:pt x="16920" y="12664"/>
                </a:cubicBezTo>
                <a:cubicBezTo>
                  <a:pt x="16937" y="12747"/>
                  <a:pt x="17077" y="12810"/>
                  <a:pt x="17133" y="12862"/>
                </a:cubicBezTo>
                <a:cubicBezTo>
                  <a:pt x="17200" y="12925"/>
                  <a:pt x="17253" y="13006"/>
                  <a:pt x="17271" y="13098"/>
                </a:cubicBezTo>
                <a:cubicBezTo>
                  <a:pt x="17288" y="13183"/>
                  <a:pt x="17283" y="13279"/>
                  <a:pt x="17233" y="13352"/>
                </a:cubicBezTo>
                <a:cubicBezTo>
                  <a:pt x="17172" y="13442"/>
                  <a:pt x="17049" y="13469"/>
                  <a:pt x="16948" y="13473"/>
                </a:cubicBezTo>
                <a:cubicBezTo>
                  <a:pt x="16833" y="13478"/>
                  <a:pt x="16755" y="13422"/>
                  <a:pt x="16668" y="1335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132000" y="3227400"/>
            <a:ext cx="2336760" cy="536400"/>
          </a:xfrm>
          <a:custGeom>
            <a:avLst/>
            <a:gdLst/>
            <a:ahLst/>
            <a:rect l="l" t="t" r="r" b="b"/>
            <a:pathLst>
              <a:path w="6491" h="1493">
                <a:moveTo>
                  <a:pt x="9360" y="9195"/>
                </a:moveTo>
                <a:cubicBezTo>
                  <a:pt x="9360" y="9216"/>
                  <a:pt x="9364" y="9234"/>
                  <a:pt x="9364" y="9255"/>
                </a:cubicBezTo>
                <a:cubicBezTo>
                  <a:pt x="9365" y="9303"/>
                  <a:pt x="9370" y="9350"/>
                  <a:pt x="9374" y="9398"/>
                </a:cubicBezTo>
                <a:cubicBezTo>
                  <a:pt x="9379" y="9464"/>
                  <a:pt x="9378" y="9530"/>
                  <a:pt x="9378" y="9597"/>
                </a:cubicBezTo>
                <a:cubicBezTo>
                  <a:pt x="9378" y="9638"/>
                  <a:pt x="9377" y="9677"/>
                  <a:pt x="9388" y="9717"/>
                </a:cubicBezTo>
                <a:cubicBezTo>
                  <a:pt x="9391" y="9730"/>
                  <a:pt x="9393" y="9741"/>
                  <a:pt x="9397" y="9754"/>
                </a:cubicBezTo>
              </a:path>
              <a:path w="6491" h="1493">
                <a:moveTo>
                  <a:pt x="8729" y="9477"/>
                </a:moveTo>
                <a:cubicBezTo>
                  <a:pt x="8716" y="9445"/>
                  <a:pt x="8698" y="9441"/>
                  <a:pt x="8700" y="9398"/>
                </a:cubicBezTo>
                <a:cubicBezTo>
                  <a:pt x="8704" y="9321"/>
                  <a:pt x="8735" y="9280"/>
                  <a:pt x="8786" y="9223"/>
                </a:cubicBezTo>
                <a:cubicBezTo>
                  <a:pt x="8875" y="9123"/>
                  <a:pt x="8976" y="9060"/>
                  <a:pt x="9099" y="9010"/>
                </a:cubicBezTo>
                <a:cubicBezTo>
                  <a:pt x="9210" y="8965"/>
                  <a:pt x="9361" y="8928"/>
                  <a:pt x="9464" y="9010"/>
                </a:cubicBezTo>
                <a:cubicBezTo>
                  <a:pt x="9529" y="9062"/>
                  <a:pt x="9535" y="9155"/>
                  <a:pt x="9530" y="9232"/>
                </a:cubicBezTo>
                <a:cubicBezTo>
                  <a:pt x="9525" y="9310"/>
                  <a:pt x="9495" y="9388"/>
                  <a:pt x="9502" y="9467"/>
                </a:cubicBezTo>
                <a:cubicBezTo>
                  <a:pt x="9509" y="9551"/>
                  <a:pt x="9567" y="9563"/>
                  <a:pt x="9630" y="9601"/>
                </a:cubicBezTo>
                <a:cubicBezTo>
                  <a:pt x="9704" y="9645"/>
                  <a:pt x="9784" y="9680"/>
                  <a:pt x="9848" y="9740"/>
                </a:cubicBezTo>
                <a:cubicBezTo>
                  <a:pt x="9918" y="9805"/>
                  <a:pt x="9929" y="9878"/>
                  <a:pt x="9924" y="9971"/>
                </a:cubicBezTo>
                <a:cubicBezTo>
                  <a:pt x="9916" y="10114"/>
                  <a:pt x="9831" y="10283"/>
                  <a:pt x="9706" y="10359"/>
                </a:cubicBezTo>
                <a:cubicBezTo>
                  <a:pt x="9560" y="10448"/>
                  <a:pt x="9319" y="10457"/>
                  <a:pt x="9179" y="10350"/>
                </a:cubicBezTo>
                <a:cubicBezTo>
                  <a:pt x="9125" y="10293"/>
                  <a:pt x="9107" y="10277"/>
                  <a:pt x="9094" y="10225"/>
                </a:cubicBezTo>
              </a:path>
              <a:path w="6491" h="1493">
                <a:moveTo>
                  <a:pt x="10038" y="9412"/>
                </a:moveTo>
                <a:cubicBezTo>
                  <a:pt x="10032" y="9418"/>
                  <a:pt x="10027" y="9414"/>
                  <a:pt x="10019" y="9426"/>
                </a:cubicBezTo>
                <a:cubicBezTo>
                  <a:pt x="10006" y="9446"/>
                  <a:pt x="9998" y="9461"/>
                  <a:pt x="9995" y="9486"/>
                </a:cubicBezTo>
                <a:cubicBezTo>
                  <a:pt x="9982" y="9601"/>
                  <a:pt x="10004" y="9721"/>
                  <a:pt x="10033" y="9832"/>
                </a:cubicBezTo>
                <a:cubicBezTo>
                  <a:pt x="10064" y="9952"/>
                  <a:pt x="10112" y="10099"/>
                  <a:pt x="10228" y="10165"/>
                </a:cubicBezTo>
                <a:cubicBezTo>
                  <a:pt x="10324" y="10220"/>
                  <a:pt x="10423" y="10158"/>
                  <a:pt x="10484" y="10082"/>
                </a:cubicBezTo>
                <a:cubicBezTo>
                  <a:pt x="10554" y="9995"/>
                  <a:pt x="10590" y="9888"/>
                  <a:pt x="10617" y="9782"/>
                </a:cubicBezTo>
                <a:cubicBezTo>
                  <a:pt x="10648" y="9659"/>
                  <a:pt x="10658" y="9532"/>
                  <a:pt x="10678" y="9407"/>
                </a:cubicBezTo>
                <a:cubicBezTo>
                  <a:pt x="10683" y="9365"/>
                  <a:pt x="10685" y="9350"/>
                  <a:pt x="10697" y="9324"/>
                </a:cubicBezTo>
              </a:path>
              <a:path w="6491" h="1493">
                <a:moveTo>
                  <a:pt x="11684" y="9218"/>
                </a:moveTo>
                <a:cubicBezTo>
                  <a:pt x="11666" y="9213"/>
                  <a:pt x="11647" y="9204"/>
                  <a:pt x="11627" y="9200"/>
                </a:cubicBezTo>
                <a:cubicBezTo>
                  <a:pt x="11567" y="9188"/>
                  <a:pt x="11502" y="9193"/>
                  <a:pt x="11442" y="9204"/>
                </a:cubicBezTo>
                <a:cubicBezTo>
                  <a:pt x="11357" y="9219"/>
                  <a:pt x="11281" y="9250"/>
                  <a:pt x="11210" y="9301"/>
                </a:cubicBezTo>
                <a:cubicBezTo>
                  <a:pt x="11154" y="9341"/>
                  <a:pt x="11113" y="9394"/>
                  <a:pt x="11101" y="9463"/>
                </a:cubicBezTo>
                <a:cubicBezTo>
                  <a:pt x="11090" y="9527"/>
                  <a:pt x="11155" y="9595"/>
                  <a:pt x="11195" y="9638"/>
                </a:cubicBezTo>
                <a:cubicBezTo>
                  <a:pt x="11283" y="9732"/>
                  <a:pt x="11375" y="9823"/>
                  <a:pt x="11418" y="9948"/>
                </a:cubicBezTo>
                <a:cubicBezTo>
                  <a:pt x="11448" y="10035"/>
                  <a:pt x="11447" y="10119"/>
                  <a:pt x="11418" y="10206"/>
                </a:cubicBezTo>
                <a:cubicBezTo>
                  <a:pt x="11394" y="10277"/>
                  <a:pt x="11344" y="10328"/>
                  <a:pt x="11276" y="10359"/>
                </a:cubicBezTo>
                <a:cubicBezTo>
                  <a:pt x="11187" y="10399"/>
                  <a:pt x="11100" y="10351"/>
                  <a:pt x="11025" y="10303"/>
                </a:cubicBezTo>
                <a:cubicBezTo>
                  <a:pt x="10974" y="10267"/>
                  <a:pt x="10957" y="10256"/>
                  <a:pt x="10930" y="10225"/>
                </a:cubicBezTo>
              </a:path>
              <a:path w="6491" h="1493">
                <a:moveTo>
                  <a:pt x="12087" y="9352"/>
                </a:moveTo>
                <a:cubicBezTo>
                  <a:pt x="12082" y="9422"/>
                  <a:pt x="12053" y="9483"/>
                  <a:pt x="12035" y="9551"/>
                </a:cubicBezTo>
                <a:cubicBezTo>
                  <a:pt x="12006" y="9663"/>
                  <a:pt x="11976" y="9774"/>
                  <a:pt x="11954" y="9888"/>
                </a:cubicBezTo>
                <a:cubicBezTo>
                  <a:pt x="11937" y="9977"/>
                  <a:pt x="11923" y="10061"/>
                  <a:pt x="11921" y="10151"/>
                </a:cubicBezTo>
              </a:path>
              <a:path w="6491" h="1493">
                <a:moveTo>
                  <a:pt x="12538" y="9347"/>
                </a:moveTo>
                <a:cubicBezTo>
                  <a:pt x="12533" y="9375"/>
                  <a:pt x="12528" y="9402"/>
                  <a:pt x="12524" y="9431"/>
                </a:cubicBezTo>
                <a:cubicBezTo>
                  <a:pt x="12509" y="9539"/>
                  <a:pt x="12491" y="9646"/>
                  <a:pt x="12476" y="9754"/>
                </a:cubicBezTo>
                <a:cubicBezTo>
                  <a:pt x="12457" y="9888"/>
                  <a:pt x="12439" y="10023"/>
                  <a:pt x="12415" y="10156"/>
                </a:cubicBezTo>
                <a:cubicBezTo>
                  <a:pt x="12407" y="10203"/>
                  <a:pt x="12404" y="10252"/>
                  <a:pt x="12396" y="10299"/>
                </a:cubicBezTo>
                <a:cubicBezTo>
                  <a:pt x="12396" y="10293"/>
                  <a:pt x="12396" y="10286"/>
                  <a:pt x="12396" y="10280"/>
                </a:cubicBezTo>
                <a:cubicBezTo>
                  <a:pt x="12398" y="10202"/>
                  <a:pt x="12408" y="10126"/>
                  <a:pt x="12419" y="10049"/>
                </a:cubicBezTo>
                <a:cubicBezTo>
                  <a:pt x="12438" y="9923"/>
                  <a:pt x="12458" y="9797"/>
                  <a:pt x="12476" y="9671"/>
                </a:cubicBezTo>
                <a:cubicBezTo>
                  <a:pt x="12488" y="9586"/>
                  <a:pt x="12502" y="9465"/>
                  <a:pt x="12547" y="9389"/>
                </a:cubicBezTo>
                <a:cubicBezTo>
                  <a:pt x="12550" y="9386"/>
                  <a:pt x="12554" y="9383"/>
                  <a:pt x="12557" y="9380"/>
                </a:cubicBezTo>
                <a:cubicBezTo>
                  <a:pt x="12583" y="9408"/>
                  <a:pt x="12593" y="9432"/>
                  <a:pt x="12604" y="9481"/>
                </a:cubicBezTo>
                <a:cubicBezTo>
                  <a:pt x="12628" y="9583"/>
                  <a:pt x="12651" y="9684"/>
                  <a:pt x="12675" y="9786"/>
                </a:cubicBezTo>
                <a:cubicBezTo>
                  <a:pt x="12697" y="9880"/>
                  <a:pt x="12717" y="9967"/>
                  <a:pt x="12756" y="10054"/>
                </a:cubicBezTo>
                <a:cubicBezTo>
                  <a:pt x="12780" y="10107"/>
                  <a:pt x="12771" y="10078"/>
                  <a:pt x="12808" y="10091"/>
                </a:cubicBezTo>
                <a:cubicBezTo>
                  <a:pt x="12841" y="10028"/>
                  <a:pt x="12866" y="9965"/>
                  <a:pt x="12889" y="9897"/>
                </a:cubicBezTo>
                <a:cubicBezTo>
                  <a:pt x="12932" y="9766"/>
                  <a:pt x="12962" y="9634"/>
                  <a:pt x="12993" y="9500"/>
                </a:cubicBezTo>
                <a:cubicBezTo>
                  <a:pt x="13013" y="9415"/>
                  <a:pt x="13052" y="9307"/>
                  <a:pt x="13041" y="9218"/>
                </a:cubicBezTo>
                <a:cubicBezTo>
                  <a:pt x="13027" y="9171"/>
                  <a:pt x="13021" y="9131"/>
                  <a:pt x="13022" y="9163"/>
                </a:cubicBezTo>
              </a:path>
              <a:path w="6491" h="1493">
                <a:moveTo>
                  <a:pt x="13572" y="9481"/>
                </a:moveTo>
                <a:cubicBezTo>
                  <a:pt x="13572" y="9536"/>
                  <a:pt x="13565" y="9588"/>
                  <a:pt x="13558" y="9643"/>
                </a:cubicBezTo>
                <a:cubicBezTo>
                  <a:pt x="13542" y="9759"/>
                  <a:pt x="13524" y="9874"/>
                  <a:pt x="13501" y="9989"/>
                </a:cubicBezTo>
                <a:cubicBezTo>
                  <a:pt x="13486" y="10066"/>
                  <a:pt x="13466" y="10143"/>
                  <a:pt x="13449" y="10220"/>
                </a:cubicBezTo>
              </a:path>
              <a:path w="6491" h="1493">
                <a:moveTo>
                  <a:pt x="13563" y="9287"/>
                </a:moveTo>
                <a:cubicBezTo>
                  <a:pt x="13583" y="9270"/>
                  <a:pt x="13610" y="9252"/>
                  <a:pt x="13638" y="9241"/>
                </a:cubicBezTo>
                <a:cubicBezTo>
                  <a:pt x="13700" y="9216"/>
                  <a:pt x="13756" y="9210"/>
                  <a:pt x="13823" y="9209"/>
                </a:cubicBezTo>
                <a:cubicBezTo>
                  <a:pt x="13837" y="9209"/>
                  <a:pt x="13852" y="9209"/>
                  <a:pt x="13866" y="9209"/>
                </a:cubicBezTo>
              </a:path>
              <a:path w="6491" h="1493">
                <a:moveTo>
                  <a:pt x="13439" y="9869"/>
                </a:moveTo>
                <a:cubicBezTo>
                  <a:pt x="13482" y="9851"/>
                  <a:pt x="13525" y="9835"/>
                  <a:pt x="13567" y="9814"/>
                </a:cubicBezTo>
                <a:cubicBezTo>
                  <a:pt x="13643" y="9776"/>
                  <a:pt x="13715" y="9740"/>
                  <a:pt x="13795" y="9712"/>
                </a:cubicBezTo>
                <a:cubicBezTo>
                  <a:pt x="13808" y="9707"/>
                  <a:pt x="13820" y="9703"/>
                  <a:pt x="13833" y="9698"/>
                </a:cubicBezTo>
              </a:path>
              <a:path w="6491" h="1493">
                <a:moveTo>
                  <a:pt x="13245" y="10428"/>
                </a:moveTo>
                <a:cubicBezTo>
                  <a:pt x="13263" y="10449"/>
                  <a:pt x="13267" y="10447"/>
                  <a:pt x="13302" y="10451"/>
                </a:cubicBezTo>
                <a:cubicBezTo>
                  <a:pt x="13382" y="10461"/>
                  <a:pt x="13459" y="10454"/>
                  <a:pt x="13539" y="10447"/>
                </a:cubicBezTo>
                <a:cubicBezTo>
                  <a:pt x="13604" y="10442"/>
                  <a:pt x="13624" y="10440"/>
                  <a:pt x="13667" y="10442"/>
                </a:cubicBezTo>
              </a:path>
              <a:path w="6491" h="1493">
                <a:moveTo>
                  <a:pt x="14568" y="9186"/>
                </a:moveTo>
                <a:cubicBezTo>
                  <a:pt x="14499" y="9186"/>
                  <a:pt x="14431" y="9181"/>
                  <a:pt x="14364" y="9200"/>
                </a:cubicBezTo>
                <a:cubicBezTo>
                  <a:pt x="14274" y="9225"/>
                  <a:pt x="14176" y="9288"/>
                  <a:pt x="14113" y="9357"/>
                </a:cubicBezTo>
                <a:cubicBezTo>
                  <a:pt x="14053" y="9423"/>
                  <a:pt x="14033" y="9508"/>
                  <a:pt x="14065" y="9592"/>
                </a:cubicBezTo>
                <a:cubicBezTo>
                  <a:pt x="14114" y="9721"/>
                  <a:pt x="14251" y="9799"/>
                  <a:pt x="14345" y="9892"/>
                </a:cubicBezTo>
                <a:cubicBezTo>
                  <a:pt x="14418" y="9964"/>
                  <a:pt x="14469" y="10047"/>
                  <a:pt x="14473" y="10151"/>
                </a:cubicBezTo>
                <a:cubicBezTo>
                  <a:pt x="14476" y="10243"/>
                  <a:pt x="14437" y="10316"/>
                  <a:pt x="14369" y="10377"/>
                </a:cubicBezTo>
                <a:cubicBezTo>
                  <a:pt x="14313" y="10427"/>
                  <a:pt x="14249" y="10452"/>
                  <a:pt x="14175" y="10451"/>
                </a:cubicBezTo>
                <a:cubicBezTo>
                  <a:pt x="14136" y="10447"/>
                  <a:pt x="14123" y="10445"/>
                  <a:pt x="14099" y="10433"/>
                </a:cubicBezTo>
              </a:path>
              <a:path w="6491" h="1493">
                <a:moveTo>
                  <a:pt x="15190" y="9218"/>
                </a:moveTo>
                <a:cubicBezTo>
                  <a:pt x="15124" y="9218"/>
                  <a:pt x="15072" y="9228"/>
                  <a:pt x="15009" y="9250"/>
                </a:cubicBezTo>
                <a:cubicBezTo>
                  <a:pt x="14954" y="9270"/>
                  <a:pt x="14876" y="9313"/>
                  <a:pt x="14848" y="9370"/>
                </a:cubicBezTo>
                <a:cubicBezTo>
                  <a:pt x="14818" y="9432"/>
                  <a:pt x="14870" y="9495"/>
                  <a:pt x="14910" y="9537"/>
                </a:cubicBezTo>
                <a:cubicBezTo>
                  <a:pt x="14971" y="9601"/>
                  <a:pt x="15048" y="9646"/>
                  <a:pt x="15104" y="9717"/>
                </a:cubicBezTo>
                <a:cubicBezTo>
                  <a:pt x="15158" y="9785"/>
                  <a:pt x="15183" y="9875"/>
                  <a:pt x="15171" y="9962"/>
                </a:cubicBezTo>
                <a:cubicBezTo>
                  <a:pt x="15158" y="10057"/>
                  <a:pt x="15093" y="10136"/>
                  <a:pt x="15024" y="10197"/>
                </a:cubicBezTo>
                <a:cubicBezTo>
                  <a:pt x="14961" y="10252"/>
                  <a:pt x="14889" y="10278"/>
                  <a:pt x="14805" y="10276"/>
                </a:cubicBezTo>
                <a:cubicBezTo>
                  <a:pt x="14793" y="10274"/>
                  <a:pt x="14780" y="10273"/>
                  <a:pt x="14768" y="1027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127320" y="2844720"/>
            <a:ext cx="2530440" cy="1230480"/>
          </a:xfrm>
          <a:custGeom>
            <a:avLst/>
            <a:gdLst/>
            <a:ahLst/>
            <a:rect l="l" t="t" r="r" b="b"/>
            <a:pathLst>
              <a:path w="7027" h="3416">
                <a:moveTo>
                  <a:pt x="7943" y="8339"/>
                </a:moveTo>
                <a:cubicBezTo>
                  <a:pt x="7956" y="8339"/>
                  <a:pt x="7958" y="8339"/>
                  <a:pt x="7971" y="8339"/>
                </a:cubicBezTo>
                <a:cubicBezTo>
                  <a:pt x="8188" y="8339"/>
                  <a:pt x="8371" y="8387"/>
                  <a:pt x="8583" y="8422"/>
                </a:cubicBezTo>
                <a:cubicBezTo>
                  <a:pt x="8919" y="8477"/>
                  <a:pt x="9268" y="8458"/>
                  <a:pt x="9608" y="8473"/>
                </a:cubicBezTo>
                <a:cubicBezTo>
                  <a:pt x="9981" y="8490"/>
                  <a:pt x="10353" y="8497"/>
                  <a:pt x="10727" y="8505"/>
                </a:cubicBezTo>
                <a:cubicBezTo>
                  <a:pt x="11420" y="8519"/>
                  <a:pt x="12106" y="8593"/>
                  <a:pt x="12800" y="8588"/>
                </a:cubicBezTo>
                <a:cubicBezTo>
                  <a:pt x="13399" y="8583"/>
                  <a:pt x="13996" y="8538"/>
                  <a:pt x="14594" y="8528"/>
                </a:cubicBezTo>
                <a:cubicBezTo>
                  <a:pt x="14730" y="8526"/>
                  <a:pt x="14838" y="8548"/>
                  <a:pt x="14959" y="8570"/>
                </a:cubicBezTo>
                <a:cubicBezTo>
                  <a:pt x="14934" y="8660"/>
                  <a:pt x="14901" y="8764"/>
                  <a:pt x="14874" y="8861"/>
                </a:cubicBezTo>
                <a:cubicBezTo>
                  <a:pt x="14843" y="8970"/>
                  <a:pt x="14823" y="9083"/>
                  <a:pt x="14802" y="9194"/>
                </a:cubicBezTo>
                <a:cubicBezTo>
                  <a:pt x="14663" y="9936"/>
                  <a:pt x="14632" y="10657"/>
                  <a:pt x="14665" y="11407"/>
                </a:cubicBezTo>
                <a:cubicBezTo>
                  <a:pt x="14669" y="11488"/>
                  <a:pt x="14664" y="11573"/>
                  <a:pt x="14665" y="11652"/>
                </a:cubicBezTo>
                <a:cubicBezTo>
                  <a:pt x="14590" y="11654"/>
                  <a:pt x="14509" y="11656"/>
                  <a:pt x="14432" y="11657"/>
                </a:cubicBezTo>
                <a:cubicBezTo>
                  <a:pt x="14037" y="11663"/>
                  <a:pt x="13645" y="11704"/>
                  <a:pt x="13251" y="11731"/>
                </a:cubicBezTo>
                <a:cubicBezTo>
                  <a:pt x="12911" y="11755"/>
                  <a:pt x="12567" y="11753"/>
                  <a:pt x="12226" y="11754"/>
                </a:cubicBezTo>
                <a:cubicBezTo>
                  <a:pt x="11734" y="11756"/>
                  <a:pt x="11241" y="11701"/>
                  <a:pt x="10751" y="11661"/>
                </a:cubicBezTo>
                <a:cubicBezTo>
                  <a:pt x="10277" y="11623"/>
                  <a:pt x="9808" y="11607"/>
                  <a:pt x="9333" y="11592"/>
                </a:cubicBezTo>
                <a:cubicBezTo>
                  <a:pt x="9025" y="11582"/>
                  <a:pt x="8721" y="11564"/>
                  <a:pt x="8412" y="11564"/>
                </a:cubicBezTo>
                <a:cubicBezTo>
                  <a:pt x="8285" y="11564"/>
                  <a:pt x="8139" y="11569"/>
                  <a:pt x="8023" y="1157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103560" y="2841480"/>
            <a:ext cx="34920" cy="1260720"/>
          </a:xfrm>
          <a:custGeom>
            <a:avLst/>
            <a:gdLst/>
            <a:ahLst/>
            <a:rect l="l" t="t" r="r" b="b"/>
            <a:pathLst>
              <a:path w="96" h="3504">
                <a:moveTo>
                  <a:pt x="7871" y="8329"/>
                </a:moveTo>
                <a:cubicBezTo>
                  <a:pt x="7871" y="8586"/>
                  <a:pt x="7886" y="8841"/>
                  <a:pt x="7900" y="9097"/>
                </a:cubicBezTo>
                <a:cubicBezTo>
                  <a:pt x="7909" y="9268"/>
                  <a:pt x="7918" y="9439"/>
                  <a:pt x="7924" y="9610"/>
                </a:cubicBezTo>
                <a:cubicBezTo>
                  <a:pt x="7931" y="9804"/>
                  <a:pt x="7941" y="9998"/>
                  <a:pt x="7947" y="10192"/>
                </a:cubicBezTo>
                <a:cubicBezTo>
                  <a:pt x="7953" y="10374"/>
                  <a:pt x="7965" y="10555"/>
                  <a:pt x="7966" y="10737"/>
                </a:cubicBezTo>
                <a:cubicBezTo>
                  <a:pt x="7967" y="10968"/>
                  <a:pt x="7970" y="11199"/>
                  <a:pt x="7957" y="11430"/>
                </a:cubicBezTo>
                <a:cubicBezTo>
                  <a:pt x="7950" y="11564"/>
                  <a:pt x="7931" y="11697"/>
                  <a:pt x="7928" y="1183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67200" y="1147680"/>
            <a:ext cx="2628720" cy="1201680"/>
          </a:xfrm>
          <a:custGeom>
            <a:avLst/>
            <a:gdLst/>
            <a:ahLst/>
            <a:rect l="l" t="t" r="r" b="b"/>
            <a:pathLst>
              <a:path w="7302" h="3338">
                <a:moveTo>
                  <a:pt x="8075" y="4581"/>
                </a:moveTo>
                <a:cubicBezTo>
                  <a:pt x="8075" y="4594"/>
                  <a:pt x="8071" y="4592"/>
                  <a:pt x="8071" y="4605"/>
                </a:cubicBezTo>
                <a:cubicBezTo>
                  <a:pt x="8068" y="4699"/>
                  <a:pt x="8066" y="4792"/>
                  <a:pt x="8066" y="4886"/>
                </a:cubicBezTo>
                <a:cubicBezTo>
                  <a:pt x="8063" y="5513"/>
                  <a:pt x="8077" y="6129"/>
                  <a:pt x="8014" y="6753"/>
                </a:cubicBezTo>
                <a:cubicBezTo>
                  <a:pt x="8014" y="6755"/>
                  <a:pt x="8014" y="6756"/>
                  <a:pt x="8014" y="6758"/>
                </a:cubicBezTo>
                <a:cubicBezTo>
                  <a:pt x="8025" y="6581"/>
                  <a:pt x="8037" y="6404"/>
                  <a:pt x="8042" y="6227"/>
                </a:cubicBezTo>
                <a:cubicBezTo>
                  <a:pt x="8054" y="5815"/>
                  <a:pt x="7878" y="4906"/>
                  <a:pt x="8090" y="4558"/>
                </a:cubicBezTo>
                <a:cubicBezTo>
                  <a:pt x="8184" y="4404"/>
                  <a:pt x="8513" y="4405"/>
                  <a:pt x="8664" y="4383"/>
                </a:cubicBezTo>
                <a:cubicBezTo>
                  <a:pt x="9976" y="4191"/>
                  <a:pt x="11250" y="4210"/>
                  <a:pt x="12568" y="4313"/>
                </a:cubicBezTo>
                <a:cubicBezTo>
                  <a:pt x="13194" y="4362"/>
                  <a:pt x="14488" y="4239"/>
                  <a:pt x="15035" y="4600"/>
                </a:cubicBezTo>
                <a:cubicBezTo>
                  <a:pt x="15161" y="4683"/>
                  <a:pt x="15173" y="4808"/>
                  <a:pt x="15168" y="4951"/>
                </a:cubicBezTo>
                <a:cubicBezTo>
                  <a:pt x="15160" y="5186"/>
                  <a:pt x="15067" y="5438"/>
                  <a:pt x="15016" y="5667"/>
                </a:cubicBezTo>
                <a:cubicBezTo>
                  <a:pt x="14906" y="6158"/>
                  <a:pt x="14967" y="6965"/>
                  <a:pt x="14750" y="7405"/>
                </a:cubicBezTo>
                <a:cubicBezTo>
                  <a:pt x="14722" y="7461"/>
                  <a:pt x="14724" y="7481"/>
                  <a:pt x="14670" y="7516"/>
                </a:cubicBezTo>
                <a:cubicBezTo>
                  <a:pt x="14603" y="7560"/>
                  <a:pt x="14506" y="7513"/>
                  <a:pt x="14437" y="7511"/>
                </a:cubicBezTo>
                <a:cubicBezTo>
                  <a:pt x="13777" y="7494"/>
                  <a:pt x="13124" y="7534"/>
                  <a:pt x="12464" y="7534"/>
                </a:cubicBezTo>
                <a:cubicBezTo>
                  <a:pt x="11448" y="7534"/>
                  <a:pt x="10431" y="7567"/>
                  <a:pt x="9418" y="7465"/>
                </a:cubicBezTo>
                <a:cubicBezTo>
                  <a:pt x="9139" y="7437"/>
                  <a:pt x="8102" y="7447"/>
                  <a:pt x="7895" y="7197"/>
                </a:cubicBezTo>
                <a:cubicBezTo>
                  <a:pt x="7881" y="7181"/>
                  <a:pt x="7882" y="7172"/>
                  <a:pt x="7871" y="7151"/>
                </a:cubicBezTo>
                <a:cubicBezTo>
                  <a:pt x="7825" y="7063"/>
                  <a:pt x="7869" y="6827"/>
                  <a:pt x="7867" y="672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3635280" y="1484280"/>
            <a:ext cx="981000" cy="376200"/>
          </a:xfrm>
          <a:custGeom>
            <a:avLst/>
            <a:gdLst/>
            <a:ahLst/>
            <a:rect l="l" t="t" r="r" b="b"/>
            <a:pathLst>
              <a:path w="2725" h="1046">
                <a:moveTo>
                  <a:pt x="10324" y="5162"/>
                </a:moveTo>
                <a:cubicBezTo>
                  <a:pt x="10313" y="5160"/>
                  <a:pt x="10305" y="5160"/>
                  <a:pt x="10295" y="5157"/>
                </a:cubicBezTo>
                <a:cubicBezTo>
                  <a:pt x="10277" y="5151"/>
                  <a:pt x="10262" y="5145"/>
                  <a:pt x="10243" y="5143"/>
                </a:cubicBezTo>
                <a:cubicBezTo>
                  <a:pt x="10159" y="5136"/>
                  <a:pt x="10053" y="5132"/>
                  <a:pt x="9973" y="5157"/>
                </a:cubicBezTo>
                <a:cubicBezTo>
                  <a:pt x="9913" y="5176"/>
                  <a:pt x="9854" y="5202"/>
                  <a:pt x="9802" y="5236"/>
                </a:cubicBezTo>
                <a:cubicBezTo>
                  <a:pt x="9758" y="5265"/>
                  <a:pt x="9715" y="5301"/>
                  <a:pt x="9678" y="5338"/>
                </a:cubicBezTo>
                <a:cubicBezTo>
                  <a:pt x="9635" y="5381"/>
                  <a:pt x="9598" y="5430"/>
                  <a:pt x="9565" y="5481"/>
                </a:cubicBezTo>
                <a:cubicBezTo>
                  <a:pt x="9528" y="5537"/>
                  <a:pt x="9499" y="5602"/>
                  <a:pt x="9479" y="5666"/>
                </a:cubicBezTo>
                <a:cubicBezTo>
                  <a:pt x="9459" y="5730"/>
                  <a:pt x="9447" y="5797"/>
                  <a:pt x="9446" y="5864"/>
                </a:cubicBezTo>
                <a:cubicBezTo>
                  <a:pt x="9445" y="5926"/>
                  <a:pt x="9454" y="5976"/>
                  <a:pt x="9484" y="6031"/>
                </a:cubicBezTo>
                <a:cubicBezTo>
                  <a:pt x="9515" y="6088"/>
                  <a:pt x="9582" y="6133"/>
                  <a:pt x="9645" y="6146"/>
                </a:cubicBezTo>
                <a:cubicBezTo>
                  <a:pt x="9709" y="6159"/>
                  <a:pt x="9785" y="6154"/>
                  <a:pt x="9849" y="6146"/>
                </a:cubicBezTo>
                <a:cubicBezTo>
                  <a:pt x="9921" y="6137"/>
                  <a:pt x="9990" y="6120"/>
                  <a:pt x="10058" y="6096"/>
                </a:cubicBezTo>
                <a:cubicBezTo>
                  <a:pt x="10124" y="6072"/>
                  <a:pt x="10191" y="6036"/>
                  <a:pt x="10243" y="5989"/>
                </a:cubicBezTo>
                <a:cubicBezTo>
                  <a:pt x="10286" y="5950"/>
                  <a:pt x="10317" y="5912"/>
                  <a:pt x="10343" y="5860"/>
                </a:cubicBezTo>
                <a:cubicBezTo>
                  <a:pt x="10352" y="5841"/>
                  <a:pt x="10356" y="5825"/>
                  <a:pt x="10357" y="5804"/>
                </a:cubicBezTo>
                <a:cubicBezTo>
                  <a:pt x="10358" y="5789"/>
                  <a:pt x="10352" y="5776"/>
                  <a:pt x="10343" y="5767"/>
                </a:cubicBezTo>
                <a:cubicBezTo>
                  <a:pt x="10329" y="5753"/>
                  <a:pt x="10307" y="5749"/>
                  <a:pt x="10291" y="5744"/>
                </a:cubicBezTo>
                <a:cubicBezTo>
                  <a:pt x="10274" y="5739"/>
                  <a:pt x="10252" y="5735"/>
                  <a:pt x="10234" y="5730"/>
                </a:cubicBezTo>
                <a:cubicBezTo>
                  <a:pt x="10220" y="5726"/>
                  <a:pt x="10204" y="5725"/>
                  <a:pt x="10191" y="5721"/>
                </a:cubicBezTo>
                <a:cubicBezTo>
                  <a:pt x="10189" y="5720"/>
                  <a:pt x="10188" y="5718"/>
                  <a:pt x="10186" y="5717"/>
                </a:cubicBezTo>
                <a:cubicBezTo>
                  <a:pt x="10252" y="5717"/>
                  <a:pt x="10361" y="5703"/>
                  <a:pt x="10400" y="5772"/>
                </a:cubicBezTo>
                <a:cubicBezTo>
                  <a:pt x="10412" y="5794"/>
                  <a:pt x="10411" y="5826"/>
                  <a:pt x="10409" y="5851"/>
                </a:cubicBezTo>
                <a:cubicBezTo>
                  <a:pt x="10405" y="5890"/>
                  <a:pt x="10386" y="5927"/>
                  <a:pt x="10381" y="5966"/>
                </a:cubicBezTo>
                <a:cubicBezTo>
                  <a:pt x="10379" y="5978"/>
                  <a:pt x="10372" y="6083"/>
                  <a:pt x="10390" y="6086"/>
                </a:cubicBezTo>
                <a:cubicBezTo>
                  <a:pt x="10414" y="6090"/>
                  <a:pt x="10383" y="6177"/>
                  <a:pt x="10404" y="6063"/>
                </a:cubicBezTo>
                <a:cubicBezTo>
                  <a:pt x="10404" y="6058"/>
                  <a:pt x="10404" y="6054"/>
                  <a:pt x="10404" y="6049"/>
                </a:cubicBezTo>
              </a:path>
              <a:path w="2725" h="1046">
                <a:moveTo>
                  <a:pt x="10898" y="5277"/>
                </a:moveTo>
                <a:cubicBezTo>
                  <a:pt x="10895" y="5283"/>
                  <a:pt x="10892" y="5289"/>
                  <a:pt x="10888" y="5296"/>
                </a:cubicBezTo>
                <a:cubicBezTo>
                  <a:pt x="10879" y="5314"/>
                  <a:pt x="10872" y="5327"/>
                  <a:pt x="10865" y="5347"/>
                </a:cubicBezTo>
                <a:cubicBezTo>
                  <a:pt x="10853" y="5384"/>
                  <a:pt x="10844" y="5424"/>
                  <a:pt x="10836" y="5462"/>
                </a:cubicBezTo>
                <a:cubicBezTo>
                  <a:pt x="10822" y="5530"/>
                  <a:pt x="10818" y="5597"/>
                  <a:pt x="10817" y="5666"/>
                </a:cubicBezTo>
                <a:cubicBezTo>
                  <a:pt x="10816" y="5738"/>
                  <a:pt x="10828" y="5804"/>
                  <a:pt x="10860" y="5869"/>
                </a:cubicBezTo>
                <a:cubicBezTo>
                  <a:pt x="10888" y="5925"/>
                  <a:pt x="10935" y="5965"/>
                  <a:pt x="10993" y="5989"/>
                </a:cubicBezTo>
                <a:cubicBezTo>
                  <a:pt x="11063" y="6018"/>
                  <a:pt x="11145" y="6007"/>
                  <a:pt x="11216" y="5985"/>
                </a:cubicBezTo>
                <a:cubicBezTo>
                  <a:pt x="11306" y="5957"/>
                  <a:pt x="11377" y="5881"/>
                  <a:pt x="11434" y="5809"/>
                </a:cubicBezTo>
                <a:cubicBezTo>
                  <a:pt x="11524" y="5696"/>
                  <a:pt x="11591" y="5560"/>
                  <a:pt x="11638" y="5425"/>
                </a:cubicBezTo>
                <a:cubicBezTo>
                  <a:pt x="11650" y="5391"/>
                  <a:pt x="11651" y="5353"/>
                  <a:pt x="11657" y="5319"/>
                </a:cubicBezTo>
                <a:cubicBezTo>
                  <a:pt x="11657" y="5317"/>
                  <a:pt x="11657" y="5316"/>
                  <a:pt x="11657" y="5314"/>
                </a:cubicBezTo>
              </a:path>
              <a:path w="2725" h="1046">
                <a:moveTo>
                  <a:pt x="12165" y="5310"/>
                </a:moveTo>
                <a:cubicBezTo>
                  <a:pt x="12167" y="5317"/>
                  <a:pt x="12170" y="5332"/>
                  <a:pt x="12170" y="5347"/>
                </a:cubicBezTo>
                <a:cubicBezTo>
                  <a:pt x="12170" y="5441"/>
                  <a:pt x="12171" y="5535"/>
                  <a:pt x="12165" y="5629"/>
                </a:cubicBezTo>
                <a:cubicBezTo>
                  <a:pt x="12159" y="5729"/>
                  <a:pt x="12165" y="5829"/>
                  <a:pt x="12165" y="5929"/>
                </a:cubicBezTo>
                <a:cubicBezTo>
                  <a:pt x="12165" y="6015"/>
                  <a:pt x="12165" y="6102"/>
                  <a:pt x="12165" y="618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171960" y="4721400"/>
            <a:ext cx="31680" cy="1064880"/>
          </a:xfrm>
          <a:custGeom>
            <a:avLst/>
            <a:gdLst/>
            <a:ahLst/>
            <a:rect l="l" t="t" r="r" b="b"/>
            <a:pathLst>
              <a:path w="91" h="2959">
                <a:moveTo>
                  <a:pt x="7956" y="12996"/>
                </a:moveTo>
                <a:cubicBezTo>
                  <a:pt x="7955" y="12986"/>
                  <a:pt x="7953" y="12981"/>
                  <a:pt x="7951" y="12973"/>
                </a:cubicBezTo>
                <a:cubicBezTo>
                  <a:pt x="7948" y="12976"/>
                  <a:pt x="7927" y="12963"/>
                  <a:pt x="7918" y="12978"/>
                </a:cubicBezTo>
                <a:cubicBezTo>
                  <a:pt x="7898" y="13011"/>
                  <a:pt x="7898" y="13067"/>
                  <a:pt x="7894" y="13103"/>
                </a:cubicBezTo>
                <a:cubicBezTo>
                  <a:pt x="7868" y="13329"/>
                  <a:pt x="7889" y="13560"/>
                  <a:pt x="7880" y="13787"/>
                </a:cubicBezTo>
                <a:cubicBezTo>
                  <a:pt x="7866" y="14136"/>
                  <a:pt x="7877" y="14487"/>
                  <a:pt x="7870" y="14836"/>
                </a:cubicBezTo>
                <a:cubicBezTo>
                  <a:pt x="7867" y="14963"/>
                  <a:pt x="7869" y="15088"/>
                  <a:pt x="7870" y="15215"/>
                </a:cubicBezTo>
                <a:cubicBezTo>
                  <a:pt x="7871" y="15452"/>
                  <a:pt x="7870" y="15690"/>
                  <a:pt x="7870" y="1592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595920" y="1450800"/>
            <a:ext cx="208080" cy="4354560"/>
          </a:xfrm>
          <a:custGeom>
            <a:avLst/>
            <a:gdLst/>
            <a:ahLst/>
            <a:rect l="l" t="t" r="r" b="b"/>
            <a:pathLst>
              <a:path w="580" h="12097">
                <a:moveTo>
                  <a:pt x="16232" y="4547"/>
                </a:moveTo>
                <a:cubicBezTo>
                  <a:pt x="16222" y="4656"/>
                  <a:pt x="16207" y="4762"/>
                  <a:pt x="16208" y="4875"/>
                </a:cubicBezTo>
                <a:cubicBezTo>
                  <a:pt x="16216" y="5695"/>
                  <a:pt x="16320" y="6498"/>
                  <a:pt x="16270" y="7320"/>
                </a:cubicBezTo>
                <a:cubicBezTo>
                  <a:pt x="16229" y="7995"/>
                  <a:pt x="16224" y="8671"/>
                  <a:pt x="16175" y="9345"/>
                </a:cubicBezTo>
                <a:cubicBezTo>
                  <a:pt x="16091" y="10517"/>
                  <a:pt x="15989" y="11687"/>
                  <a:pt x="15890" y="12858"/>
                </a:cubicBezTo>
                <a:cubicBezTo>
                  <a:pt x="15798" y="13946"/>
                  <a:pt x="15766" y="15027"/>
                  <a:pt x="15729" y="16116"/>
                </a:cubicBezTo>
                <a:cubicBezTo>
                  <a:pt x="15723" y="16299"/>
                  <a:pt x="15731" y="16464"/>
                  <a:pt x="15748" y="1664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588000" y="1341360"/>
            <a:ext cx="1063800" cy="4529160"/>
          </a:xfrm>
          <a:custGeom>
            <a:avLst/>
            <a:gdLst/>
            <a:ahLst/>
            <a:rect l="l" t="t" r="r" b="b"/>
            <a:pathLst>
              <a:path w="2953" h="12583">
                <a:moveTo>
                  <a:pt x="16312" y="4242"/>
                </a:moveTo>
                <a:cubicBezTo>
                  <a:pt x="16383" y="4270"/>
                  <a:pt x="16452" y="4345"/>
                  <a:pt x="16569" y="4362"/>
                </a:cubicBezTo>
                <a:cubicBezTo>
                  <a:pt x="17045" y="4431"/>
                  <a:pt x="17538" y="4340"/>
                  <a:pt x="18016" y="4418"/>
                </a:cubicBezTo>
                <a:cubicBezTo>
                  <a:pt x="18118" y="4435"/>
                  <a:pt x="18209" y="4466"/>
                  <a:pt x="18305" y="4492"/>
                </a:cubicBezTo>
                <a:cubicBezTo>
                  <a:pt x="18318" y="4495"/>
                  <a:pt x="18324" y="4526"/>
                  <a:pt x="18362" y="4533"/>
                </a:cubicBezTo>
                <a:cubicBezTo>
                  <a:pt x="18438" y="4547"/>
                  <a:pt x="18512" y="4537"/>
                  <a:pt x="18585" y="4547"/>
                </a:cubicBezTo>
                <a:cubicBezTo>
                  <a:pt x="18587" y="4547"/>
                  <a:pt x="18588" y="4547"/>
                  <a:pt x="18590" y="4547"/>
                </a:cubicBezTo>
                <a:cubicBezTo>
                  <a:pt x="18601" y="4912"/>
                  <a:pt x="18593" y="5278"/>
                  <a:pt x="18604" y="5643"/>
                </a:cubicBezTo>
                <a:cubicBezTo>
                  <a:pt x="18629" y="6465"/>
                  <a:pt x="18652" y="7283"/>
                  <a:pt x="18652" y="8106"/>
                </a:cubicBezTo>
                <a:cubicBezTo>
                  <a:pt x="18652" y="9295"/>
                  <a:pt x="18586" y="10487"/>
                  <a:pt x="18547" y="11675"/>
                </a:cubicBezTo>
                <a:cubicBezTo>
                  <a:pt x="18530" y="12196"/>
                  <a:pt x="18531" y="12717"/>
                  <a:pt x="18514" y="13237"/>
                </a:cubicBezTo>
                <a:cubicBezTo>
                  <a:pt x="18486" y="14102"/>
                  <a:pt x="18387" y="14954"/>
                  <a:pt x="18396" y="15821"/>
                </a:cubicBezTo>
                <a:cubicBezTo>
                  <a:pt x="18398" y="16066"/>
                  <a:pt x="18413" y="16317"/>
                  <a:pt x="18424" y="16556"/>
                </a:cubicBezTo>
                <a:cubicBezTo>
                  <a:pt x="18389" y="16557"/>
                  <a:pt x="18352" y="16549"/>
                  <a:pt x="18310" y="16551"/>
                </a:cubicBezTo>
                <a:cubicBezTo>
                  <a:pt x="17842" y="16574"/>
                  <a:pt x="17398" y="16710"/>
                  <a:pt x="16934" y="16768"/>
                </a:cubicBezTo>
                <a:cubicBezTo>
                  <a:pt x="16523" y="16819"/>
                  <a:pt x="16113" y="16818"/>
                  <a:pt x="15700" y="16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403280" y="1628640"/>
            <a:ext cx="365040" cy="3876840"/>
          </a:xfrm>
          <a:custGeom>
            <a:avLst/>
            <a:gdLst/>
            <a:ahLst/>
            <a:rect l="l" t="t" r="r" b="b"/>
            <a:pathLst>
              <a:path w="1016" h="10771">
                <a:moveTo>
                  <a:pt x="6100" y="5324"/>
                </a:moveTo>
                <a:cubicBezTo>
                  <a:pt x="6100" y="5409"/>
                  <a:pt x="6150" y="5741"/>
                  <a:pt x="6096" y="5786"/>
                </a:cubicBezTo>
                <a:cubicBezTo>
                  <a:pt x="6091" y="5781"/>
                  <a:pt x="6089" y="5778"/>
                  <a:pt x="6091" y="5772"/>
                </a:cubicBezTo>
              </a:path>
              <a:path w="1016" h="10771">
                <a:moveTo>
                  <a:pt x="5384" y="5684"/>
                </a:moveTo>
                <a:cubicBezTo>
                  <a:pt x="5355" y="5671"/>
                  <a:pt x="5340" y="5673"/>
                  <a:pt x="5317" y="5643"/>
                </a:cubicBezTo>
                <a:cubicBezTo>
                  <a:pt x="5292" y="5611"/>
                  <a:pt x="5285" y="5551"/>
                  <a:pt x="5298" y="5513"/>
                </a:cubicBezTo>
                <a:cubicBezTo>
                  <a:pt x="5331" y="5419"/>
                  <a:pt x="5429" y="5342"/>
                  <a:pt x="5503" y="5282"/>
                </a:cubicBezTo>
                <a:cubicBezTo>
                  <a:pt x="5611" y="5194"/>
                  <a:pt x="5732" y="5120"/>
                  <a:pt x="5873" y="5106"/>
                </a:cubicBezTo>
                <a:cubicBezTo>
                  <a:pt x="5985" y="5094"/>
                  <a:pt x="6100" y="5116"/>
                  <a:pt x="6191" y="5185"/>
                </a:cubicBezTo>
                <a:cubicBezTo>
                  <a:pt x="6268" y="5243"/>
                  <a:pt x="6302" y="5332"/>
                  <a:pt x="6309" y="5425"/>
                </a:cubicBezTo>
                <a:cubicBezTo>
                  <a:pt x="6317" y="5528"/>
                  <a:pt x="6289" y="5644"/>
                  <a:pt x="6252" y="5740"/>
                </a:cubicBezTo>
                <a:cubicBezTo>
                  <a:pt x="6212" y="5843"/>
                  <a:pt x="6145" y="5945"/>
                  <a:pt x="6034" y="5975"/>
                </a:cubicBezTo>
                <a:cubicBezTo>
                  <a:pt x="5977" y="5990"/>
                  <a:pt x="5925" y="5984"/>
                  <a:pt x="5868" y="5980"/>
                </a:cubicBezTo>
              </a:path>
              <a:path w="1016" h="10771">
                <a:moveTo>
                  <a:pt x="6048" y="6627"/>
                </a:moveTo>
                <a:cubicBezTo>
                  <a:pt x="6031" y="6641"/>
                  <a:pt x="6028" y="6657"/>
                  <a:pt x="6010" y="6683"/>
                </a:cubicBezTo>
                <a:cubicBezTo>
                  <a:pt x="5972" y="6740"/>
                  <a:pt x="5947" y="6802"/>
                  <a:pt x="5915" y="6863"/>
                </a:cubicBezTo>
                <a:cubicBezTo>
                  <a:pt x="5870" y="6947"/>
                  <a:pt x="5827" y="7032"/>
                  <a:pt x="5783" y="7117"/>
                </a:cubicBezTo>
                <a:cubicBezTo>
                  <a:pt x="5757" y="7167"/>
                  <a:pt x="5734" y="7225"/>
                  <a:pt x="5692" y="7265"/>
                </a:cubicBezTo>
                <a:cubicBezTo>
                  <a:pt x="5685" y="7272"/>
                  <a:pt x="5684" y="7275"/>
                  <a:pt x="5678" y="7274"/>
                </a:cubicBezTo>
                <a:cubicBezTo>
                  <a:pt x="5681" y="7232"/>
                  <a:pt x="5688" y="7200"/>
                  <a:pt x="5702" y="7159"/>
                </a:cubicBezTo>
                <a:cubicBezTo>
                  <a:pt x="5730" y="7080"/>
                  <a:pt x="5776" y="7005"/>
                  <a:pt x="5811" y="6928"/>
                </a:cubicBezTo>
                <a:cubicBezTo>
                  <a:pt x="5853" y="6837"/>
                  <a:pt x="5890" y="6746"/>
                  <a:pt x="5920" y="6650"/>
                </a:cubicBezTo>
                <a:cubicBezTo>
                  <a:pt x="5933" y="6609"/>
                  <a:pt x="5943" y="6569"/>
                  <a:pt x="5958" y="6530"/>
                </a:cubicBezTo>
                <a:cubicBezTo>
                  <a:pt x="5969" y="6559"/>
                  <a:pt x="5973" y="6589"/>
                  <a:pt x="5977" y="6622"/>
                </a:cubicBezTo>
                <a:cubicBezTo>
                  <a:pt x="5986" y="6706"/>
                  <a:pt x="6001" y="6791"/>
                  <a:pt x="6020" y="6872"/>
                </a:cubicBezTo>
                <a:cubicBezTo>
                  <a:pt x="6043" y="6971"/>
                  <a:pt x="6070" y="7070"/>
                  <a:pt x="6096" y="7168"/>
                </a:cubicBezTo>
                <a:cubicBezTo>
                  <a:pt x="6110" y="7219"/>
                  <a:pt x="6123" y="7272"/>
                  <a:pt x="6143" y="7320"/>
                </a:cubicBezTo>
                <a:cubicBezTo>
                  <a:pt x="6151" y="7331"/>
                  <a:pt x="6154" y="7331"/>
                  <a:pt x="6153" y="7339"/>
                </a:cubicBezTo>
                <a:cubicBezTo>
                  <a:pt x="6137" y="7321"/>
                  <a:pt x="6118" y="7303"/>
                  <a:pt x="6096" y="7288"/>
                </a:cubicBezTo>
                <a:cubicBezTo>
                  <a:pt x="6049" y="7256"/>
                  <a:pt x="6000" y="7236"/>
                  <a:pt x="5949" y="7214"/>
                </a:cubicBezTo>
                <a:cubicBezTo>
                  <a:pt x="5921" y="7201"/>
                  <a:pt x="5913" y="7196"/>
                  <a:pt x="5892" y="7196"/>
                </a:cubicBezTo>
              </a:path>
              <a:path w="1016" h="10771">
                <a:moveTo>
                  <a:pt x="5574" y="7963"/>
                </a:moveTo>
                <a:cubicBezTo>
                  <a:pt x="5534" y="7963"/>
                  <a:pt x="5576" y="7962"/>
                  <a:pt x="5593" y="7958"/>
                </a:cubicBezTo>
                <a:cubicBezTo>
                  <a:pt x="5664" y="7942"/>
                  <a:pt x="5732" y="7909"/>
                  <a:pt x="5801" y="7884"/>
                </a:cubicBezTo>
                <a:cubicBezTo>
                  <a:pt x="5878" y="7856"/>
                  <a:pt x="5954" y="7835"/>
                  <a:pt x="6034" y="7815"/>
                </a:cubicBezTo>
              </a:path>
              <a:path w="1016" h="10771">
                <a:moveTo>
                  <a:pt x="5844" y="8171"/>
                </a:moveTo>
                <a:cubicBezTo>
                  <a:pt x="5844" y="8195"/>
                  <a:pt x="5832" y="8212"/>
                  <a:pt x="5830" y="8236"/>
                </a:cubicBezTo>
                <a:cubicBezTo>
                  <a:pt x="5824" y="8302"/>
                  <a:pt x="5830" y="8372"/>
                  <a:pt x="5830" y="8439"/>
                </a:cubicBezTo>
              </a:path>
              <a:path w="1016" h="10771">
                <a:moveTo>
                  <a:pt x="5915" y="8943"/>
                </a:moveTo>
                <a:cubicBezTo>
                  <a:pt x="5911" y="8950"/>
                  <a:pt x="5897" y="8972"/>
                  <a:pt x="5892" y="8984"/>
                </a:cubicBezTo>
                <a:cubicBezTo>
                  <a:pt x="5867" y="9042"/>
                  <a:pt x="5855" y="9109"/>
                  <a:pt x="5835" y="9169"/>
                </a:cubicBezTo>
                <a:cubicBezTo>
                  <a:pt x="5804" y="9263"/>
                  <a:pt x="5774" y="9358"/>
                  <a:pt x="5740" y="9451"/>
                </a:cubicBezTo>
                <a:cubicBezTo>
                  <a:pt x="5712" y="9527"/>
                  <a:pt x="5675" y="9601"/>
                  <a:pt x="5650" y="9678"/>
                </a:cubicBezTo>
                <a:cubicBezTo>
                  <a:pt x="5638" y="9714"/>
                  <a:pt x="5631" y="9748"/>
                  <a:pt x="5607" y="9779"/>
                </a:cubicBezTo>
                <a:cubicBezTo>
                  <a:pt x="5605" y="9779"/>
                  <a:pt x="5604" y="9779"/>
                  <a:pt x="5602" y="9779"/>
                </a:cubicBezTo>
                <a:cubicBezTo>
                  <a:pt x="5603" y="9743"/>
                  <a:pt x="5607" y="9717"/>
                  <a:pt x="5621" y="9682"/>
                </a:cubicBezTo>
                <a:cubicBezTo>
                  <a:pt x="5657" y="9589"/>
                  <a:pt x="5695" y="9496"/>
                  <a:pt x="5721" y="9400"/>
                </a:cubicBezTo>
                <a:cubicBezTo>
                  <a:pt x="5753" y="9281"/>
                  <a:pt x="5773" y="9158"/>
                  <a:pt x="5806" y="9040"/>
                </a:cubicBezTo>
                <a:cubicBezTo>
                  <a:pt x="5818" y="8997"/>
                  <a:pt x="5834" y="8949"/>
                  <a:pt x="5849" y="8910"/>
                </a:cubicBezTo>
                <a:cubicBezTo>
                  <a:pt x="5871" y="8949"/>
                  <a:pt x="5887" y="8988"/>
                  <a:pt x="5901" y="9031"/>
                </a:cubicBezTo>
                <a:cubicBezTo>
                  <a:pt x="5932" y="9128"/>
                  <a:pt x="5976" y="9220"/>
                  <a:pt x="6010" y="9317"/>
                </a:cubicBezTo>
                <a:cubicBezTo>
                  <a:pt x="6043" y="9411"/>
                  <a:pt x="6080" y="9504"/>
                  <a:pt x="6110" y="9599"/>
                </a:cubicBezTo>
                <a:cubicBezTo>
                  <a:pt x="6128" y="9654"/>
                  <a:pt x="6152" y="9712"/>
                  <a:pt x="6157" y="9770"/>
                </a:cubicBezTo>
                <a:cubicBezTo>
                  <a:pt x="6157" y="9786"/>
                  <a:pt x="6157" y="9789"/>
                  <a:pt x="6157" y="9798"/>
                </a:cubicBezTo>
                <a:cubicBezTo>
                  <a:pt x="6140" y="9786"/>
                  <a:pt x="6119" y="9768"/>
                  <a:pt x="6100" y="9756"/>
                </a:cubicBezTo>
                <a:cubicBezTo>
                  <a:pt x="6048" y="9721"/>
                  <a:pt x="5999" y="9688"/>
                  <a:pt x="5939" y="9668"/>
                </a:cubicBezTo>
                <a:cubicBezTo>
                  <a:pt x="5906" y="9658"/>
                  <a:pt x="5877" y="9653"/>
                  <a:pt x="5844" y="9650"/>
                </a:cubicBezTo>
              </a:path>
              <a:path w="1016" h="10771">
                <a:moveTo>
                  <a:pt x="5493" y="10376"/>
                </a:moveTo>
                <a:cubicBezTo>
                  <a:pt x="5493" y="10363"/>
                  <a:pt x="5489" y="10351"/>
                  <a:pt x="5503" y="10343"/>
                </a:cubicBezTo>
                <a:cubicBezTo>
                  <a:pt x="5538" y="10322"/>
                  <a:pt x="5591" y="10313"/>
                  <a:pt x="5631" y="10311"/>
                </a:cubicBezTo>
                <a:cubicBezTo>
                  <a:pt x="5749" y="10304"/>
                  <a:pt x="5869" y="10311"/>
                  <a:pt x="5987" y="10311"/>
                </a:cubicBezTo>
              </a:path>
              <a:path w="1016" h="10771">
                <a:moveTo>
                  <a:pt x="5801" y="10732"/>
                </a:moveTo>
                <a:cubicBezTo>
                  <a:pt x="5780" y="10764"/>
                  <a:pt x="5773" y="10804"/>
                  <a:pt x="5768" y="10843"/>
                </a:cubicBezTo>
                <a:cubicBezTo>
                  <a:pt x="5760" y="10904"/>
                  <a:pt x="5764" y="10966"/>
                  <a:pt x="5764" y="11027"/>
                </a:cubicBezTo>
              </a:path>
              <a:path w="1016" h="10771">
                <a:moveTo>
                  <a:pt x="5436" y="11564"/>
                </a:moveTo>
                <a:cubicBezTo>
                  <a:pt x="5447" y="11572"/>
                  <a:pt x="5452" y="11571"/>
                  <a:pt x="5460" y="11582"/>
                </a:cubicBezTo>
                <a:cubicBezTo>
                  <a:pt x="5487" y="11618"/>
                  <a:pt x="5502" y="11660"/>
                  <a:pt x="5517" y="11702"/>
                </a:cubicBezTo>
                <a:cubicBezTo>
                  <a:pt x="5539" y="11767"/>
                  <a:pt x="5562" y="11831"/>
                  <a:pt x="5583" y="11896"/>
                </a:cubicBezTo>
                <a:cubicBezTo>
                  <a:pt x="5599" y="11947"/>
                  <a:pt x="5619" y="12016"/>
                  <a:pt x="5654" y="12058"/>
                </a:cubicBezTo>
                <a:cubicBezTo>
                  <a:pt x="5682" y="12091"/>
                  <a:pt x="5729" y="12096"/>
                  <a:pt x="5764" y="12072"/>
                </a:cubicBezTo>
                <a:cubicBezTo>
                  <a:pt x="5832" y="12026"/>
                  <a:pt x="5862" y="11919"/>
                  <a:pt x="5896" y="11850"/>
                </a:cubicBezTo>
                <a:cubicBezTo>
                  <a:pt x="5955" y="11729"/>
                  <a:pt x="6002" y="11599"/>
                  <a:pt x="6072" y="11485"/>
                </a:cubicBezTo>
              </a:path>
              <a:path w="1016" h="10771">
                <a:moveTo>
                  <a:pt x="5716" y="12308"/>
                </a:moveTo>
                <a:cubicBezTo>
                  <a:pt x="5719" y="12323"/>
                  <a:pt x="5725" y="12329"/>
                  <a:pt x="5726" y="12345"/>
                </a:cubicBezTo>
                <a:cubicBezTo>
                  <a:pt x="5731" y="12421"/>
                  <a:pt x="5696" y="12549"/>
                  <a:pt x="5730" y="12617"/>
                </a:cubicBezTo>
                <a:cubicBezTo>
                  <a:pt x="5735" y="12622"/>
                  <a:pt x="5740" y="12626"/>
                  <a:pt x="5745" y="12631"/>
                </a:cubicBezTo>
              </a:path>
              <a:path w="1016" h="10771">
                <a:moveTo>
                  <a:pt x="5588" y="13343"/>
                </a:moveTo>
                <a:cubicBezTo>
                  <a:pt x="5589" y="13364"/>
                  <a:pt x="5589" y="13382"/>
                  <a:pt x="5593" y="13403"/>
                </a:cubicBezTo>
                <a:cubicBezTo>
                  <a:pt x="5600" y="13446"/>
                  <a:pt x="5597" y="13490"/>
                  <a:pt x="5597" y="13533"/>
                </a:cubicBezTo>
                <a:cubicBezTo>
                  <a:pt x="5597" y="13575"/>
                  <a:pt x="5611" y="13646"/>
                  <a:pt x="5593" y="13685"/>
                </a:cubicBezTo>
                <a:cubicBezTo>
                  <a:pt x="5578" y="13719"/>
                  <a:pt x="5572" y="13711"/>
                  <a:pt x="5545" y="13722"/>
                </a:cubicBezTo>
                <a:cubicBezTo>
                  <a:pt x="5520" y="13697"/>
                  <a:pt x="5497" y="13653"/>
                  <a:pt x="5493" y="13616"/>
                </a:cubicBezTo>
                <a:cubicBezTo>
                  <a:pt x="5483" y="13526"/>
                  <a:pt x="5494" y="13428"/>
                  <a:pt x="5526" y="13343"/>
                </a:cubicBezTo>
                <a:cubicBezTo>
                  <a:pt x="5555" y="13265"/>
                  <a:pt x="5622" y="13179"/>
                  <a:pt x="5697" y="13140"/>
                </a:cubicBezTo>
                <a:cubicBezTo>
                  <a:pt x="5757" y="13109"/>
                  <a:pt x="5831" y="13092"/>
                  <a:pt x="5892" y="13126"/>
                </a:cubicBezTo>
                <a:cubicBezTo>
                  <a:pt x="5938" y="13151"/>
                  <a:pt x="5960" y="13202"/>
                  <a:pt x="5968" y="13251"/>
                </a:cubicBezTo>
                <a:cubicBezTo>
                  <a:pt x="5975" y="13292"/>
                  <a:pt x="5978" y="13348"/>
                  <a:pt x="5953" y="13385"/>
                </a:cubicBezTo>
                <a:cubicBezTo>
                  <a:pt x="5926" y="13425"/>
                  <a:pt x="5871" y="13425"/>
                  <a:pt x="5830" y="13426"/>
                </a:cubicBezTo>
                <a:cubicBezTo>
                  <a:pt x="5817" y="13426"/>
                  <a:pt x="5805" y="13426"/>
                  <a:pt x="5792" y="13426"/>
                </a:cubicBezTo>
              </a:path>
              <a:path w="1016" h="10771">
                <a:moveTo>
                  <a:pt x="5593" y="14083"/>
                </a:moveTo>
                <a:cubicBezTo>
                  <a:pt x="5575" y="14093"/>
                  <a:pt x="5570" y="14095"/>
                  <a:pt x="5569" y="14120"/>
                </a:cubicBezTo>
                <a:cubicBezTo>
                  <a:pt x="5567" y="14158"/>
                  <a:pt x="5573" y="14197"/>
                  <a:pt x="5574" y="14235"/>
                </a:cubicBezTo>
                <a:cubicBezTo>
                  <a:pt x="5575" y="14314"/>
                  <a:pt x="5581" y="14398"/>
                  <a:pt x="5569" y="14476"/>
                </a:cubicBezTo>
                <a:cubicBezTo>
                  <a:pt x="5563" y="14516"/>
                  <a:pt x="5556" y="14560"/>
                  <a:pt x="5545" y="14600"/>
                </a:cubicBezTo>
                <a:cubicBezTo>
                  <a:pt x="5543" y="14605"/>
                  <a:pt x="5542" y="14609"/>
                  <a:pt x="5540" y="14614"/>
                </a:cubicBezTo>
              </a:path>
              <a:path w="1016" h="10771">
                <a:moveTo>
                  <a:pt x="5526" y="14134"/>
                </a:moveTo>
                <a:cubicBezTo>
                  <a:pt x="5543" y="14110"/>
                  <a:pt x="5559" y="14094"/>
                  <a:pt x="5588" y="14078"/>
                </a:cubicBezTo>
                <a:cubicBezTo>
                  <a:pt x="5644" y="14047"/>
                  <a:pt x="5712" y="14036"/>
                  <a:pt x="5773" y="14018"/>
                </a:cubicBezTo>
              </a:path>
              <a:path w="1016" h="10771">
                <a:moveTo>
                  <a:pt x="5602" y="14448"/>
                </a:moveTo>
                <a:cubicBezTo>
                  <a:pt x="5641" y="14434"/>
                  <a:pt x="5676" y="14420"/>
                  <a:pt x="5716" y="14411"/>
                </a:cubicBezTo>
                <a:cubicBezTo>
                  <a:pt x="5762" y="14402"/>
                  <a:pt x="5776" y="14400"/>
                  <a:pt x="5806" y="14397"/>
                </a:cubicBezTo>
              </a:path>
              <a:path w="1016" h="10771">
                <a:moveTo>
                  <a:pt x="5484" y="14831"/>
                </a:moveTo>
                <a:cubicBezTo>
                  <a:pt x="5526" y="14820"/>
                  <a:pt x="5569" y="14808"/>
                  <a:pt x="5612" y="14799"/>
                </a:cubicBezTo>
                <a:cubicBezTo>
                  <a:pt x="5672" y="14789"/>
                  <a:pt x="5694" y="14786"/>
                  <a:pt x="5735" y="14776"/>
                </a:cubicBezTo>
              </a:path>
              <a:path w="1016" h="10771">
                <a:moveTo>
                  <a:pt x="5754" y="15201"/>
                </a:moveTo>
                <a:cubicBezTo>
                  <a:pt x="5681" y="15246"/>
                  <a:pt x="5619" y="15307"/>
                  <a:pt x="5564" y="15372"/>
                </a:cubicBezTo>
                <a:cubicBezTo>
                  <a:pt x="5539" y="15402"/>
                  <a:pt x="5523" y="15421"/>
                  <a:pt x="5507" y="15455"/>
                </a:cubicBezTo>
                <a:cubicBezTo>
                  <a:pt x="5532" y="15485"/>
                  <a:pt x="5548" y="15489"/>
                  <a:pt x="5593" y="15506"/>
                </a:cubicBezTo>
                <a:cubicBezTo>
                  <a:pt x="5658" y="15531"/>
                  <a:pt x="5731" y="15549"/>
                  <a:pt x="5783" y="15599"/>
                </a:cubicBezTo>
                <a:cubicBezTo>
                  <a:pt x="5832" y="15645"/>
                  <a:pt x="5863" y="15693"/>
                  <a:pt x="5868" y="15761"/>
                </a:cubicBezTo>
                <a:cubicBezTo>
                  <a:pt x="5873" y="15826"/>
                  <a:pt x="5835" y="15856"/>
                  <a:pt x="5773" y="15871"/>
                </a:cubicBezTo>
                <a:cubicBezTo>
                  <a:pt x="5695" y="15890"/>
                  <a:pt x="5621" y="15870"/>
                  <a:pt x="5550" y="15839"/>
                </a:cubicBezTo>
                <a:cubicBezTo>
                  <a:pt x="5534" y="15831"/>
                  <a:pt x="5519" y="15824"/>
                  <a:pt x="5503" y="158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192320" y="1319040"/>
            <a:ext cx="868320" cy="4573800"/>
          </a:xfrm>
          <a:custGeom>
            <a:avLst/>
            <a:gdLst/>
            <a:ahLst/>
            <a:rect l="l" t="t" r="r" b="b"/>
            <a:pathLst>
              <a:path w="2412" h="12702">
                <a:moveTo>
                  <a:pt x="5042" y="4270"/>
                </a:moveTo>
                <a:cubicBezTo>
                  <a:pt x="5022" y="4260"/>
                  <a:pt x="5004" y="4255"/>
                  <a:pt x="4985" y="4247"/>
                </a:cubicBezTo>
                <a:cubicBezTo>
                  <a:pt x="5022" y="4256"/>
                  <a:pt x="5038" y="4270"/>
                  <a:pt x="5075" y="4279"/>
                </a:cubicBezTo>
                <a:cubicBezTo>
                  <a:pt x="5402" y="4355"/>
                  <a:pt x="5737" y="4374"/>
                  <a:pt x="6072" y="4381"/>
                </a:cubicBezTo>
                <a:cubicBezTo>
                  <a:pt x="6288" y="4385"/>
                  <a:pt x="6807" y="4281"/>
                  <a:pt x="7002" y="4404"/>
                </a:cubicBezTo>
                <a:cubicBezTo>
                  <a:pt x="7108" y="4471"/>
                  <a:pt x="7054" y="4368"/>
                  <a:pt x="7106" y="4506"/>
                </a:cubicBezTo>
                <a:cubicBezTo>
                  <a:pt x="7306" y="5043"/>
                  <a:pt x="7077" y="5941"/>
                  <a:pt x="7068" y="6502"/>
                </a:cubicBezTo>
                <a:cubicBezTo>
                  <a:pt x="7052" y="7433"/>
                  <a:pt x="6945" y="8357"/>
                  <a:pt x="6926" y="9289"/>
                </a:cubicBezTo>
                <a:cubicBezTo>
                  <a:pt x="6912" y="9988"/>
                  <a:pt x="6874" y="10690"/>
                  <a:pt x="6845" y="11388"/>
                </a:cubicBezTo>
                <a:cubicBezTo>
                  <a:pt x="6786" y="12823"/>
                  <a:pt x="6753" y="14255"/>
                  <a:pt x="6751" y="15691"/>
                </a:cubicBezTo>
                <a:cubicBezTo>
                  <a:pt x="6751" y="15922"/>
                  <a:pt x="6867" y="16507"/>
                  <a:pt x="6741" y="16713"/>
                </a:cubicBezTo>
                <a:cubicBezTo>
                  <a:pt x="6686" y="16802"/>
                  <a:pt x="6720" y="16766"/>
                  <a:pt x="6622" y="16805"/>
                </a:cubicBezTo>
                <a:cubicBezTo>
                  <a:pt x="6490" y="16858"/>
                  <a:pt x="6258" y="16777"/>
                  <a:pt x="6119" y="16777"/>
                </a:cubicBezTo>
                <a:cubicBezTo>
                  <a:pt x="5933" y="16777"/>
                  <a:pt x="5744" y="16817"/>
                  <a:pt x="5559" y="16842"/>
                </a:cubicBezTo>
                <a:cubicBezTo>
                  <a:pt x="5315" y="16876"/>
                  <a:pt x="5074" y="16928"/>
                  <a:pt x="4829" y="16948"/>
                </a:cubicBezTo>
                <a:cubicBezTo>
                  <a:pt x="4801" y="16950"/>
                  <a:pt x="4727" y="16947"/>
                  <a:pt x="4715" y="1694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81160" y="1374840"/>
            <a:ext cx="65160" cy="4560840"/>
          </a:xfrm>
          <a:custGeom>
            <a:avLst/>
            <a:gdLst/>
            <a:ahLst/>
            <a:rect l="l" t="t" r="r" b="b"/>
            <a:pathLst>
              <a:path w="181" h="12671">
                <a:moveTo>
                  <a:pt x="4857" y="4399"/>
                </a:moveTo>
                <a:cubicBezTo>
                  <a:pt x="4854" y="4437"/>
                  <a:pt x="4835" y="4476"/>
                  <a:pt x="4833" y="4519"/>
                </a:cubicBezTo>
                <a:cubicBezTo>
                  <a:pt x="4757" y="6080"/>
                  <a:pt x="4850" y="7658"/>
                  <a:pt x="4843" y="9220"/>
                </a:cubicBezTo>
                <a:cubicBezTo>
                  <a:pt x="4841" y="9773"/>
                  <a:pt x="4855" y="10324"/>
                  <a:pt x="4819" y="10875"/>
                </a:cubicBezTo>
                <a:cubicBezTo>
                  <a:pt x="4782" y="11445"/>
                  <a:pt x="4754" y="12014"/>
                  <a:pt x="4734" y="12585"/>
                </a:cubicBezTo>
                <a:cubicBezTo>
                  <a:pt x="4707" y="13364"/>
                  <a:pt x="4691" y="14145"/>
                  <a:pt x="4691" y="14924"/>
                </a:cubicBezTo>
                <a:cubicBezTo>
                  <a:pt x="4691" y="15614"/>
                  <a:pt x="4653" y="16313"/>
                  <a:pt x="4691" y="16999"/>
                </a:cubicBezTo>
                <a:cubicBezTo>
                  <a:pt x="4691" y="17033"/>
                  <a:pt x="4691" y="17046"/>
                  <a:pt x="4696" y="1706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28840" y="5106960"/>
            <a:ext cx="1030320" cy="385920"/>
          </a:xfrm>
          <a:custGeom>
            <a:avLst/>
            <a:gdLst/>
            <a:ahLst/>
            <a:rect l="l" t="t" r="r" b="b"/>
            <a:pathLst>
              <a:path w="2862" h="1069">
                <a:moveTo>
                  <a:pt x="8430" y="14328"/>
                </a:moveTo>
                <a:cubicBezTo>
                  <a:pt x="8424" y="14341"/>
                  <a:pt x="8421" y="14352"/>
                  <a:pt x="8416" y="14365"/>
                </a:cubicBezTo>
                <a:cubicBezTo>
                  <a:pt x="8408" y="14387"/>
                  <a:pt x="8408" y="14416"/>
                  <a:pt x="8407" y="14439"/>
                </a:cubicBezTo>
                <a:cubicBezTo>
                  <a:pt x="8403" y="14514"/>
                  <a:pt x="8405" y="14590"/>
                  <a:pt x="8402" y="14665"/>
                </a:cubicBezTo>
                <a:cubicBezTo>
                  <a:pt x="8400" y="14715"/>
                  <a:pt x="8395" y="14764"/>
                  <a:pt x="8392" y="14813"/>
                </a:cubicBezTo>
                <a:cubicBezTo>
                  <a:pt x="8390" y="14839"/>
                  <a:pt x="8388" y="14866"/>
                  <a:pt x="8388" y="14892"/>
                </a:cubicBezTo>
                <a:cubicBezTo>
                  <a:pt x="8388" y="14913"/>
                  <a:pt x="8392" y="14912"/>
                  <a:pt x="8378" y="14919"/>
                </a:cubicBezTo>
                <a:cubicBezTo>
                  <a:pt x="8378" y="14918"/>
                  <a:pt x="8378" y="14916"/>
                  <a:pt x="8378" y="14915"/>
                </a:cubicBezTo>
              </a:path>
              <a:path w="2862" h="1069">
                <a:moveTo>
                  <a:pt x="8074" y="14494"/>
                </a:moveTo>
                <a:cubicBezTo>
                  <a:pt x="8065" y="14487"/>
                  <a:pt x="8040" y="14491"/>
                  <a:pt x="8032" y="14476"/>
                </a:cubicBezTo>
                <a:cubicBezTo>
                  <a:pt x="8016" y="14445"/>
                  <a:pt x="8033" y="14419"/>
                  <a:pt x="8041" y="14392"/>
                </a:cubicBezTo>
                <a:cubicBezTo>
                  <a:pt x="8061" y="14329"/>
                  <a:pt x="8116" y="14273"/>
                  <a:pt x="8165" y="14231"/>
                </a:cubicBezTo>
                <a:cubicBezTo>
                  <a:pt x="8250" y="14159"/>
                  <a:pt x="8353" y="14103"/>
                  <a:pt x="8459" y="14069"/>
                </a:cubicBezTo>
                <a:cubicBezTo>
                  <a:pt x="8576" y="14031"/>
                  <a:pt x="8710" y="14026"/>
                  <a:pt x="8824" y="14073"/>
                </a:cubicBezTo>
                <a:cubicBezTo>
                  <a:pt x="8902" y="14105"/>
                  <a:pt x="8947" y="14169"/>
                  <a:pt x="8971" y="14249"/>
                </a:cubicBezTo>
                <a:cubicBezTo>
                  <a:pt x="9002" y="14354"/>
                  <a:pt x="8980" y="14460"/>
                  <a:pt x="8952" y="14563"/>
                </a:cubicBezTo>
                <a:cubicBezTo>
                  <a:pt x="8920" y="14683"/>
                  <a:pt x="8874" y="14797"/>
                  <a:pt x="8786" y="14887"/>
                </a:cubicBezTo>
                <a:cubicBezTo>
                  <a:pt x="8707" y="14968"/>
                  <a:pt x="8591" y="15014"/>
                  <a:pt x="8483" y="15039"/>
                </a:cubicBezTo>
                <a:cubicBezTo>
                  <a:pt x="8428" y="15052"/>
                  <a:pt x="8373" y="15052"/>
                  <a:pt x="8317" y="15053"/>
                </a:cubicBezTo>
              </a:path>
              <a:path w="2862" h="1069">
                <a:moveTo>
                  <a:pt x="9389" y="14046"/>
                </a:moveTo>
                <a:cubicBezTo>
                  <a:pt x="9374" y="14065"/>
                  <a:pt x="9353" y="14085"/>
                  <a:pt x="9341" y="14106"/>
                </a:cubicBezTo>
                <a:cubicBezTo>
                  <a:pt x="9305" y="14166"/>
                  <a:pt x="9278" y="14236"/>
                  <a:pt x="9251" y="14300"/>
                </a:cubicBezTo>
                <a:cubicBezTo>
                  <a:pt x="9205" y="14408"/>
                  <a:pt x="9174" y="14523"/>
                  <a:pt x="9147" y="14637"/>
                </a:cubicBezTo>
                <a:cubicBezTo>
                  <a:pt x="9123" y="14738"/>
                  <a:pt x="9088" y="14836"/>
                  <a:pt x="9066" y="14938"/>
                </a:cubicBezTo>
                <a:cubicBezTo>
                  <a:pt x="9057" y="14980"/>
                  <a:pt x="9053" y="15020"/>
                  <a:pt x="9033" y="15058"/>
                </a:cubicBezTo>
                <a:cubicBezTo>
                  <a:pt x="9033" y="15056"/>
                  <a:pt x="9033" y="15055"/>
                  <a:pt x="9033" y="15053"/>
                </a:cubicBezTo>
                <a:cubicBezTo>
                  <a:pt x="9044" y="14948"/>
                  <a:pt x="9064" y="14845"/>
                  <a:pt x="9095" y="14744"/>
                </a:cubicBezTo>
                <a:cubicBezTo>
                  <a:pt x="9128" y="14635"/>
                  <a:pt x="9166" y="14517"/>
                  <a:pt x="9218" y="14415"/>
                </a:cubicBezTo>
                <a:cubicBezTo>
                  <a:pt x="9240" y="14371"/>
                  <a:pt x="9254" y="14355"/>
                  <a:pt x="9294" y="14337"/>
                </a:cubicBezTo>
                <a:cubicBezTo>
                  <a:pt x="9339" y="14356"/>
                  <a:pt x="9365" y="14402"/>
                  <a:pt x="9389" y="14448"/>
                </a:cubicBezTo>
                <a:cubicBezTo>
                  <a:pt x="9432" y="14530"/>
                  <a:pt x="9462" y="14619"/>
                  <a:pt x="9503" y="14702"/>
                </a:cubicBezTo>
                <a:cubicBezTo>
                  <a:pt x="9534" y="14764"/>
                  <a:pt x="9582" y="14829"/>
                  <a:pt x="9602" y="14896"/>
                </a:cubicBezTo>
                <a:cubicBezTo>
                  <a:pt x="9602" y="14899"/>
                  <a:pt x="9602" y="14902"/>
                  <a:pt x="9602" y="14905"/>
                </a:cubicBezTo>
                <a:cubicBezTo>
                  <a:pt x="9572" y="14890"/>
                  <a:pt x="9538" y="14869"/>
                  <a:pt x="9508" y="14850"/>
                </a:cubicBezTo>
                <a:cubicBezTo>
                  <a:pt x="9442" y="14808"/>
                  <a:pt x="9376" y="14770"/>
                  <a:pt x="9308" y="14730"/>
                </a:cubicBezTo>
                <a:cubicBezTo>
                  <a:pt x="9276" y="14711"/>
                  <a:pt x="9246" y="14695"/>
                  <a:pt x="9213" y="14679"/>
                </a:cubicBezTo>
              </a:path>
              <a:path w="2862" h="1069">
                <a:moveTo>
                  <a:pt x="9788" y="14244"/>
                </a:moveTo>
                <a:cubicBezTo>
                  <a:pt x="9807" y="14225"/>
                  <a:pt x="9828" y="14225"/>
                  <a:pt x="9859" y="14217"/>
                </a:cubicBezTo>
                <a:cubicBezTo>
                  <a:pt x="9939" y="14195"/>
                  <a:pt x="10018" y="14178"/>
                  <a:pt x="10101" y="14166"/>
                </a:cubicBezTo>
                <a:cubicBezTo>
                  <a:pt x="10166" y="14157"/>
                  <a:pt x="10186" y="14154"/>
                  <a:pt x="10229" y="14147"/>
                </a:cubicBezTo>
              </a:path>
              <a:path w="2862" h="1069">
                <a:moveTo>
                  <a:pt x="10063" y="14494"/>
                </a:moveTo>
                <a:cubicBezTo>
                  <a:pt x="10044" y="14538"/>
                  <a:pt x="10027" y="14589"/>
                  <a:pt x="10020" y="14637"/>
                </a:cubicBezTo>
                <a:cubicBezTo>
                  <a:pt x="10011" y="14693"/>
                  <a:pt x="10012" y="14751"/>
                  <a:pt x="10011" y="14808"/>
                </a:cubicBezTo>
              </a:path>
              <a:path w="2862" h="1069">
                <a:moveTo>
                  <a:pt x="10670" y="14309"/>
                </a:moveTo>
                <a:cubicBezTo>
                  <a:pt x="10667" y="14311"/>
                  <a:pt x="10666" y="14301"/>
                  <a:pt x="10651" y="14318"/>
                </a:cubicBezTo>
                <a:cubicBezTo>
                  <a:pt x="10584" y="14396"/>
                  <a:pt x="10556" y="14518"/>
                  <a:pt x="10518" y="14610"/>
                </a:cubicBezTo>
                <a:cubicBezTo>
                  <a:pt x="10471" y="14723"/>
                  <a:pt x="10433" y="14839"/>
                  <a:pt x="10385" y="14952"/>
                </a:cubicBezTo>
                <a:cubicBezTo>
                  <a:pt x="10362" y="15006"/>
                  <a:pt x="10336" y="15056"/>
                  <a:pt x="10314" y="15109"/>
                </a:cubicBezTo>
                <a:cubicBezTo>
                  <a:pt x="10339" y="15018"/>
                  <a:pt x="10365" y="14927"/>
                  <a:pt x="10390" y="14836"/>
                </a:cubicBezTo>
                <a:cubicBezTo>
                  <a:pt x="10431" y="14684"/>
                  <a:pt x="10470" y="14538"/>
                  <a:pt x="10528" y="14392"/>
                </a:cubicBezTo>
                <a:cubicBezTo>
                  <a:pt x="10545" y="14349"/>
                  <a:pt x="10564" y="14309"/>
                  <a:pt x="10585" y="14268"/>
                </a:cubicBezTo>
                <a:cubicBezTo>
                  <a:pt x="10626" y="14295"/>
                  <a:pt x="10629" y="14303"/>
                  <a:pt x="10646" y="14365"/>
                </a:cubicBezTo>
                <a:cubicBezTo>
                  <a:pt x="10681" y="14494"/>
                  <a:pt x="10715" y="14621"/>
                  <a:pt x="10756" y="14748"/>
                </a:cubicBezTo>
                <a:cubicBezTo>
                  <a:pt x="10781" y="14826"/>
                  <a:pt x="10809" y="14904"/>
                  <a:pt x="10851" y="14975"/>
                </a:cubicBezTo>
                <a:cubicBezTo>
                  <a:pt x="10861" y="14992"/>
                  <a:pt x="10875" y="15002"/>
                  <a:pt x="10888" y="15016"/>
                </a:cubicBezTo>
                <a:cubicBezTo>
                  <a:pt x="10856" y="14992"/>
                  <a:pt x="10822" y="14974"/>
                  <a:pt x="10784" y="14956"/>
                </a:cubicBezTo>
                <a:cubicBezTo>
                  <a:pt x="10708" y="14920"/>
                  <a:pt x="10630" y="14897"/>
                  <a:pt x="10552" y="14868"/>
                </a:cubicBezTo>
                <a:cubicBezTo>
                  <a:pt x="10528" y="14859"/>
                  <a:pt x="10520" y="14856"/>
                  <a:pt x="10509" y="1484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4427640" y="5135400"/>
            <a:ext cx="588960" cy="362160"/>
          </a:xfrm>
          <a:custGeom>
            <a:avLst/>
            <a:gdLst/>
            <a:ahLst/>
            <a:rect l="l" t="t" r="r" b="b"/>
            <a:pathLst>
              <a:path w="1634" h="1005">
                <a:moveTo>
                  <a:pt x="11611" y="14198"/>
                </a:moveTo>
                <a:cubicBezTo>
                  <a:pt x="11617" y="14176"/>
                  <a:pt x="11623" y="14148"/>
                  <a:pt x="11639" y="14129"/>
                </a:cubicBezTo>
                <a:cubicBezTo>
                  <a:pt x="11647" y="14122"/>
                  <a:pt x="11647" y="14119"/>
                  <a:pt x="11654" y="14120"/>
                </a:cubicBezTo>
                <a:cubicBezTo>
                  <a:pt x="11651" y="14170"/>
                  <a:pt x="11644" y="14219"/>
                  <a:pt x="11630" y="14268"/>
                </a:cubicBezTo>
                <a:cubicBezTo>
                  <a:pt x="11593" y="14394"/>
                  <a:pt x="11549" y="14519"/>
                  <a:pt x="11502" y="14642"/>
                </a:cubicBezTo>
                <a:cubicBezTo>
                  <a:pt x="11463" y="14745"/>
                  <a:pt x="11415" y="14842"/>
                  <a:pt x="11373" y="14943"/>
                </a:cubicBezTo>
                <a:cubicBezTo>
                  <a:pt x="11361" y="14971"/>
                  <a:pt x="11361" y="14981"/>
                  <a:pt x="11355" y="15008"/>
                </a:cubicBezTo>
                <a:cubicBezTo>
                  <a:pt x="11378" y="14948"/>
                  <a:pt x="11399" y="14885"/>
                  <a:pt x="11421" y="14823"/>
                </a:cubicBezTo>
                <a:cubicBezTo>
                  <a:pt x="11465" y="14703"/>
                  <a:pt x="11505" y="14580"/>
                  <a:pt x="11554" y="14462"/>
                </a:cubicBezTo>
                <a:cubicBezTo>
                  <a:pt x="11582" y="14394"/>
                  <a:pt x="11613" y="14328"/>
                  <a:pt x="11654" y="14268"/>
                </a:cubicBezTo>
                <a:cubicBezTo>
                  <a:pt x="11657" y="14263"/>
                  <a:pt x="11660" y="14259"/>
                  <a:pt x="11663" y="14254"/>
                </a:cubicBezTo>
                <a:cubicBezTo>
                  <a:pt x="11681" y="14309"/>
                  <a:pt x="11688" y="14359"/>
                  <a:pt x="11692" y="14420"/>
                </a:cubicBezTo>
                <a:cubicBezTo>
                  <a:pt x="11699" y="14534"/>
                  <a:pt x="11704" y="14655"/>
                  <a:pt x="11725" y="14767"/>
                </a:cubicBezTo>
                <a:cubicBezTo>
                  <a:pt x="11737" y="14832"/>
                  <a:pt x="11757" y="14896"/>
                  <a:pt x="11768" y="14962"/>
                </a:cubicBezTo>
                <a:cubicBezTo>
                  <a:pt x="11771" y="14977"/>
                  <a:pt x="11773" y="14980"/>
                  <a:pt x="11772" y="14989"/>
                </a:cubicBezTo>
                <a:cubicBezTo>
                  <a:pt x="11745" y="14964"/>
                  <a:pt x="11718" y="14941"/>
                  <a:pt x="11687" y="14920"/>
                </a:cubicBezTo>
                <a:cubicBezTo>
                  <a:pt x="11635" y="14886"/>
                  <a:pt x="11584" y="14854"/>
                  <a:pt x="11525" y="14832"/>
                </a:cubicBezTo>
                <a:cubicBezTo>
                  <a:pt x="11494" y="14824"/>
                  <a:pt x="11485" y="14822"/>
                  <a:pt x="11468" y="14809"/>
                </a:cubicBezTo>
              </a:path>
              <a:path w="1634" h="1005">
                <a:moveTo>
                  <a:pt x="12503" y="14147"/>
                </a:moveTo>
                <a:cubicBezTo>
                  <a:pt x="12464" y="14151"/>
                  <a:pt x="12431" y="14157"/>
                  <a:pt x="12394" y="14175"/>
                </a:cubicBezTo>
                <a:cubicBezTo>
                  <a:pt x="12321" y="14212"/>
                  <a:pt x="12253" y="14266"/>
                  <a:pt x="12195" y="14323"/>
                </a:cubicBezTo>
                <a:cubicBezTo>
                  <a:pt x="12104" y="14412"/>
                  <a:pt x="12046" y="14509"/>
                  <a:pt x="12014" y="14633"/>
                </a:cubicBezTo>
                <a:cubicBezTo>
                  <a:pt x="11983" y="14752"/>
                  <a:pt x="11987" y="14901"/>
                  <a:pt x="12086" y="14985"/>
                </a:cubicBezTo>
                <a:cubicBezTo>
                  <a:pt x="12143" y="15033"/>
                  <a:pt x="12196" y="15036"/>
                  <a:pt x="12266" y="15045"/>
                </a:cubicBezTo>
              </a:path>
              <a:path w="1634" h="1005">
                <a:moveTo>
                  <a:pt x="12988" y="14309"/>
                </a:moveTo>
                <a:cubicBezTo>
                  <a:pt x="12982" y="14303"/>
                  <a:pt x="12972" y="14282"/>
                  <a:pt x="12964" y="14277"/>
                </a:cubicBezTo>
                <a:cubicBezTo>
                  <a:pt x="12922" y="14251"/>
                  <a:pt x="12879" y="14267"/>
                  <a:pt x="12836" y="14282"/>
                </a:cubicBezTo>
                <a:cubicBezTo>
                  <a:pt x="12741" y="14316"/>
                  <a:pt x="12663" y="14376"/>
                  <a:pt x="12594" y="14448"/>
                </a:cubicBezTo>
                <a:cubicBezTo>
                  <a:pt x="12508" y="14538"/>
                  <a:pt x="12442" y="14652"/>
                  <a:pt x="12408" y="14772"/>
                </a:cubicBezTo>
                <a:cubicBezTo>
                  <a:pt x="12383" y="14862"/>
                  <a:pt x="12362" y="14962"/>
                  <a:pt x="12413" y="15045"/>
                </a:cubicBezTo>
                <a:cubicBezTo>
                  <a:pt x="12457" y="15117"/>
                  <a:pt x="12543" y="15113"/>
                  <a:pt x="12617" y="151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871800" y="6066000"/>
            <a:ext cx="930240" cy="295200"/>
          </a:xfrm>
          <a:custGeom>
            <a:avLst/>
            <a:gdLst/>
            <a:ahLst/>
            <a:rect l="l" t="t" r="r" b="b"/>
            <a:pathLst>
              <a:path w="2583" h="820">
                <a:moveTo>
                  <a:pt x="11562" y="16740"/>
                </a:moveTo>
                <a:cubicBezTo>
                  <a:pt x="11552" y="16738"/>
                  <a:pt x="11544" y="16738"/>
                  <a:pt x="11534" y="16736"/>
                </a:cubicBezTo>
                <a:cubicBezTo>
                  <a:pt x="11516" y="16732"/>
                  <a:pt x="11501" y="16725"/>
                  <a:pt x="11482" y="16722"/>
                </a:cubicBezTo>
                <a:cubicBezTo>
                  <a:pt x="11454" y="16718"/>
                  <a:pt x="11425" y="16717"/>
                  <a:pt x="11396" y="16713"/>
                </a:cubicBezTo>
                <a:cubicBezTo>
                  <a:pt x="11354" y="16707"/>
                  <a:pt x="11316" y="16704"/>
                  <a:pt x="11273" y="16703"/>
                </a:cubicBezTo>
                <a:cubicBezTo>
                  <a:pt x="11053" y="16699"/>
                  <a:pt x="10822" y="16687"/>
                  <a:pt x="10604" y="16717"/>
                </a:cubicBezTo>
                <a:cubicBezTo>
                  <a:pt x="10532" y="16727"/>
                  <a:pt x="10462" y="16741"/>
                  <a:pt x="10390" y="16754"/>
                </a:cubicBezTo>
                <a:cubicBezTo>
                  <a:pt x="10316" y="16768"/>
                  <a:pt x="10245" y="16784"/>
                  <a:pt x="10172" y="16805"/>
                </a:cubicBezTo>
                <a:cubicBezTo>
                  <a:pt x="10056" y="16839"/>
                  <a:pt x="9936" y="16869"/>
                  <a:pt x="9854" y="16962"/>
                </a:cubicBezTo>
                <a:cubicBezTo>
                  <a:pt x="9770" y="17057"/>
                  <a:pt x="9828" y="17126"/>
                  <a:pt x="9911" y="17193"/>
                </a:cubicBezTo>
                <a:cubicBezTo>
                  <a:pt x="9988" y="17255"/>
                  <a:pt x="10074" y="17301"/>
                  <a:pt x="10162" y="17346"/>
                </a:cubicBezTo>
                <a:cubicBezTo>
                  <a:pt x="10249" y="17390"/>
                  <a:pt x="10345" y="17421"/>
                  <a:pt x="10438" y="17448"/>
                </a:cubicBezTo>
                <a:cubicBezTo>
                  <a:pt x="10587" y="17491"/>
                  <a:pt x="10743" y="17508"/>
                  <a:pt x="10898" y="17517"/>
                </a:cubicBezTo>
                <a:cubicBezTo>
                  <a:pt x="11072" y="17527"/>
                  <a:pt x="11251" y="17529"/>
                  <a:pt x="11425" y="17517"/>
                </a:cubicBezTo>
                <a:cubicBezTo>
                  <a:pt x="11545" y="17508"/>
                  <a:pt x="11664" y="17490"/>
                  <a:pt x="11781" y="17461"/>
                </a:cubicBezTo>
                <a:cubicBezTo>
                  <a:pt x="11923" y="17426"/>
                  <a:pt x="12082" y="17374"/>
                  <a:pt x="12203" y="17290"/>
                </a:cubicBezTo>
                <a:cubicBezTo>
                  <a:pt x="12257" y="17253"/>
                  <a:pt x="12326" y="17205"/>
                  <a:pt x="12360" y="17147"/>
                </a:cubicBezTo>
                <a:cubicBezTo>
                  <a:pt x="12406" y="17070"/>
                  <a:pt x="12406" y="16973"/>
                  <a:pt x="12355" y="16902"/>
                </a:cubicBezTo>
                <a:cubicBezTo>
                  <a:pt x="12304" y="16830"/>
                  <a:pt x="12222" y="16787"/>
                  <a:pt x="12141" y="16759"/>
                </a:cubicBezTo>
                <a:cubicBezTo>
                  <a:pt x="12038" y="16723"/>
                  <a:pt x="11926" y="16726"/>
                  <a:pt x="11819" y="16736"/>
                </a:cubicBezTo>
                <a:cubicBezTo>
                  <a:pt x="11803" y="16739"/>
                  <a:pt x="11787" y="16742"/>
                  <a:pt x="11771" y="1674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5064120" y="5232240"/>
            <a:ext cx="487440" cy="312840"/>
          </a:xfrm>
          <a:custGeom>
            <a:avLst/>
            <a:gdLst/>
            <a:ahLst/>
            <a:rect l="l" t="t" r="r" b="b"/>
            <a:pathLst>
              <a:path w="1353" h="870">
                <a:moveTo>
                  <a:pt x="13190" y="14434"/>
                </a:moveTo>
                <a:cubicBezTo>
                  <a:pt x="13190" y="14497"/>
                  <a:pt x="13184" y="14557"/>
                  <a:pt x="13180" y="14619"/>
                </a:cubicBezTo>
                <a:cubicBezTo>
                  <a:pt x="13176" y="14674"/>
                  <a:pt x="13169" y="14726"/>
                  <a:pt x="13161" y="14781"/>
                </a:cubicBezTo>
                <a:cubicBezTo>
                  <a:pt x="13153" y="14836"/>
                  <a:pt x="13149" y="14892"/>
                  <a:pt x="13142" y="14947"/>
                </a:cubicBezTo>
                <a:cubicBezTo>
                  <a:pt x="13138" y="14984"/>
                  <a:pt x="13129" y="15021"/>
                  <a:pt x="13128" y="15058"/>
                </a:cubicBezTo>
                <a:cubicBezTo>
                  <a:pt x="13128" y="15077"/>
                  <a:pt x="13124" y="15094"/>
                  <a:pt x="13124" y="15113"/>
                </a:cubicBezTo>
                <a:cubicBezTo>
                  <a:pt x="13124" y="15130"/>
                  <a:pt x="13124" y="15147"/>
                  <a:pt x="13124" y="15164"/>
                </a:cubicBezTo>
              </a:path>
              <a:path w="1353" h="870">
                <a:moveTo>
                  <a:pt x="13195" y="14434"/>
                </a:moveTo>
                <a:cubicBezTo>
                  <a:pt x="13199" y="14426"/>
                  <a:pt x="13209" y="14413"/>
                  <a:pt x="13218" y="14411"/>
                </a:cubicBezTo>
                <a:cubicBezTo>
                  <a:pt x="13237" y="14406"/>
                  <a:pt x="13265" y="14399"/>
                  <a:pt x="13285" y="14397"/>
                </a:cubicBezTo>
                <a:cubicBezTo>
                  <a:pt x="13307" y="14397"/>
                  <a:pt x="13314" y="14397"/>
                  <a:pt x="13328" y="14397"/>
                </a:cubicBezTo>
              </a:path>
              <a:path w="1353" h="870">
                <a:moveTo>
                  <a:pt x="13242" y="14753"/>
                </a:moveTo>
                <a:cubicBezTo>
                  <a:pt x="13268" y="14753"/>
                  <a:pt x="13292" y="14752"/>
                  <a:pt x="13318" y="14748"/>
                </a:cubicBezTo>
                <a:cubicBezTo>
                  <a:pt x="13348" y="14743"/>
                  <a:pt x="13378" y="14736"/>
                  <a:pt x="13408" y="14730"/>
                </a:cubicBezTo>
              </a:path>
              <a:path w="1353" h="870">
                <a:moveTo>
                  <a:pt x="13157" y="15257"/>
                </a:moveTo>
                <a:cubicBezTo>
                  <a:pt x="13173" y="15255"/>
                  <a:pt x="13184" y="15249"/>
                  <a:pt x="13199" y="15243"/>
                </a:cubicBezTo>
                <a:cubicBezTo>
                  <a:pt x="13236" y="15228"/>
                  <a:pt x="13271" y="15209"/>
                  <a:pt x="13309" y="15197"/>
                </a:cubicBezTo>
                <a:cubicBezTo>
                  <a:pt x="13340" y="15187"/>
                  <a:pt x="13372" y="15179"/>
                  <a:pt x="13403" y="15169"/>
                </a:cubicBezTo>
              </a:path>
              <a:path w="1353" h="870">
                <a:moveTo>
                  <a:pt x="13318" y="14439"/>
                </a:moveTo>
                <a:cubicBezTo>
                  <a:pt x="13328" y="14435"/>
                  <a:pt x="13351" y="14426"/>
                  <a:pt x="13361" y="14420"/>
                </a:cubicBezTo>
                <a:cubicBezTo>
                  <a:pt x="13381" y="14408"/>
                  <a:pt x="13403" y="14398"/>
                  <a:pt x="13427" y="14392"/>
                </a:cubicBezTo>
                <a:cubicBezTo>
                  <a:pt x="13447" y="14388"/>
                  <a:pt x="13455" y="14386"/>
                  <a:pt x="13470" y="14388"/>
                </a:cubicBezTo>
              </a:path>
              <a:path w="1353" h="870">
                <a:moveTo>
                  <a:pt x="13940" y="14517"/>
                </a:moveTo>
                <a:cubicBezTo>
                  <a:pt x="13938" y="14500"/>
                  <a:pt x="13944" y="14494"/>
                  <a:pt x="13930" y="14480"/>
                </a:cubicBezTo>
                <a:cubicBezTo>
                  <a:pt x="13908" y="14458"/>
                  <a:pt x="13887" y="14461"/>
                  <a:pt x="13859" y="14466"/>
                </a:cubicBezTo>
                <a:cubicBezTo>
                  <a:pt x="13806" y="14475"/>
                  <a:pt x="13779" y="14501"/>
                  <a:pt x="13745" y="14540"/>
                </a:cubicBezTo>
                <a:cubicBezTo>
                  <a:pt x="13691" y="14602"/>
                  <a:pt x="13669" y="14673"/>
                  <a:pt x="13693" y="14753"/>
                </a:cubicBezTo>
                <a:cubicBezTo>
                  <a:pt x="13709" y="14807"/>
                  <a:pt x="13740" y="14825"/>
                  <a:pt x="13774" y="14864"/>
                </a:cubicBezTo>
                <a:cubicBezTo>
                  <a:pt x="13803" y="14897"/>
                  <a:pt x="13825" y="14936"/>
                  <a:pt x="13845" y="14975"/>
                </a:cubicBezTo>
                <a:cubicBezTo>
                  <a:pt x="13866" y="15015"/>
                  <a:pt x="13869" y="15045"/>
                  <a:pt x="13869" y="15090"/>
                </a:cubicBezTo>
                <a:cubicBezTo>
                  <a:pt x="13869" y="15126"/>
                  <a:pt x="13868" y="15144"/>
                  <a:pt x="13845" y="15173"/>
                </a:cubicBezTo>
                <a:cubicBezTo>
                  <a:pt x="13822" y="15202"/>
                  <a:pt x="13774" y="15208"/>
                  <a:pt x="13740" y="15210"/>
                </a:cubicBezTo>
                <a:cubicBezTo>
                  <a:pt x="13683" y="15214"/>
                  <a:pt x="13621" y="15211"/>
                  <a:pt x="13565" y="15206"/>
                </a:cubicBezTo>
              </a:path>
              <a:path w="1353" h="870">
                <a:moveTo>
                  <a:pt x="14395" y="14457"/>
                </a:moveTo>
                <a:cubicBezTo>
                  <a:pt x="14364" y="14463"/>
                  <a:pt x="14329" y="14468"/>
                  <a:pt x="14300" y="14480"/>
                </a:cubicBezTo>
                <a:cubicBezTo>
                  <a:pt x="14280" y="14488"/>
                  <a:pt x="14213" y="14528"/>
                  <a:pt x="14205" y="14549"/>
                </a:cubicBezTo>
                <a:cubicBezTo>
                  <a:pt x="14195" y="14576"/>
                  <a:pt x="14222" y="14634"/>
                  <a:pt x="14234" y="14656"/>
                </a:cubicBezTo>
                <a:cubicBezTo>
                  <a:pt x="14264" y="14712"/>
                  <a:pt x="14298" y="14761"/>
                  <a:pt x="14334" y="14813"/>
                </a:cubicBezTo>
                <a:cubicBezTo>
                  <a:pt x="14366" y="14859"/>
                  <a:pt x="14392" y="14911"/>
                  <a:pt x="14419" y="14961"/>
                </a:cubicBezTo>
                <a:cubicBezTo>
                  <a:pt x="14441" y="15002"/>
                  <a:pt x="14460" y="15045"/>
                  <a:pt x="14471" y="15090"/>
                </a:cubicBezTo>
                <a:cubicBezTo>
                  <a:pt x="14478" y="15120"/>
                  <a:pt x="14480" y="15153"/>
                  <a:pt x="14457" y="15178"/>
                </a:cubicBezTo>
                <a:cubicBezTo>
                  <a:pt x="14432" y="15205"/>
                  <a:pt x="14393" y="15195"/>
                  <a:pt x="14362" y="15197"/>
                </a:cubicBezTo>
                <a:cubicBezTo>
                  <a:pt x="14325" y="15200"/>
                  <a:pt x="14312" y="15195"/>
                  <a:pt x="14277" y="151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848040" y="5915160"/>
            <a:ext cx="1185840" cy="942840"/>
          </a:xfrm>
          <a:custGeom>
            <a:avLst/>
            <a:gdLst/>
            <a:ahLst/>
            <a:rect l="l" t="t" r="r" b="b"/>
            <a:pathLst>
              <a:path w="3294" h="2618">
                <a:moveTo>
                  <a:pt x="9745" y="17189"/>
                </a:moveTo>
                <a:cubicBezTo>
                  <a:pt x="9748" y="17196"/>
                  <a:pt x="9755" y="17186"/>
                  <a:pt x="9759" y="17193"/>
                </a:cubicBezTo>
                <a:cubicBezTo>
                  <a:pt x="9796" y="17265"/>
                  <a:pt x="9807" y="17343"/>
                  <a:pt x="9811" y="17424"/>
                </a:cubicBezTo>
                <a:cubicBezTo>
                  <a:pt x="9818" y="17550"/>
                  <a:pt x="9806" y="17679"/>
                  <a:pt x="9792" y="17804"/>
                </a:cubicBezTo>
                <a:cubicBezTo>
                  <a:pt x="9781" y="17901"/>
                  <a:pt x="9761" y="17998"/>
                  <a:pt x="9754" y="18095"/>
                </a:cubicBezTo>
                <a:cubicBezTo>
                  <a:pt x="9748" y="18168"/>
                  <a:pt x="9706" y="18425"/>
                  <a:pt x="9754" y="18492"/>
                </a:cubicBezTo>
                <a:cubicBezTo>
                  <a:pt x="9760" y="18500"/>
                  <a:pt x="9759" y="18497"/>
                  <a:pt x="9769" y="18506"/>
                </a:cubicBezTo>
                <a:cubicBezTo>
                  <a:pt x="9792" y="18528"/>
                  <a:pt x="9876" y="18555"/>
                  <a:pt x="9906" y="18566"/>
                </a:cubicBezTo>
                <a:cubicBezTo>
                  <a:pt x="10001" y="18600"/>
                  <a:pt x="10098" y="18624"/>
                  <a:pt x="10191" y="18659"/>
                </a:cubicBezTo>
                <a:cubicBezTo>
                  <a:pt x="10342" y="18716"/>
                  <a:pt x="10488" y="18768"/>
                  <a:pt x="10646" y="18802"/>
                </a:cubicBezTo>
                <a:cubicBezTo>
                  <a:pt x="10772" y="18829"/>
                  <a:pt x="10903" y="18847"/>
                  <a:pt x="11031" y="18862"/>
                </a:cubicBezTo>
                <a:cubicBezTo>
                  <a:pt x="11160" y="18877"/>
                  <a:pt x="11290" y="18890"/>
                  <a:pt x="11420" y="18899"/>
                </a:cubicBezTo>
                <a:cubicBezTo>
                  <a:pt x="11535" y="18907"/>
                  <a:pt x="11651" y="18908"/>
                  <a:pt x="11766" y="18894"/>
                </a:cubicBezTo>
                <a:cubicBezTo>
                  <a:pt x="11885" y="18879"/>
                  <a:pt x="11997" y="18852"/>
                  <a:pt x="12113" y="18820"/>
                </a:cubicBezTo>
                <a:cubicBezTo>
                  <a:pt x="12290" y="18771"/>
                  <a:pt x="12465" y="18701"/>
                  <a:pt x="12630" y="18622"/>
                </a:cubicBezTo>
                <a:cubicBezTo>
                  <a:pt x="12720" y="18579"/>
                  <a:pt x="12807" y="18528"/>
                  <a:pt x="12891" y="18474"/>
                </a:cubicBezTo>
                <a:cubicBezTo>
                  <a:pt x="12941" y="18442"/>
                  <a:pt x="12989" y="18402"/>
                  <a:pt x="13033" y="18367"/>
                </a:cubicBezTo>
                <a:cubicBezTo>
                  <a:pt x="13035" y="18366"/>
                  <a:pt x="13036" y="18364"/>
                  <a:pt x="13038" y="18363"/>
                </a:cubicBezTo>
              </a:path>
              <a:path w="3294" h="2618">
                <a:moveTo>
                  <a:pt x="12559" y="17147"/>
                </a:moveTo>
                <a:cubicBezTo>
                  <a:pt x="12559" y="17142"/>
                  <a:pt x="12559" y="17138"/>
                  <a:pt x="12559" y="17133"/>
                </a:cubicBezTo>
                <a:cubicBezTo>
                  <a:pt x="12552" y="17149"/>
                  <a:pt x="12555" y="17139"/>
                  <a:pt x="12559" y="17156"/>
                </a:cubicBezTo>
                <a:cubicBezTo>
                  <a:pt x="12579" y="17232"/>
                  <a:pt x="12591" y="17311"/>
                  <a:pt x="12606" y="17388"/>
                </a:cubicBezTo>
                <a:cubicBezTo>
                  <a:pt x="12650" y="17607"/>
                  <a:pt x="12700" y="17827"/>
                  <a:pt x="12734" y="18048"/>
                </a:cubicBezTo>
                <a:cubicBezTo>
                  <a:pt x="12747" y="18131"/>
                  <a:pt x="12759" y="18215"/>
                  <a:pt x="12768" y="18298"/>
                </a:cubicBezTo>
                <a:cubicBezTo>
                  <a:pt x="12772" y="18334"/>
                  <a:pt x="12778" y="18361"/>
                  <a:pt x="12787" y="18395"/>
                </a:cubicBezTo>
              </a:path>
              <a:path w="3294" h="2618">
                <a:moveTo>
                  <a:pt x="11330" y="16292"/>
                </a:moveTo>
                <a:cubicBezTo>
                  <a:pt x="11335" y="16291"/>
                  <a:pt x="11337" y="16277"/>
                  <a:pt x="11339" y="16297"/>
                </a:cubicBezTo>
                <a:cubicBezTo>
                  <a:pt x="11343" y="16347"/>
                  <a:pt x="11340" y="16400"/>
                  <a:pt x="11335" y="16449"/>
                </a:cubicBezTo>
                <a:cubicBezTo>
                  <a:pt x="11330" y="16493"/>
                  <a:pt x="11326" y="16539"/>
                  <a:pt x="11330" y="16583"/>
                </a:cubicBezTo>
                <a:cubicBezTo>
                  <a:pt x="11335" y="16610"/>
                  <a:pt x="11336" y="16618"/>
                  <a:pt x="11344" y="16634"/>
                </a:cubicBezTo>
              </a:path>
              <a:path w="3294" h="2618">
                <a:moveTo>
                  <a:pt x="11202" y="16606"/>
                </a:moveTo>
                <a:cubicBezTo>
                  <a:pt x="11204" y="16616"/>
                  <a:pt x="11203" y="16616"/>
                  <a:pt x="11211" y="16625"/>
                </a:cubicBezTo>
                <a:cubicBezTo>
                  <a:pt x="11225" y="16640"/>
                  <a:pt x="11245" y="16640"/>
                  <a:pt x="11259" y="16653"/>
                </a:cubicBezTo>
                <a:cubicBezTo>
                  <a:pt x="11278" y="16671"/>
                  <a:pt x="11295" y="16691"/>
                  <a:pt x="11316" y="16708"/>
                </a:cubicBezTo>
                <a:cubicBezTo>
                  <a:pt x="11340" y="16728"/>
                  <a:pt x="11365" y="16750"/>
                  <a:pt x="11391" y="16768"/>
                </a:cubicBezTo>
                <a:cubicBezTo>
                  <a:pt x="11405" y="16777"/>
                  <a:pt x="11424" y="16790"/>
                  <a:pt x="11439" y="16796"/>
                </a:cubicBezTo>
                <a:cubicBezTo>
                  <a:pt x="11446" y="16799"/>
                  <a:pt x="11455" y="16800"/>
                  <a:pt x="11463" y="16800"/>
                </a:cubicBezTo>
                <a:cubicBezTo>
                  <a:pt x="11474" y="16800"/>
                  <a:pt x="11488" y="16796"/>
                  <a:pt x="11496" y="16787"/>
                </a:cubicBezTo>
                <a:cubicBezTo>
                  <a:pt x="11512" y="16770"/>
                  <a:pt x="11525" y="16750"/>
                  <a:pt x="11539" y="16731"/>
                </a:cubicBezTo>
                <a:cubicBezTo>
                  <a:pt x="11563" y="16698"/>
                  <a:pt x="11589" y="16662"/>
                  <a:pt x="11619" y="16634"/>
                </a:cubicBezTo>
                <a:cubicBezTo>
                  <a:pt x="11635" y="16622"/>
                  <a:pt x="11639" y="16620"/>
                  <a:pt x="11648" y="1661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238560" y="4753080"/>
            <a:ext cx="2406600" cy="1154160"/>
          </a:xfrm>
          <a:custGeom>
            <a:avLst/>
            <a:gdLst/>
            <a:ahLst/>
            <a:rect l="l" t="t" r="r" b="b"/>
            <a:pathLst>
              <a:path w="6687" h="3208">
                <a:moveTo>
                  <a:pt x="8212" y="13057"/>
                </a:moveTo>
                <a:cubicBezTo>
                  <a:pt x="8279" y="13064"/>
                  <a:pt x="8346" y="13077"/>
                  <a:pt x="8416" y="13080"/>
                </a:cubicBezTo>
                <a:cubicBezTo>
                  <a:pt x="8923" y="13104"/>
                  <a:pt x="9432" y="13055"/>
                  <a:pt x="9935" y="13117"/>
                </a:cubicBezTo>
                <a:cubicBezTo>
                  <a:pt x="10145" y="13143"/>
                  <a:pt x="10355" y="13136"/>
                  <a:pt x="10566" y="13126"/>
                </a:cubicBezTo>
                <a:cubicBezTo>
                  <a:pt x="10792" y="13115"/>
                  <a:pt x="11012" y="13090"/>
                  <a:pt x="11240" y="13089"/>
                </a:cubicBezTo>
                <a:cubicBezTo>
                  <a:pt x="11485" y="13088"/>
                  <a:pt x="11731" y="13096"/>
                  <a:pt x="11975" y="13107"/>
                </a:cubicBezTo>
                <a:cubicBezTo>
                  <a:pt x="12500" y="13131"/>
                  <a:pt x="13025" y="13135"/>
                  <a:pt x="13551" y="13135"/>
                </a:cubicBezTo>
                <a:cubicBezTo>
                  <a:pt x="13741" y="13135"/>
                  <a:pt x="13930" y="13128"/>
                  <a:pt x="14120" y="13117"/>
                </a:cubicBezTo>
                <a:cubicBezTo>
                  <a:pt x="14250" y="13110"/>
                  <a:pt x="14395" y="13083"/>
                  <a:pt x="14519" y="13117"/>
                </a:cubicBezTo>
                <a:cubicBezTo>
                  <a:pt x="14543" y="13123"/>
                  <a:pt x="14613" y="13155"/>
                  <a:pt x="14628" y="13177"/>
                </a:cubicBezTo>
                <a:cubicBezTo>
                  <a:pt x="14646" y="13203"/>
                  <a:pt x="14635" y="13223"/>
                  <a:pt x="14647" y="13274"/>
                </a:cubicBezTo>
                <a:cubicBezTo>
                  <a:pt x="14694" y="13476"/>
                  <a:pt x="14666" y="13754"/>
                  <a:pt x="14670" y="13962"/>
                </a:cubicBezTo>
                <a:cubicBezTo>
                  <a:pt x="14673" y="14133"/>
                  <a:pt x="14689" y="14301"/>
                  <a:pt x="14694" y="14471"/>
                </a:cubicBezTo>
                <a:cubicBezTo>
                  <a:pt x="14704" y="14829"/>
                  <a:pt x="14866" y="15678"/>
                  <a:pt x="14737" y="15996"/>
                </a:cubicBezTo>
                <a:cubicBezTo>
                  <a:pt x="14718" y="16043"/>
                  <a:pt x="14749" y="16037"/>
                  <a:pt x="14708" y="16066"/>
                </a:cubicBezTo>
                <a:cubicBezTo>
                  <a:pt x="14645" y="16111"/>
                  <a:pt x="14351" y="16067"/>
                  <a:pt x="14281" y="16075"/>
                </a:cubicBezTo>
                <a:cubicBezTo>
                  <a:pt x="14075" y="16100"/>
                  <a:pt x="13870" y="16142"/>
                  <a:pt x="13669" y="16190"/>
                </a:cubicBezTo>
                <a:cubicBezTo>
                  <a:pt x="13272" y="16284"/>
                  <a:pt x="12861" y="16276"/>
                  <a:pt x="12454" y="16255"/>
                </a:cubicBezTo>
                <a:cubicBezTo>
                  <a:pt x="12190" y="16242"/>
                  <a:pt x="11927" y="16228"/>
                  <a:pt x="11662" y="16227"/>
                </a:cubicBezTo>
                <a:cubicBezTo>
                  <a:pt x="11245" y="16225"/>
                  <a:pt x="10835" y="16219"/>
                  <a:pt x="10419" y="16177"/>
                </a:cubicBezTo>
                <a:cubicBezTo>
                  <a:pt x="10274" y="16162"/>
                  <a:pt x="10127" y="16147"/>
                  <a:pt x="9982" y="16130"/>
                </a:cubicBezTo>
                <a:cubicBezTo>
                  <a:pt x="9337" y="16054"/>
                  <a:pt x="8695" y="16063"/>
                  <a:pt x="8051" y="1604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614920" y="1725480"/>
            <a:ext cx="1114560" cy="3605400"/>
          </a:xfrm>
          <a:custGeom>
            <a:avLst/>
            <a:gdLst/>
            <a:ahLst/>
            <a:rect l="l" t="t" r="r" b="b"/>
            <a:pathLst>
              <a:path w="3095" h="10017">
                <a:moveTo>
                  <a:pt x="18690" y="9830"/>
                </a:moveTo>
                <a:cubicBezTo>
                  <a:pt x="18682" y="9828"/>
                  <a:pt x="18674" y="9828"/>
                  <a:pt x="18666" y="9826"/>
                </a:cubicBezTo>
                <a:cubicBezTo>
                  <a:pt x="18650" y="9823"/>
                  <a:pt x="18638" y="9816"/>
                  <a:pt x="18623" y="9812"/>
                </a:cubicBezTo>
                <a:cubicBezTo>
                  <a:pt x="18610" y="9808"/>
                  <a:pt x="18588" y="9800"/>
                  <a:pt x="18576" y="9798"/>
                </a:cubicBezTo>
                <a:cubicBezTo>
                  <a:pt x="18492" y="9785"/>
                  <a:pt x="18400" y="9800"/>
                  <a:pt x="18315" y="9793"/>
                </a:cubicBezTo>
                <a:cubicBezTo>
                  <a:pt x="18286" y="9791"/>
                  <a:pt x="18257" y="9786"/>
                  <a:pt x="18229" y="9784"/>
                </a:cubicBezTo>
                <a:cubicBezTo>
                  <a:pt x="18200" y="9782"/>
                  <a:pt x="18174" y="9772"/>
                  <a:pt x="18144" y="9770"/>
                </a:cubicBezTo>
                <a:cubicBezTo>
                  <a:pt x="18072" y="9765"/>
                  <a:pt x="17997" y="9770"/>
                  <a:pt x="17926" y="9775"/>
                </a:cubicBezTo>
                <a:cubicBezTo>
                  <a:pt x="17896" y="9777"/>
                  <a:pt x="17866" y="9779"/>
                  <a:pt x="17836" y="9779"/>
                </a:cubicBezTo>
                <a:cubicBezTo>
                  <a:pt x="17789" y="9779"/>
                  <a:pt x="17739" y="9774"/>
                  <a:pt x="17693" y="9784"/>
                </a:cubicBezTo>
                <a:cubicBezTo>
                  <a:pt x="17677" y="9787"/>
                  <a:pt x="17650" y="9791"/>
                  <a:pt x="17636" y="9798"/>
                </a:cubicBezTo>
                <a:cubicBezTo>
                  <a:pt x="17623" y="9804"/>
                  <a:pt x="17614" y="9806"/>
                  <a:pt x="17603" y="9812"/>
                </a:cubicBezTo>
                <a:cubicBezTo>
                  <a:pt x="17601" y="9813"/>
                  <a:pt x="17600" y="9815"/>
                  <a:pt x="17598" y="9816"/>
                </a:cubicBezTo>
                <a:cubicBezTo>
                  <a:pt x="17617" y="9816"/>
                  <a:pt x="17636" y="9816"/>
                  <a:pt x="17655" y="9816"/>
                </a:cubicBezTo>
              </a:path>
              <a:path w="3095" h="10017">
                <a:moveTo>
                  <a:pt x="17546" y="9835"/>
                </a:moveTo>
                <a:cubicBezTo>
                  <a:pt x="17556" y="9832"/>
                  <a:pt x="17559" y="9837"/>
                  <a:pt x="17565" y="9830"/>
                </a:cubicBezTo>
                <a:cubicBezTo>
                  <a:pt x="17592" y="9801"/>
                  <a:pt x="17609" y="9752"/>
                  <a:pt x="17617" y="9715"/>
                </a:cubicBezTo>
                <a:cubicBezTo>
                  <a:pt x="17621" y="9697"/>
                  <a:pt x="17622" y="9683"/>
                  <a:pt x="17622" y="9664"/>
                </a:cubicBezTo>
                <a:cubicBezTo>
                  <a:pt x="17623" y="9643"/>
                  <a:pt x="17622" y="9624"/>
                  <a:pt x="17617" y="9604"/>
                </a:cubicBezTo>
                <a:cubicBezTo>
                  <a:pt x="17612" y="9584"/>
                  <a:pt x="17606" y="9565"/>
                  <a:pt x="17594" y="9548"/>
                </a:cubicBezTo>
                <a:cubicBezTo>
                  <a:pt x="17581" y="9530"/>
                  <a:pt x="17565" y="9522"/>
                  <a:pt x="17551" y="9507"/>
                </a:cubicBezTo>
                <a:cubicBezTo>
                  <a:pt x="17533" y="9488"/>
                  <a:pt x="17526" y="9475"/>
                  <a:pt x="17503" y="9460"/>
                </a:cubicBezTo>
                <a:cubicBezTo>
                  <a:pt x="17490" y="9451"/>
                  <a:pt x="17467" y="9440"/>
                  <a:pt x="17451" y="9437"/>
                </a:cubicBezTo>
                <a:cubicBezTo>
                  <a:pt x="17413" y="9431"/>
                  <a:pt x="17360" y="9434"/>
                  <a:pt x="17323" y="9442"/>
                </a:cubicBezTo>
                <a:cubicBezTo>
                  <a:pt x="17307" y="9445"/>
                  <a:pt x="17292" y="9453"/>
                  <a:pt x="17280" y="9465"/>
                </a:cubicBezTo>
                <a:cubicBezTo>
                  <a:pt x="17266" y="9479"/>
                  <a:pt x="17253" y="9498"/>
                  <a:pt x="17238" y="9511"/>
                </a:cubicBezTo>
                <a:cubicBezTo>
                  <a:pt x="17218" y="9528"/>
                  <a:pt x="17213" y="9541"/>
                  <a:pt x="17200" y="9562"/>
                </a:cubicBezTo>
                <a:cubicBezTo>
                  <a:pt x="17190" y="9579"/>
                  <a:pt x="17175" y="9590"/>
                  <a:pt x="17167" y="9608"/>
                </a:cubicBezTo>
                <a:cubicBezTo>
                  <a:pt x="17160" y="9624"/>
                  <a:pt x="17150" y="9656"/>
                  <a:pt x="17148" y="9673"/>
                </a:cubicBezTo>
                <a:cubicBezTo>
                  <a:pt x="17143" y="9716"/>
                  <a:pt x="17129" y="9839"/>
                  <a:pt x="17152" y="9876"/>
                </a:cubicBezTo>
                <a:cubicBezTo>
                  <a:pt x="17166" y="9899"/>
                  <a:pt x="17194" y="9928"/>
                  <a:pt x="17214" y="9946"/>
                </a:cubicBezTo>
                <a:cubicBezTo>
                  <a:pt x="17236" y="9966"/>
                  <a:pt x="17268" y="9985"/>
                  <a:pt x="17295" y="9997"/>
                </a:cubicBezTo>
                <a:cubicBezTo>
                  <a:pt x="17310" y="10004"/>
                  <a:pt x="17321" y="10005"/>
                  <a:pt x="17337" y="10006"/>
                </a:cubicBezTo>
                <a:cubicBezTo>
                  <a:pt x="17372" y="10008"/>
                  <a:pt x="17418" y="10013"/>
                  <a:pt x="17451" y="10001"/>
                </a:cubicBezTo>
                <a:cubicBezTo>
                  <a:pt x="17475" y="9992"/>
                  <a:pt x="17487" y="9977"/>
                  <a:pt x="17508" y="9964"/>
                </a:cubicBezTo>
                <a:cubicBezTo>
                  <a:pt x="17531" y="9950"/>
                  <a:pt x="17545" y="9932"/>
                  <a:pt x="17565" y="9913"/>
                </a:cubicBezTo>
                <a:cubicBezTo>
                  <a:pt x="17584" y="9894"/>
                  <a:pt x="17594" y="9869"/>
                  <a:pt x="17603" y="9844"/>
                </a:cubicBezTo>
                <a:cubicBezTo>
                  <a:pt x="17611" y="9822"/>
                  <a:pt x="17613" y="9801"/>
                  <a:pt x="17617" y="9779"/>
                </a:cubicBezTo>
              </a:path>
              <a:path w="3095" h="10017">
                <a:moveTo>
                  <a:pt x="15714" y="9803"/>
                </a:moveTo>
                <a:cubicBezTo>
                  <a:pt x="15674" y="9803"/>
                  <a:pt x="15636" y="9803"/>
                  <a:pt x="15601" y="9812"/>
                </a:cubicBezTo>
                <a:cubicBezTo>
                  <a:pt x="15599" y="9812"/>
                  <a:pt x="15598" y="9812"/>
                  <a:pt x="15596" y="9812"/>
                </a:cubicBezTo>
                <a:cubicBezTo>
                  <a:pt x="15606" y="9814"/>
                  <a:pt x="15626" y="9820"/>
                  <a:pt x="15643" y="9821"/>
                </a:cubicBezTo>
                <a:cubicBezTo>
                  <a:pt x="15687" y="9822"/>
                  <a:pt x="15728" y="9821"/>
                  <a:pt x="15771" y="9812"/>
                </a:cubicBezTo>
                <a:cubicBezTo>
                  <a:pt x="15824" y="9800"/>
                  <a:pt x="15877" y="9787"/>
                  <a:pt x="15928" y="9770"/>
                </a:cubicBezTo>
                <a:cubicBezTo>
                  <a:pt x="15991" y="9749"/>
                  <a:pt x="16042" y="9742"/>
                  <a:pt x="16108" y="9742"/>
                </a:cubicBezTo>
                <a:cubicBezTo>
                  <a:pt x="16250" y="9742"/>
                  <a:pt x="16393" y="9740"/>
                  <a:pt x="16535" y="9747"/>
                </a:cubicBezTo>
                <a:cubicBezTo>
                  <a:pt x="16576" y="9749"/>
                  <a:pt x="16618" y="9751"/>
                  <a:pt x="16659" y="9752"/>
                </a:cubicBezTo>
                <a:cubicBezTo>
                  <a:pt x="16699" y="9753"/>
                  <a:pt x="16733" y="9752"/>
                  <a:pt x="16768" y="9742"/>
                </a:cubicBezTo>
                <a:cubicBezTo>
                  <a:pt x="16782" y="9738"/>
                  <a:pt x="16797" y="9737"/>
                  <a:pt x="16811" y="9733"/>
                </a:cubicBezTo>
              </a:path>
              <a:path w="3095" h="10017">
                <a:moveTo>
                  <a:pt x="16806" y="9562"/>
                </a:moveTo>
                <a:cubicBezTo>
                  <a:pt x="16805" y="9574"/>
                  <a:pt x="16797" y="9568"/>
                  <a:pt x="16806" y="9581"/>
                </a:cubicBezTo>
                <a:cubicBezTo>
                  <a:pt x="16814" y="9592"/>
                  <a:pt x="16824" y="9603"/>
                  <a:pt x="16834" y="9613"/>
                </a:cubicBezTo>
                <a:cubicBezTo>
                  <a:pt x="16855" y="9633"/>
                  <a:pt x="16882" y="9647"/>
                  <a:pt x="16906" y="9664"/>
                </a:cubicBezTo>
                <a:cubicBezTo>
                  <a:pt x="16937" y="9687"/>
                  <a:pt x="16965" y="9711"/>
                  <a:pt x="17000" y="9729"/>
                </a:cubicBezTo>
                <a:cubicBezTo>
                  <a:pt x="17030" y="9744"/>
                  <a:pt x="17058" y="9759"/>
                  <a:pt x="17086" y="9779"/>
                </a:cubicBezTo>
                <a:cubicBezTo>
                  <a:pt x="17106" y="9793"/>
                  <a:pt x="17112" y="9803"/>
                  <a:pt x="17114" y="9826"/>
                </a:cubicBezTo>
                <a:cubicBezTo>
                  <a:pt x="17117" y="9858"/>
                  <a:pt x="17096" y="9883"/>
                  <a:pt x="17076" y="9904"/>
                </a:cubicBezTo>
                <a:cubicBezTo>
                  <a:pt x="17043" y="9939"/>
                  <a:pt x="17010" y="9971"/>
                  <a:pt x="16972" y="10001"/>
                </a:cubicBezTo>
                <a:cubicBezTo>
                  <a:pt x="16951" y="10018"/>
                  <a:pt x="16935" y="10038"/>
                  <a:pt x="16915" y="10057"/>
                </a:cubicBezTo>
              </a:path>
              <a:path w="3095" h="10017">
                <a:moveTo>
                  <a:pt x="15828" y="4792"/>
                </a:moveTo>
                <a:cubicBezTo>
                  <a:pt x="15839" y="4797"/>
                  <a:pt x="15839" y="4824"/>
                  <a:pt x="15871" y="4834"/>
                </a:cubicBezTo>
                <a:cubicBezTo>
                  <a:pt x="15904" y="4845"/>
                  <a:pt x="15945" y="4846"/>
                  <a:pt x="15980" y="4852"/>
                </a:cubicBezTo>
                <a:cubicBezTo>
                  <a:pt x="16117" y="4874"/>
                  <a:pt x="16264" y="4885"/>
                  <a:pt x="16403" y="4889"/>
                </a:cubicBezTo>
                <a:cubicBezTo>
                  <a:pt x="16563" y="4893"/>
                  <a:pt x="16733" y="4870"/>
                  <a:pt x="16891" y="4894"/>
                </a:cubicBezTo>
                <a:cubicBezTo>
                  <a:pt x="16931" y="4900"/>
                  <a:pt x="16971" y="4912"/>
                  <a:pt x="17010" y="4922"/>
                </a:cubicBezTo>
                <a:cubicBezTo>
                  <a:pt x="17034" y="4928"/>
                  <a:pt x="17074" y="4937"/>
                  <a:pt x="17095" y="4949"/>
                </a:cubicBezTo>
                <a:cubicBezTo>
                  <a:pt x="17129" y="4968"/>
                  <a:pt x="17142" y="4994"/>
                  <a:pt x="17167" y="5019"/>
                </a:cubicBezTo>
                <a:cubicBezTo>
                  <a:pt x="17192" y="5044"/>
                  <a:pt x="17228" y="5071"/>
                  <a:pt x="17242" y="5102"/>
                </a:cubicBezTo>
                <a:cubicBezTo>
                  <a:pt x="17247" y="5114"/>
                  <a:pt x="17248" y="5129"/>
                  <a:pt x="17252" y="5143"/>
                </a:cubicBezTo>
                <a:cubicBezTo>
                  <a:pt x="17262" y="5177"/>
                  <a:pt x="17260" y="5219"/>
                  <a:pt x="17266" y="5254"/>
                </a:cubicBezTo>
                <a:cubicBezTo>
                  <a:pt x="17278" y="5325"/>
                  <a:pt x="17285" y="5400"/>
                  <a:pt x="17290" y="5472"/>
                </a:cubicBezTo>
                <a:cubicBezTo>
                  <a:pt x="17296" y="5559"/>
                  <a:pt x="17296" y="5648"/>
                  <a:pt x="17299" y="5735"/>
                </a:cubicBezTo>
                <a:cubicBezTo>
                  <a:pt x="17303" y="5851"/>
                  <a:pt x="17305" y="5966"/>
                  <a:pt x="17309" y="6082"/>
                </a:cubicBezTo>
                <a:cubicBezTo>
                  <a:pt x="17318" y="6365"/>
                  <a:pt x="17316" y="6649"/>
                  <a:pt x="17314" y="6932"/>
                </a:cubicBezTo>
                <a:cubicBezTo>
                  <a:pt x="17313" y="7131"/>
                  <a:pt x="17304" y="7329"/>
                  <a:pt x="17304" y="7528"/>
                </a:cubicBezTo>
                <a:cubicBezTo>
                  <a:pt x="17304" y="7752"/>
                  <a:pt x="17286" y="7976"/>
                  <a:pt x="17290" y="8199"/>
                </a:cubicBezTo>
                <a:cubicBezTo>
                  <a:pt x="17293" y="8397"/>
                  <a:pt x="17315" y="8604"/>
                  <a:pt x="17337" y="8800"/>
                </a:cubicBezTo>
                <a:cubicBezTo>
                  <a:pt x="17341" y="8839"/>
                  <a:pt x="17352" y="8879"/>
                  <a:pt x="17356" y="8920"/>
                </a:cubicBezTo>
                <a:cubicBezTo>
                  <a:pt x="17364" y="9010"/>
                  <a:pt x="17364" y="9104"/>
                  <a:pt x="17371" y="9192"/>
                </a:cubicBezTo>
              </a:path>
              <a:path w="3095" h="10017">
                <a:moveTo>
                  <a:pt x="17167" y="8850"/>
                </a:moveTo>
                <a:cubicBezTo>
                  <a:pt x="17180" y="8871"/>
                  <a:pt x="17182" y="8876"/>
                  <a:pt x="17190" y="8901"/>
                </a:cubicBezTo>
                <a:cubicBezTo>
                  <a:pt x="17225" y="9007"/>
                  <a:pt x="17242" y="9118"/>
                  <a:pt x="17271" y="9225"/>
                </a:cubicBezTo>
                <a:cubicBezTo>
                  <a:pt x="17283" y="9272"/>
                  <a:pt x="17301" y="9305"/>
                  <a:pt x="17328" y="9345"/>
                </a:cubicBezTo>
                <a:cubicBezTo>
                  <a:pt x="17337" y="9359"/>
                  <a:pt x="17340" y="9364"/>
                  <a:pt x="17352" y="9368"/>
                </a:cubicBezTo>
                <a:cubicBezTo>
                  <a:pt x="17382" y="9353"/>
                  <a:pt x="17383" y="9349"/>
                  <a:pt x="17399" y="9313"/>
                </a:cubicBezTo>
                <a:cubicBezTo>
                  <a:pt x="17428" y="9249"/>
                  <a:pt x="17449" y="9176"/>
                  <a:pt x="17470" y="9109"/>
                </a:cubicBezTo>
                <a:cubicBezTo>
                  <a:pt x="17496" y="9025"/>
                  <a:pt x="17511" y="8938"/>
                  <a:pt x="17537" y="8855"/>
                </a:cubicBezTo>
                <a:cubicBezTo>
                  <a:pt x="17546" y="8826"/>
                  <a:pt x="17556" y="8798"/>
                  <a:pt x="17570" y="8772"/>
                </a:cubicBezTo>
              </a:path>
              <a:path w="3095" h="10017">
                <a:moveTo>
                  <a:pt x="15885" y="14790"/>
                </a:moveTo>
                <a:cubicBezTo>
                  <a:pt x="15927" y="14785"/>
                  <a:pt x="15964" y="14769"/>
                  <a:pt x="16013" y="14771"/>
                </a:cubicBezTo>
                <a:cubicBezTo>
                  <a:pt x="16197" y="14778"/>
                  <a:pt x="16368" y="14805"/>
                  <a:pt x="16554" y="14799"/>
                </a:cubicBezTo>
                <a:cubicBezTo>
                  <a:pt x="16719" y="14794"/>
                  <a:pt x="16883" y="14798"/>
                  <a:pt x="17048" y="14785"/>
                </a:cubicBezTo>
                <a:cubicBezTo>
                  <a:pt x="17102" y="14781"/>
                  <a:pt x="17156" y="14773"/>
                  <a:pt x="17209" y="14757"/>
                </a:cubicBezTo>
                <a:cubicBezTo>
                  <a:pt x="17226" y="14752"/>
                  <a:pt x="17252" y="14753"/>
                  <a:pt x="17266" y="14744"/>
                </a:cubicBezTo>
                <a:cubicBezTo>
                  <a:pt x="17310" y="14716"/>
                  <a:pt x="17313" y="14678"/>
                  <a:pt x="17323" y="14633"/>
                </a:cubicBezTo>
                <a:cubicBezTo>
                  <a:pt x="17352" y="14501"/>
                  <a:pt x="17317" y="14327"/>
                  <a:pt x="17309" y="14194"/>
                </a:cubicBezTo>
                <a:cubicBezTo>
                  <a:pt x="17292" y="13910"/>
                  <a:pt x="17290" y="13628"/>
                  <a:pt x="17290" y="13343"/>
                </a:cubicBezTo>
                <a:cubicBezTo>
                  <a:pt x="17290" y="13071"/>
                  <a:pt x="17304" y="12805"/>
                  <a:pt x="17314" y="12534"/>
                </a:cubicBezTo>
                <a:cubicBezTo>
                  <a:pt x="17335" y="11988"/>
                  <a:pt x="17287" y="11438"/>
                  <a:pt x="17328" y="10893"/>
                </a:cubicBezTo>
                <a:cubicBezTo>
                  <a:pt x="17342" y="10707"/>
                  <a:pt x="17342" y="10479"/>
                  <a:pt x="17342" y="10311"/>
                </a:cubicBezTo>
                <a:cubicBezTo>
                  <a:pt x="17342" y="10297"/>
                  <a:pt x="17342" y="10367"/>
                  <a:pt x="17342" y="10353"/>
                </a:cubicBezTo>
              </a:path>
              <a:path w="3095" h="10017">
                <a:moveTo>
                  <a:pt x="17337" y="10251"/>
                </a:moveTo>
                <a:cubicBezTo>
                  <a:pt x="17339" y="10244"/>
                  <a:pt x="17339" y="10235"/>
                  <a:pt x="17342" y="10228"/>
                </a:cubicBezTo>
                <a:cubicBezTo>
                  <a:pt x="17342" y="10222"/>
                  <a:pt x="17342" y="10221"/>
                  <a:pt x="17342" y="10232"/>
                </a:cubicBezTo>
                <a:cubicBezTo>
                  <a:pt x="17340" y="10274"/>
                  <a:pt x="17332" y="10307"/>
                  <a:pt x="17323" y="10348"/>
                </a:cubicBezTo>
                <a:cubicBezTo>
                  <a:pt x="17308" y="10414"/>
                  <a:pt x="17291" y="10479"/>
                  <a:pt x="17266" y="10542"/>
                </a:cubicBezTo>
                <a:cubicBezTo>
                  <a:pt x="17240" y="10608"/>
                  <a:pt x="17221" y="10672"/>
                  <a:pt x="17190" y="10736"/>
                </a:cubicBezTo>
                <a:cubicBezTo>
                  <a:pt x="17178" y="10761"/>
                  <a:pt x="17166" y="10787"/>
                  <a:pt x="17152" y="10810"/>
                </a:cubicBezTo>
                <a:cubicBezTo>
                  <a:pt x="17157" y="10785"/>
                  <a:pt x="17164" y="10761"/>
                  <a:pt x="17171" y="10736"/>
                </a:cubicBezTo>
                <a:cubicBezTo>
                  <a:pt x="17192" y="10659"/>
                  <a:pt x="17208" y="10581"/>
                  <a:pt x="17233" y="10505"/>
                </a:cubicBezTo>
                <a:cubicBezTo>
                  <a:pt x="17254" y="10441"/>
                  <a:pt x="17274" y="10374"/>
                  <a:pt x="17299" y="10311"/>
                </a:cubicBezTo>
                <a:cubicBezTo>
                  <a:pt x="17308" y="10288"/>
                  <a:pt x="17319" y="10229"/>
                  <a:pt x="17342" y="10214"/>
                </a:cubicBezTo>
                <a:cubicBezTo>
                  <a:pt x="17351" y="10209"/>
                  <a:pt x="17354" y="10208"/>
                  <a:pt x="17361" y="10209"/>
                </a:cubicBezTo>
                <a:cubicBezTo>
                  <a:pt x="17373" y="10229"/>
                  <a:pt x="17387" y="10249"/>
                  <a:pt x="17394" y="10274"/>
                </a:cubicBezTo>
                <a:cubicBezTo>
                  <a:pt x="17407" y="10321"/>
                  <a:pt x="17414" y="10379"/>
                  <a:pt x="17418" y="10427"/>
                </a:cubicBezTo>
                <a:cubicBezTo>
                  <a:pt x="17423" y="10493"/>
                  <a:pt x="17433" y="10559"/>
                  <a:pt x="17446" y="10625"/>
                </a:cubicBezTo>
                <a:cubicBezTo>
                  <a:pt x="17456" y="10678"/>
                  <a:pt x="17471" y="10733"/>
                  <a:pt x="17494" y="10782"/>
                </a:cubicBezTo>
                <a:cubicBezTo>
                  <a:pt x="17510" y="10816"/>
                  <a:pt x="17534" y="10842"/>
                  <a:pt x="17551" y="1087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2035080" y="3335400"/>
            <a:ext cx="1117800" cy="1938240"/>
          </a:xfrm>
          <a:custGeom>
            <a:avLst/>
            <a:gdLst/>
            <a:ahLst/>
            <a:rect l="l" t="t" r="r" b="b"/>
            <a:pathLst>
              <a:path w="3105" h="5382">
                <a:moveTo>
                  <a:pt x="5658" y="10048"/>
                </a:moveTo>
                <a:cubicBezTo>
                  <a:pt x="5656" y="10056"/>
                  <a:pt x="5655" y="10063"/>
                  <a:pt x="5653" y="10071"/>
                </a:cubicBezTo>
                <a:cubicBezTo>
                  <a:pt x="5669" y="10072"/>
                  <a:pt x="5681" y="10073"/>
                  <a:pt x="5696" y="10076"/>
                </a:cubicBezTo>
                <a:cubicBezTo>
                  <a:pt x="5710" y="10079"/>
                  <a:pt x="5725" y="10082"/>
                  <a:pt x="5739" y="10085"/>
                </a:cubicBezTo>
                <a:cubicBezTo>
                  <a:pt x="5757" y="10088"/>
                  <a:pt x="5778" y="10093"/>
                  <a:pt x="5796" y="10094"/>
                </a:cubicBezTo>
                <a:cubicBezTo>
                  <a:pt x="5818" y="10096"/>
                  <a:pt x="5841" y="10097"/>
                  <a:pt x="5862" y="10103"/>
                </a:cubicBezTo>
                <a:cubicBezTo>
                  <a:pt x="5880" y="10108"/>
                  <a:pt x="5897" y="10116"/>
                  <a:pt x="5914" y="10122"/>
                </a:cubicBezTo>
                <a:cubicBezTo>
                  <a:pt x="5938" y="10130"/>
                  <a:pt x="5957" y="10145"/>
                  <a:pt x="5981" y="10150"/>
                </a:cubicBezTo>
                <a:cubicBezTo>
                  <a:pt x="6037" y="10161"/>
                  <a:pt x="6105" y="10148"/>
                  <a:pt x="6161" y="10145"/>
                </a:cubicBezTo>
                <a:cubicBezTo>
                  <a:pt x="6278" y="10138"/>
                  <a:pt x="6444" y="10121"/>
                  <a:pt x="6560" y="10150"/>
                </a:cubicBezTo>
              </a:path>
              <a:path w="3105" h="5382">
                <a:moveTo>
                  <a:pt x="6920" y="9854"/>
                </a:moveTo>
                <a:cubicBezTo>
                  <a:pt x="6903" y="9858"/>
                  <a:pt x="6889" y="9858"/>
                  <a:pt x="6873" y="9868"/>
                </a:cubicBezTo>
                <a:cubicBezTo>
                  <a:pt x="6850" y="9882"/>
                  <a:pt x="6837" y="9892"/>
                  <a:pt x="6811" y="9900"/>
                </a:cubicBezTo>
                <a:cubicBezTo>
                  <a:pt x="6787" y="9907"/>
                  <a:pt x="6762" y="9910"/>
                  <a:pt x="6740" y="9923"/>
                </a:cubicBezTo>
                <a:cubicBezTo>
                  <a:pt x="6709" y="9941"/>
                  <a:pt x="6683" y="9965"/>
                  <a:pt x="6655" y="9988"/>
                </a:cubicBezTo>
                <a:cubicBezTo>
                  <a:pt x="6627" y="10011"/>
                  <a:pt x="6607" y="10040"/>
                  <a:pt x="6583" y="10067"/>
                </a:cubicBezTo>
                <a:cubicBezTo>
                  <a:pt x="6559" y="10093"/>
                  <a:pt x="6544" y="10123"/>
                  <a:pt x="6527" y="10154"/>
                </a:cubicBezTo>
                <a:cubicBezTo>
                  <a:pt x="6514" y="10177"/>
                  <a:pt x="6503" y="10207"/>
                  <a:pt x="6498" y="10233"/>
                </a:cubicBezTo>
                <a:cubicBezTo>
                  <a:pt x="6493" y="10260"/>
                  <a:pt x="6490" y="10288"/>
                  <a:pt x="6493" y="10316"/>
                </a:cubicBezTo>
                <a:cubicBezTo>
                  <a:pt x="6496" y="10343"/>
                  <a:pt x="6507" y="10370"/>
                  <a:pt x="6517" y="10395"/>
                </a:cubicBezTo>
                <a:cubicBezTo>
                  <a:pt x="6535" y="10437"/>
                  <a:pt x="6555" y="10462"/>
                  <a:pt x="6593" y="10487"/>
                </a:cubicBezTo>
                <a:cubicBezTo>
                  <a:pt x="6621" y="10505"/>
                  <a:pt x="6652" y="10510"/>
                  <a:pt x="6683" y="10520"/>
                </a:cubicBezTo>
                <a:cubicBezTo>
                  <a:pt x="6715" y="10530"/>
                  <a:pt x="6744" y="10529"/>
                  <a:pt x="6778" y="10529"/>
                </a:cubicBezTo>
                <a:cubicBezTo>
                  <a:pt x="6804" y="10529"/>
                  <a:pt x="6828" y="10527"/>
                  <a:pt x="6854" y="10524"/>
                </a:cubicBezTo>
                <a:cubicBezTo>
                  <a:pt x="6896" y="10520"/>
                  <a:pt x="6939" y="10507"/>
                  <a:pt x="6973" y="10478"/>
                </a:cubicBezTo>
                <a:cubicBezTo>
                  <a:pt x="6996" y="10458"/>
                  <a:pt x="7021" y="10445"/>
                  <a:pt x="7044" y="10427"/>
                </a:cubicBezTo>
                <a:cubicBezTo>
                  <a:pt x="7067" y="10409"/>
                  <a:pt x="7083" y="10384"/>
                  <a:pt x="7096" y="10358"/>
                </a:cubicBezTo>
                <a:cubicBezTo>
                  <a:pt x="7110" y="10331"/>
                  <a:pt x="7121" y="10304"/>
                  <a:pt x="7129" y="10275"/>
                </a:cubicBezTo>
                <a:cubicBezTo>
                  <a:pt x="7138" y="10242"/>
                  <a:pt x="7134" y="10207"/>
                  <a:pt x="7134" y="10173"/>
                </a:cubicBezTo>
                <a:cubicBezTo>
                  <a:pt x="7134" y="10131"/>
                  <a:pt x="7134" y="10094"/>
                  <a:pt x="7120" y="10053"/>
                </a:cubicBezTo>
                <a:cubicBezTo>
                  <a:pt x="7099" y="9993"/>
                  <a:pt x="7053" y="9955"/>
                  <a:pt x="6996" y="9932"/>
                </a:cubicBezTo>
                <a:cubicBezTo>
                  <a:pt x="6945" y="9912"/>
                  <a:pt x="6896" y="9904"/>
                  <a:pt x="6844" y="9919"/>
                </a:cubicBezTo>
              </a:path>
              <a:path w="3105" h="5382">
                <a:moveTo>
                  <a:pt x="6688" y="9267"/>
                </a:moveTo>
                <a:cubicBezTo>
                  <a:pt x="6693" y="9285"/>
                  <a:pt x="6700" y="9300"/>
                  <a:pt x="6707" y="9318"/>
                </a:cubicBezTo>
                <a:cubicBezTo>
                  <a:pt x="6721" y="9352"/>
                  <a:pt x="6728" y="9389"/>
                  <a:pt x="6740" y="9424"/>
                </a:cubicBezTo>
                <a:cubicBezTo>
                  <a:pt x="6755" y="9467"/>
                  <a:pt x="6769" y="9510"/>
                  <a:pt x="6783" y="9553"/>
                </a:cubicBezTo>
                <a:cubicBezTo>
                  <a:pt x="6797" y="9596"/>
                  <a:pt x="6816" y="9633"/>
                  <a:pt x="6835" y="9674"/>
                </a:cubicBezTo>
                <a:cubicBezTo>
                  <a:pt x="6849" y="9704"/>
                  <a:pt x="6859" y="9725"/>
                  <a:pt x="6878" y="9752"/>
                </a:cubicBezTo>
                <a:cubicBezTo>
                  <a:pt x="6884" y="9761"/>
                  <a:pt x="6896" y="9785"/>
                  <a:pt x="6906" y="9789"/>
                </a:cubicBezTo>
                <a:cubicBezTo>
                  <a:pt x="6913" y="9792"/>
                  <a:pt x="6934" y="9790"/>
                  <a:pt x="6939" y="9785"/>
                </a:cubicBezTo>
                <a:cubicBezTo>
                  <a:pt x="6954" y="9770"/>
                  <a:pt x="6967" y="9729"/>
                  <a:pt x="6973" y="9711"/>
                </a:cubicBezTo>
                <a:cubicBezTo>
                  <a:pt x="6991" y="9654"/>
                  <a:pt x="7009" y="9599"/>
                  <a:pt x="7034" y="9544"/>
                </a:cubicBezTo>
                <a:cubicBezTo>
                  <a:pt x="7058" y="9490"/>
                  <a:pt x="7078" y="9438"/>
                  <a:pt x="7096" y="9382"/>
                </a:cubicBezTo>
                <a:cubicBezTo>
                  <a:pt x="7104" y="9357"/>
                  <a:pt x="7107" y="9349"/>
                  <a:pt x="7110" y="9332"/>
                </a:cubicBezTo>
              </a:path>
              <a:path w="3105" h="5382">
                <a:moveTo>
                  <a:pt x="8757" y="14518"/>
                </a:moveTo>
                <a:cubicBezTo>
                  <a:pt x="8738" y="14522"/>
                  <a:pt x="8719" y="14528"/>
                  <a:pt x="8700" y="14532"/>
                </a:cubicBezTo>
                <a:cubicBezTo>
                  <a:pt x="8649" y="14542"/>
                  <a:pt x="8599" y="14552"/>
                  <a:pt x="8548" y="14560"/>
                </a:cubicBezTo>
                <a:cubicBezTo>
                  <a:pt x="8483" y="14571"/>
                  <a:pt x="8418" y="14577"/>
                  <a:pt x="8353" y="14583"/>
                </a:cubicBezTo>
                <a:cubicBezTo>
                  <a:pt x="8096" y="14606"/>
                  <a:pt x="7832" y="14636"/>
                  <a:pt x="7575" y="14648"/>
                </a:cubicBezTo>
                <a:cubicBezTo>
                  <a:pt x="7449" y="14654"/>
                  <a:pt x="7322" y="14648"/>
                  <a:pt x="7196" y="14648"/>
                </a:cubicBezTo>
                <a:cubicBezTo>
                  <a:pt x="7178" y="14545"/>
                  <a:pt x="7154" y="14444"/>
                  <a:pt x="7129" y="14342"/>
                </a:cubicBezTo>
                <a:cubicBezTo>
                  <a:pt x="7109" y="14259"/>
                  <a:pt x="7083" y="14179"/>
                  <a:pt x="7058" y="14097"/>
                </a:cubicBezTo>
                <a:cubicBezTo>
                  <a:pt x="7015" y="13956"/>
                  <a:pt x="6987" y="13811"/>
                  <a:pt x="6977" y="13663"/>
                </a:cubicBezTo>
                <a:cubicBezTo>
                  <a:pt x="6962" y="13449"/>
                  <a:pt x="6974" y="13230"/>
                  <a:pt x="6968" y="13016"/>
                </a:cubicBezTo>
                <a:cubicBezTo>
                  <a:pt x="6966" y="12931"/>
                  <a:pt x="6961" y="12847"/>
                  <a:pt x="6954" y="12762"/>
                </a:cubicBezTo>
                <a:cubicBezTo>
                  <a:pt x="6921" y="12349"/>
                  <a:pt x="6924" y="11941"/>
                  <a:pt x="6939" y="11527"/>
                </a:cubicBezTo>
                <a:cubicBezTo>
                  <a:pt x="6942" y="11444"/>
                  <a:pt x="6947" y="11361"/>
                  <a:pt x="6949" y="11278"/>
                </a:cubicBezTo>
                <a:cubicBezTo>
                  <a:pt x="6950" y="11203"/>
                  <a:pt x="6950" y="11129"/>
                  <a:pt x="6939" y="11056"/>
                </a:cubicBezTo>
                <a:cubicBezTo>
                  <a:pt x="6937" y="11045"/>
                  <a:pt x="6937" y="11058"/>
                  <a:pt x="6935" y="11047"/>
                </a:cubicBezTo>
                <a:cubicBezTo>
                  <a:pt x="6935" y="11056"/>
                  <a:pt x="6935" y="11059"/>
                  <a:pt x="6935" y="11065"/>
                </a:cubicBezTo>
              </a:path>
              <a:path w="3105" h="5382">
                <a:moveTo>
                  <a:pt x="6655" y="11324"/>
                </a:moveTo>
                <a:cubicBezTo>
                  <a:pt x="6657" y="11288"/>
                  <a:pt x="6664" y="11271"/>
                  <a:pt x="6688" y="11241"/>
                </a:cubicBezTo>
                <a:cubicBezTo>
                  <a:pt x="6722" y="11198"/>
                  <a:pt x="6757" y="11167"/>
                  <a:pt x="6797" y="11130"/>
                </a:cubicBezTo>
                <a:cubicBezTo>
                  <a:pt x="6843" y="11088"/>
                  <a:pt x="6891" y="11050"/>
                  <a:pt x="6935" y="11005"/>
                </a:cubicBezTo>
                <a:cubicBezTo>
                  <a:pt x="6960" y="10979"/>
                  <a:pt x="6984" y="10949"/>
                  <a:pt x="7011" y="10926"/>
                </a:cubicBezTo>
                <a:cubicBezTo>
                  <a:pt x="7024" y="10915"/>
                  <a:pt x="7027" y="10917"/>
                  <a:pt x="7039" y="10912"/>
                </a:cubicBezTo>
                <a:cubicBezTo>
                  <a:pt x="7051" y="10927"/>
                  <a:pt x="7062" y="10939"/>
                  <a:pt x="7067" y="10959"/>
                </a:cubicBezTo>
                <a:cubicBezTo>
                  <a:pt x="7079" y="11003"/>
                  <a:pt x="7086" y="11048"/>
                  <a:pt x="7091" y="11093"/>
                </a:cubicBezTo>
                <a:cubicBezTo>
                  <a:pt x="7098" y="11153"/>
                  <a:pt x="7108" y="11209"/>
                  <a:pt x="7120" y="11268"/>
                </a:cubicBezTo>
                <a:cubicBezTo>
                  <a:pt x="7129" y="11317"/>
                  <a:pt x="7131" y="11332"/>
                  <a:pt x="7148" y="1136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321080" y="4102200"/>
            <a:ext cx="235080" cy="664920"/>
          </a:xfrm>
          <a:custGeom>
            <a:avLst/>
            <a:gdLst/>
            <a:ahLst/>
            <a:rect l="l" t="t" r="r" b="b"/>
            <a:pathLst>
              <a:path w="651" h="1849">
                <a:moveTo>
                  <a:pt x="12293" y="12197"/>
                </a:moveTo>
                <a:cubicBezTo>
                  <a:pt x="12281" y="12185"/>
                  <a:pt x="12279" y="12178"/>
                  <a:pt x="12269" y="12164"/>
                </a:cubicBezTo>
                <a:cubicBezTo>
                  <a:pt x="12257" y="12147"/>
                  <a:pt x="12256" y="12131"/>
                  <a:pt x="12246" y="12114"/>
                </a:cubicBezTo>
                <a:cubicBezTo>
                  <a:pt x="12238" y="12099"/>
                  <a:pt x="12223" y="12088"/>
                  <a:pt x="12208" y="12081"/>
                </a:cubicBezTo>
                <a:cubicBezTo>
                  <a:pt x="12193" y="12073"/>
                  <a:pt x="12171" y="12077"/>
                  <a:pt x="12155" y="12077"/>
                </a:cubicBezTo>
                <a:cubicBezTo>
                  <a:pt x="12134" y="12077"/>
                  <a:pt x="12116" y="12083"/>
                  <a:pt x="12099" y="12095"/>
                </a:cubicBezTo>
                <a:cubicBezTo>
                  <a:pt x="12079" y="12110"/>
                  <a:pt x="12065" y="12120"/>
                  <a:pt x="12051" y="12141"/>
                </a:cubicBezTo>
                <a:cubicBezTo>
                  <a:pt x="12038" y="12161"/>
                  <a:pt x="12026" y="12184"/>
                  <a:pt x="12018" y="12206"/>
                </a:cubicBezTo>
                <a:cubicBezTo>
                  <a:pt x="12006" y="12240"/>
                  <a:pt x="12004" y="12273"/>
                  <a:pt x="12004" y="12308"/>
                </a:cubicBezTo>
                <a:cubicBezTo>
                  <a:pt x="12004" y="12333"/>
                  <a:pt x="12002" y="12358"/>
                  <a:pt x="12008" y="12382"/>
                </a:cubicBezTo>
                <a:cubicBezTo>
                  <a:pt x="12013" y="12399"/>
                  <a:pt x="12030" y="12419"/>
                  <a:pt x="12042" y="12433"/>
                </a:cubicBezTo>
                <a:cubicBezTo>
                  <a:pt x="12052" y="12445"/>
                  <a:pt x="12074" y="12457"/>
                  <a:pt x="12089" y="12460"/>
                </a:cubicBezTo>
                <a:cubicBezTo>
                  <a:pt x="12136" y="12468"/>
                  <a:pt x="12218" y="12468"/>
                  <a:pt x="12260" y="12451"/>
                </a:cubicBezTo>
                <a:cubicBezTo>
                  <a:pt x="12278" y="12444"/>
                  <a:pt x="12294" y="12437"/>
                  <a:pt x="12312" y="12428"/>
                </a:cubicBezTo>
                <a:cubicBezTo>
                  <a:pt x="12328" y="12420"/>
                  <a:pt x="12350" y="12405"/>
                  <a:pt x="12364" y="12391"/>
                </a:cubicBezTo>
                <a:cubicBezTo>
                  <a:pt x="12377" y="12378"/>
                  <a:pt x="12394" y="12353"/>
                  <a:pt x="12397" y="12335"/>
                </a:cubicBezTo>
                <a:cubicBezTo>
                  <a:pt x="12401" y="12311"/>
                  <a:pt x="12402" y="12287"/>
                  <a:pt x="12402" y="12262"/>
                </a:cubicBezTo>
                <a:cubicBezTo>
                  <a:pt x="12402" y="12236"/>
                  <a:pt x="12404" y="12212"/>
                  <a:pt x="12397" y="12188"/>
                </a:cubicBezTo>
                <a:cubicBezTo>
                  <a:pt x="12390" y="12161"/>
                  <a:pt x="12378" y="12150"/>
                  <a:pt x="12350" y="12146"/>
                </a:cubicBezTo>
                <a:cubicBezTo>
                  <a:pt x="12333" y="12146"/>
                  <a:pt x="12328" y="12146"/>
                  <a:pt x="12317" y="12146"/>
                </a:cubicBezTo>
              </a:path>
              <a:path w="651" h="1849">
                <a:moveTo>
                  <a:pt x="12189" y="12585"/>
                </a:moveTo>
                <a:cubicBezTo>
                  <a:pt x="12189" y="12650"/>
                  <a:pt x="12193" y="12714"/>
                  <a:pt x="12193" y="12779"/>
                </a:cubicBezTo>
                <a:cubicBezTo>
                  <a:pt x="12193" y="12818"/>
                  <a:pt x="12199" y="12860"/>
                  <a:pt x="12203" y="12899"/>
                </a:cubicBezTo>
                <a:cubicBezTo>
                  <a:pt x="12207" y="12936"/>
                  <a:pt x="12211" y="12973"/>
                  <a:pt x="12212" y="13010"/>
                </a:cubicBezTo>
                <a:cubicBezTo>
                  <a:pt x="12213" y="13051"/>
                  <a:pt x="12227" y="13090"/>
                  <a:pt x="12231" y="13130"/>
                </a:cubicBezTo>
                <a:cubicBezTo>
                  <a:pt x="12233" y="13146"/>
                  <a:pt x="12238" y="13158"/>
                  <a:pt x="12241" y="13172"/>
                </a:cubicBezTo>
                <a:cubicBezTo>
                  <a:pt x="12245" y="13190"/>
                  <a:pt x="12239" y="13205"/>
                  <a:pt x="12246" y="13223"/>
                </a:cubicBezTo>
                <a:cubicBezTo>
                  <a:pt x="12250" y="13232"/>
                  <a:pt x="12251" y="13235"/>
                  <a:pt x="12255" y="13241"/>
                </a:cubicBezTo>
              </a:path>
              <a:path w="651" h="1849">
                <a:moveTo>
                  <a:pt x="12293" y="11393"/>
                </a:moveTo>
                <a:cubicBezTo>
                  <a:pt x="12293" y="11407"/>
                  <a:pt x="12296" y="11418"/>
                  <a:pt x="12298" y="11430"/>
                </a:cubicBezTo>
                <a:cubicBezTo>
                  <a:pt x="12302" y="11457"/>
                  <a:pt x="12304" y="11485"/>
                  <a:pt x="12307" y="11513"/>
                </a:cubicBezTo>
                <a:cubicBezTo>
                  <a:pt x="12313" y="11561"/>
                  <a:pt x="12321" y="11608"/>
                  <a:pt x="12326" y="11656"/>
                </a:cubicBezTo>
                <a:cubicBezTo>
                  <a:pt x="12330" y="11690"/>
                  <a:pt x="12332" y="11724"/>
                  <a:pt x="12336" y="11758"/>
                </a:cubicBezTo>
                <a:cubicBezTo>
                  <a:pt x="12339" y="11784"/>
                  <a:pt x="12344" y="11809"/>
                  <a:pt x="12345" y="11836"/>
                </a:cubicBezTo>
                <a:cubicBezTo>
                  <a:pt x="12345" y="11854"/>
                  <a:pt x="12346" y="11878"/>
                  <a:pt x="12350" y="11896"/>
                </a:cubicBezTo>
                <a:cubicBezTo>
                  <a:pt x="12352" y="11906"/>
                  <a:pt x="12358" y="11917"/>
                  <a:pt x="12360" y="11929"/>
                </a:cubicBezTo>
              </a:path>
              <a:path w="651" h="1849">
                <a:moveTo>
                  <a:pt x="12174" y="11804"/>
                </a:moveTo>
                <a:cubicBezTo>
                  <a:pt x="12174" y="11819"/>
                  <a:pt x="12176" y="11832"/>
                  <a:pt x="12179" y="11846"/>
                </a:cubicBezTo>
                <a:cubicBezTo>
                  <a:pt x="12185" y="11872"/>
                  <a:pt x="12198" y="11899"/>
                  <a:pt x="12208" y="11924"/>
                </a:cubicBezTo>
                <a:cubicBezTo>
                  <a:pt x="12221" y="11955"/>
                  <a:pt x="12240" y="11982"/>
                  <a:pt x="12255" y="12012"/>
                </a:cubicBezTo>
                <a:cubicBezTo>
                  <a:pt x="12271" y="12044"/>
                  <a:pt x="12290" y="12071"/>
                  <a:pt x="12312" y="12100"/>
                </a:cubicBezTo>
                <a:cubicBezTo>
                  <a:pt x="12329" y="12122"/>
                  <a:pt x="12345" y="12151"/>
                  <a:pt x="12374" y="12160"/>
                </a:cubicBezTo>
                <a:cubicBezTo>
                  <a:pt x="12388" y="12164"/>
                  <a:pt x="12412" y="12169"/>
                  <a:pt x="12426" y="12160"/>
                </a:cubicBezTo>
                <a:cubicBezTo>
                  <a:pt x="12452" y="12143"/>
                  <a:pt x="12482" y="12089"/>
                  <a:pt x="12497" y="12063"/>
                </a:cubicBezTo>
                <a:cubicBezTo>
                  <a:pt x="12533" y="12003"/>
                  <a:pt x="12561" y="11936"/>
                  <a:pt x="12592" y="11873"/>
                </a:cubicBezTo>
                <a:cubicBezTo>
                  <a:pt x="12612" y="11834"/>
                  <a:pt x="12625" y="11808"/>
                  <a:pt x="12654" y="1177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314960" y="2389320"/>
            <a:ext cx="160200" cy="546120"/>
          </a:xfrm>
          <a:custGeom>
            <a:avLst/>
            <a:gdLst/>
            <a:ahLst/>
            <a:rect l="l" t="t" r="r" b="b"/>
            <a:pathLst>
              <a:path w="447" h="1517">
                <a:moveTo>
                  <a:pt x="12364" y="7376"/>
                </a:moveTo>
                <a:cubicBezTo>
                  <a:pt x="12361" y="7367"/>
                  <a:pt x="12362" y="7362"/>
                  <a:pt x="12355" y="7353"/>
                </a:cubicBezTo>
                <a:cubicBezTo>
                  <a:pt x="12346" y="7342"/>
                  <a:pt x="12335" y="7332"/>
                  <a:pt x="12326" y="7320"/>
                </a:cubicBezTo>
                <a:cubicBezTo>
                  <a:pt x="12313" y="7303"/>
                  <a:pt x="12301" y="7292"/>
                  <a:pt x="12284" y="7279"/>
                </a:cubicBezTo>
                <a:cubicBezTo>
                  <a:pt x="12258" y="7258"/>
                  <a:pt x="12240" y="7256"/>
                  <a:pt x="12208" y="7256"/>
                </a:cubicBezTo>
                <a:cubicBezTo>
                  <a:pt x="12181" y="7256"/>
                  <a:pt x="12153" y="7255"/>
                  <a:pt x="12127" y="7260"/>
                </a:cubicBezTo>
                <a:cubicBezTo>
                  <a:pt x="12105" y="7264"/>
                  <a:pt x="12076" y="7277"/>
                  <a:pt x="12061" y="7293"/>
                </a:cubicBezTo>
                <a:cubicBezTo>
                  <a:pt x="12043" y="7313"/>
                  <a:pt x="12026" y="7344"/>
                  <a:pt x="12013" y="7367"/>
                </a:cubicBezTo>
                <a:cubicBezTo>
                  <a:pt x="11996" y="7398"/>
                  <a:pt x="11987" y="7414"/>
                  <a:pt x="11985" y="7450"/>
                </a:cubicBezTo>
                <a:cubicBezTo>
                  <a:pt x="11983" y="7484"/>
                  <a:pt x="11981" y="7523"/>
                  <a:pt x="11989" y="7556"/>
                </a:cubicBezTo>
                <a:cubicBezTo>
                  <a:pt x="11994" y="7577"/>
                  <a:pt x="12011" y="7602"/>
                  <a:pt x="12027" y="7616"/>
                </a:cubicBezTo>
                <a:cubicBezTo>
                  <a:pt x="12049" y="7635"/>
                  <a:pt x="12086" y="7638"/>
                  <a:pt x="12113" y="7639"/>
                </a:cubicBezTo>
                <a:cubicBezTo>
                  <a:pt x="12146" y="7640"/>
                  <a:pt x="12197" y="7648"/>
                  <a:pt x="12227" y="7635"/>
                </a:cubicBezTo>
                <a:cubicBezTo>
                  <a:pt x="12250" y="7625"/>
                  <a:pt x="12274" y="7617"/>
                  <a:pt x="12298" y="7607"/>
                </a:cubicBezTo>
                <a:cubicBezTo>
                  <a:pt x="12317" y="7599"/>
                  <a:pt x="12335" y="7590"/>
                  <a:pt x="12350" y="7575"/>
                </a:cubicBezTo>
                <a:cubicBezTo>
                  <a:pt x="12369" y="7557"/>
                  <a:pt x="12379" y="7536"/>
                  <a:pt x="12393" y="7515"/>
                </a:cubicBezTo>
                <a:cubicBezTo>
                  <a:pt x="12410" y="7489"/>
                  <a:pt x="12418" y="7461"/>
                  <a:pt x="12426" y="7431"/>
                </a:cubicBezTo>
                <a:cubicBezTo>
                  <a:pt x="12433" y="7405"/>
                  <a:pt x="12431" y="7380"/>
                  <a:pt x="12431" y="7353"/>
                </a:cubicBezTo>
                <a:cubicBezTo>
                  <a:pt x="12431" y="7336"/>
                  <a:pt x="12428" y="7315"/>
                  <a:pt x="12412" y="7307"/>
                </a:cubicBezTo>
                <a:cubicBezTo>
                  <a:pt x="12406" y="7307"/>
                  <a:pt x="12399" y="7307"/>
                  <a:pt x="12393" y="7307"/>
                </a:cubicBezTo>
              </a:path>
              <a:path w="447" h="1517">
                <a:moveTo>
                  <a:pt x="12198" y="7783"/>
                </a:moveTo>
                <a:cubicBezTo>
                  <a:pt x="12198" y="7872"/>
                  <a:pt x="12158" y="8074"/>
                  <a:pt x="12203" y="8148"/>
                </a:cubicBezTo>
                <a:cubicBezTo>
                  <a:pt x="12207" y="8151"/>
                  <a:pt x="12208" y="8153"/>
                  <a:pt x="12212" y="8152"/>
                </a:cubicBezTo>
              </a:path>
              <a:path w="447" h="1517">
                <a:moveTo>
                  <a:pt x="12265" y="6636"/>
                </a:moveTo>
                <a:cubicBezTo>
                  <a:pt x="12265" y="6669"/>
                  <a:pt x="12266" y="6701"/>
                  <a:pt x="12269" y="6733"/>
                </a:cubicBezTo>
                <a:cubicBezTo>
                  <a:pt x="12272" y="6770"/>
                  <a:pt x="12275" y="6804"/>
                  <a:pt x="12279" y="6840"/>
                </a:cubicBezTo>
                <a:cubicBezTo>
                  <a:pt x="12283" y="6875"/>
                  <a:pt x="12287" y="6911"/>
                  <a:pt x="12288" y="6946"/>
                </a:cubicBezTo>
                <a:cubicBezTo>
                  <a:pt x="12289" y="6985"/>
                  <a:pt x="12288" y="7023"/>
                  <a:pt x="12288" y="7062"/>
                </a:cubicBezTo>
              </a:path>
              <a:path w="447" h="1517">
                <a:moveTo>
                  <a:pt x="12132" y="6951"/>
                </a:moveTo>
                <a:cubicBezTo>
                  <a:pt x="12132" y="6966"/>
                  <a:pt x="12135" y="6978"/>
                  <a:pt x="12136" y="6992"/>
                </a:cubicBezTo>
                <a:cubicBezTo>
                  <a:pt x="12138" y="7009"/>
                  <a:pt x="12149" y="7052"/>
                  <a:pt x="12155" y="7066"/>
                </a:cubicBezTo>
                <a:cubicBezTo>
                  <a:pt x="12167" y="7094"/>
                  <a:pt x="12188" y="7122"/>
                  <a:pt x="12203" y="7149"/>
                </a:cubicBezTo>
                <a:cubicBezTo>
                  <a:pt x="12213" y="7167"/>
                  <a:pt x="12229" y="7196"/>
                  <a:pt x="12246" y="7209"/>
                </a:cubicBezTo>
                <a:cubicBezTo>
                  <a:pt x="12261" y="7221"/>
                  <a:pt x="12274" y="7236"/>
                  <a:pt x="12293" y="7237"/>
                </a:cubicBezTo>
                <a:cubicBezTo>
                  <a:pt x="12302" y="7237"/>
                  <a:pt x="12330" y="7241"/>
                  <a:pt x="12336" y="7233"/>
                </a:cubicBezTo>
                <a:cubicBezTo>
                  <a:pt x="12348" y="7218"/>
                  <a:pt x="12356" y="7191"/>
                  <a:pt x="12364" y="7173"/>
                </a:cubicBezTo>
                <a:cubicBezTo>
                  <a:pt x="12380" y="7137"/>
                  <a:pt x="12385" y="7107"/>
                  <a:pt x="12397" y="7071"/>
                </a:cubicBezTo>
                <a:cubicBezTo>
                  <a:pt x="12407" y="7043"/>
                  <a:pt x="12412" y="7026"/>
                  <a:pt x="12412" y="6997"/>
                </a:cubicBezTo>
                <a:cubicBezTo>
                  <a:pt x="12412" y="6980"/>
                  <a:pt x="12414" y="6988"/>
                  <a:pt x="12426" y="69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644920" y="3570120"/>
            <a:ext cx="493560" cy="252720"/>
          </a:xfrm>
          <a:custGeom>
            <a:avLst/>
            <a:gdLst/>
            <a:ahLst/>
            <a:rect l="l" t="t" r="r" b="b"/>
            <a:pathLst>
              <a:path w="1368" h="699">
                <a:moveTo>
                  <a:pt x="8715" y="10195"/>
                </a:moveTo>
                <a:cubicBezTo>
                  <a:pt x="8711" y="10196"/>
                  <a:pt x="8700" y="10207"/>
                  <a:pt x="8691" y="10209"/>
                </a:cubicBezTo>
                <a:cubicBezTo>
                  <a:pt x="8420" y="10252"/>
                  <a:pt x="8102" y="10214"/>
                  <a:pt x="7828" y="10214"/>
                </a:cubicBezTo>
                <a:cubicBezTo>
                  <a:pt x="7797" y="10214"/>
                  <a:pt x="7772" y="10218"/>
                  <a:pt x="7742" y="10223"/>
                </a:cubicBezTo>
                <a:cubicBezTo>
                  <a:pt x="7685" y="10233"/>
                  <a:pt x="7629" y="10232"/>
                  <a:pt x="7571" y="10232"/>
                </a:cubicBezTo>
                <a:cubicBezTo>
                  <a:pt x="7497" y="10232"/>
                  <a:pt x="7422" y="10232"/>
                  <a:pt x="7348" y="10232"/>
                </a:cubicBezTo>
                <a:cubicBezTo>
                  <a:pt x="7362" y="10223"/>
                  <a:pt x="7377" y="10215"/>
                  <a:pt x="7391" y="10205"/>
                </a:cubicBezTo>
                <a:cubicBezTo>
                  <a:pt x="7419" y="10185"/>
                  <a:pt x="7450" y="10161"/>
                  <a:pt x="7472" y="10135"/>
                </a:cubicBezTo>
                <a:cubicBezTo>
                  <a:pt x="7497" y="10106"/>
                  <a:pt x="7515" y="10074"/>
                  <a:pt x="7543" y="10047"/>
                </a:cubicBezTo>
                <a:cubicBezTo>
                  <a:pt x="7560" y="10031"/>
                  <a:pt x="7580" y="10014"/>
                  <a:pt x="7600" y="10001"/>
                </a:cubicBezTo>
                <a:cubicBezTo>
                  <a:pt x="7623" y="9986"/>
                  <a:pt x="7648" y="9969"/>
                  <a:pt x="7671" y="9955"/>
                </a:cubicBezTo>
                <a:cubicBezTo>
                  <a:pt x="7683" y="9947"/>
                  <a:pt x="7701" y="9932"/>
                  <a:pt x="7714" y="9927"/>
                </a:cubicBezTo>
                <a:cubicBezTo>
                  <a:pt x="7723" y="9923"/>
                  <a:pt x="7734" y="9926"/>
                  <a:pt x="7742" y="9923"/>
                </a:cubicBezTo>
                <a:cubicBezTo>
                  <a:pt x="7734" y="9925"/>
                  <a:pt x="7730" y="9914"/>
                  <a:pt x="7723" y="9918"/>
                </a:cubicBezTo>
                <a:cubicBezTo>
                  <a:pt x="7709" y="9927"/>
                  <a:pt x="7702" y="9939"/>
                  <a:pt x="7690" y="9950"/>
                </a:cubicBezTo>
                <a:cubicBezTo>
                  <a:pt x="7673" y="9966"/>
                  <a:pt x="7661" y="9978"/>
                  <a:pt x="7647" y="9997"/>
                </a:cubicBezTo>
                <a:cubicBezTo>
                  <a:pt x="7631" y="10019"/>
                  <a:pt x="7614" y="10038"/>
                  <a:pt x="7595" y="10057"/>
                </a:cubicBezTo>
                <a:cubicBezTo>
                  <a:pt x="7572" y="10080"/>
                  <a:pt x="7552" y="10103"/>
                  <a:pt x="7529" y="10126"/>
                </a:cubicBezTo>
                <a:cubicBezTo>
                  <a:pt x="7515" y="10140"/>
                  <a:pt x="7504" y="10154"/>
                  <a:pt x="7491" y="10168"/>
                </a:cubicBezTo>
                <a:cubicBezTo>
                  <a:pt x="7480" y="10180"/>
                  <a:pt x="7469" y="10182"/>
                  <a:pt x="7458" y="10191"/>
                </a:cubicBezTo>
                <a:cubicBezTo>
                  <a:pt x="7449" y="10199"/>
                  <a:pt x="7442" y="10206"/>
                  <a:pt x="7434" y="10214"/>
                </a:cubicBezTo>
                <a:cubicBezTo>
                  <a:pt x="7424" y="10224"/>
                  <a:pt x="7411" y="10235"/>
                  <a:pt x="7405" y="10246"/>
                </a:cubicBezTo>
                <a:cubicBezTo>
                  <a:pt x="7402" y="10252"/>
                  <a:pt x="7394" y="10266"/>
                  <a:pt x="7396" y="10274"/>
                </a:cubicBezTo>
                <a:cubicBezTo>
                  <a:pt x="7398" y="10282"/>
                  <a:pt x="7404" y="10286"/>
                  <a:pt x="7410" y="10292"/>
                </a:cubicBezTo>
                <a:cubicBezTo>
                  <a:pt x="7421" y="10303"/>
                  <a:pt x="7428" y="10296"/>
                  <a:pt x="7439" y="10302"/>
                </a:cubicBezTo>
                <a:cubicBezTo>
                  <a:pt x="7453" y="10310"/>
                  <a:pt x="7463" y="10315"/>
                  <a:pt x="7477" y="10325"/>
                </a:cubicBezTo>
                <a:cubicBezTo>
                  <a:pt x="7492" y="10335"/>
                  <a:pt x="7503" y="10347"/>
                  <a:pt x="7519" y="10357"/>
                </a:cubicBezTo>
                <a:cubicBezTo>
                  <a:pt x="7536" y="10368"/>
                  <a:pt x="7560" y="10385"/>
                  <a:pt x="7576" y="10394"/>
                </a:cubicBezTo>
                <a:cubicBezTo>
                  <a:pt x="7594" y="10404"/>
                  <a:pt x="7616" y="10409"/>
                  <a:pt x="7633" y="10422"/>
                </a:cubicBezTo>
                <a:cubicBezTo>
                  <a:pt x="7686" y="10462"/>
                  <a:pt x="7726" y="10519"/>
                  <a:pt x="7766" y="10570"/>
                </a:cubicBezTo>
                <a:cubicBezTo>
                  <a:pt x="7773" y="10579"/>
                  <a:pt x="7785" y="10592"/>
                  <a:pt x="7795" y="10602"/>
                </a:cubicBezTo>
                <a:cubicBezTo>
                  <a:pt x="7798" y="10605"/>
                  <a:pt x="7805" y="10603"/>
                  <a:pt x="7809" y="10607"/>
                </a:cubicBezTo>
                <a:cubicBezTo>
                  <a:pt x="7811" y="10610"/>
                  <a:pt x="7812" y="10613"/>
                  <a:pt x="7814" y="106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478240" y="1735200"/>
            <a:ext cx="668160" cy="1766880"/>
          </a:xfrm>
          <a:custGeom>
            <a:avLst/>
            <a:gdLst/>
            <a:ahLst/>
            <a:rect l="l" t="t" r="r" b="b"/>
            <a:pathLst>
              <a:path w="1857" h="4910">
                <a:moveTo>
                  <a:pt x="6936" y="9729"/>
                </a:moveTo>
                <a:cubicBezTo>
                  <a:pt x="6938" y="9526"/>
                  <a:pt x="6945" y="9326"/>
                  <a:pt x="6945" y="9123"/>
                </a:cubicBezTo>
                <a:cubicBezTo>
                  <a:pt x="6945" y="8920"/>
                  <a:pt x="6943" y="8716"/>
                  <a:pt x="6936" y="8513"/>
                </a:cubicBezTo>
                <a:cubicBezTo>
                  <a:pt x="6932" y="8394"/>
                  <a:pt x="6923" y="8276"/>
                  <a:pt x="6921" y="8157"/>
                </a:cubicBezTo>
                <a:cubicBezTo>
                  <a:pt x="6918" y="7984"/>
                  <a:pt x="6909" y="7812"/>
                  <a:pt x="6902" y="7639"/>
                </a:cubicBezTo>
                <a:cubicBezTo>
                  <a:pt x="6897" y="7524"/>
                  <a:pt x="6896" y="7409"/>
                  <a:pt x="6893" y="7293"/>
                </a:cubicBezTo>
                <a:cubicBezTo>
                  <a:pt x="6881" y="6839"/>
                  <a:pt x="6882" y="6382"/>
                  <a:pt x="6888" y="5929"/>
                </a:cubicBezTo>
                <a:cubicBezTo>
                  <a:pt x="6892" y="5654"/>
                  <a:pt x="6888" y="5370"/>
                  <a:pt x="6907" y="5102"/>
                </a:cubicBezTo>
                <a:cubicBezTo>
                  <a:pt x="6910" y="5057"/>
                  <a:pt x="6906" y="5007"/>
                  <a:pt x="6917" y="4963"/>
                </a:cubicBezTo>
                <a:cubicBezTo>
                  <a:pt x="6924" y="4935"/>
                  <a:pt x="6919" y="4893"/>
                  <a:pt x="6940" y="4880"/>
                </a:cubicBezTo>
                <a:cubicBezTo>
                  <a:pt x="7006" y="4839"/>
                  <a:pt x="7206" y="4901"/>
                  <a:pt x="7277" y="4903"/>
                </a:cubicBezTo>
                <a:cubicBezTo>
                  <a:pt x="7411" y="4907"/>
                  <a:pt x="7533" y="4887"/>
                  <a:pt x="7662" y="4875"/>
                </a:cubicBezTo>
                <a:cubicBezTo>
                  <a:pt x="7735" y="4868"/>
                  <a:pt x="7808" y="4857"/>
                  <a:pt x="7880" y="4852"/>
                </a:cubicBezTo>
                <a:cubicBezTo>
                  <a:pt x="7954" y="4847"/>
                  <a:pt x="8030" y="4845"/>
                  <a:pt x="8103" y="4843"/>
                </a:cubicBezTo>
                <a:cubicBezTo>
                  <a:pt x="8180" y="4841"/>
                  <a:pt x="8255" y="4841"/>
                  <a:pt x="8331" y="4834"/>
                </a:cubicBezTo>
                <a:cubicBezTo>
                  <a:pt x="8364" y="4831"/>
                  <a:pt x="8391" y="4821"/>
                  <a:pt x="8426" y="4820"/>
                </a:cubicBezTo>
                <a:cubicBezTo>
                  <a:pt x="8489" y="4817"/>
                  <a:pt x="8549" y="4829"/>
                  <a:pt x="8611" y="4829"/>
                </a:cubicBezTo>
                <a:cubicBezTo>
                  <a:pt x="8655" y="4829"/>
                  <a:pt x="8696" y="4825"/>
                  <a:pt x="8739" y="4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09:23:35Z</dcterms:created>
  <dc:creator>Andreas Bräsen</dc:creator>
  <dc:description/>
  <dc:language>en-US</dc:language>
  <cp:lastModifiedBy>Bruder</cp:lastModifiedBy>
  <dcterms:modified xsi:type="dcterms:W3CDTF">2006-02-27T21:26:09Z</dcterms:modified>
  <cp:revision>60</cp:revision>
  <dc:subject/>
  <dc:title>Slide 1</dc:title>
</cp:coreProperties>
</file>